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5128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0C2-D9DE-45AF-9478-BCFAA317F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to note that we, a tool vendor, would like to focus on kernel improvements instead of data management techniqu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BIS specification defines ibis models, AND the Golden Parser implementation has to be done in accordance with IBIS specification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both of this, IBIS spec. conform model together with spec. according parser, should ensure proper functioning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but it has to be noticed that there is no fixed/functrional relationship between spec. and IBIS model/parser (therefore dashed  connection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GP just builds a specific data structure (DS) – no common application programming interface (API) is provided; unfortunately this D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not covert by the standard and therefore potentially subject to change (without notice!?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ly, application protection is done by applying an own API; the API then builds the app. specific data struc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pp. spec. DS then is directly accessed by the application core (which does the job at the end), e.g. a simulator kern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ANSI :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National Standards Institu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EIA := Electronic Industries Allia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 based IBIS processing &gt;COULD&lt; looks like as shown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BIS files are then XML files (&lt;tagged information/&gt; in ASCII, as shown in former presentations, e.g. in Mike LaBonte’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ocument Type Definition (DTD)/Schema, a formal ASCII based more syntactical and general content relate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mat description has to become part of the IBIS standar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extual IBIS standard definition is probably still needed to define complex dependencies, and format requirement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ike monoton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etc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important is the availability of an uniform XML parser module (freeware)  AND of a standardized 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presentation together with an also standardized API (DOM); XML/DOM are W3C standards;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’s a DOM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D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latform- and language-neutral interface that will allow programs and scripts to dynamically acces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pdate the content, structure and style of docu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pache XM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llaborative software development 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to providing robust, full-featured, commercial-quality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ly available XML suppor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GNO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 born as an effort to create an entirely free desktop environment for free system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possible that an IBIS change requires new, additional information at input side without need of additional semantics check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the semantics is a DOM based module just re-linking the software should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s, this has to be done independent of the data format or represent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DTD/Schema definition in addition is much more formal than a pure textual one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t least in data processing a formal def. will help to avoid mistak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efined and well documented API, as a DOM would give, is a key to push application develop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closes the loop, as mentioned at the beginning, we would like to focus on applying data in advance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alysis environments instead of mastering data management exercis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9BB-ACF9-45B9-9034-E167B062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767-D4B7-4A70-B1B0-5AB75805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88D-33F9-4ACB-ACA1-0DE0B3A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2FA-9BB3-4BEE-9733-C42FE70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8CA-261B-4DEF-81E7-EC9ED2EA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634-7344-4306-9BCF-5D571626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981-BA33-400F-9B89-DB6E8D0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5E0-FAA6-4A3F-A17A-86119A1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B4A-B3A9-4ED2-A984-0CB7F34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9AA-9281-4A0B-A5FC-1509D716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215-C4AB-4DE6-873B-63F3B841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2EC-2AC4-4F88-8BB8-5CBA0321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91320" y="2590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ED8-3FD0-42E2-AE29-67C2F3E114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3352680"/>
            <a:ext cx="1066680" cy="190512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672" y="0"/>
                </a:moveTo>
                <a:lnTo>
                  <a:pt x="480" y="0"/>
                </a:lnTo>
                <a:lnTo>
                  <a:pt x="336" y="624"/>
                </a:lnTo>
                <a:lnTo>
                  <a:pt x="0" y="1200"/>
                </a:lnTo>
                <a:lnTo>
                  <a:pt x="288" y="1200"/>
                </a:lnTo>
                <a:lnTo>
                  <a:pt x="480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86400" y="1676520"/>
            <a:ext cx="3200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XML in IBIS Based Buffer Model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09720" y="3657240"/>
            <a:ext cx="3124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Lö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Michael S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952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543560"/>
            <a:ext cx="487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© 2002 Zuken GmbH, EMC Technology Center, Vattmanstr. 3, D-33100 Paderborn, German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Email:  alexander.loehr@zuken.d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michael.schaeder@zuke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Why Again XML on IBIS Summit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 2000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ke LaBonte shows a general approach using XML to represent current IBIS dat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 200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ul P. Agarval shows how XML can be used to make IBIS more applicable as it already is applying advanced web techniqu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 we would like to show how XML can help to simplify tool vendor task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asks &amp;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llenges in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deling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structured but many different kinds of defined model information in various varia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BIS 1.x to 3.x; currently 17 different model types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&lt;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itself imply complex dependencies which leads to flexible descriptions/data represent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f vdiff is given in [Diff Pin] section Vinl/Vinh from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[Model] section are superseded/overwritten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&lt;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use of latest most advanced modeling techniques in simulation environ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The top two items are related</a:t>
            </a:r>
            <a:br>
              <a:rPr sz="2400"/>
            </a:b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               to general data management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cc3399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54032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cc3399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708660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ypical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urrent IBIS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rocessing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962520"/>
            <a:ext cx="838440" cy="1218960"/>
          </a:xfrm>
          <a:prstGeom prst="flowChartMulti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038480"/>
            <a:ext cx="68580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447560" cy="9144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0"/>
            <a:endCxn id="101" idx="2"/>
          </p:cNvCxnSpPr>
          <p:nvPr/>
        </p:nvCxnSpPr>
        <p:spPr>
          <a:xfrm flipV="1">
            <a:off x="2400120" y="3123360"/>
            <a:ext cx="108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100" idx="0"/>
            <a:endCxn id="101" idx="1"/>
          </p:cNvCxnSpPr>
          <p:nvPr/>
        </p:nvCxnSpPr>
        <p:spPr>
          <a:xfrm flipH="1" flipV="1" rot="5400000">
            <a:off x="666360" y="3028320"/>
            <a:ext cx="1372320" cy="648360"/>
          </a:xfrm>
          <a:prstGeom prst="curved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" name=""/>
          <p:cNvCxnSpPr>
            <a:stCxn id="100" idx="0"/>
            <a:endCxn id="99" idx="1"/>
          </p:cNvCxnSpPr>
          <p:nvPr/>
        </p:nvCxnSpPr>
        <p:spPr>
          <a:xfrm flipH="1" rot="16200000">
            <a:off x="1238040" y="3828960"/>
            <a:ext cx="534240" cy="952920"/>
          </a:xfrm>
          <a:prstGeom prst="curvedConnector5">
            <a:avLst>
              <a:gd name="adj1" fmla="val -42818"/>
              <a:gd name="adj2" fmla="val 33975"/>
              <a:gd name="adj3" fmla="val -42818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276720" y="20574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1" idx="3"/>
            <a:endCxn id="105" idx="2"/>
          </p:cNvCxnSpPr>
          <p:nvPr/>
        </p:nvCxnSpPr>
        <p:spPr>
          <a:xfrm>
            <a:off x="3123720" y="2666520"/>
            <a:ext cx="267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5"/>
            <a:endCxn id="108" idx="1"/>
          </p:cNvCxnSpPr>
          <p:nvPr/>
        </p:nvCxnSpPr>
        <p:spPr>
          <a:xfrm>
            <a:off x="4303440" y="2666520"/>
            <a:ext cx="268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572000" y="2209680"/>
            <a:ext cx="838080" cy="9144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0574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8" idx="3"/>
            <a:endCxn id="109" idx="2"/>
          </p:cNvCxnSpPr>
          <p:nvPr/>
        </p:nvCxnSpPr>
        <p:spPr>
          <a:xfrm>
            <a:off x="5409720" y="2666520"/>
            <a:ext cx="267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858000" y="2209680"/>
            <a:ext cx="144792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5"/>
            <a:endCxn id="111" idx="1"/>
          </p:cNvCxnSpPr>
          <p:nvPr/>
        </p:nvCxnSpPr>
        <p:spPr>
          <a:xfrm>
            <a:off x="6589440" y="2666520"/>
            <a:ext cx="268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85800" y="40384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4129200"/>
            <a:ext cx="762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09680"/>
            <a:ext cx="152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lden Par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(IG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9680"/>
            <a:ext cx="8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209680"/>
            <a:ext cx="1676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Core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simul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981080"/>
            <a:ext cx="12193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057400"/>
            <a:ext cx="1295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584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n IBIS Standard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nge…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6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fficial new IBIS standard version released b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BIS Committee respectively ANSI/EIA is requir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vailability of an IBIS Golden parser in accord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latest standard is need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of Golden Parser in application has to be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IGP probably generates modified data 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on of internal API and data structure considering the modified conditions is necessa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tion core has to be extended to take advantage of the enhanc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XML Based IBIS Processing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066680"/>
            <a:ext cx="5715000" cy="28195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038480"/>
            <a:ext cx="838440" cy="1219320"/>
          </a:xfrm>
          <a:prstGeom prst="flowChartMulti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038480"/>
            <a:ext cx="68580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523880"/>
            <a:ext cx="1447560" cy="9144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6" idx="0"/>
            <a:endCxn id="125" idx="0"/>
          </p:cNvCxnSpPr>
          <p:nvPr/>
        </p:nvCxnSpPr>
        <p:spPr>
          <a:xfrm flipH="1" rot="16200000">
            <a:off x="1218240" y="3542760"/>
            <a:ext cx="2520" cy="99144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3716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016080"/>
            <a:ext cx="1828800" cy="7178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743200"/>
            <a:ext cx="1143000" cy="106668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523880"/>
            <a:ext cx="144792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0"/>
            <a:endCxn id="132" idx="2"/>
          </p:cNvCxnSpPr>
          <p:nvPr/>
        </p:nvCxnSpPr>
        <p:spPr>
          <a:xfrm flipV="1">
            <a:off x="5905080" y="2437560"/>
            <a:ext cx="1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80880" y="41148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9760" y="1552680"/>
            <a:ext cx="1523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Parser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form par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0240" y="3048120"/>
            <a:ext cx="1895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golden’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mantics che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60020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Core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sim.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2676600"/>
            <a:ext cx="1218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1523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038480"/>
            <a:ext cx="70488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87720" y="40989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TD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0" idx="0"/>
            <a:endCxn id="129" idx="3"/>
          </p:cNvCxnSpPr>
          <p:nvPr/>
        </p:nvCxnSpPr>
        <p:spPr>
          <a:xfrm flipH="1" flipV="1">
            <a:off x="3960000" y="2590200"/>
            <a:ext cx="252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27" idx="3"/>
            <a:endCxn id="129" idx="2"/>
          </p:cNvCxnSpPr>
          <p:nvPr/>
        </p:nvCxnSpPr>
        <p:spPr>
          <a:xfrm>
            <a:off x="2895120" y="1980720"/>
            <a:ext cx="7246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29" idx="5"/>
            <a:endCxn id="132" idx="1"/>
          </p:cNvCxnSpPr>
          <p:nvPr/>
        </p:nvCxnSpPr>
        <p:spPr>
          <a:xfrm>
            <a:off x="4532040" y="1980720"/>
            <a:ext cx="649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V="1">
            <a:off x="2590920" y="2437560"/>
            <a:ext cx="216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>
            <a:off x="1752120" y="2437560"/>
            <a:ext cx="25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71440" y="396216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 parser as open source software: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Apache project:      http://xml.apache.org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GNOME project:     http://xmlsof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Object Model (DOM) provides standard data representation and API.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http://www.w3c.org/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420516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26" idx="0"/>
            <a:endCxn id="141" idx="0"/>
          </p:cNvCxnSpPr>
          <p:nvPr/>
        </p:nvCxnSpPr>
        <p:spPr>
          <a:xfrm flipH="1" rot="16200000">
            <a:off x="1670400" y="3090600"/>
            <a:ext cx="2520" cy="18961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26" idx="0"/>
            <a:endCxn id="136" idx="1"/>
          </p:cNvCxnSpPr>
          <p:nvPr/>
        </p:nvCxnSpPr>
        <p:spPr>
          <a:xfrm flipH="1" flipV="1" rot="5400000">
            <a:off x="1526760" y="2564640"/>
            <a:ext cx="670680" cy="2277000"/>
          </a:xfrm>
          <a:prstGeom prst="curved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On Standard Change Now…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6040" y="9907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 textual standard description an official DTD/Schema has to be released by the IB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ee respectively ANSI/EI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eded the DOM related semantics checker module has to b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TD/Schema is applied to the XML pars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no need to exchange the parser module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s checker has to be integrated into applica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is should be very simple since SC uses the DOM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 in this case the application core has to be extended to take advantage of the enhanc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43000"/>
            <a:ext cx="79516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XML in IBIS Can Help…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a more formal standard defini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is typically improves a standard &l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implify implementation of standard based applications by providing also standardized AP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e DOM is the open door to access the information &l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vendors to focus on their real tas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just make use of data instead of struggle with its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  representation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17:13:09Z</dcterms:created>
  <dc:creator>Mark Knight</dc:creator>
  <dc:description/>
  <dc:language>en-US</dc:language>
  <cp:lastModifiedBy>mic</cp:lastModifiedBy>
  <dcterms:modified xsi:type="dcterms:W3CDTF">2002-03-01T17:18:26Z</dcterms:modified>
  <cp:revision>18</cp:revision>
  <dc:subject/>
  <dc:title>Arial 28, align with arrow</dc:title>
</cp:coreProperties>
</file>