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79F7-959A-416E-8257-D75E6E0EA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6CA7-1991-428F-AEFA-D663BC331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559B-93A0-4F0F-AF9F-E43579104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1593-AC63-4C99-BAD0-574FDC321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23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EB5F-0DD9-4DF4-9B2C-E77CBAA94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3713-3617-4781-B894-FC240C508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EA8E-9512-42E1-9AC4-5C0467569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1EA9-DD42-4772-B909-4625B35B2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3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5C7F-E9D9-4CFD-B2D4-D80828764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2609-570D-4B33-9147-13F6C71B8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C5C9-32A9-4365-B738-C1EF11686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15CD-E46A-496A-801C-3E88FFA44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48720" y="6534000"/>
            <a:ext cx="838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FA68-D37A-40F0-822B-DD4B56F2F7B7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400800"/>
            <a:ext cx="62485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IBIS-AMI Model Validation – Tokyo IBIS Summit – Sept 14, 2007 </a:t>
            </a: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           © 2007, SiSo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64520" y="6105600"/>
            <a:ext cx="1517400" cy="51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83520" y="6529320"/>
            <a:ext cx="182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Signal Integrity Software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64520" y="6105600"/>
            <a:ext cx="1517400" cy="517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rDes Modeling: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MI Evaluation Toolki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002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iginally presented at the Sept 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mmit in Beijing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: Todd Westerhoff, SiSof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sterh@sisoft.com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yo, Japa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4, 2007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CHK cannot check compiled mode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milar problem to AMS model cal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ral possible sources of platform/model incompatibil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correct EDA tool implem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correct model implem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compatible run-time librari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“reference standard” for IBIS-AMI is neede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ference platform implem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ference model implem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2032-2984-409A-AD02-8522E3A82978}" type="slidenum">
              <a:t>2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_AMI_Tes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809880" cy="45259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lows IBIS-AMI .dll models to be run as standalone “executables”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acilitates model debug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vides standard environment for testing model complianc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uthored by SiSoft, source code to be turned over to IBIS Open Foru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xecutable will be publicly availabl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12F5-66E5-4ED7-A283-E9092FE224D5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523880"/>
            <a:ext cx="3352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IBIS_AMI_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Dll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linux ibis_ami_tx_lnx.so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solaris ibis_ami_tx_sun4.so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windows ibis_ami_tx.dll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Reserved_Paramete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Ignore_Bits (Type Integer) (Default 21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Max_Init_Aggressors (Type Integer)(Default 25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Init_Returns_Impulse (Type Bool)(Default True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GetWave_Exists (Type Bool) (Default True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) | End Reserv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Model_specif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txtap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tapid (Range -1 3) (type int) 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txtapcoeff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-1 (Range -0.1 0.1 0.1) (Type float) (Default 0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0 (Range 1 1 0) (Type float) (Default 1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1 (List -0.1 0.1) (Type float)(Default  0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2 (Range -0.01 0.02 0.005) (Type float)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(Default 0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3 (Range -0.01 0.02 0.005) (Type float)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(Default 0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)  | tapcoef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)  | txtap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tx_freq_offset (Range 0 150 1) (Type ppm) (Default 0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) | End User_Defin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)  | End IBIS_AMI_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_AMI_Tx Mod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ference IBIS &amp; AMI fil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ference Algorithmic mod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mpulse response and waveform processing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4 tap equalize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Pre-cursor tap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ursor tap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2 post-cursor tap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Model normalizes tap sum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calable transmit swing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xecutable and source code publicly availabl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3446640" cy="2379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94" name=""/>
          <p:cNvSpPr/>
          <p:nvPr/>
        </p:nvSpPr>
        <p:spPr>
          <a:xfrm>
            <a:off x="4116240" y="1523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61720" y="5867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lgorithmic Mode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CA08-189B-446E-A129-B67CB4D2BD59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MI Evaluation Toolki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oal: allow interested parties to evaluate &amp; develop IBIS-AMI mode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vailable on-line from IBIS-ATM task group website and from www.sisoft.co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BIS_AMI_Test utilit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TX model and source cod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input data, scripts, docum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mail discussion group established: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-ami-toolkit@freelists.or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34E7-F322-476E-B453-C4FEFE2A07B0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ample Results: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 TX EQ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809880" cy="21859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809880" cy="21859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14400" y="3786120"/>
            <a:ext cx="3809880" cy="21877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876920" y="3786120"/>
            <a:ext cx="3809880" cy="21877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103" name=""/>
          <p:cNvSpPr/>
          <p:nvPr/>
        </p:nvSpPr>
        <p:spPr>
          <a:xfrm>
            <a:off x="1905840" y="11430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9960" y="114300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ye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960" y="601992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gnal @ Rx pad, Stimu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5035-A0FD-480E-88AB-6CD2FFFB3C3B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ample Results: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X EQ: (</a:t>
            </a:r>
            <a:r>
              <a:rPr b="1" lang="nb-NO" sz="3200" spc="-1" strike="noStrike">
                <a:solidFill>
                  <a:srgbClr val="336699"/>
                </a:solidFill>
                <a:latin typeface="Arial"/>
              </a:rPr>
              <a:t>-.15, .7,-.125,-.025)*0.8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809880" cy="21859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809880" cy="21859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14400" y="3786120"/>
            <a:ext cx="3809880" cy="21877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76920" y="3786120"/>
            <a:ext cx="3809880" cy="21877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111" name=""/>
          <p:cNvSpPr/>
          <p:nvPr/>
        </p:nvSpPr>
        <p:spPr>
          <a:xfrm>
            <a:off x="1905840" y="11430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49960" y="114300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ye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960" y="601992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gnal @ Rx pad, Stimu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AA9A-56E4-49C8-99C0-4FCBE6AA3A6E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MI Toolki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rovides a “reference implementation” for testing EDA platforms and IBIS-AMI mode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llows users to assess IBIS-AMI model functionality and performan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Users can run analyses based on their own designs and channel impulse respons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D348-9C1E-42DC-B27E-FA379BC10A0D}" type="slidenum">
              <a:t>8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SiSoft</cp:lastModifiedBy>
  <dcterms:modified xsi:type="dcterms:W3CDTF">2007-08-27T02:41:13Z</dcterms:modified>
  <cp:revision>346</cp:revision>
  <dc:subject/>
  <dc:title>Slide 1</dc:title>
</cp:coreProperties>
</file>