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EE23-B968-44E1-93BA-FC27E5848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1F7A-F95C-4170-963F-55CAA129D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365E-2F09-44E7-81D4-817575CD3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BD07-3A42-4F28-BB0D-ECE0DDA4B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0233-022B-4B4F-9737-161201D60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A26D-DCC7-45F7-9508-25C233AC3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6797-9A28-4621-82A6-D7C75E8AE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433B-880D-45BA-9B62-0D4D15717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1A78-33DD-4FCB-B237-9156E2319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055A-BB13-460A-97B5-4BC1905B1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93E2-A0DA-45B2-9C16-72AFDD2E4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E934-8D87-424E-8838-8774325E6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48720" y="6534000"/>
            <a:ext cx="838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D96F-C65A-406F-A92C-C8A9B592E8CF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467400"/>
            <a:ext cx="3809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Tokyo IBIS Summit – September 14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172200" y="6467400"/>
            <a:ext cx="16765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IBIS-ATM Task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hdl.org/pub/ibis/macromodel_wip/" TargetMode="External"/><Relationship Id="rId2" Type="http://schemas.openxmlformats.org/officeDocument/2006/relationships/hyperlink" Target="http://www.vhdl.org/pub/ibis/macromodel_wip/" TargetMode="External"/><Relationship Id="rId3" Type="http://schemas.openxmlformats.org/officeDocument/2006/relationships/hyperlink" Target="http://www.vhdl.org/pub/ibis/macromodel_wip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TM Update: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erDes Modeling and IBI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600200" y="3123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iginally presented at the Sept 1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mmit in Beijing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: Todd Westerhoff, SiSof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sterh@sisoft.com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yo, Japa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4, 2007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"/>
          <p:cNvGrpSpPr/>
          <p:nvPr/>
        </p:nvGrpSpPr>
        <p:grpSpPr>
          <a:xfrm>
            <a:off x="647640" y="3352680"/>
            <a:ext cx="8365320" cy="2488680"/>
            <a:chOff x="647640" y="3352680"/>
            <a:chExt cx="8365320" cy="2488680"/>
          </a:xfrm>
        </p:grpSpPr>
        <p:sp>
          <p:nvSpPr>
            <p:cNvPr id="832" name=""/>
            <p:cNvSpPr/>
            <p:nvPr/>
          </p:nvSpPr>
          <p:spPr>
            <a:xfrm>
              <a:off x="647640" y="3352680"/>
              <a:ext cx="8356680" cy="2486160"/>
            </a:xfrm>
            <a:prstGeom prst="rect">
              <a:avLst/>
            </a:prstGeom>
            <a:solidFill>
              <a:srgbClr val="e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81080" y="4944960"/>
              <a:ext cx="38124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432880" y="4697280"/>
              <a:ext cx="162252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ETWAVE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687280" y="4697280"/>
              <a:ext cx="162252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ETWAVE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114800" y="4938840"/>
              <a:ext cx="326880" cy="1404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34120" y="4944960"/>
              <a:ext cx="30456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91520" y="4944960"/>
              <a:ext cx="4111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44360" y="5321160"/>
              <a:ext cx="91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imulus 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300560" y="537048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TX 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43080" y="5257800"/>
              <a:ext cx="146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TX, RX 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7848720" y="4705200"/>
              <a:ext cx="906480" cy="477720"/>
              <a:chOff x="7848720" y="4705200"/>
              <a:chExt cx="906480" cy="477720"/>
            </a:xfrm>
          </p:grpSpPr>
          <p:sp>
            <p:nvSpPr>
              <p:cNvPr id="843" name=""/>
              <p:cNvSpPr/>
              <p:nvPr/>
            </p:nvSpPr>
            <p:spPr>
              <a:xfrm>
                <a:off x="7848720" y="5182920"/>
                <a:ext cx="90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7848720" y="4773240"/>
                <a:ext cx="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851960" y="4705200"/>
                <a:ext cx="796680" cy="475920"/>
              </a:xfrm>
              <a:custGeom>
                <a:avLst/>
                <a:gdLst/>
                <a:ahLst/>
                <a:rect l="l" t="t" r="r" b="b"/>
                <a:pathLst>
                  <a:path w="502" h="300">
                    <a:moveTo>
                      <a:pt x="0" y="300"/>
                    </a:moveTo>
                    <a:lnTo>
                      <a:pt x="6" y="288"/>
                    </a:lnTo>
                    <a:cubicBezTo>
                      <a:pt x="10" y="245"/>
                      <a:pt x="14" y="82"/>
                      <a:pt x="21" y="41"/>
                    </a:cubicBezTo>
                    <a:cubicBezTo>
                      <a:pt x="28" y="0"/>
                      <a:pt x="46" y="8"/>
                      <a:pt x="51" y="41"/>
                    </a:cubicBezTo>
                    <a:cubicBezTo>
                      <a:pt x="56" y="74"/>
                      <a:pt x="46" y="197"/>
                      <a:pt x="48" y="236"/>
                    </a:cubicBezTo>
                    <a:cubicBezTo>
                      <a:pt x="50" y="275"/>
                      <a:pt x="58" y="285"/>
                      <a:pt x="62" y="278"/>
                    </a:cubicBezTo>
                    <a:cubicBezTo>
                      <a:pt x="66" y="271"/>
                      <a:pt x="72" y="214"/>
                      <a:pt x="75" y="193"/>
                    </a:cubicBezTo>
                    <a:cubicBezTo>
                      <a:pt x="78" y="172"/>
                      <a:pt x="77" y="163"/>
                      <a:pt x="78" y="150"/>
                    </a:cubicBezTo>
                    <a:cubicBezTo>
                      <a:pt x="79" y="137"/>
                      <a:pt x="79" y="132"/>
                      <a:pt x="80" y="115"/>
                    </a:cubicBezTo>
                    <a:cubicBezTo>
                      <a:pt x="81" y="98"/>
                      <a:pt x="82" y="58"/>
                      <a:pt x="86" y="49"/>
                    </a:cubicBezTo>
                    <a:cubicBezTo>
                      <a:pt x="90" y="40"/>
                      <a:pt x="98" y="57"/>
                      <a:pt x="104" y="59"/>
                    </a:cubicBezTo>
                    <a:cubicBezTo>
                      <a:pt x="110" y="61"/>
                      <a:pt x="118" y="33"/>
                      <a:pt x="120" y="64"/>
                    </a:cubicBezTo>
                    <a:cubicBezTo>
                      <a:pt x="122" y="95"/>
                      <a:pt x="112" y="213"/>
                      <a:pt x="114" y="246"/>
                    </a:cubicBezTo>
                    <a:cubicBezTo>
                      <a:pt x="116" y="279"/>
                      <a:pt x="129" y="264"/>
                      <a:pt x="135" y="263"/>
                    </a:cubicBezTo>
                    <a:cubicBezTo>
                      <a:pt x="141" y="262"/>
                      <a:pt x="145" y="240"/>
                      <a:pt x="151" y="240"/>
                    </a:cubicBezTo>
                    <a:cubicBezTo>
                      <a:pt x="157" y="240"/>
                      <a:pt x="167" y="263"/>
                      <a:pt x="174" y="265"/>
                    </a:cubicBezTo>
                    <a:cubicBezTo>
                      <a:pt x="181" y="267"/>
                      <a:pt x="193" y="283"/>
                      <a:pt x="196" y="253"/>
                    </a:cubicBezTo>
                    <a:cubicBezTo>
                      <a:pt x="199" y="223"/>
                      <a:pt x="188" y="113"/>
                      <a:pt x="194" y="82"/>
                    </a:cubicBezTo>
                    <a:cubicBezTo>
                      <a:pt x="200" y="51"/>
                      <a:pt x="221" y="66"/>
                      <a:pt x="231" y="67"/>
                    </a:cubicBezTo>
                    <a:cubicBezTo>
                      <a:pt x="241" y="68"/>
                      <a:pt x="248" y="87"/>
                      <a:pt x="255" y="89"/>
                    </a:cubicBezTo>
                    <a:cubicBezTo>
                      <a:pt x="262" y="91"/>
                      <a:pt x="271" y="55"/>
                      <a:pt x="276" y="82"/>
                    </a:cubicBezTo>
                    <a:cubicBezTo>
                      <a:pt x="281" y="109"/>
                      <a:pt x="280" y="225"/>
                      <a:pt x="286" y="254"/>
                    </a:cubicBezTo>
                    <a:cubicBezTo>
                      <a:pt x="292" y="283"/>
                      <a:pt x="306" y="271"/>
                      <a:pt x="314" y="259"/>
                    </a:cubicBezTo>
                    <a:cubicBezTo>
                      <a:pt x="322" y="247"/>
                      <a:pt x="327" y="203"/>
                      <a:pt x="332" y="181"/>
                    </a:cubicBezTo>
                    <a:cubicBezTo>
                      <a:pt x="337" y="159"/>
                      <a:pt x="338" y="115"/>
                      <a:pt x="343" y="126"/>
                    </a:cubicBezTo>
                    <a:cubicBezTo>
                      <a:pt x="348" y="137"/>
                      <a:pt x="356" y="223"/>
                      <a:pt x="363" y="246"/>
                    </a:cubicBezTo>
                    <a:cubicBezTo>
                      <a:pt x="370" y="269"/>
                      <a:pt x="382" y="277"/>
                      <a:pt x="388" y="264"/>
                    </a:cubicBezTo>
                    <a:cubicBezTo>
                      <a:pt x="394" y="251"/>
                      <a:pt x="396" y="171"/>
                      <a:pt x="400" y="170"/>
                    </a:cubicBezTo>
                    <a:cubicBezTo>
                      <a:pt x="404" y="169"/>
                      <a:pt x="406" y="246"/>
                      <a:pt x="412" y="259"/>
                    </a:cubicBezTo>
                    <a:cubicBezTo>
                      <a:pt x="418" y="272"/>
                      <a:pt x="432" y="249"/>
                      <a:pt x="438" y="248"/>
                    </a:cubicBezTo>
                    <a:cubicBezTo>
                      <a:pt x="444" y="247"/>
                      <a:pt x="448" y="286"/>
                      <a:pt x="451" y="252"/>
                    </a:cubicBezTo>
                    <a:cubicBezTo>
                      <a:pt x="454" y="218"/>
                      <a:pt x="454" y="75"/>
                      <a:pt x="459" y="46"/>
                    </a:cubicBezTo>
                    <a:cubicBezTo>
                      <a:pt x="464" y="17"/>
                      <a:pt x="477" y="46"/>
                      <a:pt x="482" y="80"/>
                    </a:cubicBezTo>
                    <a:cubicBezTo>
                      <a:pt x="487" y="114"/>
                      <a:pt x="486" y="223"/>
                      <a:pt x="489" y="253"/>
                    </a:cubicBezTo>
                    <a:cubicBezTo>
                      <a:pt x="492" y="283"/>
                      <a:pt x="497" y="272"/>
                      <a:pt x="502" y="262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4495680" y="4705200"/>
              <a:ext cx="906480" cy="477720"/>
              <a:chOff x="4495680" y="4705200"/>
              <a:chExt cx="906480" cy="477720"/>
            </a:xfrm>
          </p:grpSpPr>
          <p:sp>
            <p:nvSpPr>
              <p:cNvPr id="847" name=""/>
              <p:cNvSpPr/>
              <p:nvPr/>
            </p:nvSpPr>
            <p:spPr>
              <a:xfrm>
                <a:off x="4495680" y="5182920"/>
                <a:ext cx="90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4495680" y="4773240"/>
                <a:ext cx="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498920" y="4705200"/>
                <a:ext cx="796680" cy="475920"/>
              </a:xfrm>
              <a:custGeom>
                <a:avLst/>
                <a:gdLst/>
                <a:ahLst/>
                <a:rect l="l" t="t" r="r" b="b"/>
                <a:pathLst>
                  <a:path w="502" h="300">
                    <a:moveTo>
                      <a:pt x="0" y="300"/>
                    </a:moveTo>
                    <a:lnTo>
                      <a:pt x="6" y="288"/>
                    </a:lnTo>
                    <a:cubicBezTo>
                      <a:pt x="10" y="245"/>
                      <a:pt x="14" y="82"/>
                      <a:pt x="21" y="41"/>
                    </a:cubicBezTo>
                    <a:cubicBezTo>
                      <a:pt x="28" y="0"/>
                      <a:pt x="46" y="8"/>
                      <a:pt x="51" y="41"/>
                    </a:cubicBezTo>
                    <a:cubicBezTo>
                      <a:pt x="56" y="74"/>
                      <a:pt x="46" y="197"/>
                      <a:pt x="48" y="236"/>
                    </a:cubicBezTo>
                    <a:cubicBezTo>
                      <a:pt x="50" y="275"/>
                      <a:pt x="58" y="285"/>
                      <a:pt x="62" y="278"/>
                    </a:cubicBezTo>
                    <a:cubicBezTo>
                      <a:pt x="66" y="271"/>
                      <a:pt x="72" y="214"/>
                      <a:pt x="75" y="193"/>
                    </a:cubicBezTo>
                    <a:cubicBezTo>
                      <a:pt x="78" y="172"/>
                      <a:pt x="77" y="163"/>
                      <a:pt x="78" y="150"/>
                    </a:cubicBezTo>
                    <a:cubicBezTo>
                      <a:pt x="79" y="137"/>
                      <a:pt x="79" y="132"/>
                      <a:pt x="80" y="115"/>
                    </a:cubicBezTo>
                    <a:cubicBezTo>
                      <a:pt x="81" y="98"/>
                      <a:pt x="82" y="58"/>
                      <a:pt x="86" y="49"/>
                    </a:cubicBezTo>
                    <a:cubicBezTo>
                      <a:pt x="90" y="40"/>
                      <a:pt x="98" y="57"/>
                      <a:pt x="104" y="59"/>
                    </a:cubicBezTo>
                    <a:cubicBezTo>
                      <a:pt x="110" y="61"/>
                      <a:pt x="118" y="33"/>
                      <a:pt x="120" y="64"/>
                    </a:cubicBezTo>
                    <a:cubicBezTo>
                      <a:pt x="122" y="95"/>
                      <a:pt x="112" y="213"/>
                      <a:pt x="114" y="246"/>
                    </a:cubicBezTo>
                    <a:cubicBezTo>
                      <a:pt x="116" y="279"/>
                      <a:pt x="129" y="264"/>
                      <a:pt x="135" y="263"/>
                    </a:cubicBezTo>
                    <a:cubicBezTo>
                      <a:pt x="141" y="262"/>
                      <a:pt x="145" y="240"/>
                      <a:pt x="151" y="240"/>
                    </a:cubicBezTo>
                    <a:cubicBezTo>
                      <a:pt x="157" y="240"/>
                      <a:pt x="167" y="263"/>
                      <a:pt x="174" y="265"/>
                    </a:cubicBezTo>
                    <a:cubicBezTo>
                      <a:pt x="181" y="267"/>
                      <a:pt x="193" y="283"/>
                      <a:pt x="196" y="253"/>
                    </a:cubicBezTo>
                    <a:cubicBezTo>
                      <a:pt x="199" y="223"/>
                      <a:pt x="188" y="113"/>
                      <a:pt x="194" y="82"/>
                    </a:cubicBezTo>
                    <a:cubicBezTo>
                      <a:pt x="200" y="51"/>
                      <a:pt x="221" y="66"/>
                      <a:pt x="231" y="67"/>
                    </a:cubicBezTo>
                    <a:cubicBezTo>
                      <a:pt x="241" y="68"/>
                      <a:pt x="248" y="87"/>
                      <a:pt x="255" y="89"/>
                    </a:cubicBezTo>
                    <a:cubicBezTo>
                      <a:pt x="262" y="91"/>
                      <a:pt x="271" y="55"/>
                      <a:pt x="276" y="82"/>
                    </a:cubicBezTo>
                    <a:cubicBezTo>
                      <a:pt x="281" y="109"/>
                      <a:pt x="280" y="225"/>
                      <a:pt x="286" y="254"/>
                    </a:cubicBezTo>
                    <a:cubicBezTo>
                      <a:pt x="292" y="283"/>
                      <a:pt x="306" y="271"/>
                      <a:pt x="314" y="259"/>
                    </a:cubicBezTo>
                    <a:cubicBezTo>
                      <a:pt x="322" y="247"/>
                      <a:pt x="327" y="203"/>
                      <a:pt x="332" y="181"/>
                    </a:cubicBezTo>
                    <a:cubicBezTo>
                      <a:pt x="337" y="159"/>
                      <a:pt x="338" y="115"/>
                      <a:pt x="343" y="126"/>
                    </a:cubicBezTo>
                    <a:cubicBezTo>
                      <a:pt x="348" y="137"/>
                      <a:pt x="356" y="223"/>
                      <a:pt x="363" y="246"/>
                    </a:cubicBezTo>
                    <a:cubicBezTo>
                      <a:pt x="370" y="269"/>
                      <a:pt x="382" y="277"/>
                      <a:pt x="388" y="264"/>
                    </a:cubicBezTo>
                    <a:cubicBezTo>
                      <a:pt x="394" y="251"/>
                      <a:pt x="396" y="171"/>
                      <a:pt x="400" y="170"/>
                    </a:cubicBezTo>
                    <a:cubicBezTo>
                      <a:pt x="404" y="169"/>
                      <a:pt x="406" y="246"/>
                      <a:pt x="412" y="259"/>
                    </a:cubicBezTo>
                    <a:cubicBezTo>
                      <a:pt x="418" y="272"/>
                      <a:pt x="432" y="249"/>
                      <a:pt x="438" y="248"/>
                    </a:cubicBezTo>
                    <a:cubicBezTo>
                      <a:pt x="444" y="247"/>
                      <a:pt x="448" y="286"/>
                      <a:pt x="451" y="252"/>
                    </a:cubicBezTo>
                    <a:cubicBezTo>
                      <a:pt x="454" y="218"/>
                      <a:pt x="454" y="75"/>
                      <a:pt x="459" y="46"/>
                    </a:cubicBezTo>
                    <a:cubicBezTo>
                      <a:pt x="464" y="17"/>
                      <a:pt x="477" y="46"/>
                      <a:pt x="482" y="80"/>
                    </a:cubicBezTo>
                    <a:cubicBezTo>
                      <a:pt x="487" y="114"/>
                      <a:pt x="486" y="223"/>
                      <a:pt x="489" y="253"/>
                    </a:cubicBezTo>
                    <a:cubicBezTo>
                      <a:pt x="492" y="283"/>
                      <a:pt x="497" y="272"/>
                      <a:pt x="502" y="262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792468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00100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07732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15328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22960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30592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38188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45820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53452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61048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695360" y="3733920"/>
              <a:ext cx="1043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ove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391520" y="4343040"/>
              <a:ext cx="457200" cy="39204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1108080" y="4773600"/>
              <a:ext cx="906480" cy="409680"/>
              <a:chOff x="1108080" y="4773600"/>
              <a:chExt cx="906480" cy="409680"/>
            </a:xfrm>
          </p:grpSpPr>
          <p:sp>
            <p:nvSpPr>
              <p:cNvPr id="863" name=""/>
              <p:cNvSpPr/>
              <p:nvPr/>
            </p:nvSpPr>
            <p:spPr>
              <a:xfrm>
                <a:off x="1108080" y="5183280"/>
                <a:ext cx="906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1108080" y="4773600"/>
                <a:ext cx="0" cy="409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143000" y="4803840"/>
                <a:ext cx="741240" cy="377640"/>
              </a:xfrm>
              <a:custGeom>
                <a:avLst/>
                <a:gdLst/>
                <a:ahLst/>
                <a:rect l="l" t="t" r="r" b="b"/>
                <a:pathLst>
                  <a:path w="467" h="238">
                    <a:moveTo>
                      <a:pt x="0" y="238"/>
                    </a:moveTo>
                    <a:lnTo>
                      <a:pt x="18" y="0"/>
                    </a:lnTo>
                    <a:lnTo>
                      <a:pt x="74" y="0"/>
                    </a:lnTo>
                    <a:lnTo>
                      <a:pt x="86" y="234"/>
                    </a:lnTo>
                    <a:lnTo>
                      <a:pt x="192" y="234"/>
                    </a:lnTo>
                    <a:lnTo>
                      <a:pt x="206" y="5"/>
                    </a:lnTo>
                    <a:lnTo>
                      <a:pt x="324" y="5"/>
                    </a:lnTo>
                    <a:lnTo>
                      <a:pt x="340" y="237"/>
                    </a:lnTo>
                    <a:lnTo>
                      <a:pt x="380" y="236"/>
                    </a:lnTo>
                    <a:lnTo>
                      <a:pt x="404" y="5"/>
                    </a:lnTo>
                    <a:lnTo>
                      <a:pt x="440" y="5"/>
                    </a:lnTo>
                    <a:lnTo>
                      <a:pt x="467" y="234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702720" y="3352680"/>
              <a:ext cx="20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Arial"/>
                </a:rPr>
                <a:t>Waveform 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647640" y="1042920"/>
            <a:ext cx="8365320" cy="2257560"/>
            <a:chOff x="647640" y="1042920"/>
            <a:chExt cx="8365320" cy="2257560"/>
          </a:xfrm>
        </p:grpSpPr>
        <p:sp>
          <p:nvSpPr>
            <p:cNvPr id="868" name=""/>
            <p:cNvSpPr/>
            <p:nvPr/>
          </p:nvSpPr>
          <p:spPr>
            <a:xfrm>
              <a:off x="647640" y="1042920"/>
              <a:ext cx="8356680" cy="2257560"/>
            </a:xfrm>
            <a:prstGeom prst="rect">
              <a:avLst/>
            </a:prstGeom>
            <a:solidFill>
              <a:srgbClr val="e1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1108080" y="2087640"/>
              <a:ext cx="906480" cy="512640"/>
              <a:chOff x="1108080" y="2087640"/>
              <a:chExt cx="906480" cy="512640"/>
            </a:xfrm>
          </p:grpSpPr>
          <p:sp>
            <p:nvSpPr>
              <p:cNvPr id="870" name=""/>
              <p:cNvSpPr/>
              <p:nvPr/>
            </p:nvSpPr>
            <p:spPr>
              <a:xfrm>
                <a:off x="1108080" y="2497320"/>
                <a:ext cx="90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1108080" y="2087640"/>
                <a:ext cx="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108080" y="2247120"/>
                <a:ext cx="766800" cy="35316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76"/>
                    </a:moveTo>
                    <a:cubicBezTo>
                      <a:pt x="12" y="116"/>
                      <a:pt x="24" y="56"/>
                      <a:pt x="48" y="32"/>
                    </a:cubicBezTo>
                    <a:cubicBezTo>
                      <a:pt x="72" y="8"/>
                      <a:pt x="120" y="0"/>
                      <a:pt x="144" y="32"/>
                    </a:cubicBezTo>
                    <a:cubicBezTo>
                      <a:pt x="168" y="64"/>
                      <a:pt x="168" y="200"/>
                      <a:pt x="192" y="224"/>
                    </a:cubicBezTo>
                    <a:cubicBezTo>
                      <a:pt x="216" y="248"/>
                      <a:pt x="256" y="192"/>
                      <a:pt x="288" y="176"/>
                    </a:cubicBezTo>
                    <a:cubicBezTo>
                      <a:pt x="320" y="160"/>
                      <a:pt x="352" y="128"/>
                      <a:pt x="384" y="128"/>
                    </a:cubicBezTo>
                    <a:cubicBezTo>
                      <a:pt x="416" y="128"/>
                      <a:pt x="456" y="168"/>
                      <a:pt x="480" y="176"/>
                    </a:cubicBezTo>
                    <a:cubicBezTo>
                      <a:pt x="504" y="184"/>
                      <a:pt x="516" y="180"/>
                      <a:pt x="528" y="17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1981080" y="2344680"/>
              <a:ext cx="83844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825640" y="2130480"/>
              <a:ext cx="83160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IT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4537080" y="2087640"/>
              <a:ext cx="905040" cy="512640"/>
              <a:chOff x="4537080" y="2087640"/>
              <a:chExt cx="905040" cy="512640"/>
            </a:xfrm>
          </p:grpSpPr>
          <p:sp>
            <p:nvSpPr>
              <p:cNvPr id="876" name=""/>
              <p:cNvSpPr/>
              <p:nvPr/>
            </p:nvSpPr>
            <p:spPr>
              <a:xfrm>
                <a:off x="4537080" y="2497320"/>
                <a:ext cx="90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4537080" y="2087640"/>
                <a:ext cx="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537080" y="2247120"/>
                <a:ext cx="765360" cy="35316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76"/>
                    </a:moveTo>
                    <a:cubicBezTo>
                      <a:pt x="12" y="116"/>
                      <a:pt x="24" y="56"/>
                      <a:pt x="48" y="32"/>
                    </a:cubicBezTo>
                    <a:cubicBezTo>
                      <a:pt x="72" y="8"/>
                      <a:pt x="120" y="0"/>
                      <a:pt x="144" y="32"/>
                    </a:cubicBezTo>
                    <a:cubicBezTo>
                      <a:pt x="168" y="64"/>
                      <a:pt x="168" y="200"/>
                      <a:pt x="192" y="224"/>
                    </a:cubicBezTo>
                    <a:cubicBezTo>
                      <a:pt x="216" y="248"/>
                      <a:pt x="256" y="192"/>
                      <a:pt x="288" y="176"/>
                    </a:cubicBezTo>
                    <a:cubicBezTo>
                      <a:pt x="320" y="160"/>
                      <a:pt x="352" y="128"/>
                      <a:pt x="384" y="128"/>
                    </a:cubicBezTo>
                    <a:cubicBezTo>
                      <a:pt x="416" y="128"/>
                      <a:pt x="456" y="168"/>
                      <a:pt x="480" y="176"/>
                    </a:cubicBezTo>
                    <a:cubicBezTo>
                      <a:pt x="504" y="184"/>
                      <a:pt x="516" y="180"/>
                      <a:pt x="528" y="17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7878600" y="2061720"/>
              <a:ext cx="905040" cy="513000"/>
              <a:chOff x="7878600" y="2061720"/>
              <a:chExt cx="905040" cy="513000"/>
            </a:xfrm>
          </p:grpSpPr>
          <p:sp>
            <p:nvSpPr>
              <p:cNvPr id="880" name=""/>
              <p:cNvSpPr/>
              <p:nvPr/>
            </p:nvSpPr>
            <p:spPr>
              <a:xfrm>
                <a:off x="7878600" y="2472120"/>
                <a:ext cx="90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7878600" y="2061720"/>
                <a:ext cx="0" cy="41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78600" y="2221560"/>
                <a:ext cx="765360" cy="35316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76"/>
                    </a:moveTo>
                    <a:cubicBezTo>
                      <a:pt x="12" y="116"/>
                      <a:pt x="24" y="56"/>
                      <a:pt x="48" y="32"/>
                    </a:cubicBezTo>
                    <a:cubicBezTo>
                      <a:pt x="72" y="8"/>
                      <a:pt x="120" y="0"/>
                      <a:pt x="144" y="32"/>
                    </a:cubicBezTo>
                    <a:cubicBezTo>
                      <a:pt x="168" y="64"/>
                      <a:pt x="168" y="200"/>
                      <a:pt x="192" y="224"/>
                    </a:cubicBezTo>
                    <a:cubicBezTo>
                      <a:pt x="216" y="248"/>
                      <a:pt x="256" y="192"/>
                      <a:pt x="288" y="176"/>
                    </a:cubicBezTo>
                    <a:cubicBezTo>
                      <a:pt x="320" y="160"/>
                      <a:pt x="352" y="128"/>
                      <a:pt x="384" y="128"/>
                    </a:cubicBezTo>
                    <a:cubicBezTo>
                      <a:pt x="416" y="128"/>
                      <a:pt x="456" y="168"/>
                      <a:pt x="480" y="176"/>
                    </a:cubicBezTo>
                    <a:cubicBezTo>
                      <a:pt x="504" y="184"/>
                      <a:pt x="516" y="180"/>
                      <a:pt x="528" y="17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6070680" y="2122560"/>
              <a:ext cx="83160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IT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33920" y="2344680"/>
              <a:ext cx="758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57800" y="2362320"/>
              <a:ext cx="7621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934320" y="2362320"/>
              <a:ext cx="8683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3280" y="2712960"/>
              <a:ext cx="156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Impulse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00560" y="270360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TX 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43080" y="2590920"/>
              <a:ext cx="146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TX, RX 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97240" y="1295280"/>
              <a:ext cx="141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 Settt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79320" y="129528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 Sett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00400" y="1700280"/>
              <a:ext cx="23652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92840" y="1744560"/>
              <a:ext cx="23652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62040" y="1066680"/>
              <a:ext cx="27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Arial"/>
                </a:rPr>
                <a:t>Impulse Response 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1369440" y="3886200"/>
            <a:ext cx="5019480" cy="727200"/>
            <a:chOff x="1369440" y="3886200"/>
            <a:chExt cx="5019480" cy="727200"/>
          </a:xfrm>
        </p:grpSpPr>
        <p:sp>
          <p:nvSpPr>
            <p:cNvPr id="896" name=""/>
            <p:cNvSpPr/>
            <p:nvPr/>
          </p:nvSpPr>
          <p:spPr>
            <a:xfrm>
              <a:off x="1369440" y="388620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 Sett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27040" y="388620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 Sett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147760" y="4290840"/>
              <a:ext cx="23652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740560" y="4335480"/>
              <a:ext cx="23652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TM Algorithmic Model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3228480" y="2890800"/>
            <a:ext cx="3250080" cy="1730520"/>
            <a:chOff x="3228480" y="2890800"/>
            <a:chExt cx="3250080" cy="1730520"/>
          </a:xfrm>
        </p:grpSpPr>
        <p:sp>
          <p:nvSpPr>
            <p:cNvPr id="902" name=""/>
            <p:cNvSpPr/>
            <p:nvPr/>
          </p:nvSpPr>
          <p:spPr>
            <a:xfrm flipH="1">
              <a:off x="3228480" y="2908440"/>
              <a:ext cx="1800" cy="1690560"/>
            </a:xfrm>
            <a:prstGeom prst="line">
              <a:avLst/>
            </a:prstGeom>
            <a:ln w="19080">
              <a:solidFill>
                <a:srgbClr val="0099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6477120" y="2890800"/>
              <a:ext cx="1440" cy="1730520"/>
            </a:xfrm>
            <a:prstGeom prst="line">
              <a:avLst/>
            </a:prstGeom>
            <a:ln w="19080">
              <a:solidFill>
                <a:srgbClr val="0099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D7A8-47B4-4642-85A1-F57A2D108110}" type="slidenum">
              <a:t>10</a:t>
            </a:fld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xecutable (DLL) Call Argumen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Arial"/>
              </a:rPr>
              <a:t>Init (impulse response processing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Bit tim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Number of waveform samples per bi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Number of crosstalk aggressor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Channel impulse response(s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Model parameters and valu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Pointers to free memory, data return are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Getwave (waveform processing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nput waveform(s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ointers to data return are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Equalized waveform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Clock time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Optimized parameter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3233-AA6F-46C8-A78D-09694E9AEDCE}" type="slidenum">
              <a:t>11</a:t>
            </a:fld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Model Parameter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dditional data passed between executable model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&amp; simulator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del-specific paramete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low IP vendors to define data required for / provided by a specific mod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fined parameter declaration and usage forma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llows end-users to set and display model-specific dat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served paramete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edefined parameter list used by EDA tools to alter analysis flow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lows models to tell EDA platform what data the model does/doesn’t provid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6684-645E-4FAF-A448-A85D4E3127D6}" type="slidenum">
              <a:t>12</a:t>
            </a:fld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TM Statu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riginal proposal submitted by Cadence &amp; IBM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5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urrent version authored by Cadence, Mentor, SiSof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st draft of BIRD approved by IBIS-ATM task group for prototype model &amp; EDA platform developm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ove interoperability &amp; refine proposal before bringing back to IBIS Open Forum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ubcommittee work, presentations &amp; BIRD available on-line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vhdl.org/pub/ibis/macromodel_wip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ublic TX/RX models, modeling “toolkits” will be availab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AD0B-50F7-421C-8ABB-8B49798A4732}" type="slidenum">
              <a:t>13</a:t>
            </a:fld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833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"/>
          <p:cNvGraphicFramePr/>
          <p:nvPr/>
        </p:nvGraphicFramePr>
        <p:xfrm>
          <a:off x="1447920" y="1219320"/>
          <a:ext cx="6705360" cy="5070240"/>
        </p:xfrm>
        <a:graphic>
          <a:graphicData uri="http://schemas.openxmlformats.org/drawingml/2006/table">
            <a:tbl>
              <a:tblPr/>
              <a:tblGrid>
                <a:gridCol w="1295280"/>
                <a:gridCol w="541008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liminary approval by IBIS-ATM subcommitt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mplete BIRD docu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velop sample models &amp; prototype EDA integration; demonstrate interoper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arge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ep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efine BIRD based on prototype experi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arget: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ct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ring to IBIS-ATM task group for final appro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ring BIRD to IBIS Open Forum for appro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orporate BIRD into updated IBIS spec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2586-1B6E-464C-8D12-EA1DE798FFF5}" type="slidenum">
              <a:t>14</a:t>
            </a:fld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ypical SerDes Analysis Flow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89400" y="1533240"/>
            <a:ext cx="6773400" cy="1533600"/>
            <a:chOff x="689400" y="1533240"/>
            <a:chExt cx="6773400" cy="1533600"/>
          </a:xfrm>
        </p:grpSpPr>
        <p:grpSp>
          <p:nvGrpSpPr>
            <p:cNvPr id="85" name=""/>
            <p:cNvGrpSpPr/>
            <p:nvPr/>
          </p:nvGrpSpPr>
          <p:grpSpPr>
            <a:xfrm>
              <a:off x="4114800" y="2143080"/>
              <a:ext cx="2368440" cy="923760"/>
              <a:chOff x="4114800" y="2143080"/>
              <a:chExt cx="2368440" cy="92376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4114800" y="2143080"/>
                <a:ext cx="2368440" cy="923040"/>
                <a:chOff x="4114800" y="2143080"/>
                <a:chExt cx="2368440" cy="92304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6194160" y="2431800"/>
                  <a:ext cx="289080" cy="345600"/>
                  <a:chOff x="6194160" y="2431800"/>
                  <a:chExt cx="289080" cy="34560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>
                    <a:off x="6194160" y="2431800"/>
                    <a:ext cx="289080" cy="34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18">
                        <a:moveTo>
                          <a:pt x="182" y="109"/>
                        </a:moveTo>
                        <a:lnTo>
                          <a:pt x="0" y="0"/>
                        </a:lnTo>
                        <a:lnTo>
                          <a:pt x="0" y="218"/>
                        </a:lnTo>
                        <a:lnTo>
                          <a:pt x="182" y="109"/>
                        </a:lnTo>
                        <a:close/>
                      </a:path>
                    </a:pathLst>
                  </a:custGeom>
                  <a:solidFill>
                    <a:srgbClr val="00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6194160" y="2431800"/>
                    <a:ext cx="289080" cy="34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18">
                        <a:moveTo>
                          <a:pt x="182" y="109"/>
                        </a:moveTo>
                        <a:lnTo>
                          <a:pt x="0" y="0"/>
                        </a:lnTo>
                        <a:lnTo>
                          <a:pt x="0" y="218"/>
                        </a:lnTo>
                        <a:lnTo>
                          <a:pt x="182" y="109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" name=""/>
                <p:cNvSpPr/>
                <p:nvPr/>
              </p:nvSpPr>
              <p:spPr>
                <a:xfrm>
                  <a:off x="4171680" y="2488680"/>
                  <a:ext cx="202248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287600" y="2720520"/>
                  <a:ext cx="190656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5154480" y="2258640"/>
                  <a:ext cx="262080" cy="701280"/>
                  <a:chOff x="5154480" y="2258640"/>
                  <a:chExt cx="262080" cy="7012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5154480" y="2258640"/>
                    <a:ext cx="262080" cy="7012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5154480" y="2258640"/>
                    <a:ext cx="262080" cy="701280"/>
                  </a:xfrm>
                  <a:prstGeom prst="rect">
                    <a:avLst/>
                  </a:prstGeom>
                  <a:noFill/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" name=""/>
                <p:cNvSpPr/>
                <p:nvPr/>
              </p:nvSpPr>
              <p:spPr>
                <a:xfrm>
                  <a:off x="5229000" y="2518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" name=""/>
                <p:cNvGrpSpPr/>
                <p:nvPr/>
              </p:nvGrpSpPr>
              <p:grpSpPr>
                <a:xfrm>
                  <a:off x="4981320" y="2720160"/>
                  <a:ext cx="115920" cy="345960"/>
                  <a:chOff x="4981320" y="2720160"/>
                  <a:chExt cx="115920" cy="34596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>
                    <a:off x="4981320" y="283608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4981320" y="289332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V="1">
                    <a:off x="5038560" y="2892960"/>
                    <a:ext cx="0" cy="11556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5038560" y="2720160"/>
                    <a:ext cx="0" cy="11556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4981320" y="3009240"/>
                    <a:ext cx="115920" cy="56880"/>
                    <a:chOff x="4981320" y="3009240"/>
                    <a:chExt cx="115920" cy="56880"/>
                  </a:xfrm>
                </p:grpSpPr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4981320" y="3009240"/>
                      <a:ext cx="11592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6">
                          <a:moveTo>
                            <a:pt x="36" y="36"/>
                          </a:moveTo>
                          <a:lnTo>
                            <a:pt x="0" y="0"/>
                          </a:lnTo>
                          <a:lnTo>
                            <a:pt x="73" y="0"/>
                          </a:lnTo>
                          <a:lnTo>
                            <a:pt x="36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4981320" y="3009240"/>
                      <a:ext cx="11592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6">
                          <a:moveTo>
                            <a:pt x="36" y="36"/>
                          </a:moveTo>
                          <a:lnTo>
                            <a:pt x="0" y="0"/>
                          </a:lnTo>
                          <a:lnTo>
                            <a:pt x="73" y="0"/>
                          </a:lnTo>
                          <a:lnTo>
                            <a:pt x="36" y="36"/>
                          </a:lnTo>
                          <a:close/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5443560" y="2720160"/>
                  <a:ext cx="115920" cy="345960"/>
                  <a:chOff x="5443560" y="2720160"/>
                  <a:chExt cx="115920" cy="3459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5443560" y="283608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5443560" y="289332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V="1">
                    <a:off x="5500440" y="2892960"/>
                    <a:ext cx="0" cy="11556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5500440" y="2720160"/>
                    <a:ext cx="0" cy="11556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5443560" y="3009240"/>
                    <a:ext cx="115920" cy="56880"/>
                    <a:chOff x="5443560" y="3009240"/>
                    <a:chExt cx="115920" cy="5688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5443560" y="3009240"/>
                      <a:ext cx="11592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6">
                          <a:moveTo>
                            <a:pt x="36" y="36"/>
                          </a:moveTo>
                          <a:lnTo>
                            <a:pt x="0" y="0"/>
                          </a:lnTo>
                          <a:lnTo>
                            <a:pt x="73" y="0"/>
                          </a:lnTo>
                          <a:lnTo>
                            <a:pt x="36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5443560" y="3009240"/>
                      <a:ext cx="11592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6">
                          <a:moveTo>
                            <a:pt x="36" y="36"/>
                          </a:moveTo>
                          <a:lnTo>
                            <a:pt x="0" y="0"/>
                          </a:lnTo>
                          <a:lnTo>
                            <a:pt x="73" y="0"/>
                          </a:lnTo>
                          <a:lnTo>
                            <a:pt x="36" y="36"/>
                          </a:lnTo>
                          <a:close/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4865760" y="2143080"/>
                  <a:ext cx="231480" cy="343440"/>
                  <a:chOff x="4865760" y="2143080"/>
                  <a:chExt cx="231480" cy="343440"/>
                </a:xfrm>
              </p:grpSpPr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4981320" y="2198160"/>
                    <a:ext cx="115920" cy="288360"/>
                    <a:chOff x="4981320" y="2198160"/>
                    <a:chExt cx="115920" cy="28836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 flipH="1">
                      <a:off x="4981320" y="2372760"/>
                      <a:ext cx="115920" cy="0"/>
                    </a:xfrm>
                    <a:prstGeom prst="line">
                      <a:avLst/>
                    </a:prstGeom>
                    <a:ln cap="rnd"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 flipH="1">
                      <a:off x="4981320" y="2315520"/>
                      <a:ext cx="115920" cy="0"/>
                    </a:xfrm>
                    <a:prstGeom prst="line">
                      <a:avLst/>
                    </a:prstGeom>
                    <a:ln cap="rnd"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5038560" y="2198160"/>
                      <a:ext cx="0" cy="115560"/>
                    </a:xfrm>
                    <a:prstGeom prst="line">
                      <a:avLst/>
                    </a:prstGeom>
                    <a:ln cap="rnd"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5038560" y="2372760"/>
                      <a:ext cx="0" cy="113760"/>
                    </a:xfrm>
                    <a:prstGeom prst="line">
                      <a:avLst/>
                    </a:prstGeom>
                    <a:ln cap="rnd"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4865760" y="2199960"/>
                    <a:ext cx="115560" cy="58320"/>
                    <a:chOff x="4865760" y="2199960"/>
                    <a:chExt cx="115560" cy="5832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4865760" y="2199960"/>
                      <a:ext cx="115560" cy="5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7">
                          <a:moveTo>
                            <a:pt x="36" y="37"/>
                          </a:moveTo>
                          <a:lnTo>
                            <a:pt x="73" y="0"/>
                          </a:lnTo>
                          <a:lnTo>
                            <a:pt x="0" y="0"/>
                          </a:lnTo>
                          <a:lnTo>
                            <a:pt x="36" y="3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4865760" y="2199960"/>
                      <a:ext cx="115560" cy="5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7">
                          <a:moveTo>
                            <a:pt x="36" y="37"/>
                          </a:moveTo>
                          <a:lnTo>
                            <a:pt x="73" y="0"/>
                          </a:lnTo>
                          <a:lnTo>
                            <a:pt x="0" y="0"/>
                          </a:lnTo>
                          <a:lnTo>
                            <a:pt x="36" y="37"/>
                          </a:lnTo>
                          <a:close/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" name=""/>
                  <p:cNvSpPr/>
                  <p:nvPr/>
                </p:nvSpPr>
                <p:spPr>
                  <a:xfrm>
                    <a:off x="4922640" y="214308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73" y="36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0" y="36"/>
                        </a:ln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5443560" y="2143080"/>
                  <a:ext cx="231480" cy="344880"/>
                  <a:chOff x="5443560" y="2143080"/>
                  <a:chExt cx="231480" cy="344880"/>
                </a:xfrm>
              </p:grpSpPr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5443560" y="2199960"/>
                    <a:ext cx="115920" cy="288000"/>
                    <a:chOff x="5443560" y="2199960"/>
                    <a:chExt cx="115920" cy="28800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 flipH="1">
                      <a:off x="5443560" y="2372760"/>
                      <a:ext cx="115920" cy="0"/>
                    </a:xfrm>
                    <a:prstGeom prst="line">
                      <a:avLst/>
                    </a:prstGeom>
                    <a:ln cap="rnd"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 flipH="1">
                      <a:off x="5443560" y="2316960"/>
                      <a:ext cx="115920" cy="0"/>
                    </a:xfrm>
                    <a:prstGeom prst="line">
                      <a:avLst/>
                    </a:prstGeom>
                    <a:ln cap="rnd"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5500440" y="2199960"/>
                      <a:ext cx="0" cy="115560"/>
                    </a:xfrm>
                    <a:prstGeom prst="line">
                      <a:avLst/>
                    </a:prstGeom>
                    <a:ln cap="rnd"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5500440" y="2372760"/>
                      <a:ext cx="0" cy="115200"/>
                    </a:xfrm>
                    <a:prstGeom prst="line">
                      <a:avLst/>
                    </a:prstGeom>
                    <a:ln cap="rnd"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5500440" y="214308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73" y="36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0" y="36"/>
                        </a:ln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5559480" y="2199960"/>
                    <a:ext cx="115560" cy="58320"/>
                    <a:chOff x="5559480" y="2199960"/>
                    <a:chExt cx="115560" cy="5832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5559480" y="2199960"/>
                      <a:ext cx="115560" cy="5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7">
                          <a:moveTo>
                            <a:pt x="36" y="37"/>
                          </a:moveTo>
                          <a:lnTo>
                            <a:pt x="73" y="0"/>
                          </a:lnTo>
                          <a:lnTo>
                            <a:pt x="0" y="0"/>
                          </a:lnTo>
                          <a:lnTo>
                            <a:pt x="36" y="3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5559480" y="2199960"/>
                      <a:ext cx="115560" cy="5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7">
                          <a:moveTo>
                            <a:pt x="36" y="37"/>
                          </a:moveTo>
                          <a:lnTo>
                            <a:pt x="73" y="0"/>
                          </a:lnTo>
                          <a:lnTo>
                            <a:pt x="0" y="0"/>
                          </a:lnTo>
                          <a:lnTo>
                            <a:pt x="36" y="37"/>
                          </a:lnTo>
                          <a:close/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4562280" y="2661840"/>
                  <a:ext cx="360360" cy="115560"/>
                  <a:chOff x="4562280" y="2661840"/>
                  <a:chExt cx="360360" cy="1155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4633920" y="2661840"/>
                    <a:ext cx="288720" cy="115560"/>
                    <a:chOff x="4633920" y="2661840"/>
                    <a:chExt cx="288720" cy="11556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4633920" y="2661840"/>
                      <a:ext cx="28872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0" h="1600">
                          <a:moveTo>
                            <a:pt x="0" y="800"/>
                          </a:moveTo>
                          <a:cubicBezTo>
                            <a:pt x="0" y="1242"/>
                            <a:pt x="224" y="1600"/>
                            <a:pt x="500" y="1600"/>
                          </a:cubicBezTo>
                          <a:lnTo>
                            <a:pt x="3500" y="1600"/>
                          </a:lnTo>
                          <a:cubicBezTo>
                            <a:pt x="3777" y="1600"/>
                            <a:pt x="4000" y="1242"/>
                            <a:pt x="4000" y="800"/>
                          </a:cubicBezTo>
                          <a:cubicBezTo>
                            <a:pt x="4000" y="358"/>
                            <a:pt x="3777" y="0"/>
                            <a:pt x="3500" y="0"/>
                          </a:cubicBezTo>
                          <a:lnTo>
                            <a:pt x="500" y="0"/>
                          </a:lnTo>
                          <a:cubicBezTo>
                            <a:pt x="224" y="0"/>
                            <a:pt x="0" y="358"/>
                            <a:pt x="0" y="800"/>
                          </a:cubicBezTo>
                          <a:close/>
                        </a:path>
                      </a:pathLst>
                    </a:custGeom>
                    <a:solidFill>
                      <a:srgbClr val="4a95b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4633920" y="2661840"/>
                      <a:ext cx="73080" cy="115560"/>
                    </a:xfrm>
                    <a:prstGeom prst="ellipse">
                      <a:avLst/>
                    </a:prstGeom>
                    <a:solidFill>
                      <a:srgbClr val="6daa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633920" y="2661840"/>
                      <a:ext cx="28872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0" h="1600">
                          <a:moveTo>
                            <a:pt x="0" y="800"/>
                          </a:moveTo>
                          <a:cubicBezTo>
                            <a:pt x="0" y="1242"/>
                            <a:pt x="224" y="1600"/>
                            <a:pt x="500" y="1600"/>
                          </a:cubicBezTo>
                          <a:lnTo>
                            <a:pt x="3500" y="1600"/>
                          </a:lnTo>
                          <a:cubicBezTo>
                            <a:pt x="3777" y="1600"/>
                            <a:pt x="4000" y="1242"/>
                            <a:pt x="4000" y="800"/>
                          </a:cubicBezTo>
                          <a:cubicBezTo>
                            <a:pt x="4000" y="358"/>
                            <a:pt x="3777" y="0"/>
                            <a:pt x="3500" y="0"/>
                          </a:cubicBezTo>
                          <a:lnTo>
                            <a:pt x="500" y="0"/>
                          </a:lnTo>
                          <a:cubicBezTo>
                            <a:pt x="224" y="0"/>
                            <a:pt x="0" y="358"/>
                            <a:pt x="0" y="800"/>
                          </a:cubicBezTo>
                          <a:close/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670280" y="2661840"/>
                      <a:ext cx="3672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73">
                          <a:moveTo>
                            <a:pt x="0" y="73"/>
                          </a:moveTo>
                          <a:cubicBezTo>
                            <a:pt x="13" y="73"/>
                            <a:pt x="23" y="57"/>
                            <a:pt x="23" y="37"/>
                          </a:cubicBezTo>
                          <a:cubicBezTo>
                            <a:pt x="23" y="17"/>
                            <a:pt x="13" y="0"/>
                            <a:pt x="0" y="0"/>
                          </a:cubicBezTo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" name=""/>
                  <p:cNvSpPr/>
                  <p:nvPr/>
                </p:nvSpPr>
                <p:spPr>
                  <a:xfrm>
                    <a:off x="4562280" y="272016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4576680" y="2431800"/>
                  <a:ext cx="361800" cy="115560"/>
                  <a:chOff x="4576680" y="2431800"/>
                  <a:chExt cx="361800" cy="115560"/>
                </a:xfrm>
              </p:grpSpPr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4649760" y="2431800"/>
                    <a:ext cx="288720" cy="115560"/>
                    <a:chOff x="4649760" y="2431800"/>
                    <a:chExt cx="288720" cy="11556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4649760" y="2431800"/>
                      <a:ext cx="28872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0" h="1600">
                          <a:moveTo>
                            <a:pt x="0" y="800"/>
                          </a:moveTo>
                          <a:cubicBezTo>
                            <a:pt x="0" y="1242"/>
                            <a:pt x="224" y="1600"/>
                            <a:pt x="500" y="1600"/>
                          </a:cubicBezTo>
                          <a:lnTo>
                            <a:pt x="3500" y="1600"/>
                          </a:lnTo>
                          <a:cubicBezTo>
                            <a:pt x="3777" y="1600"/>
                            <a:pt x="4000" y="1242"/>
                            <a:pt x="4000" y="800"/>
                          </a:cubicBezTo>
                          <a:cubicBezTo>
                            <a:pt x="4000" y="358"/>
                            <a:pt x="3777" y="0"/>
                            <a:pt x="3500" y="0"/>
                          </a:cubicBezTo>
                          <a:lnTo>
                            <a:pt x="500" y="0"/>
                          </a:lnTo>
                          <a:cubicBezTo>
                            <a:pt x="224" y="0"/>
                            <a:pt x="0" y="358"/>
                            <a:pt x="0" y="800"/>
                          </a:cubicBezTo>
                          <a:close/>
                        </a:path>
                      </a:pathLst>
                    </a:custGeom>
                    <a:solidFill>
                      <a:srgbClr val="4a95b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4649760" y="2431800"/>
                      <a:ext cx="71280" cy="115560"/>
                    </a:xfrm>
                    <a:prstGeom prst="ellipse">
                      <a:avLst/>
                    </a:prstGeom>
                    <a:solidFill>
                      <a:srgbClr val="6daa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4649760" y="2431800"/>
                      <a:ext cx="28872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0" h="1600">
                          <a:moveTo>
                            <a:pt x="0" y="800"/>
                          </a:moveTo>
                          <a:cubicBezTo>
                            <a:pt x="0" y="1242"/>
                            <a:pt x="224" y="1600"/>
                            <a:pt x="500" y="1600"/>
                          </a:cubicBezTo>
                          <a:lnTo>
                            <a:pt x="3500" y="1600"/>
                          </a:lnTo>
                          <a:cubicBezTo>
                            <a:pt x="3777" y="1600"/>
                            <a:pt x="4000" y="1242"/>
                            <a:pt x="4000" y="800"/>
                          </a:cubicBezTo>
                          <a:cubicBezTo>
                            <a:pt x="4000" y="358"/>
                            <a:pt x="3777" y="0"/>
                            <a:pt x="3500" y="0"/>
                          </a:cubicBezTo>
                          <a:lnTo>
                            <a:pt x="500" y="0"/>
                          </a:lnTo>
                          <a:cubicBezTo>
                            <a:pt x="224" y="0"/>
                            <a:pt x="0" y="358"/>
                            <a:pt x="0" y="800"/>
                          </a:cubicBezTo>
                          <a:close/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4684680" y="2431800"/>
                      <a:ext cx="3636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73">
                          <a:moveTo>
                            <a:pt x="0" y="73"/>
                          </a:moveTo>
                          <a:cubicBezTo>
                            <a:pt x="13" y="73"/>
                            <a:pt x="23" y="56"/>
                            <a:pt x="23" y="36"/>
                          </a:cubicBezTo>
                          <a:cubicBezTo>
                            <a:pt x="23" y="16"/>
                            <a:pt x="13" y="0"/>
                            <a:pt x="0" y="0"/>
                          </a:cubicBezTo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" name=""/>
                  <p:cNvSpPr/>
                  <p:nvPr/>
                </p:nvSpPr>
                <p:spPr>
                  <a:xfrm>
                    <a:off x="4576680" y="248832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5616360" y="2431800"/>
                  <a:ext cx="362160" cy="115560"/>
                  <a:chOff x="5616360" y="2431800"/>
                  <a:chExt cx="362160" cy="11556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5689440" y="2431800"/>
                    <a:ext cx="289080" cy="115560"/>
                    <a:chOff x="5689440" y="2431800"/>
                    <a:chExt cx="289080" cy="1155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5689440" y="2431800"/>
                      <a:ext cx="28908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800">
                          <a:moveTo>
                            <a:pt x="0" y="400"/>
                          </a:moveTo>
                          <a:cubicBezTo>
                            <a:pt x="0" y="621"/>
                            <a:pt x="112" y="800"/>
                            <a:pt x="250" y="800"/>
                          </a:cubicBezTo>
                          <a:lnTo>
                            <a:pt x="1750" y="800"/>
                          </a:lnTo>
                          <a:cubicBezTo>
                            <a:pt x="1889" y="800"/>
                            <a:pt x="2000" y="621"/>
                            <a:pt x="2000" y="400"/>
                          </a:cubicBezTo>
                          <a:cubicBezTo>
                            <a:pt x="2000" y="179"/>
                            <a:pt x="1889" y="0"/>
                            <a:pt x="1750" y="0"/>
                          </a:cubicBezTo>
                          <a:lnTo>
                            <a:pt x="250" y="0"/>
                          </a:lnTo>
                          <a:cubicBezTo>
                            <a:pt x="112" y="0"/>
                            <a:pt x="0" y="179"/>
                            <a:pt x="0" y="400"/>
                          </a:cubicBezTo>
                          <a:close/>
                        </a:path>
                      </a:pathLst>
                    </a:custGeom>
                    <a:solidFill>
                      <a:srgbClr val="4a95b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5689440" y="2431800"/>
                      <a:ext cx="71640" cy="115560"/>
                    </a:xfrm>
                    <a:prstGeom prst="ellipse">
                      <a:avLst/>
                    </a:prstGeom>
                    <a:solidFill>
                      <a:srgbClr val="6daa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5689440" y="2431800"/>
                      <a:ext cx="28908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800">
                          <a:moveTo>
                            <a:pt x="0" y="400"/>
                          </a:moveTo>
                          <a:cubicBezTo>
                            <a:pt x="0" y="621"/>
                            <a:pt x="112" y="800"/>
                            <a:pt x="250" y="800"/>
                          </a:cubicBezTo>
                          <a:lnTo>
                            <a:pt x="1750" y="800"/>
                          </a:lnTo>
                          <a:cubicBezTo>
                            <a:pt x="1889" y="800"/>
                            <a:pt x="2000" y="621"/>
                            <a:pt x="2000" y="400"/>
                          </a:cubicBezTo>
                          <a:cubicBezTo>
                            <a:pt x="2000" y="179"/>
                            <a:pt x="1889" y="0"/>
                            <a:pt x="1750" y="0"/>
                          </a:cubicBezTo>
                          <a:lnTo>
                            <a:pt x="250" y="0"/>
                          </a:lnTo>
                          <a:cubicBezTo>
                            <a:pt x="112" y="0"/>
                            <a:pt x="0" y="179"/>
                            <a:pt x="0" y="400"/>
                          </a:cubicBezTo>
                          <a:close/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5724360" y="2431800"/>
                      <a:ext cx="3672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73">
                          <a:moveTo>
                            <a:pt x="0" y="73"/>
                          </a:moveTo>
                          <a:cubicBezTo>
                            <a:pt x="13" y="73"/>
                            <a:pt x="23" y="56"/>
                            <a:pt x="23" y="36"/>
                          </a:cubicBezTo>
                          <a:cubicBezTo>
                            <a:pt x="23" y="16"/>
                            <a:pt x="13" y="0"/>
                            <a:pt x="0" y="0"/>
                          </a:cubicBezTo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" name=""/>
                  <p:cNvSpPr/>
                  <p:nvPr/>
                </p:nvSpPr>
                <p:spPr>
                  <a:xfrm>
                    <a:off x="5616360" y="248832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5616360" y="2661840"/>
                  <a:ext cx="362160" cy="115560"/>
                  <a:chOff x="5616360" y="2661840"/>
                  <a:chExt cx="362160" cy="115560"/>
                </a:xfrm>
              </p:grpSpPr>
              <p:grpSp>
                <p:nvGrpSpPr>
                  <p:cNvPr id="154" name=""/>
                  <p:cNvGrpSpPr/>
                  <p:nvPr/>
                </p:nvGrpSpPr>
                <p:grpSpPr>
                  <a:xfrm>
                    <a:off x="5689440" y="2661840"/>
                    <a:ext cx="289080" cy="115560"/>
                    <a:chOff x="5689440" y="2661840"/>
                    <a:chExt cx="289080" cy="115560"/>
                  </a:xfrm>
                </p:grpSpPr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5689440" y="2661840"/>
                      <a:ext cx="28908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800">
                          <a:moveTo>
                            <a:pt x="0" y="400"/>
                          </a:moveTo>
                          <a:cubicBezTo>
                            <a:pt x="0" y="621"/>
                            <a:pt x="112" y="800"/>
                            <a:pt x="250" y="800"/>
                          </a:cubicBezTo>
                          <a:lnTo>
                            <a:pt x="1750" y="800"/>
                          </a:lnTo>
                          <a:cubicBezTo>
                            <a:pt x="1889" y="800"/>
                            <a:pt x="2000" y="621"/>
                            <a:pt x="2000" y="400"/>
                          </a:cubicBezTo>
                          <a:cubicBezTo>
                            <a:pt x="2000" y="179"/>
                            <a:pt x="1889" y="0"/>
                            <a:pt x="1750" y="0"/>
                          </a:cubicBezTo>
                          <a:lnTo>
                            <a:pt x="250" y="0"/>
                          </a:lnTo>
                          <a:cubicBezTo>
                            <a:pt x="112" y="0"/>
                            <a:pt x="0" y="179"/>
                            <a:pt x="0" y="400"/>
                          </a:cubicBezTo>
                          <a:close/>
                        </a:path>
                      </a:pathLst>
                    </a:custGeom>
                    <a:solidFill>
                      <a:srgbClr val="4a95b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5689440" y="2661840"/>
                      <a:ext cx="71640" cy="115560"/>
                    </a:xfrm>
                    <a:prstGeom prst="ellipse">
                      <a:avLst/>
                    </a:prstGeom>
                    <a:solidFill>
                      <a:srgbClr val="6daa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5689440" y="2661840"/>
                      <a:ext cx="28908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800">
                          <a:moveTo>
                            <a:pt x="0" y="400"/>
                          </a:moveTo>
                          <a:cubicBezTo>
                            <a:pt x="0" y="621"/>
                            <a:pt x="112" y="800"/>
                            <a:pt x="250" y="800"/>
                          </a:cubicBezTo>
                          <a:lnTo>
                            <a:pt x="1750" y="800"/>
                          </a:lnTo>
                          <a:cubicBezTo>
                            <a:pt x="1889" y="800"/>
                            <a:pt x="2000" y="621"/>
                            <a:pt x="2000" y="400"/>
                          </a:cubicBezTo>
                          <a:cubicBezTo>
                            <a:pt x="2000" y="179"/>
                            <a:pt x="1889" y="0"/>
                            <a:pt x="1750" y="0"/>
                          </a:cubicBezTo>
                          <a:lnTo>
                            <a:pt x="250" y="0"/>
                          </a:lnTo>
                          <a:cubicBezTo>
                            <a:pt x="112" y="0"/>
                            <a:pt x="0" y="179"/>
                            <a:pt x="0" y="400"/>
                          </a:cubicBezTo>
                          <a:close/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5724360" y="2661840"/>
                      <a:ext cx="3672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73">
                          <a:moveTo>
                            <a:pt x="0" y="73"/>
                          </a:moveTo>
                          <a:cubicBezTo>
                            <a:pt x="13" y="73"/>
                            <a:pt x="23" y="57"/>
                            <a:pt x="23" y="37"/>
                          </a:cubicBezTo>
                          <a:cubicBezTo>
                            <a:pt x="23" y="17"/>
                            <a:pt x="13" y="0"/>
                            <a:pt x="0" y="0"/>
                          </a:cubicBezTo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" name=""/>
                  <p:cNvSpPr/>
                  <p:nvPr/>
                </p:nvSpPr>
                <p:spPr>
                  <a:xfrm>
                    <a:off x="5616360" y="272016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4114800" y="2431800"/>
                  <a:ext cx="288720" cy="345600"/>
                  <a:chOff x="4114800" y="2431800"/>
                  <a:chExt cx="288720" cy="3456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4114800" y="2431800"/>
                    <a:ext cx="288720" cy="34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18">
                        <a:moveTo>
                          <a:pt x="182" y="109"/>
                        </a:moveTo>
                        <a:lnTo>
                          <a:pt x="0" y="0"/>
                        </a:lnTo>
                        <a:lnTo>
                          <a:pt x="0" y="218"/>
                        </a:lnTo>
                        <a:lnTo>
                          <a:pt x="182" y="109"/>
                        </a:lnTo>
                        <a:close/>
                      </a:path>
                    </a:pathLst>
                  </a:custGeom>
                  <a:solidFill>
                    <a:srgbClr val="00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4114800" y="2431800"/>
                    <a:ext cx="288720" cy="34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18">
                        <a:moveTo>
                          <a:pt x="182" y="109"/>
                        </a:moveTo>
                        <a:lnTo>
                          <a:pt x="0" y="0"/>
                        </a:lnTo>
                        <a:lnTo>
                          <a:pt x="0" y="218"/>
                        </a:lnTo>
                        <a:lnTo>
                          <a:pt x="182" y="109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4246560" y="2692080"/>
                  <a:ext cx="56880" cy="58320"/>
                  <a:chOff x="4246560" y="2692080"/>
                  <a:chExt cx="56880" cy="583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4246560" y="2692080"/>
                    <a:ext cx="56880" cy="5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4246560" y="2692080"/>
                    <a:ext cx="56880" cy="58320"/>
                  </a:xfrm>
                  <a:prstGeom prst="ellipse">
                    <a:avLst/>
                  </a:prstGeom>
                  <a:noFill/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6132240" y="2692080"/>
                  <a:ext cx="59040" cy="58320"/>
                  <a:chOff x="6132240" y="2692080"/>
                  <a:chExt cx="59040" cy="583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6132240" y="2692080"/>
                    <a:ext cx="59040" cy="5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6132240" y="2692080"/>
                    <a:ext cx="59040" cy="58320"/>
                  </a:xfrm>
                  <a:prstGeom prst="ellipse">
                    <a:avLst/>
                  </a:prstGeom>
                  <a:noFill/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"/>
              <p:cNvGrpSpPr/>
              <p:nvPr/>
            </p:nvGrpSpPr>
            <p:grpSpPr>
              <a:xfrm>
                <a:off x="6194520" y="2431800"/>
                <a:ext cx="288720" cy="345960"/>
                <a:chOff x="6194520" y="2431800"/>
                <a:chExt cx="288720" cy="3459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194520" y="2431800"/>
                  <a:ext cx="288720" cy="34596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194520" y="2431800"/>
                  <a:ext cx="288720" cy="34596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4172040" y="2489040"/>
                <a:ext cx="202248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87960" y="2720880"/>
                <a:ext cx="190656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5154480" y="2259000"/>
                <a:ext cx="262080" cy="701640"/>
                <a:chOff x="5154480" y="2259000"/>
                <a:chExt cx="262080" cy="701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154480" y="2259000"/>
                  <a:ext cx="262080" cy="701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154480" y="2259000"/>
                  <a:ext cx="262080" cy="701640"/>
                </a:xfrm>
                <a:prstGeom prst="rect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5229000" y="25192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4981680" y="2720520"/>
                <a:ext cx="115920" cy="345960"/>
                <a:chOff x="4981680" y="2720520"/>
                <a:chExt cx="115920" cy="3459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981680" y="283644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81680" y="28936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5038920" y="289332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5038920" y="272052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4981680" y="3009600"/>
                  <a:ext cx="115920" cy="56880"/>
                  <a:chOff x="4981680" y="3009600"/>
                  <a:chExt cx="115920" cy="5688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4981680" y="300960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36" y="36"/>
                        </a:moveTo>
                        <a:lnTo>
                          <a:pt x="0" y="0"/>
                        </a:lnTo>
                        <a:lnTo>
                          <a:pt x="73" y="0"/>
                        </a:lnTo>
                        <a:lnTo>
                          <a:pt x="36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4981680" y="300960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36" y="36"/>
                        </a:moveTo>
                        <a:lnTo>
                          <a:pt x="0" y="0"/>
                        </a:lnTo>
                        <a:lnTo>
                          <a:pt x="73" y="0"/>
                        </a:lnTo>
                        <a:lnTo>
                          <a:pt x="36" y="36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"/>
              <p:cNvGrpSpPr/>
              <p:nvPr/>
            </p:nvGrpSpPr>
            <p:grpSpPr>
              <a:xfrm>
                <a:off x="5443560" y="2720520"/>
                <a:ext cx="115920" cy="345960"/>
                <a:chOff x="5443560" y="2720520"/>
                <a:chExt cx="115920" cy="3459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5443560" y="283644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443560" y="28936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5500440" y="289332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5500440" y="272052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1" name=""/>
                <p:cNvGrpSpPr/>
                <p:nvPr/>
              </p:nvGrpSpPr>
              <p:grpSpPr>
                <a:xfrm>
                  <a:off x="5443560" y="3009600"/>
                  <a:ext cx="115920" cy="56880"/>
                  <a:chOff x="5443560" y="3009600"/>
                  <a:chExt cx="115920" cy="5688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5443560" y="300960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36" y="36"/>
                        </a:moveTo>
                        <a:lnTo>
                          <a:pt x="0" y="0"/>
                        </a:lnTo>
                        <a:lnTo>
                          <a:pt x="73" y="0"/>
                        </a:lnTo>
                        <a:lnTo>
                          <a:pt x="36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5443560" y="300960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36" y="36"/>
                        </a:moveTo>
                        <a:lnTo>
                          <a:pt x="0" y="0"/>
                        </a:lnTo>
                        <a:lnTo>
                          <a:pt x="73" y="0"/>
                        </a:lnTo>
                        <a:lnTo>
                          <a:pt x="36" y="36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4865760" y="2143080"/>
                <a:ext cx="231480" cy="344520"/>
                <a:chOff x="4865760" y="2143080"/>
                <a:chExt cx="231480" cy="344520"/>
              </a:xfrm>
            </p:grpSpPr>
            <p:grpSp>
              <p:nvGrpSpPr>
                <p:cNvPr id="195" name=""/>
                <p:cNvGrpSpPr/>
                <p:nvPr/>
              </p:nvGrpSpPr>
              <p:grpSpPr>
                <a:xfrm>
                  <a:off x="4981320" y="2198520"/>
                  <a:ext cx="115920" cy="289080"/>
                  <a:chOff x="4981320" y="2198520"/>
                  <a:chExt cx="115920" cy="28908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>
                    <a:off x="4981320" y="237348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>
                    <a:off x="4981320" y="231624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5038560" y="2198520"/>
                    <a:ext cx="0" cy="11592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5038560" y="2373480"/>
                    <a:ext cx="0" cy="11412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4865760" y="2200320"/>
                  <a:ext cx="115560" cy="58680"/>
                  <a:chOff x="4865760" y="2200320"/>
                  <a:chExt cx="115560" cy="586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4865760" y="2200320"/>
                    <a:ext cx="1155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7">
                        <a:moveTo>
                          <a:pt x="36" y="37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36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4865760" y="2200320"/>
                    <a:ext cx="1155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7">
                        <a:moveTo>
                          <a:pt x="36" y="37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36" y="37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4922640" y="214308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73" y="36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443560" y="2143080"/>
                <a:ext cx="231480" cy="345960"/>
                <a:chOff x="5443560" y="2143080"/>
                <a:chExt cx="231480" cy="345960"/>
              </a:xfrm>
            </p:grpSpPr>
            <p:grpSp>
              <p:nvGrpSpPr>
                <p:cNvPr id="205" name=""/>
                <p:cNvGrpSpPr/>
                <p:nvPr/>
              </p:nvGrpSpPr>
              <p:grpSpPr>
                <a:xfrm>
                  <a:off x="5443560" y="2200320"/>
                  <a:ext cx="115920" cy="288720"/>
                  <a:chOff x="5443560" y="2200320"/>
                  <a:chExt cx="115920" cy="28872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flipH="1">
                    <a:off x="5443560" y="237348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>
                    <a:off x="5443560" y="231768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500440" y="2200320"/>
                    <a:ext cx="0" cy="11592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5500440" y="2373480"/>
                    <a:ext cx="0" cy="11556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"/>
                <p:cNvSpPr/>
                <p:nvPr/>
              </p:nvSpPr>
              <p:spPr>
                <a:xfrm>
                  <a:off x="5500440" y="214308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73" y="36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5559480" y="2200320"/>
                  <a:ext cx="115560" cy="58680"/>
                  <a:chOff x="5559480" y="2200320"/>
                  <a:chExt cx="115560" cy="5868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5559480" y="2200320"/>
                    <a:ext cx="1155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7">
                        <a:moveTo>
                          <a:pt x="36" y="37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36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5559480" y="2200320"/>
                    <a:ext cx="1155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7">
                        <a:moveTo>
                          <a:pt x="36" y="37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36" y="37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4562640" y="2662200"/>
                <a:ext cx="360360" cy="115920"/>
                <a:chOff x="4562640" y="2662200"/>
                <a:chExt cx="360360" cy="11592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4634280" y="2662200"/>
                  <a:ext cx="288720" cy="115920"/>
                  <a:chOff x="4634280" y="2662200"/>
                  <a:chExt cx="288720" cy="1159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4634280" y="2662200"/>
                    <a:ext cx="288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0" h="1600">
                        <a:moveTo>
                          <a:pt x="0" y="800"/>
                        </a:moveTo>
                        <a:cubicBezTo>
                          <a:pt x="0" y="1242"/>
                          <a:pt x="224" y="1600"/>
                          <a:pt x="500" y="1600"/>
                        </a:cubicBezTo>
                        <a:lnTo>
                          <a:pt x="3500" y="1600"/>
                        </a:lnTo>
                        <a:cubicBezTo>
                          <a:pt x="3777" y="1600"/>
                          <a:pt x="4000" y="1242"/>
                          <a:pt x="4000" y="800"/>
                        </a:cubicBezTo>
                        <a:cubicBezTo>
                          <a:pt x="4000" y="358"/>
                          <a:pt x="3777" y="0"/>
                          <a:pt x="3500" y="0"/>
                        </a:cubicBezTo>
                        <a:lnTo>
                          <a:pt x="500" y="0"/>
                        </a:lnTo>
                        <a:cubicBezTo>
                          <a:pt x="224" y="0"/>
                          <a:pt x="0" y="358"/>
                          <a:pt x="0" y="800"/>
                        </a:cubicBezTo>
                        <a:close/>
                      </a:path>
                    </a:pathLst>
                  </a:custGeom>
                  <a:solidFill>
                    <a:srgbClr val="4a95b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4634280" y="2662200"/>
                    <a:ext cx="73080" cy="115920"/>
                  </a:xfrm>
                  <a:prstGeom prst="ellipse">
                    <a:avLst/>
                  </a:prstGeom>
                  <a:solidFill>
                    <a:srgbClr val="6daa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4634280" y="2662200"/>
                    <a:ext cx="288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0" h="1600">
                        <a:moveTo>
                          <a:pt x="0" y="800"/>
                        </a:moveTo>
                        <a:cubicBezTo>
                          <a:pt x="0" y="1242"/>
                          <a:pt x="224" y="1600"/>
                          <a:pt x="500" y="1600"/>
                        </a:cubicBezTo>
                        <a:lnTo>
                          <a:pt x="3500" y="1600"/>
                        </a:lnTo>
                        <a:cubicBezTo>
                          <a:pt x="3777" y="1600"/>
                          <a:pt x="4000" y="1242"/>
                          <a:pt x="4000" y="800"/>
                        </a:cubicBezTo>
                        <a:cubicBezTo>
                          <a:pt x="4000" y="358"/>
                          <a:pt x="3777" y="0"/>
                          <a:pt x="3500" y="0"/>
                        </a:cubicBezTo>
                        <a:lnTo>
                          <a:pt x="500" y="0"/>
                        </a:lnTo>
                        <a:cubicBezTo>
                          <a:pt x="224" y="0"/>
                          <a:pt x="0" y="358"/>
                          <a:pt x="0" y="800"/>
                        </a:cubicBez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670640" y="2662200"/>
                    <a:ext cx="36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73">
                        <a:moveTo>
                          <a:pt x="0" y="73"/>
                        </a:moveTo>
                        <a:cubicBezTo>
                          <a:pt x="13" y="73"/>
                          <a:pt x="23" y="57"/>
                          <a:pt x="23" y="37"/>
                        </a:cubicBezTo>
                        <a:cubicBezTo>
                          <a:pt x="23" y="17"/>
                          <a:pt x="13" y="0"/>
                          <a:pt x="0" y="0"/>
                        </a:cubicBez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0" name=""/>
                <p:cNvSpPr/>
                <p:nvPr/>
              </p:nvSpPr>
              <p:spPr>
                <a:xfrm>
                  <a:off x="4562640" y="27208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576680" y="2431800"/>
                <a:ext cx="361800" cy="115920"/>
                <a:chOff x="4576680" y="2431800"/>
                <a:chExt cx="361800" cy="11592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4649760" y="2431800"/>
                  <a:ext cx="288720" cy="115920"/>
                  <a:chOff x="4649760" y="2431800"/>
                  <a:chExt cx="288720" cy="11592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649760" y="2431800"/>
                    <a:ext cx="288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0" h="1600">
                        <a:moveTo>
                          <a:pt x="0" y="800"/>
                        </a:moveTo>
                        <a:cubicBezTo>
                          <a:pt x="0" y="1242"/>
                          <a:pt x="224" y="1600"/>
                          <a:pt x="500" y="1600"/>
                        </a:cubicBezTo>
                        <a:lnTo>
                          <a:pt x="3500" y="1600"/>
                        </a:lnTo>
                        <a:cubicBezTo>
                          <a:pt x="3777" y="1600"/>
                          <a:pt x="4000" y="1242"/>
                          <a:pt x="4000" y="800"/>
                        </a:cubicBezTo>
                        <a:cubicBezTo>
                          <a:pt x="4000" y="358"/>
                          <a:pt x="3777" y="0"/>
                          <a:pt x="3500" y="0"/>
                        </a:cubicBezTo>
                        <a:lnTo>
                          <a:pt x="500" y="0"/>
                        </a:lnTo>
                        <a:cubicBezTo>
                          <a:pt x="224" y="0"/>
                          <a:pt x="0" y="358"/>
                          <a:pt x="0" y="800"/>
                        </a:cubicBezTo>
                        <a:close/>
                      </a:path>
                    </a:pathLst>
                  </a:custGeom>
                  <a:solidFill>
                    <a:srgbClr val="4a95b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649760" y="2431800"/>
                    <a:ext cx="71280" cy="115920"/>
                  </a:xfrm>
                  <a:prstGeom prst="ellipse">
                    <a:avLst/>
                  </a:prstGeom>
                  <a:solidFill>
                    <a:srgbClr val="6daa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649760" y="2431800"/>
                    <a:ext cx="288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0" h="1600">
                        <a:moveTo>
                          <a:pt x="0" y="800"/>
                        </a:moveTo>
                        <a:cubicBezTo>
                          <a:pt x="0" y="1242"/>
                          <a:pt x="224" y="1600"/>
                          <a:pt x="500" y="1600"/>
                        </a:cubicBezTo>
                        <a:lnTo>
                          <a:pt x="3500" y="1600"/>
                        </a:lnTo>
                        <a:cubicBezTo>
                          <a:pt x="3777" y="1600"/>
                          <a:pt x="4000" y="1242"/>
                          <a:pt x="4000" y="800"/>
                        </a:cubicBezTo>
                        <a:cubicBezTo>
                          <a:pt x="4000" y="358"/>
                          <a:pt x="3777" y="0"/>
                          <a:pt x="3500" y="0"/>
                        </a:cubicBezTo>
                        <a:lnTo>
                          <a:pt x="500" y="0"/>
                        </a:lnTo>
                        <a:cubicBezTo>
                          <a:pt x="224" y="0"/>
                          <a:pt x="0" y="358"/>
                          <a:pt x="0" y="800"/>
                        </a:cubicBez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4684680" y="2431800"/>
                    <a:ext cx="3636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73">
                        <a:moveTo>
                          <a:pt x="0" y="73"/>
                        </a:moveTo>
                        <a:cubicBezTo>
                          <a:pt x="13" y="73"/>
                          <a:pt x="23" y="56"/>
                          <a:pt x="23" y="36"/>
                        </a:cubicBezTo>
                        <a:cubicBezTo>
                          <a:pt x="23" y="16"/>
                          <a:pt x="13" y="0"/>
                          <a:pt x="0" y="0"/>
                        </a:cubicBez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4576680" y="24886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616720" y="2431800"/>
                <a:ext cx="361440" cy="115920"/>
                <a:chOff x="5616720" y="2431800"/>
                <a:chExt cx="361440" cy="11592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5689440" y="2431800"/>
                  <a:ext cx="288720" cy="115920"/>
                  <a:chOff x="5689440" y="2431800"/>
                  <a:chExt cx="288720" cy="11592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5689440" y="2431800"/>
                    <a:ext cx="288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" h="800">
                        <a:moveTo>
                          <a:pt x="0" y="400"/>
                        </a:moveTo>
                        <a:cubicBezTo>
                          <a:pt x="0" y="621"/>
                          <a:pt x="112" y="800"/>
                          <a:pt x="250" y="800"/>
                        </a:cubicBezTo>
                        <a:lnTo>
                          <a:pt x="1750" y="800"/>
                        </a:lnTo>
                        <a:cubicBezTo>
                          <a:pt x="1889" y="800"/>
                          <a:pt x="2000" y="621"/>
                          <a:pt x="2000" y="400"/>
                        </a:cubicBezTo>
                        <a:cubicBezTo>
                          <a:pt x="2000" y="179"/>
                          <a:pt x="1889" y="0"/>
                          <a:pt x="1750" y="0"/>
                        </a:cubicBezTo>
                        <a:lnTo>
                          <a:pt x="250" y="0"/>
                        </a:lnTo>
                        <a:cubicBezTo>
                          <a:pt x="112" y="0"/>
                          <a:pt x="0" y="179"/>
                          <a:pt x="0" y="400"/>
                        </a:cubicBezTo>
                        <a:close/>
                      </a:path>
                    </a:pathLst>
                  </a:custGeom>
                  <a:solidFill>
                    <a:srgbClr val="4a95b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689440" y="2431800"/>
                    <a:ext cx="71280" cy="115920"/>
                  </a:xfrm>
                  <a:prstGeom prst="ellipse">
                    <a:avLst/>
                  </a:prstGeom>
                  <a:solidFill>
                    <a:srgbClr val="6daa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689440" y="2431800"/>
                    <a:ext cx="288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" h="800">
                        <a:moveTo>
                          <a:pt x="0" y="400"/>
                        </a:moveTo>
                        <a:cubicBezTo>
                          <a:pt x="0" y="621"/>
                          <a:pt x="112" y="800"/>
                          <a:pt x="250" y="800"/>
                        </a:cubicBezTo>
                        <a:lnTo>
                          <a:pt x="1750" y="800"/>
                        </a:lnTo>
                        <a:cubicBezTo>
                          <a:pt x="1889" y="800"/>
                          <a:pt x="2000" y="621"/>
                          <a:pt x="2000" y="400"/>
                        </a:cubicBezTo>
                        <a:cubicBezTo>
                          <a:pt x="2000" y="179"/>
                          <a:pt x="1889" y="0"/>
                          <a:pt x="1750" y="0"/>
                        </a:cubicBezTo>
                        <a:lnTo>
                          <a:pt x="250" y="0"/>
                        </a:lnTo>
                        <a:cubicBezTo>
                          <a:pt x="112" y="0"/>
                          <a:pt x="0" y="179"/>
                          <a:pt x="0" y="400"/>
                        </a:cubicBez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724000" y="2431800"/>
                    <a:ext cx="3636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73">
                        <a:moveTo>
                          <a:pt x="0" y="73"/>
                        </a:moveTo>
                        <a:cubicBezTo>
                          <a:pt x="13" y="73"/>
                          <a:pt x="23" y="56"/>
                          <a:pt x="23" y="36"/>
                        </a:cubicBezTo>
                        <a:cubicBezTo>
                          <a:pt x="23" y="16"/>
                          <a:pt x="13" y="0"/>
                          <a:pt x="0" y="0"/>
                        </a:cubicBez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>
                  <a:off x="5616720" y="2488680"/>
                  <a:ext cx="11556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616720" y="2662200"/>
                <a:ext cx="361440" cy="115920"/>
                <a:chOff x="5616720" y="2662200"/>
                <a:chExt cx="361440" cy="11592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5689440" y="2662200"/>
                  <a:ext cx="288720" cy="115920"/>
                  <a:chOff x="5689440" y="2662200"/>
                  <a:chExt cx="288720" cy="11592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5689440" y="2662200"/>
                    <a:ext cx="288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" h="800">
                        <a:moveTo>
                          <a:pt x="0" y="400"/>
                        </a:moveTo>
                        <a:cubicBezTo>
                          <a:pt x="0" y="621"/>
                          <a:pt x="112" y="800"/>
                          <a:pt x="250" y="800"/>
                        </a:cubicBezTo>
                        <a:lnTo>
                          <a:pt x="1750" y="800"/>
                        </a:lnTo>
                        <a:cubicBezTo>
                          <a:pt x="1889" y="800"/>
                          <a:pt x="2000" y="621"/>
                          <a:pt x="2000" y="400"/>
                        </a:cubicBezTo>
                        <a:cubicBezTo>
                          <a:pt x="2000" y="179"/>
                          <a:pt x="1889" y="0"/>
                          <a:pt x="1750" y="0"/>
                        </a:cubicBezTo>
                        <a:lnTo>
                          <a:pt x="250" y="0"/>
                        </a:lnTo>
                        <a:cubicBezTo>
                          <a:pt x="112" y="0"/>
                          <a:pt x="0" y="179"/>
                          <a:pt x="0" y="400"/>
                        </a:cubicBezTo>
                        <a:close/>
                      </a:path>
                    </a:pathLst>
                  </a:custGeom>
                  <a:solidFill>
                    <a:srgbClr val="4a95b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689440" y="2662200"/>
                    <a:ext cx="71280" cy="115920"/>
                  </a:xfrm>
                  <a:prstGeom prst="ellipse">
                    <a:avLst/>
                  </a:prstGeom>
                  <a:solidFill>
                    <a:srgbClr val="6daa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689440" y="2662200"/>
                    <a:ext cx="288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" h="800">
                        <a:moveTo>
                          <a:pt x="0" y="400"/>
                        </a:moveTo>
                        <a:cubicBezTo>
                          <a:pt x="0" y="621"/>
                          <a:pt x="112" y="800"/>
                          <a:pt x="250" y="800"/>
                        </a:cubicBezTo>
                        <a:lnTo>
                          <a:pt x="1750" y="800"/>
                        </a:lnTo>
                        <a:cubicBezTo>
                          <a:pt x="1889" y="800"/>
                          <a:pt x="2000" y="621"/>
                          <a:pt x="2000" y="400"/>
                        </a:cubicBezTo>
                        <a:cubicBezTo>
                          <a:pt x="2000" y="179"/>
                          <a:pt x="1889" y="0"/>
                          <a:pt x="1750" y="0"/>
                        </a:cubicBezTo>
                        <a:lnTo>
                          <a:pt x="250" y="0"/>
                        </a:lnTo>
                        <a:cubicBezTo>
                          <a:pt x="112" y="0"/>
                          <a:pt x="0" y="179"/>
                          <a:pt x="0" y="400"/>
                        </a:cubicBez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5724000" y="2662200"/>
                    <a:ext cx="3636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73">
                        <a:moveTo>
                          <a:pt x="0" y="73"/>
                        </a:moveTo>
                        <a:cubicBezTo>
                          <a:pt x="13" y="73"/>
                          <a:pt x="23" y="57"/>
                          <a:pt x="23" y="37"/>
                        </a:cubicBezTo>
                        <a:cubicBezTo>
                          <a:pt x="23" y="17"/>
                          <a:pt x="13" y="0"/>
                          <a:pt x="0" y="0"/>
                        </a:cubicBez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"/>
                <p:cNvSpPr/>
                <p:nvPr/>
              </p:nvSpPr>
              <p:spPr>
                <a:xfrm>
                  <a:off x="5616720" y="2720880"/>
                  <a:ext cx="11556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114800" y="2431800"/>
                <a:ext cx="288720" cy="345960"/>
                <a:chOff x="4114800" y="2431800"/>
                <a:chExt cx="288720" cy="3459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114800" y="2431800"/>
                  <a:ext cx="288720" cy="34596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114800" y="2431800"/>
                  <a:ext cx="288720" cy="34596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246560" y="2692440"/>
                <a:ext cx="56880" cy="58680"/>
                <a:chOff x="4246560" y="2692440"/>
                <a:chExt cx="56880" cy="586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46560" y="2692440"/>
                  <a:ext cx="568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246560" y="2692440"/>
                  <a:ext cx="56880" cy="58680"/>
                </a:xfrm>
                <a:prstGeom prst="ellipse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32600" y="2692440"/>
                <a:ext cx="58680" cy="58680"/>
                <a:chOff x="6132600" y="2692440"/>
                <a:chExt cx="58680" cy="586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32600" y="2692440"/>
                  <a:ext cx="586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32600" y="2692440"/>
                  <a:ext cx="58680" cy="58680"/>
                </a:xfrm>
                <a:prstGeom prst="ellipse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94520" y="2431800"/>
                <a:ext cx="288720" cy="345960"/>
                <a:chOff x="6194520" y="2431800"/>
                <a:chExt cx="288720" cy="345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194520" y="2431800"/>
                  <a:ext cx="288720" cy="34596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94520" y="2431800"/>
                  <a:ext cx="288720" cy="34596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4172040" y="2489040"/>
                <a:ext cx="202248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287960" y="2720880"/>
                <a:ext cx="190656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5154480" y="2259000"/>
                <a:ext cx="262080" cy="701640"/>
                <a:chOff x="5154480" y="2259000"/>
                <a:chExt cx="262080" cy="7016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154480" y="2259000"/>
                  <a:ext cx="262080" cy="701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154480" y="2259000"/>
                  <a:ext cx="262080" cy="701640"/>
                </a:xfrm>
                <a:prstGeom prst="rect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5229000" y="25192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81680" y="28368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81680" y="289404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5038920" y="289368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5038920" y="272088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4981680" y="3009600"/>
                <a:ext cx="115920" cy="57240"/>
                <a:chOff x="4981680" y="3009600"/>
                <a:chExt cx="115920" cy="572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981680" y="300960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981680" y="300960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4981680" y="28368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1680" y="289404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5038920" y="289368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038920" y="272088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4981680" y="3009600"/>
                <a:ext cx="115920" cy="57240"/>
                <a:chOff x="4981680" y="3009600"/>
                <a:chExt cx="115920" cy="572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981680" y="300960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981680" y="300960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5443560" y="28368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443560" y="289404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500800" y="289368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5500800" y="272088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5443560" y="3009600"/>
                <a:ext cx="115920" cy="57240"/>
                <a:chOff x="5443560" y="3009600"/>
                <a:chExt cx="115920" cy="572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443560" y="300960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443560" y="300960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5443560" y="28368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43560" y="289404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5500800" y="289368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5500800" y="272088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5443560" y="3009600"/>
                <a:ext cx="115920" cy="57240"/>
                <a:chOff x="5443560" y="3009600"/>
                <a:chExt cx="115920" cy="572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443560" y="300960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443560" y="300960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981680" y="2198520"/>
                <a:ext cx="115920" cy="289080"/>
                <a:chOff x="4981680" y="2198520"/>
                <a:chExt cx="115920" cy="289080"/>
              </a:xfrm>
            </p:grpSpPr>
            <p:sp>
              <p:nvSpPr>
                <p:cNvPr id="289" name=""/>
                <p:cNvSpPr/>
                <p:nvPr/>
              </p:nvSpPr>
              <p:spPr>
                <a:xfrm flipH="1">
                  <a:off x="4981680" y="23734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>
                  <a:off x="4981680" y="231624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038920" y="2198520"/>
                  <a:ext cx="0" cy="1159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038920" y="2373480"/>
                  <a:ext cx="0" cy="1141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865760" y="2200320"/>
                <a:ext cx="115560" cy="58680"/>
                <a:chOff x="4865760" y="2200320"/>
                <a:chExt cx="115560" cy="586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865760" y="220032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865760" y="220032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923000" y="21430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36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4981680" y="237312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4981680" y="231588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038920" y="219852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038920" y="2373120"/>
                <a:ext cx="0" cy="11448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4981680" y="237312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4981680" y="231588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038920" y="219852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38920" y="2373120"/>
                <a:ext cx="0" cy="11448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4865760" y="2200320"/>
                <a:ext cx="115560" cy="58680"/>
                <a:chOff x="4865760" y="2200320"/>
                <a:chExt cx="115560" cy="586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865760" y="220032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865760" y="220032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4923000" y="21430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36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5443560" y="2200320"/>
                <a:ext cx="115920" cy="288720"/>
                <a:chOff x="5443560" y="2200320"/>
                <a:chExt cx="115920" cy="288720"/>
              </a:xfrm>
            </p:grpSpPr>
            <p:sp>
              <p:nvSpPr>
                <p:cNvPr id="310" name=""/>
                <p:cNvSpPr/>
                <p:nvPr/>
              </p:nvSpPr>
              <p:spPr>
                <a:xfrm flipH="1">
                  <a:off x="5443560" y="23734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>
                  <a:off x="5443560" y="23176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500440" y="2200320"/>
                  <a:ext cx="0" cy="1159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00440" y="237348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5500800" y="21430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36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5559480" y="2200320"/>
                <a:ext cx="115560" cy="58680"/>
                <a:chOff x="5559480" y="2200320"/>
                <a:chExt cx="115560" cy="586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559480" y="220032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559480" y="220032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 flipH="1">
                <a:off x="5443560" y="237312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5443560" y="231768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00800" y="220032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00800" y="237312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5443560" y="237312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5443560" y="231768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00800" y="220032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00800" y="237312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00800" y="21430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36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5559480" y="2200320"/>
                <a:ext cx="115560" cy="58680"/>
                <a:chOff x="5559480" y="2200320"/>
                <a:chExt cx="115560" cy="586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559480" y="220032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559480" y="220032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4633920" y="2662200"/>
                <a:ext cx="288720" cy="115920"/>
                <a:chOff x="4633920" y="2662200"/>
                <a:chExt cx="288720" cy="1159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633920" y="26622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633920" y="2662200"/>
                  <a:ext cx="730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633920" y="26622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670280" y="2662200"/>
                  <a:ext cx="3672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7"/>
                        <a:pt x="23" y="37"/>
                      </a:cubicBezTo>
                      <a:cubicBezTo>
                        <a:pt x="23" y="17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4562640" y="272088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4633920" y="2662200"/>
                <a:ext cx="288720" cy="115920"/>
                <a:chOff x="4633920" y="2662200"/>
                <a:chExt cx="288720" cy="115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633920" y="26622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633920" y="2662200"/>
                  <a:ext cx="730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633920" y="26622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670280" y="2662200"/>
                  <a:ext cx="3672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7"/>
                        <a:pt x="23" y="37"/>
                      </a:cubicBezTo>
                      <a:cubicBezTo>
                        <a:pt x="23" y="17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4562640" y="272088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4649760" y="2431800"/>
                <a:ext cx="288720" cy="115920"/>
                <a:chOff x="4649760" y="2431800"/>
                <a:chExt cx="288720" cy="1159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649760" y="24318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649760" y="243180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649760" y="24318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684680" y="243180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6"/>
                        <a:pt x="23" y="36"/>
                      </a:cubicBezTo>
                      <a:cubicBezTo>
                        <a:pt x="23" y="16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4576680" y="248904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4649760" y="2431800"/>
                <a:ext cx="288720" cy="115920"/>
                <a:chOff x="4649760" y="2431800"/>
                <a:chExt cx="288720" cy="1159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649760" y="24318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649760" y="243180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649760" y="24318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684680" y="243180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6"/>
                        <a:pt x="23" y="36"/>
                      </a:cubicBezTo>
                      <a:cubicBezTo>
                        <a:pt x="23" y="16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4576680" y="248904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5689800" y="2431800"/>
                <a:ext cx="288720" cy="115920"/>
                <a:chOff x="5689800" y="2431800"/>
                <a:chExt cx="288720" cy="1159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5689800" y="24318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689800" y="243180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689800" y="24318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724360" y="243180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6"/>
                        <a:pt x="23" y="36"/>
                      </a:cubicBezTo>
                      <a:cubicBezTo>
                        <a:pt x="23" y="16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5616720" y="248904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5689800" y="2431800"/>
                <a:ext cx="288720" cy="115920"/>
                <a:chOff x="5689800" y="2431800"/>
                <a:chExt cx="288720" cy="1159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689800" y="24318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689800" y="243180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689800" y="24318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724360" y="243180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6"/>
                        <a:pt x="23" y="36"/>
                      </a:cubicBezTo>
                      <a:cubicBezTo>
                        <a:pt x="23" y="16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5616720" y="248904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5689800" y="2662200"/>
                <a:ext cx="288720" cy="115920"/>
                <a:chOff x="5689800" y="2662200"/>
                <a:chExt cx="288720" cy="115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689800" y="26622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689800" y="266220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689800" y="26622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724360" y="266220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7"/>
                        <a:pt x="23" y="37"/>
                      </a:cubicBezTo>
                      <a:cubicBezTo>
                        <a:pt x="23" y="17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5616720" y="272088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5689800" y="2662200"/>
                <a:ext cx="288720" cy="115920"/>
                <a:chOff x="5689800" y="2662200"/>
                <a:chExt cx="288720" cy="1159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5689800" y="26622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689800" y="266220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689800" y="26622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724360" y="266220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7"/>
                        <a:pt x="23" y="37"/>
                      </a:cubicBezTo>
                      <a:cubicBezTo>
                        <a:pt x="23" y="17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"/>
              <p:cNvSpPr/>
              <p:nvPr/>
            </p:nvSpPr>
            <p:spPr>
              <a:xfrm>
                <a:off x="5616720" y="272088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4114800" y="2431800"/>
                <a:ext cx="288720" cy="345960"/>
                <a:chOff x="4114800" y="2431800"/>
                <a:chExt cx="288720" cy="34596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4114800" y="2431800"/>
                  <a:ext cx="288720" cy="34596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114800" y="2431800"/>
                  <a:ext cx="288720" cy="34596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246560" y="2692440"/>
                <a:ext cx="56880" cy="58680"/>
                <a:chOff x="4246560" y="2692440"/>
                <a:chExt cx="56880" cy="586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246560" y="2692440"/>
                  <a:ext cx="568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46560" y="2692440"/>
                  <a:ext cx="56880" cy="58680"/>
                </a:xfrm>
                <a:prstGeom prst="ellipse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6132600" y="2692440"/>
                <a:ext cx="58680" cy="58680"/>
                <a:chOff x="6132600" y="2692440"/>
                <a:chExt cx="58680" cy="586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6132600" y="2692440"/>
                  <a:ext cx="586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132600" y="2692440"/>
                  <a:ext cx="58680" cy="58680"/>
                </a:xfrm>
                <a:prstGeom prst="ellipse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7" name=""/>
            <p:cNvGrpSpPr/>
            <p:nvPr/>
          </p:nvGrpSpPr>
          <p:grpSpPr>
            <a:xfrm>
              <a:off x="3352680" y="1590480"/>
              <a:ext cx="466560" cy="376200"/>
              <a:chOff x="3352680" y="1590480"/>
              <a:chExt cx="466560" cy="376200"/>
            </a:xfrm>
          </p:grpSpPr>
          <p:sp>
            <p:nvSpPr>
              <p:cNvPr id="388" name=""/>
              <p:cNvSpPr/>
              <p:nvPr/>
            </p:nvSpPr>
            <p:spPr>
              <a:xfrm>
                <a:off x="3357360" y="1616040"/>
                <a:ext cx="55440" cy="320400"/>
              </a:xfrm>
              <a:custGeom>
                <a:avLst/>
                <a:gdLst/>
                <a:ahLst/>
                <a:rect l="l" t="t" r="r" b="b"/>
                <a:pathLst>
                  <a:path w="35" h="202">
                    <a:moveTo>
                      <a:pt x="0" y="202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35" y="20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1908000"/>
                <a:ext cx="466560" cy="58680"/>
              </a:xfrm>
              <a:custGeom>
                <a:avLst/>
                <a:gdLst/>
                <a:ahLst/>
                <a:rect l="l" t="t" r="r" b="b"/>
                <a:pathLst>
                  <a:path w="6466" h="800">
                    <a:moveTo>
                      <a:pt x="66" y="333"/>
                    </a:moveTo>
                    <a:lnTo>
                      <a:pt x="5800" y="333"/>
                    </a:lnTo>
                    <a:cubicBezTo>
                      <a:pt x="5837" y="333"/>
                      <a:pt x="5866" y="363"/>
                      <a:pt x="5866" y="400"/>
                    </a:cubicBezTo>
                    <a:cubicBezTo>
                      <a:pt x="5866" y="437"/>
                      <a:pt x="5837" y="467"/>
                      <a:pt x="5800" y="467"/>
                    </a:cubicBezTo>
                    <a:lnTo>
                      <a:pt x="66" y="467"/>
                    </a:lnTo>
                    <a:cubicBezTo>
                      <a:pt x="30" y="467"/>
                      <a:pt x="0" y="437"/>
                      <a:pt x="0" y="400"/>
                    </a:cubicBezTo>
                    <a:cubicBezTo>
                      <a:pt x="0" y="363"/>
                      <a:pt x="30" y="333"/>
                      <a:pt x="66" y="333"/>
                    </a:cubicBezTo>
                    <a:close/>
                    <a:moveTo>
                      <a:pt x="5666" y="0"/>
                    </a:moveTo>
                    <a:lnTo>
                      <a:pt x="6466" y="400"/>
                    </a:lnTo>
                    <a:lnTo>
                      <a:pt x="5666" y="800"/>
                    </a:lnTo>
                    <a:lnTo>
                      <a:pt x="56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3357360" y="1590480"/>
                <a:ext cx="0" cy="3459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357360" y="1616040"/>
                <a:ext cx="55440" cy="320400"/>
              </a:xfrm>
              <a:custGeom>
                <a:avLst/>
                <a:gdLst/>
                <a:ahLst/>
                <a:rect l="l" t="t" r="r" b="b"/>
                <a:pathLst>
                  <a:path w="35" h="202">
                    <a:moveTo>
                      <a:pt x="0" y="202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35" y="20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352680" y="1908000"/>
                <a:ext cx="466560" cy="58680"/>
              </a:xfrm>
              <a:custGeom>
                <a:avLst/>
                <a:gdLst/>
                <a:ahLst/>
                <a:rect l="l" t="t" r="r" b="b"/>
                <a:pathLst>
                  <a:path w="6466" h="800">
                    <a:moveTo>
                      <a:pt x="66" y="333"/>
                    </a:moveTo>
                    <a:lnTo>
                      <a:pt x="5800" y="333"/>
                    </a:lnTo>
                    <a:cubicBezTo>
                      <a:pt x="5837" y="333"/>
                      <a:pt x="5866" y="363"/>
                      <a:pt x="5866" y="400"/>
                    </a:cubicBezTo>
                    <a:cubicBezTo>
                      <a:pt x="5866" y="437"/>
                      <a:pt x="5837" y="467"/>
                      <a:pt x="5800" y="467"/>
                    </a:cubicBezTo>
                    <a:lnTo>
                      <a:pt x="66" y="467"/>
                    </a:lnTo>
                    <a:cubicBezTo>
                      <a:pt x="30" y="467"/>
                      <a:pt x="0" y="437"/>
                      <a:pt x="0" y="400"/>
                    </a:cubicBezTo>
                    <a:cubicBezTo>
                      <a:pt x="0" y="363"/>
                      <a:pt x="30" y="333"/>
                      <a:pt x="66" y="333"/>
                    </a:cubicBezTo>
                    <a:close/>
                    <a:moveTo>
                      <a:pt x="5666" y="0"/>
                    </a:moveTo>
                    <a:lnTo>
                      <a:pt x="6466" y="400"/>
                    </a:lnTo>
                    <a:lnTo>
                      <a:pt x="5666" y="800"/>
                    </a:lnTo>
                    <a:lnTo>
                      <a:pt x="56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3357360" y="1590480"/>
                <a:ext cx="0" cy="3459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705720" y="1533240"/>
              <a:ext cx="757080" cy="433800"/>
              <a:chOff x="6705720" y="1533240"/>
              <a:chExt cx="757080" cy="43380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6705720" y="1533240"/>
                <a:ext cx="757080" cy="433800"/>
                <a:chOff x="6705720" y="1533240"/>
                <a:chExt cx="757080" cy="4338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6705720" y="1851120"/>
                  <a:ext cx="757080" cy="58680"/>
                </a:xfrm>
                <a:custGeom>
                  <a:avLst/>
                  <a:gdLst/>
                  <a:ahLst/>
                  <a:rect l="l" t="t" r="r" b="b"/>
                  <a:pathLst>
                    <a:path w="5233" h="400">
                      <a:moveTo>
                        <a:pt x="33" y="166"/>
                      </a:moveTo>
                      <a:lnTo>
                        <a:pt x="4900" y="166"/>
                      </a:lnTo>
                      <a:cubicBezTo>
                        <a:pt x="4919" y="166"/>
                        <a:pt x="4933" y="181"/>
                        <a:pt x="4933" y="200"/>
                      </a:cubicBezTo>
                      <a:cubicBezTo>
                        <a:pt x="4933" y="218"/>
                        <a:pt x="4919" y="233"/>
                        <a:pt x="4900" y="233"/>
                      </a:cubicBezTo>
                      <a:lnTo>
                        <a:pt x="33" y="233"/>
                      </a:lnTo>
                      <a:cubicBezTo>
                        <a:pt x="15" y="233"/>
                        <a:pt x="0" y="218"/>
                        <a:pt x="0" y="200"/>
                      </a:cubicBezTo>
                      <a:cubicBezTo>
                        <a:pt x="0" y="181"/>
                        <a:pt x="15" y="166"/>
                        <a:pt x="33" y="166"/>
                      </a:cubicBezTo>
                      <a:close/>
                      <a:moveTo>
                        <a:pt x="4833" y="0"/>
                      </a:moveTo>
                      <a:lnTo>
                        <a:pt x="5233" y="200"/>
                      </a:lnTo>
                      <a:lnTo>
                        <a:pt x="4833" y="400"/>
                      </a:lnTo>
                      <a:lnTo>
                        <a:pt x="48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6710400" y="1533240"/>
                  <a:ext cx="0" cy="3459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710400" y="1668600"/>
                  <a:ext cx="636480" cy="298440"/>
                </a:xfrm>
                <a:custGeom>
                  <a:avLst/>
                  <a:gdLst/>
                  <a:ahLst/>
                  <a:rect l="l" t="t" r="r" b="b"/>
                  <a:pathLst>
                    <a:path w="401" h="188">
                      <a:moveTo>
                        <a:pt x="0" y="133"/>
                      </a:moveTo>
                      <a:cubicBezTo>
                        <a:pt x="9" y="88"/>
                        <a:pt x="19" y="42"/>
                        <a:pt x="37" y="24"/>
                      </a:cubicBezTo>
                      <a:cubicBezTo>
                        <a:pt x="55" y="6"/>
                        <a:pt x="91" y="0"/>
                        <a:pt x="110" y="24"/>
                      </a:cubicBezTo>
                      <a:cubicBezTo>
                        <a:pt x="128" y="48"/>
                        <a:pt x="128" y="152"/>
                        <a:pt x="146" y="170"/>
                      </a:cubicBezTo>
                      <a:cubicBezTo>
                        <a:pt x="164" y="188"/>
                        <a:pt x="195" y="146"/>
                        <a:pt x="219" y="133"/>
                      </a:cubicBezTo>
                      <a:cubicBezTo>
                        <a:pt x="243" y="121"/>
                        <a:pt x="267" y="97"/>
                        <a:pt x="292" y="97"/>
                      </a:cubicBezTo>
                      <a:cubicBezTo>
                        <a:pt x="316" y="97"/>
                        <a:pt x="346" y="127"/>
                        <a:pt x="364" y="133"/>
                      </a:cubicBezTo>
                      <a:cubicBezTo>
                        <a:pt x="383" y="139"/>
                        <a:pt x="392" y="136"/>
                        <a:pt x="401" y="133"/>
                      </a:cubicBezTo>
                    </a:path>
                  </a:pathLst>
                </a:custGeom>
                <a:noFill/>
                <a:ln w="144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6705720" y="1851120"/>
                <a:ext cx="757080" cy="59040"/>
              </a:xfrm>
              <a:custGeom>
                <a:avLst/>
                <a:gdLst/>
                <a:ahLst/>
                <a:rect l="l" t="t" r="r" b="b"/>
                <a:pathLst>
                  <a:path w="5233" h="400">
                    <a:moveTo>
                      <a:pt x="33" y="166"/>
                    </a:moveTo>
                    <a:lnTo>
                      <a:pt x="4900" y="166"/>
                    </a:lnTo>
                    <a:cubicBezTo>
                      <a:pt x="4919" y="166"/>
                      <a:pt x="4933" y="181"/>
                      <a:pt x="4933" y="200"/>
                    </a:cubicBezTo>
                    <a:cubicBezTo>
                      <a:pt x="4933" y="218"/>
                      <a:pt x="4919" y="233"/>
                      <a:pt x="4900" y="233"/>
                    </a:cubicBezTo>
                    <a:lnTo>
                      <a:pt x="33" y="233"/>
                    </a:lnTo>
                    <a:cubicBezTo>
                      <a:pt x="15" y="233"/>
                      <a:pt x="0" y="218"/>
                      <a:pt x="0" y="200"/>
                    </a:cubicBezTo>
                    <a:cubicBezTo>
                      <a:pt x="0" y="181"/>
                      <a:pt x="15" y="166"/>
                      <a:pt x="33" y="166"/>
                    </a:cubicBezTo>
                    <a:close/>
                    <a:moveTo>
                      <a:pt x="4833" y="0"/>
                    </a:moveTo>
                    <a:lnTo>
                      <a:pt x="5233" y="200"/>
                    </a:lnTo>
                    <a:lnTo>
                      <a:pt x="4833" y="400"/>
                    </a:lnTo>
                    <a:lnTo>
                      <a:pt x="48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6710040" y="1533600"/>
                <a:ext cx="0" cy="3463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710040" y="1668600"/>
                <a:ext cx="636480" cy="29844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0" y="133"/>
                    </a:moveTo>
                    <a:cubicBezTo>
                      <a:pt x="9" y="88"/>
                      <a:pt x="19" y="42"/>
                      <a:pt x="37" y="24"/>
                    </a:cubicBezTo>
                    <a:cubicBezTo>
                      <a:pt x="55" y="6"/>
                      <a:pt x="91" y="0"/>
                      <a:pt x="110" y="24"/>
                    </a:cubicBezTo>
                    <a:cubicBezTo>
                      <a:pt x="128" y="48"/>
                      <a:pt x="128" y="152"/>
                      <a:pt x="146" y="170"/>
                    </a:cubicBezTo>
                    <a:cubicBezTo>
                      <a:pt x="164" y="188"/>
                      <a:pt x="195" y="146"/>
                      <a:pt x="219" y="133"/>
                    </a:cubicBezTo>
                    <a:cubicBezTo>
                      <a:pt x="243" y="121"/>
                      <a:pt x="267" y="97"/>
                      <a:pt x="292" y="97"/>
                    </a:cubicBezTo>
                    <a:cubicBezTo>
                      <a:pt x="316" y="97"/>
                      <a:pt x="346" y="127"/>
                      <a:pt x="364" y="133"/>
                    </a:cubicBezTo>
                    <a:cubicBezTo>
                      <a:pt x="383" y="139"/>
                      <a:pt x="392" y="136"/>
                      <a:pt x="401" y="133"/>
                    </a:cubicBezTo>
                  </a:path>
                </a:pathLst>
              </a:custGeom>
              <a:noFill/>
              <a:ln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705720" y="1851120"/>
                <a:ext cx="757080" cy="59040"/>
              </a:xfrm>
              <a:custGeom>
                <a:avLst/>
                <a:gdLst/>
                <a:ahLst/>
                <a:rect l="l" t="t" r="r" b="b"/>
                <a:pathLst>
                  <a:path w="5233" h="400">
                    <a:moveTo>
                      <a:pt x="33" y="166"/>
                    </a:moveTo>
                    <a:lnTo>
                      <a:pt x="4900" y="166"/>
                    </a:lnTo>
                    <a:cubicBezTo>
                      <a:pt x="4919" y="166"/>
                      <a:pt x="4933" y="181"/>
                      <a:pt x="4933" y="200"/>
                    </a:cubicBezTo>
                    <a:cubicBezTo>
                      <a:pt x="4933" y="218"/>
                      <a:pt x="4919" y="233"/>
                      <a:pt x="4900" y="233"/>
                    </a:cubicBezTo>
                    <a:lnTo>
                      <a:pt x="33" y="233"/>
                    </a:lnTo>
                    <a:cubicBezTo>
                      <a:pt x="15" y="233"/>
                      <a:pt x="0" y="218"/>
                      <a:pt x="0" y="200"/>
                    </a:cubicBezTo>
                    <a:cubicBezTo>
                      <a:pt x="0" y="181"/>
                      <a:pt x="15" y="166"/>
                      <a:pt x="33" y="166"/>
                    </a:cubicBezTo>
                    <a:close/>
                    <a:moveTo>
                      <a:pt x="4833" y="0"/>
                    </a:moveTo>
                    <a:lnTo>
                      <a:pt x="5233" y="200"/>
                    </a:lnTo>
                    <a:lnTo>
                      <a:pt x="4833" y="400"/>
                    </a:lnTo>
                    <a:lnTo>
                      <a:pt x="48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6710040" y="1533600"/>
                <a:ext cx="0" cy="3463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710040" y="1668600"/>
                <a:ext cx="636480" cy="29844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0" y="133"/>
                    </a:moveTo>
                    <a:cubicBezTo>
                      <a:pt x="9" y="88"/>
                      <a:pt x="19" y="42"/>
                      <a:pt x="37" y="24"/>
                    </a:cubicBezTo>
                    <a:cubicBezTo>
                      <a:pt x="55" y="6"/>
                      <a:pt x="91" y="0"/>
                      <a:pt x="110" y="24"/>
                    </a:cubicBezTo>
                    <a:cubicBezTo>
                      <a:pt x="128" y="48"/>
                      <a:pt x="128" y="152"/>
                      <a:pt x="146" y="170"/>
                    </a:cubicBezTo>
                    <a:cubicBezTo>
                      <a:pt x="164" y="188"/>
                      <a:pt x="195" y="146"/>
                      <a:pt x="219" y="133"/>
                    </a:cubicBezTo>
                    <a:cubicBezTo>
                      <a:pt x="243" y="121"/>
                      <a:pt x="267" y="97"/>
                      <a:pt x="292" y="97"/>
                    </a:cubicBezTo>
                    <a:cubicBezTo>
                      <a:pt x="316" y="97"/>
                      <a:pt x="346" y="127"/>
                      <a:pt x="364" y="133"/>
                    </a:cubicBezTo>
                    <a:cubicBezTo>
                      <a:pt x="383" y="139"/>
                      <a:pt x="392" y="136"/>
                      <a:pt x="401" y="133"/>
                    </a:cubicBezTo>
                  </a:path>
                </a:pathLst>
              </a:custGeom>
              <a:noFill/>
              <a:ln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 rot="2523000">
              <a:off x="3886200" y="2066760"/>
              <a:ext cx="609480" cy="152640"/>
            </a:xfrm>
            <a:custGeom>
              <a:avLst/>
              <a:gdLst/>
              <a:ahLst/>
              <a:rect l="l" t="t" r="r" b="b"/>
              <a:pathLst>
                <a:path w="546" h="82">
                  <a:moveTo>
                    <a:pt x="0" y="28"/>
                  </a:moveTo>
                  <a:lnTo>
                    <a:pt x="28" y="28"/>
                  </a:lnTo>
                  <a:lnTo>
                    <a:pt x="28" y="55"/>
                  </a:lnTo>
                  <a:lnTo>
                    <a:pt x="0" y="55"/>
                  </a:lnTo>
                  <a:lnTo>
                    <a:pt x="0" y="28"/>
                  </a:lnTo>
                  <a:close/>
                  <a:moveTo>
                    <a:pt x="55" y="28"/>
                  </a:moveTo>
                  <a:lnTo>
                    <a:pt x="82" y="28"/>
                  </a:lnTo>
                  <a:lnTo>
                    <a:pt x="82" y="55"/>
                  </a:lnTo>
                  <a:lnTo>
                    <a:pt x="55" y="55"/>
                  </a:lnTo>
                  <a:lnTo>
                    <a:pt x="55" y="28"/>
                  </a:lnTo>
                  <a:close/>
                  <a:moveTo>
                    <a:pt x="109" y="28"/>
                  </a:moveTo>
                  <a:lnTo>
                    <a:pt x="137" y="28"/>
                  </a:lnTo>
                  <a:lnTo>
                    <a:pt x="137" y="55"/>
                  </a:lnTo>
                  <a:lnTo>
                    <a:pt x="109" y="55"/>
                  </a:lnTo>
                  <a:lnTo>
                    <a:pt x="109" y="28"/>
                  </a:lnTo>
                  <a:close/>
                  <a:moveTo>
                    <a:pt x="164" y="28"/>
                  </a:moveTo>
                  <a:lnTo>
                    <a:pt x="191" y="28"/>
                  </a:lnTo>
                  <a:lnTo>
                    <a:pt x="191" y="55"/>
                  </a:lnTo>
                  <a:lnTo>
                    <a:pt x="164" y="55"/>
                  </a:lnTo>
                  <a:lnTo>
                    <a:pt x="164" y="28"/>
                  </a:lnTo>
                  <a:close/>
                  <a:moveTo>
                    <a:pt x="219" y="28"/>
                  </a:moveTo>
                  <a:lnTo>
                    <a:pt x="246" y="28"/>
                  </a:lnTo>
                  <a:lnTo>
                    <a:pt x="246" y="55"/>
                  </a:lnTo>
                  <a:lnTo>
                    <a:pt x="219" y="55"/>
                  </a:lnTo>
                  <a:lnTo>
                    <a:pt x="219" y="28"/>
                  </a:lnTo>
                  <a:close/>
                  <a:moveTo>
                    <a:pt x="273" y="28"/>
                  </a:moveTo>
                  <a:lnTo>
                    <a:pt x="301" y="28"/>
                  </a:lnTo>
                  <a:lnTo>
                    <a:pt x="301" y="55"/>
                  </a:lnTo>
                  <a:lnTo>
                    <a:pt x="273" y="55"/>
                  </a:lnTo>
                  <a:lnTo>
                    <a:pt x="273" y="28"/>
                  </a:lnTo>
                  <a:close/>
                  <a:moveTo>
                    <a:pt x="328" y="28"/>
                  </a:moveTo>
                  <a:lnTo>
                    <a:pt x="355" y="28"/>
                  </a:lnTo>
                  <a:lnTo>
                    <a:pt x="355" y="55"/>
                  </a:lnTo>
                  <a:lnTo>
                    <a:pt x="328" y="55"/>
                  </a:lnTo>
                  <a:lnTo>
                    <a:pt x="328" y="28"/>
                  </a:lnTo>
                  <a:close/>
                  <a:moveTo>
                    <a:pt x="382" y="28"/>
                  </a:moveTo>
                  <a:lnTo>
                    <a:pt x="410" y="28"/>
                  </a:lnTo>
                  <a:lnTo>
                    <a:pt x="410" y="55"/>
                  </a:lnTo>
                  <a:lnTo>
                    <a:pt x="382" y="55"/>
                  </a:lnTo>
                  <a:lnTo>
                    <a:pt x="382" y="28"/>
                  </a:lnTo>
                  <a:close/>
                  <a:moveTo>
                    <a:pt x="437" y="28"/>
                  </a:moveTo>
                  <a:lnTo>
                    <a:pt x="464" y="28"/>
                  </a:lnTo>
                  <a:lnTo>
                    <a:pt x="464" y="55"/>
                  </a:lnTo>
                  <a:lnTo>
                    <a:pt x="437" y="55"/>
                  </a:lnTo>
                  <a:lnTo>
                    <a:pt x="437" y="28"/>
                  </a:lnTo>
                  <a:close/>
                  <a:moveTo>
                    <a:pt x="464" y="0"/>
                  </a:moveTo>
                  <a:lnTo>
                    <a:pt x="546" y="41"/>
                  </a:lnTo>
                  <a:lnTo>
                    <a:pt x="464" y="82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 rot="19077000">
              <a:off x="6019560" y="2066040"/>
              <a:ext cx="609480" cy="152640"/>
            </a:xfrm>
            <a:custGeom>
              <a:avLst/>
              <a:gdLst/>
              <a:ahLst/>
              <a:rect l="l" t="t" r="r" b="b"/>
              <a:pathLst>
                <a:path w="546" h="82">
                  <a:moveTo>
                    <a:pt x="0" y="28"/>
                  </a:moveTo>
                  <a:lnTo>
                    <a:pt x="28" y="28"/>
                  </a:lnTo>
                  <a:lnTo>
                    <a:pt x="28" y="55"/>
                  </a:lnTo>
                  <a:lnTo>
                    <a:pt x="0" y="55"/>
                  </a:lnTo>
                  <a:lnTo>
                    <a:pt x="0" y="28"/>
                  </a:lnTo>
                  <a:close/>
                  <a:moveTo>
                    <a:pt x="55" y="28"/>
                  </a:moveTo>
                  <a:lnTo>
                    <a:pt x="82" y="28"/>
                  </a:lnTo>
                  <a:lnTo>
                    <a:pt x="82" y="55"/>
                  </a:lnTo>
                  <a:lnTo>
                    <a:pt x="55" y="55"/>
                  </a:lnTo>
                  <a:lnTo>
                    <a:pt x="55" y="28"/>
                  </a:lnTo>
                  <a:close/>
                  <a:moveTo>
                    <a:pt x="109" y="28"/>
                  </a:moveTo>
                  <a:lnTo>
                    <a:pt x="137" y="28"/>
                  </a:lnTo>
                  <a:lnTo>
                    <a:pt x="137" y="55"/>
                  </a:lnTo>
                  <a:lnTo>
                    <a:pt x="109" y="55"/>
                  </a:lnTo>
                  <a:lnTo>
                    <a:pt x="109" y="28"/>
                  </a:lnTo>
                  <a:close/>
                  <a:moveTo>
                    <a:pt x="164" y="28"/>
                  </a:moveTo>
                  <a:lnTo>
                    <a:pt x="191" y="28"/>
                  </a:lnTo>
                  <a:lnTo>
                    <a:pt x="191" y="55"/>
                  </a:lnTo>
                  <a:lnTo>
                    <a:pt x="164" y="55"/>
                  </a:lnTo>
                  <a:lnTo>
                    <a:pt x="164" y="28"/>
                  </a:lnTo>
                  <a:close/>
                  <a:moveTo>
                    <a:pt x="219" y="28"/>
                  </a:moveTo>
                  <a:lnTo>
                    <a:pt x="246" y="28"/>
                  </a:lnTo>
                  <a:lnTo>
                    <a:pt x="246" y="55"/>
                  </a:lnTo>
                  <a:lnTo>
                    <a:pt x="219" y="55"/>
                  </a:lnTo>
                  <a:lnTo>
                    <a:pt x="219" y="28"/>
                  </a:lnTo>
                  <a:close/>
                  <a:moveTo>
                    <a:pt x="273" y="28"/>
                  </a:moveTo>
                  <a:lnTo>
                    <a:pt x="301" y="28"/>
                  </a:lnTo>
                  <a:lnTo>
                    <a:pt x="301" y="55"/>
                  </a:lnTo>
                  <a:lnTo>
                    <a:pt x="273" y="55"/>
                  </a:lnTo>
                  <a:lnTo>
                    <a:pt x="273" y="28"/>
                  </a:lnTo>
                  <a:close/>
                  <a:moveTo>
                    <a:pt x="328" y="28"/>
                  </a:moveTo>
                  <a:lnTo>
                    <a:pt x="355" y="28"/>
                  </a:lnTo>
                  <a:lnTo>
                    <a:pt x="355" y="55"/>
                  </a:lnTo>
                  <a:lnTo>
                    <a:pt x="328" y="55"/>
                  </a:lnTo>
                  <a:lnTo>
                    <a:pt x="328" y="28"/>
                  </a:lnTo>
                  <a:close/>
                  <a:moveTo>
                    <a:pt x="382" y="28"/>
                  </a:moveTo>
                  <a:lnTo>
                    <a:pt x="410" y="28"/>
                  </a:lnTo>
                  <a:lnTo>
                    <a:pt x="410" y="55"/>
                  </a:lnTo>
                  <a:lnTo>
                    <a:pt x="382" y="55"/>
                  </a:lnTo>
                  <a:lnTo>
                    <a:pt x="382" y="28"/>
                  </a:lnTo>
                  <a:close/>
                  <a:moveTo>
                    <a:pt x="437" y="28"/>
                  </a:moveTo>
                  <a:lnTo>
                    <a:pt x="464" y="28"/>
                  </a:lnTo>
                  <a:lnTo>
                    <a:pt x="464" y="55"/>
                  </a:lnTo>
                  <a:lnTo>
                    <a:pt x="437" y="55"/>
                  </a:lnTo>
                  <a:lnTo>
                    <a:pt x="437" y="28"/>
                  </a:lnTo>
                  <a:close/>
                  <a:moveTo>
                    <a:pt x="464" y="0"/>
                  </a:moveTo>
                  <a:lnTo>
                    <a:pt x="546" y="41"/>
                  </a:lnTo>
                  <a:lnTo>
                    <a:pt x="464" y="82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9400" y="2209680"/>
              <a:ext cx="184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racter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842040" y="3819600"/>
            <a:ext cx="7408800" cy="1669320"/>
            <a:chOff x="842040" y="3819600"/>
            <a:chExt cx="7408800" cy="1669320"/>
          </a:xfrm>
        </p:grpSpPr>
        <p:sp>
          <p:nvSpPr>
            <p:cNvPr id="409" name=""/>
            <p:cNvSpPr/>
            <p:nvPr/>
          </p:nvSpPr>
          <p:spPr>
            <a:xfrm>
              <a:off x="842040" y="4699080"/>
              <a:ext cx="17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2819520" y="4812840"/>
              <a:ext cx="757080" cy="433800"/>
              <a:chOff x="2819520" y="4812840"/>
              <a:chExt cx="757080" cy="43380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2819520" y="4812840"/>
                <a:ext cx="757080" cy="433800"/>
                <a:chOff x="2819520" y="4812840"/>
                <a:chExt cx="757080" cy="4338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2819520" y="5130720"/>
                  <a:ext cx="757080" cy="58680"/>
                </a:xfrm>
                <a:custGeom>
                  <a:avLst/>
                  <a:gdLst/>
                  <a:ahLst/>
                  <a:rect l="l" t="t" r="r" b="b"/>
                  <a:pathLst>
                    <a:path w="5233" h="400">
                      <a:moveTo>
                        <a:pt x="33" y="166"/>
                      </a:moveTo>
                      <a:lnTo>
                        <a:pt x="4900" y="166"/>
                      </a:lnTo>
                      <a:cubicBezTo>
                        <a:pt x="4919" y="166"/>
                        <a:pt x="4933" y="181"/>
                        <a:pt x="4933" y="200"/>
                      </a:cubicBezTo>
                      <a:cubicBezTo>
                        <a:pt x="4933" y="218"/>
                        <a:pt x="4919" y="233"/>
                        <a:pt x="4900" y="233"/>
                      </a:cubicBezTo>
                      <a:lnTo>
                        <a:pt x="33" y="233"/>
                      </a:lnTo>
                      <a:cubicBezTo>
                        <a:pt x="15" y="233"/>
                        <a:pt x="0" y="218"/>
                        <a:pt x="0" y="200"/>
                      </a:cubicBezTo>
                      <a:cubicBezTo>
                        <a:pt x="0" y="181"/>
                        <a:pt x="15" y="166"/>
                        <a:pt x="33" y="166"/>
                      </a:cubicBezTo>
                      <a:close/>
                      <a:moveTo>
                        <a:pt x="4833" y="0"/>
                      </a:moveTo>
                      <a:lnTo>
                        <a:pt x="5233" y="200"/>
                      </a:lnTo>
                      <a:lnTo>
                        <a:pt x="4833" y="400"/>
                      </a:lnTo>
                      <a:lnTo>
                        <a:pt x="48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2824200" y="4812840"/>
                  <a:ext cx="0" cy="3459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24200" y="4948200"/>
                  <a:ext cx="636480" cy="298440"/>
                </a:xfrm>
                <a:custGeom>
                  <a:avLst/>
                  <a:gdLst/>
                  <a:ahLst/>
                  <a:rect l="l" t="t" r="r" b="b"/>
                  <a:pathLst>
                    <a:path w="401" h="188">
                      <a:moveTo>
                        <a:pt x="0" y="133"/>
                      </a:moveTo>
                      <a:cubicBezTo>
                        <a:pt x="9" y="88"/>
                        <a:pt x="19" y="42"/>
                        <a:pt x="37" y="24"/>
                      </a:cubicBezTo>
                      <a:cubicBezTo>
                        <a:pt x="55" y="6"/>
                        <a:pt x="91" y="0"/>
                        <a:pt x="110" y="24"/>
                      </a:cubicBezTo>
                      <a:cubicBezTo>
                        <a:pt x="128" y="48"/>
                        <a:pt x="128" y="152"/>
                        <a:pt x="146" y="170"/>
                      </a:cubicBezTo>
                      <a:cubicBezTo>
                        <a:pt x="164" y="188"/>
                        <a:pt x="195" y="146"/>
                        <a:pt x="219" y="133"/>
                      </a:cubicBezTo>
                      <a:cubicBezTo>
                        <a:pt x="243" y="121"/>
                        <a:pt x="267" y="97"/>
                        <a:pt x="292" y="97"/>
                      </a:cubicBezTo>
                      <a:cubicBezTo>
                        <a:pt x="316" y="97"/>
                        <a:pt x="346" y="127"/>
                        <a:pt x="364" y="133"/>
                      </a:cubicBezTo>
                      <a:cubicBezTo>
                        <a:pt x="383" y="139"/>
                        <a:pt x="392" y="136"/>
                        <a:pt x="401" y="133"/>
                      </a:cubicBezTo>
                    </a:path>
                  </a:pathLst>
                </a:custGeom>
                <a:noFill/>
                <a:ln w="144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2819520" y="5130720"/>
                <a:ext cx="757080" cy="59040"/>
              </a:xfrm>
              <a:custGeom>
                <a:avLst/>
                <a:gdLst/>
                <a:ahLst/>
                <a:rect l="l" t="t" r="r" b="b"/>
                <a:pathLst>
                  <a:path w="5233" h="400">
                    <a:moveTo>
                      <a:pt x="33" y="166"/>
                    </a:moveTo>
                    <a:lnTo>
                      <a:pt x="4900" y="166"/>
                    </a:lnTo>
                    <a:cubicBezTo>
                      <a:pt x="4919" y="166"/>
                      <a:pt x="4933" y="181"/>
                      <a:pt x="4933" y="200"/>
                    </a:cubicBezTo>
                    <a:cubicBezTo>
                      <a:pt x="4933" y="218"/>
                      <a:pt x="4919" y="233"/>
                      <a:pt x="4900" y="233"/>
                    </a:cubicBezTo>
                    <a:lnTo>
                      <a:pt x="33" y="233"/>
                    </a:lnTo>
                    <a:cubicBezTo>
                      <a:pt x="15" y="233"/>
                      <a:pt x="0" y="218"/>
                      <a:pt x="0" y="200"/>
                    </a:cubicBezTo>
                    <a:cubicBezTo>
                      <a:pt x="0" y="181"/>
                      <a:pt x="15" y="166"/>
                      <a:pt x="33" y="166"/>
                    </a:cubicBezTo>
                    <a:close/>
                    <a:moveTo>
                      <a:pt x="4833" y="0"/>
                    </a:moveTo>
                    <a:lnTo>
                      <a:pt x="5233" y="200"/>
                    </a:lnTo>
                    <a:lnTo>
                      <a:pt x="4833" y="400"/>
                    </a:lnTo>
                    <a:lnTo>
                      <a:pt x="48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823840" y="4813200"/>
                <a:ext cx="0" cy="3463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23840" y="4948200"/>
                <a:ext cx="636480" cy="29844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0" y="133"/>
                    </a:moveTo>
                    <a:cubicBezTo>
                      <a:pt x="9" y="88"/>
                      <a:pt x="19" y="42"/>
                      <a:pt x="37" y="24"/>
                    </a:cubicBezTo>
                    <a:cubicBezTo>
                      <a:pt x="55" y="6"/>
                      <a:pt x="91" y="0"/>
                      <a:pt x="110" y="24"/>
                    </a:cubicBezTo>
                    <a:cubicBezTo>
                      <a:pt x="128" y="48"/>
                      <a:pt x="128" y="152"/>
                      <a:pt x="146" y="170"/>
                    </a:cubicBezTo>
                    <a:cubicBezTo>
                      <a:pt x="164" y="188"/>
                      <a:pt x="195" y="146"/>
                      <a:pt x="219" y="133"/>
                    </a:cubicBezTo>
                    <a:cubicBezTo>
                      <a:pt x="243" y="121"/>
                      <a:pt x="267" y="97"/>
                      <a:pt x="292" y="97"/>
                    </a:cubicBezTo>
                    <a:cubicBezTo>
                      <a:pt x="316" y="97"/>
                      <a:pt x="346" y="127"/>
                      <a:pt x="364" y="133"/>
                    </a:cubicBezTo>
                    <a:cubicBezTo>
                      <a:pt x="383" y="139"/>
                      <a:pt x="392" y="136"/>
                      <a:pt x="401" y="133"/>
                    </a:cubicBezTo>
                  </a:path>
                </a:pathLst>
              </a:custGeom>
              <a:noFill/>
              <a:ln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819520" y="5130720"/>
                <a:ext cx="757080" cy="59040"/>
              </a:xfrm>
              <a:custGeom>
                <a:avLst/>
                <a:gdLst/>
                <a:ahLst/>
                <a:rect l="l" t="t" r="r" b="b"/>
                <a:pathLst>
                  <a:path w="5233" h="400">
                    <a:moveTo>
                      <a:pt x="33" y="166"/>
                    </a:moveTo>
                    <a:lnTo>
                      <a:pt x="4900" y="166"/>
                    </a:lnTo>
                    <a:cubicBezTo>
                      <a:pt x="4919" y="166"/>
                      <a:pt x="4933" y="181"/>
                      <a:pt x="4933" y="200"/>
                    </a:cubicBezTo>
                    <a:cubicBezTo>
                      <a:pt x="4933" y="218"/>
                      <a:pt x="4919" y="233"/>
                      <a:pt x="4900" y="233"/>
                    </a:cubicBezTo>
                    <a:lnTo>
                      <a:pt x="33" y="233"/>
                    </a:lnTo>
                    <a:cubicBezTo>
                      <a:pt x="15" y="233"/>
                      <a:pt x="0" y="218"/>
                      <a:pt x="0" y="200"/>
                    </a:cubicBezTo>
                    <a:cubicBezTo>
                      <a:pt x="0" y="181"/>
                      <a:pt x="15" y="166"/>
                      <a:pt x="33" y="166"/>
                    </a:cubicBezTo>
                    <a:close/>
                    <a:moveTo>
                      <a:pt x="4833" y="0"/>
                    </a:moveTo>
                    <a:lnTo>
                      <a:pt x="5233" y="200"/>
                    </a:lnTo>
                    <a:lnTo>
                      <a:pt x="4833" y="400"/>
                    </a:lnTo>
                    <a:lnTo>
                      <a:pt x="48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2823840" y="4813200"/>
                <a:ext cx="0" cy="3463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823840" y="4948200"/>
                <a:ext cx="636480" cy="29844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0" y="133"/>
                    </a:moveTo>
                    <a:cubicBezTo>
                      <a:pt x="9" y="88"/>
                      <a:pt x="19" y="42"/>
                      <a:pt x="37" y="24"/>
                    </a:cubicBezTo>
                    <a:cubicBezTo>
                      <a:pt x="55" y="6"/>
                      <a:pt x="91" y="0"/>
                      <a:pt x="110" y="24"/>
                    </a:cubicBezTo>
                    <a:cubicBezTo>
                      <a:pt x="128" y="48"/>
                      <a:pt x="128" y="152"/>
                      <a:pt x="146" y="170"/>
                    </a:cubicBezTo>
                    <a:cubicBezTo>
                      <a:pt x="164" y="188"/>
                      <a:pt x="195" y="146"/>
                      <a:pt x="219" y="133"/>
                    </a:cubicBezTo>
                    <a:cubicBezTo>
                      <a:pt x="243" y="121"/>
                      <a:pt x="267" y="97"/>
                      <a:pt x="292" y="97"/>
                    </a:cubicBezTo>
                    <a:cubicBezTo>
                      <a:pt x="316" y="97"/>
                      <a:pt x="346" y="127"/>
                      <a:pt x="364" y="133"/>
                    </a:cubicBezTo>
                    <a:cubicBezTo>
                      <a:pt x="383" y="139"/>
                      <a:pt x="392" y="136"/>
                      <a:pt x="401" y="133"/>
                    </a:cubicBezTo>
                  </a:path>
                </a:pathLst>
              </a:custGeom>
              <a:noFill/>
              <a:ln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4650840" y="4572000"/>
              <a:ext cx="102960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44240" y="3819600"/>
              <a:ext cx="867960" cy="36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X E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40240" y="3819600"/>
              <a:ext cx="892440" cy="36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X E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4276800"/>
              <a:ext cx="15228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333760" y="4276800"/>
              <a:ext cx="15228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6780960" y="4602240"/>
              <a:ext cx="1469880" cy="859680"/>
              <a:chOff x="6780960" y="4602240"/>
              <a:chExt cx="1469880" cy="859680"/>
            </a:xfrm>
          </p:grpSpPr>
          <p:sp>
            <p:nvSpPr>
              <p:cNvPr id="427" name=""/>
              <p:cNvSpPr/>
              <p:nvPr/>
            </p:nvSpPr>
            <p:spPr>
              <a:xfrm>
                <a:off x="6780960" y="5154840"/>
                <a:ext cx="1469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ith TX, RX EQ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7086600" y="4602240"/>
                <a:ext cx="906480" cy="477720"/>
                <a:chOff x="7086600" y="4602240"/>
                <a:chExt cx="906480" cy="4777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7086600" y="5079960"/>
                  <a:ext cx="906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V="1">
                  <a:off x="7086600" y="4670280"/>
                  <a:ext cx="0" cy="40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089840" y="4602240"/>
                  <a:ext cx="796680" cy="475920"/>
                </a:xfrm>
                <a:custGeom>
                  <a:avLst/>
                  <a:gdLst/>
                  <a:ahLst/>
                  <a:rect l="l" t="t" r="r" b="b"/>
                  <a:pathLst>
                    <a:path w="502" h="300">
                      <a:moveTo>
                        <a:pt x="0" y="300"/>
                      </a:moveTo>
                      <a:lnTo>
                        <a:pt x="6" y="288"/>
                      </a:lnTo>
                      <a:cubicBezTo>
                        <a:pt x="10" y="245"/>
                        <a:pt x="14" y="82"/>
                        <a:pt x="21" y="41"/>
                      </a:cubicBezTo>
                      <a:cubicBezTo>
                        <a:pt x="28" y="0"/>
                        <a:pt x="46" y="8"/>
                        <a:pt x="51" y="41"/>
                      </a:cubicBezTo>
                      <a:cubicBezTo>
                        <a:pt x="56" y="74"/>
                        <a:pt x="46" y="197"/>
                        <a:pt x="48" y="236"/>
                      </a:cubicBezTo>
                      <a:cubicBezTo>
                        <a:pt x="50" y="275"/>
                        <a:pt x="58" y="285"/>
                        <a:pt x="62" y="278"/>
                      </a:cubicBezTo>
                      <a:cubicBezTo>
                        <a:pt x="66" y="271"/>
                        <a:pt x="72" y="214"/>
                        <a:pt x="75" y="193"/>
                      </a:cubicBezTo>
                      <a:cubicBezTo>
                        <a:pt x="78" y="172"/>
                        <a:pt x="77" y="163"/>
                        <a:pt x="78" y="150"/>
                      </a:cubicBezTo>
                      <a:cubicBezTo>
                        <a:pt x="79" y="137"/>
                        <a:pt x="79" y="132"/>
                        <a:pt x="80" y="115"/>
                      </a:cubicBezTo>
                      <a:cubicBezTo>
                        <a:pt x="81" y="98"/>
                        <a:pt x="82" y="58"/>
                        <a:pt x="86" y="49"/>
                      </a:cubicBezTo>
                      <a:cubicBezTo>
                        <a:pt x="90" y="40"/>
                        <a:pt x="98" y="57"/>
                        <a:pt x="104" y="59"/>
                      </a:cubicBezTo>
                      <a:cubicBezTo>
                        <a:pt x="110" y="61"/>
                        <a:pt x="118" y="33"/>
                        <a:pt x="120" y="64"/>
                      </a:cubicBezTo>
                      <a:cubicBezTo>
                        <a:pt x="122" y="95"/>
                        <a:pt x="112" y="213"/>
                        <a:pt x="114" y="246"/>
                      </a:cubicBezTo>
                      <a:cubicBezTo>
                        <a:pt x="116" y="279"/>
                        <a:pt x="129" y="264"/>
                        <a:pt x="135" y="263"/>
                      </a:cubicBezTo>
                      <a:cubicBezTo>
                        <a:pt x="141" y="262"/>
                        <a:pt x="145" y="240"/>
                        <a:pt x="151" y="240"/>
                      </a:cubicBezTo>
                      <a:cubicBezTo>
                        <a:pt x="157" y="240"/>
                        <a:pt x="167" y="263"/>
                        <a:pt x="174" y="265"/>
                      </a:cubicBezTo>
                      <a:cubicBezTo>
                        <a:pt x="181" y="267"/>
                        <a:pt x="193" y="283"/>
                        <a:pt x="196" y="253"/>
                      </a:cubicBezTo>
                      <a:cubicBezTo>
                        <a:pt x="199" y="223"/>
                        <a:pt x="188" y="113"/>
                        <a:pt x="194" y="82"/>
                      </a:cubicBezTo>
                      <a:cubicBezTo>
                        <a:pt x="200" y="51"/>
                        <a:pt x="221" y="66"/>
                        <a:pt x="231" y="67"/>
                      </a:cubicBezTo>
                      <a:cubicBezTo>
                        <a:pt x="241" y="68"/>
                        <a:pt x="248" y="87"/>
                        <a:pt x="255" y="89"/>
                      </a:cubicBezTo>
                      <a:cubicBezTo>
                        <a:pt x="262" y="91"/>
                        <a:pt x="271" y="55"/>
                        <a:pt x="276" y="82"/>
                      </a:cubicBezTo>
                      <a:cubicBezTo>
                        <a:pt x="281" y="109"/>
                        <a:pt x="280" y="225"/>
                        <a:pt x="286" y="254"/>
                      </a:cubicBezTo>
                      <a:cubicBezTo>
                        <a:pt x="292" y="283"/>
                        <a:pt x="306" y="271"/>
                        <a:pt x="314" y="259"/>
                      </a:cubicBezTo>
                      <a:cubicBezTo>
                        <a:pt x="322" y="247"/>
                        <a:pt x="327" y="203"/>
                        <a:pt x="332" y="181"/>
                      </a:cubicBezTo>
                      <a:cubicBezTo>
                        <a:pt x="337" y="159"/>
                        <a:pt x="338" y="115"/>
                        <a:pt x="343" y="126"/>
                      </a:cubicBezTo>
                      <a:cubicBezTo>
                        <a:pt x="348" y="137"/>
                        <a:pt x="356" y="223"/>
                        <a:pt x="363" y="246"/>
                      </a:cubicBezTo>
                      <a:cubicBezTo>
                        <a:pt x="370" y="269"/>
                        <a:pt x="382" y="277"/>
                        <a:pt x="388" y="264"/>
                      </a:cubicBezTo>
                      <a:cubicBezTo>
                        <a:pt x="394" y="251"/>
                        <a:pt x="396" y="171"/>
                        <a:pt x="400" y="170"/>
                      </a:cubicBezTo>
                      <a:cubicBezTo>
                        <a:pt x="404" y="169"/>
                        <a:pt x="406" y="246"/>
                        <a:pt x="412" y="259"/>
                      </a:cubicBezTo>
                      <a:cubicBezTo>
                        <a:pt x="418" y="272"/>
                        <a:pt x="432" y="249"/>
                        <a:pt x="438" y="248"/>
                      </a:cubicBezTo>
                      <a:cubicBezTo>
                        <a:pt x="444" y="247"/>
                        <a:pt x="448" y="286"/>
                        <a:pt x="451" y="252"/>
                      </a:cubicBezTo>
                      <a:cubicBezTo>
                        <a:pt x="454" y="218"/>
                        <a:pt x="454" y="75"/>
                        <a:pt x="459" y="46"/>
                      </a:cubicBezTo>
                      <a:cubicBezTo>
                        <a:pt x="464" y="17"/>
                        <a:pt x="477" y="46"/>
                        <a:pt x="482" y="80"/>
                      </a:cubicBezTo>
                      <a:cubicBezTo>
                        <a:pt x="487" y="114"/>
                        <a:pt x="486" y="223"/>
                        <a:pt x="489" y="253"/>
                      </a:cubicBezTo>
                      <a:cubicBezTo>
                        <a:pt x="492" y="283"/>
                        <a:pt x="497" y="272"/>
                        <a:pt x="502" y="262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2" name=""/>
            <p:cNvSpPr/>
            <p:nvPr/>
          </p:nvSpPr>
          <p:spPr>
            <a:xfrm flipV="1">
              <a:off x="3733920" y="5022720"/>
              <a:ext cx="760320" cy="14400"/>
            </a:xfrm>
            <a:prstGeom prst="line">
              <a:avLst/>
            </a:prstGeom>
            <a:ln w="57240">
              <a:solidFill>
                <a:srgbClr val="0099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867280" y="5021280"/>
              <a:ext cx="914400" cy="17280"/>
            </a:xfrm>
            <a:prstGeom prst="line">
              <a:avLst/>
            </a:prstGeom>
            <a:ln w="57240">
              <a:solidFill>
                <a:srgbClr val="0099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200400" y="2143080"/>
            <a:ext cx="3886200" cy="2590920"/>
          </a:xfrm>
          <a:custGeom>
            <a:avLst/>
            <a:gdLst/>
            <a:ahLst/>
            <a:rect l="l" t="t" r="r" b="b"/>
            <a:pathLst>
              <a:path w="2448" h="1632">
                <a:moveTo>
                  <a:pt x="2448" y="0"/>
                </a:moveTo>
                <a:lnTo>
                  <a:pt x="2448" y="768"/>
                </a:lnTo>
                <a:lnTo>
                  <a:pt x="48" y="768"/>
                </a:lnTo>
                <a:lnTo>
                  <a:pt x="0" y="768"/>
                </a:lnTo>
                <a:lnTo>
                  <a:pt x="0" y="163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A247-49E8-443C-98A1-D29B4D9CD383}" type="slidenum">
              <a:t>2</a:t>
            </a:fld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Why Two Analysis Steps?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mmunications analysis  processes ~ 1,000,000 bits 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er minut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PICE-based analysis throughput is much less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Leverage existing tools and techniqu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mmunications methods &amp; algorithms established in 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ther domai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qualization and clock recovery well suited to algorithmic descrip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deling/analysis algorithms are suitable for commercial numerical computation too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EA27-823B-42F0-97E0-2872CD481AEF}" type="slidenum">
              <a:t>3</a:t>
            </a:fld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Network Characteriza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77724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Uses circuit analysis techniques to determine network behavior under reference condi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aracterization can take multiple form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mpulse / step / pulse response (time-domain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ransfer function (frequency-domain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276720" y="2057400"/>
            <a:ext cx="2368440" cy="923760"/>
            <a:chOff x="3276720" y="2057400"/>
            <a:chExt cx="2368440" cy="923760"/>
          </a:xfrm>
        </p:grpSpPr>
        <p:grpSp>
          <p:nvGrpSpPr>
            <p:cNvPr id="440" name=""/>
            <p:cNvGrpSpPr/>
            <p:nvPr/>
          </p:nvGrpSpPr>
          <p:grpSpPr>
            <a:xfrm>
              <a:off x="3276720" y="2057400"/>
              <a:ext cx="2368440" cy="923040"/>
              <a:chOff x="3276720" y="2057400"/>
              <a:chExt cx="2368440" cy="92304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5356080" y="2346120"/>
                <a:ext cx="289080" cy="345600"/>
                <a:chOff x="5356080" y="2346120"/>
                <a:chExt cx="289080" cy="34560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5356080" y="2346120"/>
                  <a:ext cx="289080" cy="34560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356080" y="2346120"/>
                  <a:ext cx="289080" cy="34560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3333600" y="2403000"/>
                <a:ext cx="202248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49520" y="2634840"/>
                <a:ext cx="190656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4316400" y="2172960"/>
                <a:ext cx="262080" cy="701280"/>
                <a:chOff x="4316400" y="2172960"/>
                <a:chExt cx="262080" cy="7012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4316400" y="2172960"/>
                  <a:ext cx="262080" cy="701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316400" y="2172960"/>
                  <a:ext cx="262080" cy="701280"/>
                </a:xfrm>
                <a:prstGeom prst="rect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>
                <a:off x="4390920" y="243324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4143240" y="2634480"/>
                <a:ext cx="115920" cy="345960"/>
                <a:chOff x="4143240" y="2634480"/>
                <a:chExt cx="115920" cy="3459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4143240" y="275040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143240" y="280764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>
                  <a:off x="4200480" y="280728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V="1">
                  <a:off x="4200480" y="263448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4143240" y="2923560"/>
                  <a:ext cx="115920" cy="56880"/>
                  <a:chOff x="4143240" y="2923560"/>
                  <a:chExt cx="115920" cy="5688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4143240" y="292356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36" y="36"/>
                        </a:moveTo>
                        <a:lnTo>
                          <a:pt x="0" y="0"/>
                        </a:lnTo>
                        <a:lnTo>
                          <a:pt x="73" y="0"/>
                        </a:lnTo>
                        <a:lnTo>
                          <a:pt x="36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143240" y="292356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36" y="36"/>
                        </a:moveTo>
                        <a:lnTo>
                          <a:pt x="0" y="0"/>
                        </a:lnTo>
                        <a:lnTo>
                          <a:pt x="73" y="0"/>
                        </a:lnTo>
                        <a:lnTo>
                          <a:pt x="36" y="36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4605480" y="2634480"/>
                <a:ext cx="115920" cy="345960"/>
                <a:chOff x="4605480" y="2634480"/>
                <a:chExt cx="115920" cy="3459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605480" y="275040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605480" y="280764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4662360" y="280728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4662360" y="263448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4605480" y="2923560"/>
                  <a:ext cx="115920" cy="56880"/>
                  <a:chOff x="4605480" y="2923560"/>
                  <a:chExt cx="115920" cy="5688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4605480" y="292356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36" y="36"/>
                        </a:moveTo>
                        <a:lnTo>
                          <a:pt x="0" y="0"/>
                        </a:lnTo>
                        <a:lnTo>
                          <a:pt x="73" y="0"/>
                        </a:lnTo>
                        <a:lnTo>
                          <a:pt x="36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605480" y="292356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36" y="36"/>
                        </a:moveTo>
                        <a:lnTo>
                          <a:pt x="0" y="0"/>
                        </a:lnTo>
                        <a:lnTo>
                          <a:pt x="73" y="0"/>
                        </a:lnTo>
                        <a:lnTo>
                          <a:pt x="36" y="36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4027680" y="2057400"/>
                <a:ext cx="231480" cy="343440"/>
                <a:chOff x="4027680" y="2057400"/>
                <a:chExt cx="231480" cy="343440"/>
              </a:xfrm>
            </p:grpSpPr>
            <p:grpSp>
              <p:nvGrpSpPr>
                <p:cNvPr id="467" name=""/>
                <p:cNvGrpSpPr/>
                <p:nvPr/>
              </p:nvGrpSpPr>
              <p:grpSpPr>
                <a:xfrm>
                  <a:off x="4143240" y="2112480"/>
                  <a:ext cx="115920" cy="288360"/>
                  <a:chOff x="4143240" y="2112480"/>
                  <a:chExt cx="115920" cy="28836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flipH="1">
                    <a:off x="4143240" y="228708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>
                    <a:off x="4143240" y="222984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200480" y="2112480"/>
                    <a:ext cx="0" cy="11556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200480" y="2287080"/>
                    <a:ext cx="0" cy="11376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4027680" y="2114280"/>
                  <a:ext cx="115560" cy="58320"/>
                  <a:chOff x="4027680" y="2114280"/>
                  <a:chExt cx="115560" cy="5832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4027680" y="2114280"/>
                    <a:ext cx="1155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7">
                        <a:moveTo>
                          <a:pt x="36" y="37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36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027680" y="2114280"/>
                    <a:ext cx="1155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7">
                        <a:moveTo>
                          <a:pt x="36" y="37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36" y="37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" name=""/>
                <p:cNvSpPr/>
                <p:nvPr/>
              </p:nvSpPr>
              <p:spPr>
                <a:xfrm>
                  <a:off x="4084560" y="2057400"/>
                  <a:ext cx="115920" cy="5688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73" y="36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4605480" y="2057400"/>
                <a:ext cx="231480" cy="344880"/>
                <a:chOff x="4605480" y="2057400"/>
                <a:chExt cx="231480" cy="34488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4605480" y="2114280"/>
                  <a:ext cx="115920" cy="288000"/>
                  <a:chOff x="4605480" y="2114280"/>
                  <a:chExt cx="115920" cy="28800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flipH="1">
                    <a:off x="4605480" y="228708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>
                    <a:off x="4605480" y="223128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4662360" y="2114280"/>
                    <a:ext cx="0" cy="11556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4662360" y="2287080"/>
                    <a:ext cx="0" cy="11520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2" name=""/>
                <p:cNvSpPr/>
                <p:nvPr/>
              </p:nvSpPr>
              <p:spPr>
                <a:xfrm>
                  <a:off x="4662360" y="2057400"/>
                  <a:ext cx="115920" cy="5688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73" y="36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4721400" y="2114280"/>
                  <a:ext cx="115560" cy="58320"/>
                  <a:chOff x="4721400" y="2114280"/>
                  <a:chExt cx="115560" cy="5832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4721400" y="2114280"/>
                    <a:ext cx="1155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7">
                        <a:moveTo>
                          <a:pt x="36" y="37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36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721400" y="2114280"/>
                    <a:ext cx="1155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7">
                        <a:moveTo>
                          <a:pt x="36" y="37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36" y="37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3724200" y="2576160"/>
                <a:ext cx="360360" cy="115560"/>
                <a:chOff x="3724200" y="2576160"/>
                <a:chExt cx="360360" cy="115560"/>
              </a:xfrm>
            </p:grpSpPr>
            <p:grpSp>
              <p:nvGrpSpPr>
                <p:cNvPr id="487" name=""/>
                <p:cNvGrpSpPr/>
                <p:nvPr/>
              </p:nvGrpSpPr>
              <p:grpSpPr>
                <a:xfrm>
                  <a:off x="3795840" y="2576160"/>
                  <a:ext cx="288720" cy="115560"/>
                  <a:chOff x="3795840" y="2576160"/>
                  <a:chExt cx="288720" cy="11556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>
                    <a:off x="3795840" y="2576160"/>
                    <a:ext cx="2887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0" h="1600">
                        <a:moveTo>
                          <a:pt x="0" y="800"/>
                        </a:moveTo>
                        <a:cubicBezTo>
                          <a:pt x="0" y="1242"/>
                          <a:pt x="224" y="1600"/>
                          <a:pt x="500" y="1600"/>
                        </a:cubicBezTo>
                        <a:lnTo>
                          <a:pt x="3500" y="1600"/>
                        </a:lnTo>
                        <a:cubicBezTo>
                          <a:pt x="3777" y="1600"/>
                          <a:pt x="4000" y="1242"/>
                          <a:pt x="4000" y="800"/>
                        </a:cubicBezTo>
                        <a:cubicBezTo>
                          <a:pt x="4000" y="358"/>
                          <a:pt x="3777" y="0"/>
                          <a:pt x="3500" y="0"/>
                        </a:cubicBezTo>
                        <a:lnTo>
                          <a:pt x="500" y="0"/>
                        </a:lnTo>
                        <a:cubicBezTo>
                          <a:pt x="224" y="0"/>
                          <a:pt x="0" y="358"/>
                          <a:pt x="0" y="800"/>
                        </a:cubicBezTo>
                        <a:close/>
                      </a:path>
                    </a:pathLst>
                  </a:custGeom>
                  <a:solidFill>
                    <a:srgbClr val="4a95b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795840" y="2576160"/>
                    <a:ext cx="73080" cy="115560"/>
                  </a:xfrm>
                  <a:prstGeom prst="ellipse">
                    <a:avLst/>
                  </a:prstGeom>
                  <a:solidFill>
                    <a:srgbClr val="6daa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795840" y="2576160"/>
                    <a:ext cx="2887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0" h="1600">
                        <a:moveTo>
                          <a:pt x="0" y="800"/>
                        </a:moveTo>
                        <a:cubicBezTo>
                          <a:pt x="0" y="1242"/>
                          <a:pt x="224" y="1600"/>
                          <a:pt x="500" y="1600"/>
                        </a:cubicBezTo>
                        <a:lnTo>
                          <a:pt x="3500" y="1600"/>
                        </a:lnTo>
                        <a:cubicBezTo>
                          <a:pt x="3777" y="1600"/>
                          <a:pt x="4000" y="1242"/>
                          <a:pt x="4000" y="800"/>
                        </a:cubicBezTo>
                        <a:cubicBezTo>
                          <a:pt x="4000" y="358"/>
                          <a:pt x="3777" y="0"/>
                          <a:pt x="3500" y="0"/>
                        </a:cubicBezTo>
                        <a:lnTo>
                          <a:pt x="500" y="0"/>
                        </a:lnTo>
                        <a:cubicBezTo>
                          <a:pt x="224" y="0"/>
                          <a:pt x="0" y="358"/>
                          <a:pt x="0" y="800"/>
                        </a:cubicBez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3832200" y="2576160"/>
                    <a:ext cx="367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73">
                        <a:moveTo>
                          <a:pt x="0" y="73"/>
                        </a:moveTo>
                        <a:cubicBezTo>
                          <a:pt x="13" y="73"/>
                          <a:pt x="23" y="57"/>
                          <a:pt x="23" y="37"/>
                        </a:cubicBezTo>
                        <a:cubicBezTo>
                          <a:pt x="23" y="17"/>
                          <a:pt x="13" y="0"/>
                          <a:pt x="0" y="0"/>
                        </a:cubicBez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2" name=""/>
                <p:cNvSpPr/>
                <p:nvPr/>
              </p:nvSpPr>
              <p:spPr>
                <a:xfrm>
                  <a:off x="3724200" y="26344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3738600" y="2346120"/>
                <a:ext cx="361800" cy="115560"/>
                <a:chOff x="3738600" y="2346120"/>
                <a:chExt cx="361800" cy="11556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3811680" y="2346120"/>
                  <a:ext cx="288720" cy="115560"/>
                  <a:chOff x="3811680" y="2346120"/>
                  <a:chExt cx="288720" cy="11556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3811680" y="2346120"/>
                    <a:ext cx="2887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0" h="1600">
                        <a:moveTo>
                          <a:pt x="0" y="800"/>
                        </a:moveTo>
                        <a:cubicBezTo>
                          <a:pt x="0" y="1242"/>
                          <a:pt x="224" y="1600"/>
                          <a:pt x="500" y="1600"/>
                        </a:cubicBezTo>
                        <a:lnTo>
                          <a:pt x="3500" y="1600"/>
                        </a:lnTo>
                        <a:cubicBezTo>
                          <a:pt x="3777" y="1600"/>
                          <a:pt x="4000" y="1242"/>
                          <a:pt x="4000" y="800"/>
                        </a:cubicBezTo>
                        <a:cubicBezTo>
                          <a:pt x="4000" y="358"/>
                          <a:pt x="3777" y="0"/>
                          <a:pt x="3500" y="0"/>
                        </a:cubicBezTo>
                        <a:lnTo>
                          <a:pt x="500" y="0"/>
                        </a:lnTo>
                        <a:cubicBezTo>
                          <a:pt x="224" y="0"/>
                          <a:pt x="0" y="358"/>
                          <a:pt x="0" y="800"/>
                        </a:cubicBezTo>
                        <a:close/>
                      </a:path>
                    </a:pathLst>
                  </a:custGeom>
                  <a:solidFill>
                    <a:srgbClr val="4a95b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3811680" y="2346120"/>
                    <a:ext cx="71280" cy="115560"/>
                  </a:xfrm>
                  <a:prstGeom prst="ellipse">
                    <a:avLst/>
                  </a:prstGeom>
                  <a:solidFill>
                    <a:srgbClr val="6daa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3811680" y="2346120"/>
                    <a:ext cx="2887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0" h="1600">
                        <a:moveTo>
                          <a:pt x="0" y="800"/>
                        </a:moveTo>
                        <a:cubicBezTo>
                          <a:pt x="0" y="1242"/>
                          <a:pt x="224" y="1600"/>
                          <a:pt x="500" y="1600"/>
                        </a:cubicBezTo>
                        <a:lnTo>
                          <a:pt x="3500" y="1600"/>
                        </a:lnTo>
                        <a:cubicBezTo>
                          <a:pt x="3777" y="1600"/>
                          <a:pt x="4000" y="1242"/>
                          <a:pt x="4000" y="800"/>
                        </a:cubicBezTo>
                        <a:cubicBezTo>
                          <a:pt x="4000" y="358"/>
                          <a:pt x="3777" y="0"/>
                          <a:pt x="3500" y="0"/>
                        </a:cubicBezTo>
                        <a:lnTo>
                          <a:pt x="500" y="0"/>
                        </a:lnTo>
                        <a:cubicBezTo>
                          <a:pt x="224" y="0"/>
                          <a:pt x="0" y="358"/>
                          <a:pt x="0" y="800"/>
                        </a:cubicBez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3846600" y="2346120"/>
                    <a:ext cx="3636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73">
                        <a:moveTo>
                          <a:pt x="0" y="73"/>
                        </a:moveTo>
                        <a:cubicBezTo>
                          <a:pt x="13" y="73"/>
                          <a:pt x="23" y="56"/>
                          <a:pt x="23" y="36"/>
                        </a:cubicBezTo>
                        <a:cubicBezTo>
                          <a:pt x="23" y="16"/>
                          <a:pt x="13" y="0"/>
                          <a:pt x="0" y="0"/>
                        </a:cubicBez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9" name=""/>
                <p:cNvSpPr/>
                <p:nvPr/>
              </p:nvSpPr>
              <p:spPr>
                <a:xfrm>
                  <a:off x="3738600" y="240264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4778280" y="2346120"/>
                <a:ext cx="362160" cy="115560"/>
                <a:chOff x="4778280" y="2346120"/>
                <a:chExt cx="362160" cy="115560"/>
              </a:xfrm>
            </p:grpSpPr>
            <p:grpSp>
              <p:nvGrpSpPr>
                <p:cNvPr id="501" name=""/>
                <p:cNvGrpSpPr/>
                <p:nvPr/>
              </p:nvGrpSpPr>
              <p:grpSpPr>
                <a:xfrm>
                  <a:off x="4851360" y="2346120"/>
                  <a:ext cx="289080" cy="115560"/>
                  <a:chOff x="4851360" y="2346120"/>
                  <a:chExt cx="289080" cy="11556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4851360" y="2346120"/>
                    <a:ext cx="28908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" h="800">
                        <a:moveTo>
                          <a:pt x="0" y="400"/>
                        </a:moveTo>
                        <a:cubicBezTo>
                          <a:pt x="0" y="621"/>
                          <a:pt x="112" y="800"/>
                          <a:pt x="250" y="800"/>
                        </a:cubicBezTo>
                        <a:lnTo>
                          <a:pt x="1750" y="800"/>
                        </a:lnTo>
                        <a:cubicBezTo>
                          <a:pt x="1889" y="800"/>
                          <a:pt x="2000" y="621"/>
                          <a:pt x="2000" y="400"/>
                        </a:cubicBezTo>
                        <a:cubicBezTo>
                          <a:pt x="2000" y="179"/>
                          <a:pt x="1889" y="0"/>
                          <a:pt x="1750" y="0"/>
                        </a:cubicBezTo>
                        <a:lnTo>
                          <a:pt x="250" y="0"/>
                        </a:lnTo>
                        <a:cubicBezTo>
                          <a:pt x="112" y="0"/>
                          <a:pt x="0" y="179"/>
                          <a:pt x="0" y="400"/>
                        </a:cubicBezTo>
                        <a:close/>
                      </a:path>
                    </a:pathLst>
                  </a:custGeom>
                  <a:solidFill>
                    <a:srgbClr val="4a95b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4851360" y="2346120"/>
                    <a:ext cx="71640" cy="115560"/>
                  </a:xfrm>
                  <a:prstGeom prst="ellipse">
                    <a:avLst/>
                  </a:prstGeom>
                  <a:solidFill>
                    <a:srgbClr val="6daa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4851360" y="2346120"/>
                    <a:ext cx="28908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" h="800">
                        <a:moveTo>
                          <a:pt x="0" y="400"/>
                        </a:moveTo>
                        <a:cubicBezTo>
                          <a:pt x="0" y="621"/>
                          <a:pt x="112" y="800"/>
                          <a:pt x="250" y="800"/>
                        </a:cubicBezTo>
                        <a:lnTo>
                          <a:pt x="1750" y="800"/>
                        </a:lnTo>
                        <a:cubicBezTo>
                          <a:pt x="1889" y="800"/>
                          <a:pt x="2000" y="621"/>
                          <a:pt x="2000" y="400"/>
                        </a:cubicBezTo>
                        <a:cubicBezTo>
                          <a:pt x="2000" y="179"/>
                          <a:pt x="1889" y="0"/>
                          <a:pt x="1750" y="0"/>
                        </a:cubicBezTo>
                        <a:lnTo>
                          <a:pt x="250" y="0"/>
                        </a:lnTo>
                        <a:cubicBezTo>
                          <a:pt x="112" y="0"/>
                          <a:pt x="0" y="179"/>
                          <a:pt x="0" y="400"/>
                        </a:cubicBez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4886280" y="2346120"/>
                    <a:ext cx="367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73">
                        <a:moveTo>
                          <a:pt x="0" y="73"/>
                        </a:moveTo>
                        <a:cubicBezTo>
                          <a:pt x="13" y="73"/>
                          <a:pt x="23" y="56"/>
                          <a:pt x="23" y="36"/>
                        </a:cubicBezTo>
                        <a:cubicBezTo>
                          <a:pt x="23" y="16"/>
                          <a:pt x="13" y="0"/>
                          <a:pt x="0" y="0"/>
                        </a:cubicBez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6" name=""/>
                <p:cNvSpPr/>
                <p:nvPr/>
              </p:nvSpPr>
              <p:spPr>
                <a:xfrm>
                  <a:off x="4778280" y="240264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4778280" y="2576160"/>
                <a:ext cx="362160" cy="115560"/>
                <a:chOff x="4778280" y="2576160"/>
                <a:chExt cx="362160" cy="115560"/>
              </a:xfrm>
            </p:grpSpPr>
            <p:grpSp>
              <p:nvGrpSpPr>
                <p:cNvPr id="508" name=""/>
                <p:cNvGrpSpPr/>
                <p:nvPr/>
              </p:nvGrpSpPr>
              <p:grpSpPr>
                <a:xfrm>
                  <a:off x="4851360" y="2576160"/>
                  <a:ext cx="289080" cy="115560"/>
                  <a:chOff x="4851360" y="2576160"/>
                  <a:chExt cx="289080" cy="1155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4851360" y="2576160"/>
                    <a:ext cx="28908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" h="800">
                        <a:moveTo>
                          <a:pt x="0" y="400"/>
                        </a:moveTo>
                        <a:cubicBezTo>
                          <a:pt x="0" y="621"/>
                          <a:pt x="112" y="800"/>
                          <a:pt x="250" y="800"/>
                        </a:cubicBezTo>
                        <a:lnTo>
                          <a:pt x="1750" y="800"/>
                        </a:lnTo>
                        <a:cubicBezTo>
                          <a:pt x="1889" y="800"/>
                          <a:pt x="2000" y="621"/>
                          <a:pt x="2000" y="400"/>
                        </a:cubicBezTo>
                        <a:cubicBezTo>
                          <a:pt x="2000" y="179"/>
                          <a:pt x="1889" y="0"/>
                          <a:pt x="1750" y="0"/>
                        </a:cubicBezTo>
                        <a:lnTo>
                          <a:pt x="250" y="0"/>
                        </a:lnTo>
                        <a:cubicBezTo>
                          <a:pt x="112" y="0"/>
                          <a:pt x="0" y="179"/>
                          <a:pt x="0" y="400"/>
                        </a:cubicBezTo>
                        <a:close/>
                      </a:path>
                    </a:pathLst>
                  </a:custGeom>
                  <a:solidFill>
                    <a:srgbClr val="4a95b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4851360" y="2576160"/>
                    <a:ext cx="71640" cy="115560"/>
                  </a:xfrm>
                  <a:prstGeom prst="ellipse">
                    <a:avLst/>
                  </a:prstGeom>
                  <a:solidFill>
                    <a:srgbClr val="6daa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4851360" y="2576160"/>
                    <a:ext cx="28908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" h="800">
                        <a:moveTo>
                          <a:pt x="0" y="400"/>
                        </a:moveTo>
                        <a:cubicBezTo>
                          <a:pt x="0" y="621"/>
                          <a:pt x="112" y="800"/>
                          <a:pt x="250" y="800"/>
                        </a:cubicBezTo>
                        <a:lnTo>
                          <a:pt x="1750" y="800"/>
                        </a:lnTo>
                        <a:cubicBezTo>
                          <a:pt x="1889" y="800"/>
                          <a:pt x="2000" y="621"/>
                          <a:pt x="2000" y="400"/>
                        </a:cubicBezTo>
                        <a:cubicBezTo>
                          <a:pt x="2000" y="179"/>
                          <a:pt x="1889" y="0"/>
                          <a:pt x="1750" y="0"/>
                        </a:cubicBezTo>
                        <a:lnTo>
                          <a:pt x="250" y="0"/>
                        </a:lnTo>
                        <a:cubicBezTo>
                          <a:pt x="112" y="0"/>
                          <a:pt x="0" y="179"/>
                          <a:pt x="0" y="400"/>
                        </a:cubicBez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4886280" y="2576160"/>
                    <a:ext cx="367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73">
                        <a:moveTo>
                          <a:pt x="0" y="73"/>
                        </a:moveTo>
                        <a:cubicBezTo>
                          <a:pt x="13" y="73"/>
                          <a:pt x="23" y="57"/>
                          <a:pt x="23" y="37"/>
                        </a:cubicBezTo>
                        <a:cubicBezTo>
                          <a:pt x="23" y="17"/>
                          <a:pt x="13" y="0"/>
                          <a:pt x="0" y="0"/>
                        </a:cubicBez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3" name=""/>
                <p:cNvSpPr/>
                <p:nvPr/>
              </p:nvSpPr>
              <p:spPr>
                <a:xfrm>
                  <a:off x="4778280" y="26344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3276720" y="2346120"/>
                <a:ext cx="288720" cy="345600"/>
                <a:chOff x="3276720" y="2346120"/>
                <a:chExt cx="288720" cy="3456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3276720" y="2346120"/>
                  <a:ext cx="288720" cy="34560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276720" y="2346120"/>
                  <a:ext cx="288720" cy="34560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3408480" y="2606400"/>
                <a:ext cx="56880" cy="58320"/>
                <a:chOff x="3408480" y="2606400"/>
                <a:chExt cx="56880" cy="583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408480" y="2606400"/>
                  <a:ext cx="56880" cy="58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408480" y="2606400"/>
                  <a:ext cx="56880" cy="58320"/>
                </a:xfrm>
                <a:prstGeom prst="ellipse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5294160" y="2606400"/>
                <a:ext cx="59040" cy="58320"/>
                <a:chOff x="5294160" y="2606400"/>
                <a:chExt cx="59040" cy="583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5294160" y="2606400"/>
                  <a:ext cx="59040" cy="58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294160" y="2606400"/>
                  <a:ext cx="59040" cy="58320"/>
                </a:xfrm>
                <a:prstGeom prst="ellipse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3" name=""/>
            <p:cNvGrpSpPr/>
            <p:nvPr/>
          </p:nvGrpSpPr>
          <p:grpSpPr>
            <a:xfrm>
              <a:off x="5356440" y="2346120"/>
              <a:ext cx="288720" cy="345960"/>
              <a:chOff x="5356440" y="2346120"/>
              <a:chExt cx="288720" cy="345960"/>
            </a:xfrm>
          </p:grpSpPr>
          <p:sp>
            <p:nvSpPr>
              <p:cNvPr id="524" name=""/>
              <p:cNvSpPr/>
              <p:nvPr/>
            </p:nvSpPr>
            <p:spPr>
              <a:xfrm>
                <a:off x="5356440" y="2346120"/>
                <a:ext cx="288720" cy="345960"/>
              </a:xfrm>
              <a:custGeom>
                <a:avLst/>
                <a:gdLst/>
                <a:ahLst/>
                <a:rect l="l" t="t" r="r" b="b"/>
                <a:pathLst>
                  <a:path w="182" h="218">
                    <a:moveTo>
                      <a:pt x="182" y="109"/>
                    </a:moveTo>
                    <a:lnTo>
                      <a:pt x="0" y="0"/>
                    </a:lnTo>
                    <a:lnTo>
                      <a:pt x="0" y="218"/>
                    </a:lnTo>
                    <a:lnTo>
                      <a:pt x="182" y="109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356440" y="2346120"/>
                <a:ext cx="288720" cy="345960"/>
              </a:xfrm>
              <a:custGeom>
                <a:avLst/>
                <a:gdLst/>
                <a:ahLst/>
                <a:rect l="l" t="t" r="r" b="b"/>
                <a:pathLst>
                  <a:path w="182" h="218">
                    <a:moveTo>
                      <a:pt x="182" y="109"/>
                    </a:moveTo>
                    <a:lnTo>
                      <a:pt x="0" y="0"/>
                    </a:lnTo>
                    <a:lnTo>
                      <a:pt x="0" y="218"/>
                    </a:lnTo>
                    <a:lnTo>
                      <a:pt x="182" y="109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3333960" y="2403360"/>
              <a:ext cx="202248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49880" y="2635200"/>
              <a:ext cx="190656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4316400" y="2173320"/>
              <a:ext cx="262080" cy="701640"/>
              <a:chOff x="4316400" y="2173320"/>
              <a:chExt cx="262080" cy="701640"/>
            </a:xfrm>
          </p:grpSpPr>
          <p:sp>
            <p:nvSpPr>
              <p:cNvPr id="529" name=""/>
              <p:cNvSpPr/>
              <p:nvPr/>
            </p:nvSpPr>
            <p:spPr>
              <a:xfrm>
                <a:off x="4316400" y="2173320"/>
                <a:ext cx="262080" cy="701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16400" y="2173320"/>
                <a:ext cx="262080" cy="70164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4390920" y="2433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4143600" y="2634840"/>
              <a:ext cx="115920" cy="345960"/>
              <a:chOff x="4143600" y="2634840"/>
              <a:chExt cx="115920" cy="345960"/>
            </a:xfrm>
          </p:grpSpPr>
          <p:sp>
            <p:nvSpPr>
              <p:cNvPr id="533" name=""/>
              <p:cNvSpPr/>
              <p:nvPr/>
            </p:nvSpPr>
            <p:spPr>
              <a:xfrm>
                <a:off x="4143600" y="275076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143600" y="28080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4200840" y="280764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4200840" y="263484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4143600" y="2923920"/>
                <a:ext cx="115920" cy="56880"/>
                <a:chOff x="4143600" y="2923920"/>
                <a:chExt cx="115920" cy="5688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143600" y="2923920"/>
                  <a:ext cx="115920" cy="5688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143600" y="2923920"/>
                  <a:ext cx="115920" cy="5688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0" name=""/>
            <p:cNvGrpSpPr/>
            <p:nvPr/>
          </p:nvGrpSpPr>
          <p:grpSpPr>
            <a:xfrm>
              <a:off x="4605480" y="2634840"/>
              <a:ext cx="115920" cy="345960"/>
              <a:chOff x="4605480" y="2634840"/>
              <a:chExt cx="115920" cy="345960"/>
            </a:xfrm>
          </p:grpSpPr>
          <p:sp>
            <p:nvSpPr>
              <p:cNvPr id="541" name=""/>
              <p:cNvSpPr/>
              <p:nvPr/>
            </p:nvSpPr>
            <p:spPr>
              <a:xfrm>
                <a:off x="4605480" y="275076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605480" y="28080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4662360" y="280764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4662360" y="263484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4605480" y="2923920"/>
                <a:ext cx="115920" cy="56880"/>
                <a:chOff x="4605480" y="2923920"/>
                <a:chExt cx="115920" cy="568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4605480" y="2923920"/>
                  <a:ext cx="115920" cy="5688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605480" y="2923920"/>
                  <a:ext cx="115920" cy="5688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4027680" y="2057400"/>
              <a:ext cx="231480" cy="344520"/>
              <a:chOff x="4027680" y="2057400"/>
              <a:chExt cx="231480" cy="34452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4143240" y="2112840"/>
                <a:ext cx="115920" cy="289080"/>
                <a:chOff x="4143240" y="2112840"/>
                <a:chExt cx="115920" cy="289080"/>
              </a:xfrm>
            </p:grpSpPr>
            <p:sp>
              <p:nvSpPr>
                <p:cNvPr id="550" name=""/>
                <p:cNvSpPr/>
                <p:nvPr/>
              </p:nvSpPr>
              <p:spPr>
                <a:xfrm flipH="1">
                  <a:off x="4143240" y="228780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4143240" y="223056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200480" y="2112840"/>
                  <a:ext cx="0" cy="1159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200480" y="2287800"/>
                  <a:ext cx="0" cy="1141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4027680" y="2114640"/>
                <a:ext cx="115560" cy="58680"/>
                <a:chOff x="4027680" y="2114640"/>
                <a:chExt cx="115560" cy="586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027680" y="211464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027680" y="211464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4084560" y="205740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36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605480" y="2057400"/>
              <a:ext cx="231480" cy="345960"/>
              <a:chOff x="4605480" y="2057400"/>
              <a:chExt cx="231480" cy="34596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4605480" y="2114640"/>
                <a:ext cx="115920" cy="288720"/>
                <a:chOff x="4605480" y="2114640"/>
                <a:chExt cx="115920" cy="288720"/>
              </a:xfrm>
            </p:grpSpPr>
            <p:sp>
              <p:nvSpPr>
                <p:cNvPr id="560" name=""/>
                <p:cNvSpPr/>
                <p:nvPr/>
              </p:nvSpPr>
              <p:spPr>
                <a:xfrm flipH="1">
                  <a:off x="4605480" y="228780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>
                  <a:off x="4605480" y="223200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662360" y="2114640"/>
                  <a:ext cx="0" cy="1159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662360" y="228780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>
                <a:off x="4662360" y="205740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36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4721400" y="2114640"/>
                <a:ext cx="115560" cy="58680"/>
                <a:chOff x="4721400" y="2114640"/>
                <a:chExt cx="115560" cy="586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4721400" y="211464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721400" y="211464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8" name=""/>
            <p:cNvGrpSpPr/>
            <p:nvPr/>
          </p:nvGrpSpPr>
          <p:grpSpPr>
            <a:xfrm>
              <a:off x="3724560" y="2576520"/>
              <a:ext cx="360360" cy="115920"/>
              <a:chOff x="3724560" y="2576520"/>
              <a:chExt cx="360360" cy="11592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3796200" y="2576520"/>
                <a:ext cx="288720" cy="115920"/>
                <a:chOff x="3796200" y="2576520"/>
                <a:chExt cx="288720" cy="1159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796200" y="257652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796200" y="2576520"/>
                  <a:ext cx="730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796200" y="257652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832560" y="2576520"/>
                  <a:ext cx="3672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7"/>
                        <a:pt x="23" y="37"/>
                      </a:cubicBezTo>
                      <a:cubicBezTo>
                        <a:pt x="23" y="17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4" name=""/>
              <p:cNvSpPr/>
              <p:nvPr/>
            </p:nvSpPr>
            <p:spPr>
              <a:xfrm>
                <a:off x="3724560" y="26352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738600" y="2346120"/>
              <a:ext cx="361800" cy="115920"/>
              <a:chOff x="3738600" y="2346120"/>
              <a:chExt cx="361800" cy="11592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3811680" y="2346120"/>
                <a:ext cx="288720" cy="115920"/>
                <a:chOff x="3811680" y="2346120"/>
                <a:chExt cx="288720" cy="1159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811680" y="234612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811680" y="234612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811680" y="234612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846600" y="234612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6"/>
                        <a:pt x="23" y="36"/>
                      </a:cubicBezTo>
                      <a:cubicBezTo>
                        <a:pt x="23" y="16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3738600" y="24030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4778640" y="2346120"/>
              <a:ext cx="361440" cy="115920"/>
              <a:chOff x="4778640" y="2346120"/>
              <a:chExt cx="361440" cy="11592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4851360" y="2346120"/>
                <a:ext cx="288720" cy="115920"/>
                <a:chOff x="4851360" y="2346120"/>
                <a:chExt cx="288720" cy="11592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4851360" y="234612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851360" y="234612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851360" y="234612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885920" y="234612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6"/>
                        <a:pt x="23" y="36"/>
                      </a:cubicBezTo>
                      <a:cubicBezTo>
                        <a:pt x="23" y="16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4778640" y="2403000"/>
                <a:ext cx="11556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778640" y="2576520"/>
              <a:ext cx="361440" cy="115920"/>
              <a:chOff x="4778640" y="2576520"/>
              <a:chExt cx="361440" cy="11592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4851360" y="2576520"/>
                <a:ext cx="288720" cy="115920"/>
                <a:chOff x="4851360" y="2576520"/>
                <a:chExt cx="288720" cy="11592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4851360" y="257652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851360" y="257652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851360" y="257652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885920" y="257652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7"/>
                        <a:pt x="23" y="37"/>
                      </a:cubicBezTo>
                      <a:cubicBezTo>
                        <a:pt x="23" y="17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4778640" y="2635200"/>
                <a:ext cx="11556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276720" y="2346120"/>
              <a:ext cx="288720" cy="345960"/>
              <a:chOff x="3276720" y="2346120"/>
              <a:chExt cx="288720" cy="345960"/>
            </a:xfrm>
          </p:grpSpPr>
          <p:sp>
            <p:nvSpPr>
              <p:cNvPr id="597" name=""/>
              <p:cNvSpPr/>
              <p:nvPr/>
            </p:nvSpPr>
            <p:spPr>
              <a:xfrm>
                <a:off x="3276720" y="2346120"/>
                <a:ext cx="288720" cy="345960"/>
              </a:xfrm>
              <a:custGeom>
                <a:avLst/>
                <a:gdLst/>
                <a:ahLst/>
                <a:rect l="l" t="t" r="r" b="b"/>
                <a:pathLst>
                  <a:path w="182" h="218">
                    <a:moveTo>
                      <a:pt x="182" y="109"/>
                    </a:moveTo>
                    <a:lnTo>
                      <a:pt x="0" y="0"/>
                    </a:lnTo>
                    <a:lnTo>
                      <a:pt x="0" y="218"/>
                    </a:lnTo>
                    <a:lnTo>
                      <a:pt x="182" y="109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276720" y="2346120"/>
                <a:ext cx="288720" cy="345960"/>
              </a:xfrm>
              <a:custGeom>
                <a:avLst/>
                <a:gdLst/>
                <a:ahLst/>
                <a:rect l="l" t="t" r="r" b="b"/>
                <a:pathLst>
                  <a:path w="182" h="218">
                    <a:moveTo>
                      <a:pt x="182" y="109"/>
                    </a:moveTo>
                    <a:lnTo>
                      <a:pt x="0" y="0"/>
                    </a:lnTo>
                    <a:lnTo>
                      <a:pt x="0" y="218"/>
                    </a:lnTo>
                    <a:lnTo>
                      <a:pt x="182" y="109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408480" y="2606760"/>
              <a:ext cx="56880" cy="58680"/>
              <a:chOff x="3408480" y="2606760"/>
              <a:chExt cx="56880" cy="58680"/>
            </a:xfrm>
          </p:grpSpPr>
          <p:sp>
            <p:nvSpPr>
              <p:cNvPr id="600" name=""/>
              <p:cNvSpPr/>
              <p:nvPr/>
            </p:nvSpPr>
            <p:spPr>
              <a:xfrm>
                <a:off x="3408480" y="2606760"/>
                <a:ext cx="56880" cy="586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08480" y="2606760"/>
                <a:ext cx="56880" cy="58680"/>
              </a:xfrm>
              <a:prstGeom prst="ellipse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294520" y="2606760"/>
              <a:ext cx="58680" cy="58680"/>
              <a:chOff x="5294520" y="2606760"/>
              <a:chExt cx="58680" cy="58680"/>
            </a:xfrm>
          </p:grpSpPr>
          <p:sp>
            <p:nvSpPr>
              <p:cNvPr id="603" name=""/>
              <p:cNvSpPr/>
              <p:nvPr/>
            </p:nvSpPr>
            <p:spPr>
              <a:xfrm>
                <a:off x="5294520" y="2606760"/>
                <a:ext cx="58680" cy="586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294520" y="2606760"/>
                <a:ext cx="58680" cy="58680"/>
              </a:xfrm>
              <a:prstGeom prst="ellipse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5356440" y="2346120"/>
              <a:ext cx="288720" cy="345960"/>
              <a:chOff x="5356440" y="2346120"/>
              <a:chExt cx="288720" cy="345960"/>
            </a:xfrm>
          </p:grpSpPr>
          <p:sp>
            <p:nvSpPr>
              <p:cNvPr id="606" name=""/>
              <p:cNvSpPr/>
              <p:nvPr/>
            </p:nvSpPr>
            <p:spPr>
              <a:xfrm>
                <a:off x="5356440" y="2346120"/>
                <a:ext cx="288720" cy="345960"/>
              </a:xfrm>
              <a:custGeom>
                <a:avLst/>
                <a:gdLst/>
                <a:ahLst/>
                <a:rect l="l" t="t" r="r" b="b"/>
                <a:pathLst>
                  <a:path w="182" h="218">
                    <a:moveTo>
                      <a:pt x="182" y="109"/>
                    </a:moveTo>
                    <a:lnTo>
                      <a:pt x="0" y="0"/>
                    </a:lnTo>
                    <a:lnTo>
                      <a:pt x="0" y="218"/>
                    </a:lnTo>
                    <a:lnTo>
                      <a:pt x="182" y="109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356440" y="2346120"/>
                <a:ext cx="288720" cy="345960"/>
              </a:xfrm>
              <a:custGeom>
                <a:avLst/>
                <a:gdLst/>
                <a:ahLst/>
                <a:rect l="l" t="t" r="r" b="b"/>
                <a:pathLst>
                  <a:path w="182" h="218">
                    <a:moveTo>
                      <a:pt x="182" y="109"/>
                    </a:moveTo>
                    <a:lnTo>
                      <a:pt x="0" y="0"/>
                    </a:lnTo>
                    <a:lnTo>
                      <a:pt x="0" y="218"/>
                    </a:lnTo>
                    <a:lnTo>
                      <a:pt x="182" y="109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3333960" y="2403360"/>
              <a:ext cx="202248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49880" y="2635200"/>
              <a:ext cx="190656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4316400" y="2173320"/>
              <a:ext cx="262080" cy="701640"/>
              <a:chOff x="4316400" y="2173320"/>
              <a:chExt cx="262080" cy="701640"/>
            </a:xfrm>
          </p:grpSpPr>
          <p:sp>
            <p:nvSpPr>
              <p:cNvPr id="611" name=""/>
              <p:cNvSpPr/>
              <p:nvPr/>
            </p:nvSpPr>
            <p:spPr>
              <a:xfrm>
                <a:off x="4316400" y="2173320"/>
                <a:ext cx="262080" cy="701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316400" y="2173320"/>
                <a:ext cx="262080" cy="70164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4390920" y="2433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43600" y="275112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43600" y="280836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200840" y="2808000"/>
              <a:ext cx="0" cy="1155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200840" y="2635200"/>
              <a:ext cx="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4143600" y="2923920"/>
              <a:ext cx="115920" cy="57240"/>
              <a:chOff x="4143600" y="2923920"/>
              <a:chExt cx="115920" cy="57240"/>
            </a:xfrm>
          </p:grpSpPr>
          <p:sp>
            <p:nvSpPr>
              <p:cNvPr id="619" name=""/>
              <p:cNvSpPr/>
              <p:nvPr/>
            </p:nvSpPr>
            <p:spPr>
              <a:xfrm>
                <a:off x="4143600" y="292392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36" y="36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143600" y="292392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36" y="36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36" y="36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4143600" y="275112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43600" y="280836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4200840" y="2808000"/>
              <a:ext cx="0" cy="1155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4200840" y="2635200"/>
              <a:ext cx="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4143600" y="2923920"/>
              <a:ext cx="115920" cy="57240"/>
              <a:chOff x="4143600" y="2923920"/>
              <a:chExt cx="115920" cy="57240"/>
            </a:xfrm>
          </p:grpSpPr>
          <p:sp>
            <p:nvSpPr>
              <p:cNvPr id="626" name=""/>
              <p:cNvSpPr/>
              <p:nvPr/>
            </p:nvSpPr>
            <p:spPr>
              <a:xfrm>
                <a:off x="4143600" y="292392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36" y="36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143600" y="292392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36" y="36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36" y="36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4605480" y="275112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605480" y="280836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4662720" y="2808000"/>
              <a:ext cx="0" cy="1155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662720" y="2635200"/>
              <a:ext cx="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605480" y="2923920"/>
              <a:ext cx="115920" cy="57240"/>
              <a:chOff x="4605480" y="2923920"/>
              <a:chExt cx="115920" cy="57240"/>
            </a:xfrm>
          </p:grpSpPr>
          <p:sp>
            <p:nvSpPr>
              <p:cNvPr id="633" name=""/>
              <p:cNvSpPr/>
              <p:nvPr/>
            </p:nvSpPr>
            <p:spPr>
              <a:xfrm>
                <a:off x="4605480" y="292392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36" y="36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605480" y="292392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36" y="36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36" y="36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4605480" y="275112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05480" y="280836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4662720" y="2808000"/>
              <a:ext cx="0" cy="1155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4662720" y="2635200"/>
              <a:ext cx="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4605480" y="2923920"/>
              <a:ext cx="115920" cy="57240"/>
              <a:chOff x="4605480" y="2923920"/>
              <a:chExt cx="115920" cy="57240"/>
            </a:xfrm>
          </p:grpSpPr>
          <p:sp>
            <p:nvSpPr>
              <p:cNvPr id="640" name=""/>
              <p:cNvSpPr/>
              <p:nvPr/>
            </p:nvSpPr>
            <p:spPr>
              <a:xfrm>
                <a:off x="4605480" y="292392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36" y="36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605480" y="292392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36" y="36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36" y="36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143600" y="2112840"/>
              <a:ext cx="115920" cy="289080"/>
              <a:chOff x="4143600" y="2112840"/>
              <a:chExt cx="115920" cy="289080"/>
            </a:xfrm>
          </p:grpSpPr>
          <p:sp>
            <p:nvSpPr>
              <p:cNvPr id="643" name=""/>
              <p:cNvSpPr/>
              <p:nvPr/>
            </p:nvSpPr>
            <p:spPr>
              <a:xfrm flipH="1">
                <a:off x="4143600" y="22878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4143600" y="223056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200840" y="211284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200840" y="2287800"/>
                <a:ext cx="0" cy="1141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4027680" y="2114640"/>
              <a:ext cx="115560" cy="58680"/>
              <a:chOff x="4027680" y="2114640"/>
              <a:chExt cx="115560" cy="58680"/>
            </a:xfrm>
          </p:grpSpPr>
          <p:sp>
            <p:nvSpPr>
              <p:cNvPr id="648" name=""/>
              <p:cNvSpPr/>
              <p:nvPr/>
            </p:nvSpPr>
            <p:spPr>
              <a:xfrm>
                <a:off x="4027680" y="21146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36" y="37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3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027680" y="21146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36" y="37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36" y="37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4084920" y="2057400"/>
              <a:ext cx="115920" cy="57240"/>
            </a:xfrm>
            <a:custGeom>
              <a:avLst/>
              <a:gdLst/>
              <a:ahLst/>
              <a:rect l="l" t="t" r="r" b="b"/>
              <a:pathLst>
                <a:path w="73" h="36">
                  <a:moveTo>
                    <a:pt x="73" y="36"/>
                  </a:moveTo>
                  <a:lnTo>
                    <a:pt x="73" y="0"/>
                  </a:lnTo>
                  <a:lnTo>
                    <a:pt x="0" y="0"/>
                  </a:lnTo>
                  <a:lnTo>
                    <a:pt x="0" y="3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4143600" y="228744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4143600" y="223020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00840" y="2112840"/>
              <a:ext cx="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00840" y="2287440"/>
              <a:ext cx="0" cy="11448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4143600" y="228744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4143600" y="223020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00840" y="2112840"/>
              <a:ext cx="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00840" y="2287440"/>
              <a:ext cx="0" cy="11448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4027680" y="2114640"/>
              <a:ext cx="115560" cy="58680"/>
              <a:chOff x="4027680" y="2114640"/>
              <a:chExt cx="115560" cy="58680"/>
            </a:xfrm>
          </p:grpSpPr>
          <p:sp>
            <p:nvSpPr>
              <p:cNvPr id="660" name=""/>
              <p:cNvSpPr/>
              <p:nvPr/>
            </p:nvSpPr>
            <p:spPr>
              <a:xfrm>
                <a:off x="4027680" y="21146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36" y="37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3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27680" y="21146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36" y="37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36" y="37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4084920" y="2057400"/>
              <a:ext cx="115920" cy="57240"/>
            </a:xfrm>
            <a:custGeom>
              <a:avLst/>
              <a:gdLst/>
              <a:ahLst/>
              <a:rect l="l" t="t" r="r" b="b"/>
              <a:pathLst>
                <a:path w="73" h="36">
                  <a:moveTo>
                    <a:pt x="73" y="36"/>
                  </a:moveTo>
                  <a:lnTo>
                    <a:pt x="73" y="0"/>
                  </a:lnTo>
                  <a:lnTo>
                    <a:pt x="0" y="0"/>
                  </a:lnTo>
                  <a:lnTo>
                    <a:pt x="0" y="3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4605480" y="2114640"/>
              <a:ext cx="115920" cy="288720"/>
              <a:chOff x="4605480" y="2114640"/>
              <a:chExt cx="115920" cy="288720"/>
            </a:xfrm>
          </p:grpSpPr>
          <p:sp>
            <p:nvSpPr>
              <p:cNvPr id="664" name=""/>
              <p:cNvSpPr/>
              <p:nvPr/>
            </p:nvSpPr>
            <p:spPr>
              <a:xfrm flipH="1">
                <a:off x="4605480" y="22878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4605480" y="22320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662360" y="211464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62360" y="228780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4662720" y="2057400"/>
              <a:ext cx="115920" cy="57240"/>
            </a:xfrm>
            <a:custGeom>
              <a:avLst/>
              <a:gdLst/>
              <a:ahLst/>
              <a:rect l="l" t="t" r="r" b="b"/>
              <a:pathLst>
                <a:path w="73" h="36">
                  <a:moveTo>
                    <a:pt x="73" y="36"/>
                  </a:moveTo>
                  <a:lnTo>
                    <a:pt x="73" y="0"/>
                  </a:lnTo>
                  <a:lnTo>
                    <a:pt x="0" y="0"/>
                  </a:lnTo>
                  <a:lnTo>
                    <a:pt x="0" y="3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4721400" y="2114640"/>
              <a:ext cx="115560" cy="58680"/>
              <a:chOff x="4721400" y="2114640"/>
              <a:chExt cx="115560" cy="58680"/>
            </a:xfrm>
          </p:grpSpPr>
          <p:sp>
            <p:nvSpPr>
              <p:cNvPr id="670" name=""/>
              <p:cNvSpPr/>
              <p:nvPr/>
            </p:nvSpPr>
            <p:spPr>
              <a:xfrm>
                <a:off x="4721400" y="21146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36" y="37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3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721400" y="21146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36" y="37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36" y="37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 flipH="1">
              <a:off x="4605480" y="228744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605480" y="223200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62720" y="2114640"/>
              <a:ext cx="0" cy="1155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62720" y="2287440"/>
              <a:ext cx="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4605480" y="228744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4605480" y="223200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62720" y="2114640"/>
              <a:ext cx="0" cy="1155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62720" y="2287440"/>
              <a:ext cx="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662720" y="2057400"/>
              <a:ext cx="115920" cy="57240"/>
            </a:xfrm>
            <a:custGeom>
              <a:avLst/>
              <a:gdLst/>
              <a:ahLst/>
              <a:rect l="l" t="t" r="r" b="b"/>
              <a:pathLst>
                <a:path w="73" h="36">
                  <a:moveTo>
                    <a:pt x="73" y="36"/>
                  </a:moveTo>
                  <a:lnTo>
                    <a:pt x="73" y="0"/>
                  </a:lnTo>
                  <a:lnTo>
                    <a:pt x="0" y="0"/>
                  </a:lnTo>
                  <a:lnTo>
                    <a:pt x="0" y="3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4721400" y="2114640"/>
              <a:ext cx="115560" cy="58680"/>
              <a:chOff x="4721400" y="2114640"/>
              <a:chExt cx="115560" cy="58680"/>
            </a:xfrm>
          </p:grpSpPr>
          <p:sp>
            <p:nvSpPr>
              <p:cNvPr id="682" name=""/>
              <p:cNvSpPr/>
              <p:nvPr/>
            </p:nvSpPr>
            <p:spPr>
              <a:xfrm>
                <a:off x="4721400" y="21146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36" y="37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3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721400" y="21146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36" y="37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36" y="37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3795840" y="2576520"/>
              <a:ext cx="288720" cy="115920"/>
              <a:chOff x="3795840" y="2576520"/>
              <a:chExt cx="288720" cy="115920"/>
            </a:xfrm>
          </p:grpSpPr>
          <p:sp>
            <p:nvSpPr>
              <p:cNvPr id="685" name=""/>
              <p:cNvSpPr/>
              <p:nvPr/>
            </p:nvSpPr>
            <p:spPr>
              <a:xfrm>
                <a:off x="3795840" y="25765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4000" h="1600">
                    <a:moveTo>
                      <a:pt x="0" y="800"/>
                    </a:moveTo>
                    <a:cubicBezTo>
                      <a:pt x="0" y="1242"/>
                      <a:pt x="224" y="1600"/>
                      <a:pt x="500" y="1600"/>
                    </a:cubicBezTo>
                    <a:lnTo>
                      <a:pt x="3500" y="1600"/>
                    </a:lnTo>
                    <a:cubicBezTo>
                      <a:pt x="3777" y="1600"/>
                      <a:pt x="4000" y="1242"/>
                      <a:pt x="4000" y="800"/>
                    </a:cubicBezTo>
                    <a:cubicBezTo>
                      <a:pt x="4000" y="358"/>
                      <a:pt x="3777" y="0"/>
                      <a:pt x="3500" y="0"/>
                    </a:cubicBezTo>
                    <a:lnTo>
                      <a:pt x="500" y="0"/>
                    </a:lnTo>
                    <a:cubicBezTo>
                      <a:pt x="224" y="0"/>
                      <a:pt x="0" y="358"/>
                      <a:pt x="0" y="800"/>
                    </a:cubicBezTo>
                    <a:close/>
                  </a:path>
                </a:pathLst>
              </a:custGeom>
              <a:solidFill>
                <a:srgbClr val="4a95b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795840" y="2576520"/>
                <a:ext cx="73080" cy="115920"/>
              </a:xfrm>
              <a:prstGeom prst="ellipse">
                <a:avLst/>
              </a:prstGeom>
              <a:solidFill>
                <a:srgbClr val="6daa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795840" y="25765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4000" h="1600">
                    <a:moveTo>
                      <a:pt x="0" y="800"/>
                    </a:moveTo>
                    <a:cubicBezTo>
                      <a:pt x="0" y="1242"/>
                      <a:pt x="224" y="1600"/>
                      <a:pt x="500" y="1600"/>
                    </a:cubicBezTo>
                    <a:lnTo>
                      <a:pt x="3500" y="1600"/>
                    </a:lnTo>
                    <a:cubicBezTo>
                      <a:pt x="3777" y="1600"/>
                      <a:pt x="4000" y="1242"/>
                      <a:pt x="4000" y="800"/>
                    </a:cubicBezTo>
                    <a:cubicBezTo>
                      <a:pt x="4000" y="358"/>
                      <a:pt x="3777" y="0"/>
                      <a:pt x="3500" y="0"/>
                    </a:cubicBezTo>
                    <a:lnTo>
                      <a:pt x="500" y="0"/>
                    </a:lnTo>
                    <a:cubicBezTo>
                      <a:pt x="224" y="0"/>
                      <a:pt x="0" y="358"/>
                      <a:pt x="0" y="80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832200" y="2576520"/>
                <a:ext cx="36720" cy="115920"/>
              </a:xfrm>
              <a:custGeom>
                <a:avLst/>
                <a:gdLst/>
                <a:ahLst/>
                <a:rect l="l" t="t" r="r" b="b"/>
                <a:pathLst>
                  <a:path w="23" h="73">
                    <a:moveTo>
                      <a:pt x="0" y="73"/>
                    </a:moveTo>
                    <a:cubicBezTo>
                      <a:pt x="13" y="73"/>
                      <a:pt x="23" y="57"/>
                      <a:pt x="23" y="37"/>
                    </a:cubicBezTo>
                    <a:cubicBezTo>
                      <a:pt x="23" y="17"/>
                      <a:pt x="13" y="0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3724560" y="263520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3795840" y="2576520"/>
              <a:ext cx="288720" cy="115920"/>
              <a:chOff x="3795840" y="2576520"/>
              <a:chExt cx="288720" cy="115920"/>
            </a:xfrm>
          </p:grpSpPr>
          <p:sp>
            <p:nvSpPr>
              <p:cNvPr id="691" name=""/>
              <p:cNvSpPr/>
              <p:nvPr/>
            </p:nvSpPr>
            <p:spPr>
              <a:xfrm>
                <a:off x="3795840" y="25765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4000" h="1600">
                    <a:moveTo>
                      <a:pt x="0" y="800"/>
                    </a:moveTo>
                    <a:cubicBezTo>
                      <a:pt x="0" y="1242"/>
                      <a:pt x="224" y="1600"/>
                      <a:pt x="500" y="1600"/>
                    </a:cubicBezTo>
                    <a:lnTo>
                      <a:pt x="3500" y="1600"/>
                    </a:lnTo>
                    <a:cubicBezTo>
                      <a:pt x="3777" y="1600"/>
                      <a:pt x="4000" y="1242"/>
                      <a:pt x="4000" y="800"/>
                    </a:cubicBezTo>
                    <a:cubicBezTo>
                      <a:pt x="4000" y="358"/>
                      <a:pt x="3777" y="0"/>
                      <a:pt x="3500" y="0"/>
                    </a:cubicBezTo>
                    <a:lnTo>
                      <a:pt x="500" y="0"/>
                    </a:lnTo>
                    <a:cubicBezTo>
                      <a:pt x="224" y="0"/>
                      <a:pt x="0" y="358"/>
                      <a:pt x="0" y="800"/>
                    </a:cubicBezTo>
                    <a:close/>
                  </a:path>
                </a:pathLst>
              </a:custGeom>
              <a:solidFill>
                <a:srgbClr val="4a95b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795840" y="2576520"/>
                <a:ext cx="73080" cy="115920"/>
              </a:xfrm>
              <a:prstGeom prst="ellipse">
                <a:avLst/>
              </a:prstGeom>
              <a:solidFill>
                <a:srgbClr val="6daa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795840" y="25765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4000" h="1600">
                    <a:moveTo>
                      <a:pt x="0" y="800"/>
                    </a:moveTo>
                    <a:cubicBezTo>
                      <a:pt x="0" y="1242"/>
                      <a:pt x="224" y="1600"/>
                      <a:pt x="500" y="1600"/>
                    </a:cubicBezTo>
                    <a:lnTo>
                      <a:pt x="3500" y="1600"/>
                    </a:lnTo>
                    <a:cubicBezTo>
                      <a:pt x="3777" y="1600"/>
                      <a:pt x="4000" y="1242"/>
                      <a:pt x="4000" y="800"/>
                    </a:cubicBezTo>
                    <a:cubicBezTo>
                      <a:pt x="4000" y="358"/>
                      <a:pt x="3777" y="0"/>
                      <a:pt x="3500" y="0"/>
                    </a:cubicBezTo>
                    <a:lnTo>
                      <a:pt x="500" y="0"/>
                    </a:lnTo>
                    <a:cubicBezTo>
                      <a:pt x="224" y="0"/>
                      <a:pt x="0" y="358"/>
                      <a:pt x="0" y="80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832200" y="2576520"/>
                <a:ext cx="36720" cy="115920"/>
              </a:xfrm>
              <a:custGeom>
                <a:avLst/>
                <a:gdLst/>
                <a:ahLst/>
                <a:rect l="l" t="t" r="r" b="b"/>
                <a:pathLst>
                  <a:path w="23" h="73">
                    <a:moveTo>
                      <a:pt x="0" y="73"/>
                    </a:moveTo>
                    <a:cubicBezTo>
                      <a:pt x="13" y="73"/>
                      <a:pt x="23" y="57"/>
                      <a:pt x="23" y="37"/>
                    </a:cubicBezTo>
                    <a:cubicBezTo>
                      <a:pt x="23" y="17"/>
                      <a:pt x="13" y="0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3724560" y="263520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3811680" y="2346120"/>
              <a:ext cx="288720" cy="115920"/>
              <a:chOff x="3811680" y="2346120"/>
              <a:chExt cx="288720" cy="115920"/>
            </a:xfrm>
          </p:grpSpPr>
          <p:sp>
            <p:nvSpPr>
              <p:cNvPr id="697" name=""/>
              <p:cNvSpPr/>
              <p:nvPr/>
            </p:nvSpPr>
            <p:spPr>
              <a:xfrm>
                <a:off x="3811680" y="23461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4000" h="1600">
                    <a:moveTo>
                      <a:pt x="0" y="800"/>
                    </a:moveTo>
                    <a:cubicBezTo>
                      <a:pt x="0" y="1242"/>
                      <a:pt x="224" y="1600"/>
                      <a:pt x="500" y="1600"/>
                    </a:cubicBezTo>
                    <a:lnTo>
                      <a:pt x="3500" y="1600"/>
                    </a:lnTo>
                    <a:cubicBezTo>
                      <a:pt x="3777" y="1600"/>
                      <a:pt x="4000" y="1242"/>
                      <a:pt x="4000" y="800"/>
                    </a:cubicBezTo>
                    <a:cubicBezTo>
                      <a:pt x="4000" y="358"/>
                      <a:pt x="3777" y="0"/>
                      <a:pt x="3500" y="0"/>
                    </a:cubicBezTo>
                    <a:lnTo>
                      <a:pt x="500" y="0"/>
                    </a:lnTo>
                    <a:cubicBezTo>
                      <a:pt x="224" y="0"/>
                      <a:pt x="0" y="358"/>
                      <a:pt x="0" y="800"/>
                    </a:cubicBezTo>
                    <a:close/>
                  </a:path>
                </a:pathLst>
              </a:custGeom>
              <a:solidFill>
                <a:srgbClr val="4a95b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811680" y="2346120"/>
                <a:ext cx="71280" cy="115920"/>
              </a:xfrm>
              <a:prstGeom prst="ellipse">
                <a:avLst/>
              </a:prstGeom>
              <a:solidFill>
                <a:srgbClr val="6daa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811680" y="23461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4000" h="1600">
                    <a:moveTo>
                      <a:pt x="0" y="800"/>
                    </a:moveTo>
                    <a:cubicBezTo>
                      <a:pt x="0" y="1242"/>
                      <a:pt x="224" y="1600"/>
                      <a:pt x="500" y="1600"/>
                    </a:cubicBezTo>
                    <a:lnTo>
                      <a:pt x="3500" y="1600"/>
                    </a:lnTo>
                    <a:cubicBezTo>
                      <a:pt x="3777" y="1600"/>
                      <a:pt x="4000" y="1242"/>
                      <a:pt x="4000" y="800"/>
                    </a:cubicBezTo>
                    <a:cubicBezTo>
                      <a:pt x="4000" y="358"/>
                      <a:pt x="3777" y="0"/>
                      <a:pt x="3500" y="0"/>
                    </a:cubicBezTo>
                    <a:lnTo>
                      <a:pt x="500" y="0"/>
                    </a:lnTo>
                    <a:cubicBezTo>
                      <a:pt x="224" y="0"/>
                      <a:pt x="0" y="358"/>
                      <a:pt x="0" y="80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46600" y="2346120"/>
                <a:ext cx="36360" cy="115920"/>
              </a:xfrm>
              <a:custGeom>
                <a:avLst/>
                <a:gdLst/>
                <a:ahLst/>
                <a:rect l="l" t="t" r="r" b="b"/>
                <a:pathLst>
                  <a:path w="23" h="73">
                    <a:moveTo>
                      <a:pt x="0" y="73"/>
                    </a:moveTo>
                    <a:cubicBezTo>
                      <a:pt x="13" y="73"/>
                      <a:pt x="23" y="56"/>
                      <a:pt x="23" y="36"/>
                    </a:cubicBezTo>
                    <a:cubicBezTo>
                      <a:pt x="23" y="16"/>
                      <a:pt x="13" y="0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3738600" y="240336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811680" y="2346120"/>
              <a:ext cx="288720" cy="115920"/>
              <a:chOff x="3811680" y="2346120"/>
              <a:chExt cx="288720" cy="115920"/>
            </a:xfrm>
          </p:grpSpPr>
          <p:sp>
            <p:nvSpPr>
              <p:cNvPr id="703" name=""/>
              <p:cNvSpPr/>
              <p:nvPr/>
            </p:nvSpPr>
            <p:spPr>
              <a:xfrm>
                <a:off x="3811680" y="23461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4000" h="1600">
                    <a:moveTo>
                      <a:pt x="0" y="800"/>
                    </a:moveTo>
                    <a:cubicBezTo>
                      <a:pt x="0" y="1242"/>
                      <a:pt x="224" y="1600"/>
                      <a:pt x="500" y="1600"/>
                    </a:cubicBezTo>
                    <a:lnTo>
                      <a:pt x="3500" y="1600"/>
                    </a:lnTo>
                    <a:cubicBezTo>
                      <a:pt x="3777" y="1600"/>
                      <a:pt x="4000" y="1242"/>
                      <a:pt x="4000" y="800"/>
                    </a:cubicBezTo>
                    <a:cubicBezTo>
                      <a:pt x="4000" y="358"/>
                      <a:pt x="3777" y="0"/>
                      <a:pt x="3500" y="0"/>
                    </a:cubicBezTo>
                    <a:lnTo>
                      <a:pt x="500" y="0"/>
                    </a:lnTo>
                    <a:cubicBezTo>
                      <a:pt x="224" y="0"/>
                      <a:pt x="0" y="358"/>
                      <a:pt x="0" y="800"/>
                    </a:cubicBezTo>
                    <a:close/>
                  </a:path>
                </a:pathLst>
              </a:custGeom>
              <a:solidFill>
                <a:srgbClr val="4a95b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11680" y="2346120"/>
                <a:ext cx="71280" cy="115920"/>
              </a:xfrm>
              <a:prstGeom prst="ellipse">
                <a:avLst/>
              </a:prstGeom>
              <a:solidFill>
                <a:srgbClr val="6daa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811680" y="23461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4000" h="1600">
                    <a:moveTo>
                      <a:pt x="0" y="800"/>
                    </a:moveTo>
                    <a:cubicBezTo>
                      <a:pt x="0" y="1242"/>
                      <a:pt x="224" y="1600"/>
                      <a:pt x="500" y="1600"/>
                    </a:cubicBezTo>
                    <a:lnTo>
                      <a:pt x="3500" y="1600"/>
                    </a:lnTo>
                    <a:cubicBezTo>
                      <a:pt x="3777" y="1600"/>
                      <a:pt x="4000" y="1242"/>
                      <a:pt x="4000" y="800"/>
                    </a:cubicBezTo>
                    <a:cubicBezTo>
                      <a:pt x="4000" y="358"/>
                      <a:pt x="3777" y="0"/>
                      <a:pt x="3500" y="0"/>
                    </a:cubicBezTo>
                    <a:lnTo>
                      <a:pt x="500" y="0"/>
                    </a:lnTo>
                    <a:cubicBezTo>
                      <a:pt x="224" y="0"/>
                      <a:pt x="0" y="358"/>
                      <a:pt x="0" y="80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846600" y="2346120"/>
                <a:ext cx="36360" cy="115920"/>
              </a:xfrm>
              <a:custGeom>
                <a:avLst/>
                <a:gdLst/>
                <a:ahLst/>
                <a:rect l="l" t="t" r="r" b="b"/>
                <a:pathLst>
                  <a:path w="23" h="73">
                    <a:moveTo>
                      <a:pt x="0" y="73"/>
                    </a:moveTo>
                    <a:cubicBezTo>
                      <a:pt x="13" y="73"/>
                      <a:pt x="23" y="56"/>
                      <a:pt x="23" y="36"/>
                    </a:cubicBezTo>
                    <a:cubicBezTo>
                      <a:pt x="23" y="16"/>
                      <a:pt x="13" y="0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3738600" y="240336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4851720" y="2346120"/>
              <a:ext cx="288720" cy="115920"/>
              <a:chOff x="4851720" y="2346120"/>
              <a:chExt cx="288720" cy="115920"/>
            </a:xfrm>
          </p:grpSpPr>
          <p:sp>
            <p:nvSpPr>
              <p:cNvPr id="709" name=""/>
              <p:cNvSpPr/>
              <p:nvPr/>
            </p:nvSpPr>
            <p:spPr>
              <a:xfrm>
                <a:off x="4851720" y="23461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2000" h="800">
                    <a:moveTo>
                      <a:pt x="0" y="400"/>
                    </a:moveTo>
                    <a:cubicBezTo>
                      <a:pt x="0" y="621"/>
                      <a:pt x="112" y="800"/>
                      <a:pt x="250" y="800"/>
                    </a:cubicBezTo>
                    <a:lnTo>
                      <a:pt x="1750" y="800"/>
                    </a:lnTo>
                    <a:cubicBezTo>
                      <a:pt x="1889" y="800"/>
                      <a:pt x="2000" y="621"/>
                      <a:pt x="2000" y="400"/>
                    </a:cubicBezTo>
                    <a:cubicBezTo>
                      <a:pt x="2000" y="179"/>
                      <a:pt x="1889" y="0"/>
                      <a:pt x="1750" y="0"/>
                    </a:cubicBezTo>
                    <a:lnTo>
                      <a:pt x="250" y="0"/>
                    </a:lnTo>
                    <a:cubicBezTo>
                      <a:pt x="112" y="0"/>
                      <a:pt x="0" y="179"/>
                      <a:pt x="0" y="400"/>
                    </a:cubicBezTo>
                    <a:close/>
                  </a:path>
                </a:pathLst>
              </a:custGeom>
              <a:solidFill>
                <a:srgbClr val="4a95b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851720" y="2346120"/>
                <a:ext cx="71280" cy="115920"/>
              </a:xfrm>
              <a:prstGeom prst="ellipse">
                <a:avLst/>
              </a:prstGeom>
              <a:solidFill>
                <a:srgbClr val="6daa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51720" y="23461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2000" h="800">
                    <a:moveTo>
                      <a:pt x="0" y="400"/>
                    </a:moveTo>
                    <a:cubicBezTo>
                      <a:pt x="0" y="621"/>
                      <a:pt x="112" y="800"/>
                      <a:pt x="250" y="800"/>
                    </a:cubicBezTo>
                    <a:lnTo>
                      <a:pt x="1750" y="800"/>
                    </a:lnTo>
                    <a:cubicBezTo>
                      <a:pt x="1889" y="800"/>
                      <a:pt x="2000" y="621"/>
                      <a:pt x="2000" y="400"/>
                    </a:cubicBezTo>
                    <a:cubicBezTo>
                      <a:pt x="2000" y="179"/>
                      <a:pt x="1889" y="0"/>
                      <a:pt x="1750" y="0"/>
                    </a:cubicBezTo>
                    <a:lnTo>
                      <a:pt x="250" y="0"/>
                    </a:lnTo>
                    <a:cubicBezTo>
                      <a:pt x="112" y="0"/>
                      <a:pt x="0" y="179"/>
                      <a:pt x="0" y="40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886280" y="2346120"/>
                <a:ext cx="36360" cy="115920"/>
              </a:xfrm>
              <a:custGeom>
                <a:avLst/>
                <a:gdLst/>
                <a:ahLst/>
                <a:rect l="l" t="t" r="r" b="b"/>
                <a:pathLst>
                  <a:path w="23" h="73">
                    <a:moveTo>
                      <a:pt x="0" y="73"/>
                    </a:moveTo>
                    <a:cubicBezTo>
                      <a:pt x="13" y="73"/>
                      <a:pt x="23" y="56"/>
                      <a:pt x="23" y="36"/>
                    </a:cubicBezTo>
                    <a:cubicBezTo>
                      <a:pt x="23" y="16"/>
                      <a:pt x="13" y="0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>
              <a:off x="4778640" y="240336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4851720" y="2346120"/>
              <a:ext cx="288720" cy="115920"/>
              <a:chOff x="4851720" y="2346120"/>
              <a:chExt cx="288720" cy="115920"/>
            </a:xfrm>
          </p:grpSpPr>
          <p:sp>
            <p:nvSpPr>
              <p:cNvPr id="715" name=""/>
              <p:cNvSpPr/>
              <p:nvPr/>
            </p:nvSpPr>
            <p:spPr>
              <a:xfrm>
                <a:off x="4851720" y="23461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2000" h="800">
                    <a:moveTo>
                      <a:pt x="0" y="400"/>
                    </a:moveTo>
                    <a:cubicBezTo>
                      <a:pt x="0" y="621"/>
                      <a:pt x="112" y="800"/>
                      <a:pt x="250" y="800"/>
                    </a:cubicBezTo>
                    <a:lnTo>
                      <a:pt x="1750" y="800"/>
                    </a:lnTo>
                    <a:cubicBezTo>
                      <a:pt x="1889" y="800"/>
                      <a:pt x="2000" y="621"/>
                      <a:pt x="2000" y="400"/>
                    </a:cubicBezTo>
                    <a:cubicBezTo>
                      <a:pt x="2000" y="179"/>
                      <a:pt x="1889" y="0"/>
                      <a:pt x="1750" y="0"/>
                    </a:cubicBezTo>
                    <a:lnTo>
                      <a:pt x="250" y="0"/>
                    </a:lnTo>
                    <a:cubicBezTo>
                      <a:pt x="112" y="0"/>
                      <a:pt x="0" y="179"/>
                      <a:pt x="0" y="400"/>
                    </a:cubicBezTo>
                    <a:close/>
                  </a:path>
                </a:pathLst>
              </a:custGeom>
              <a:solidFill>
                <a:srgbClr val="4a95b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851720" y="2346120"/>
                <a:ext cx="71280" cy="115920"/>
              </a:xfrm>
              <a:prstGeom prst="ellipse">
                <a:avLst/>
              </a:prstGeom>
              <a:solidFill>
                <a:srgbClr val="6daa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851720" y="23461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2000" h="800">
                    <a:moveTo>
                      <a:pt x="0" y="400"/>
                    </a:moveTo>
                    <a:cubicBezTo>
                      <a:pt x="0" y="621"/>
                      <a:pt x="112" y="800"/>
                      <a:pt x="250" y="800"/>
                    </a:cubicBezTo>
                    <a:lnTo>
                      <a:pt x="1750" y="800"/>
                    </a:lnTo>
                    <a:cubicBezTo>
                      <a:pt x="1889" y="800"/>
                      <a:pt x="2000" y="621"/>
                      <a:pt x="2000" y="400"/>
                    </a:cubicBezTo>
                    <a:cubicBezTo>
                      <a:pt x="2000" y="179"/>
                      <a:pt x="1889" y="0"/>
                      <a:pt x="1750" y="0"/>
                    </a:cubicBezTo>
                    <a:lnTo>
                      <a:pt x="250" y="0"/>
                    </a:lnTo>
                    <a:cubicBezTo>
                      <a:pt x="112" y="0"/>
                      <a:pt x="0" y="179"/>
                      <a:pt x="0" y="40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886280" y="2346120"/>
                <a:ext cx="36360" cy="115920"/>
              </a:xfrm>
              <a:custGeom>
                <a:avLst/>
                <a:gdLst/>
                <a:ahLst/>
                <a:rect l="l" t="t" r="r" b="b"/>
                <a:pathLst>
                  <a:path w="23" h="73">
                    <a:moveTo>
                      <a:pt x="0" y="73"/>
                    </a:moveTo>
                    <a:cubicBezTo>
                      <a:pt x="13" y="73"/>
                      <a:pt x="23" y="56"/>
                      <a:pt x="23" y="36"/>
                    </a:cubicBezTo>
                    <a:cubicBezTo>
                      <a:pt x="23" y="16"/>
                      <a:pt x="13" y="0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4778640" y="240336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4851720" y="2576520"/>
              <a:ext cx="288720" cy="115920"/>
              <a:chOff x="4851720" y="2576520"/>
              <a:chExt cx="288720" cy="115920"/>
            </a:xfrm>
          </p:grpSpPr>
          <p:sp>
            <p:nvSpPr>
              <p:cNvPr id="721" name=""/>
              <p:cNvSpPr/>
              <p:nvPr/>
            </p:nvSpPr>
            <p:spPr>
              <a:xfrm>
                <a:off x="4851720" y="25765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2000" h="800">
                    <a:moveTo>
                      <a:pt x="0" y="400"/>
                    </a:moveTo>
                    <a:cubicBezTo>
                      <a:pt x="0" y="621"/>
                      <a:pt x="112" y="800"/>
                      <a:pt x="250" y="800"/>
                    </a:cubicBezTo>
                    <a:lnTo>
                      <a:pt x="1750" y="800"/>
                    </a:lnTo>
                    <a:cubicBezTo>
                      <a:pt x="1889" y="800"/>
                      <a:pt x="2000" y="621"/>
                      <a:pt x="2000" y="400"/>
                    </a:cubicBezTo>
                    <a:cubicBezTo>
                      <a:pt x="2000" y="179"/>
                      <a:pt x="1889" y="0"/>
                      <a:pt x="1750" y="0"/>
                    </a:cubicBezTo>
                    <a:lnTo>
                      <a:pt x="250" y="0"/>
                    </a:lnTo>
                    <a:cubicBezTo>
                      <a:pt x="112" y="0"/>
                      <a:pt x="0" y="179"/>
                      <a:pt x="0" y="400"/>
                    </a:cubicBezTo>
                    <a:close/>
                  </a:path>
                </a:pathLst>
              </a:custGeom>
              <a:solidFill>
                <a:srgbClr val="4a95b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851720" y="2576520"/>
                <a:ext cx="71280" cy="115920"/>
              </a:xfrm>
              <a:prstGeom prst="ellipse">
                <a:avLst/>
              </a:prstGeom>
              <a:solidFill>
                <a:srgbClr val="6daa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851720" y="25765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2000" h="800">
                    <a:moveTo>
                      <a:pt x="0" y="400"/>
                    </a:moveTo>
                    <a:cubicBezTo>
                      <a:pt x="0" y="621"/>
                      <a:pt x="112" y="800"/>
                      <a:pt x="250" y="800"/>
                    </a:cubicBezTo>
                    <a:lnTo>
                      <a:pt x="1750" y="800"/>
                    </a:lnTo>
                    <a:cubicBezTo>
                      <a:pt x="1889" y="800"/>
                      <a:pt x="2000" y="621"/>
                      <a:pt x="2000" y="400"/>
                    </a:cubicBezTo>
                    <a:cubicBezTo>
                      <a:pt x="2000" y="179"/>
                      <a:pt x="1889" y="0"/>
                      <a:pt x="1750" y="0"/>
                    </a:cubicBezTo>
                    <a:lnTo>
                      <a:pt x="250" y="0"/>
                    </a:lnTo>
                    <a:cubicBezTo>
                      <a:pt x="112" y="0"/>
                      <a:pt x="0" y="179"/>
                      <a:pt x="0" y="40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886280" y="2576520"/>
                <a:ext cx="36360" cy="115920"/>
              </a:xfrm>
              <a:custGeom>
                <a:avLst/>
                <a:gdLst/>
                <a:ahLst/>
                <a:rect l="l" t="t" r="r" b="b"/>
                <a:pathLst>
                  <a:path w="23" h="73">
                    <a:moveTo>
                      <a:pt x="0" y="73"/>
                    </a:moveTo>
                    <a:cubicBezTo>
                      <a:pt x="13" y="73"/>
                      <a:pt x="23" y="57"/>
                      <a:pt x="23" y="37"/>
                    </a:cubicBezTo>
                    <a:cubicBezTo>
                      <a:pt x="23" y="17"/>
                      <a:pt x="13" y="0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4778640" y="263520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4851720" y="2576520"/>
              <a:ext cx="288720" cy="115920"/>
              <a:chOff x="4851720" y="2576520"/>
              <a:chExt cx="288720" cy="115920"/>
            </a:xfrm>
          </p:grpSpPr>
          <p:sp>
            <p:nvSpPr>
              <p:cNvPr id="727" name=""/>
              <p:cNvSpPr/>
              <p:nvPr/>
            </p:nvSpPr>
            <p:spPr>
              <a:xfrm>
                <a:off x="4851720" y="25765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2000" h="800">
                    <a:moveTo>
                      <a:pt x="0" y="400"/>
                    </a:moveTo>
                    <a:cubicBezTo>
                      <a:pt x="0" y="621"/>
                      <a:pt x="112" y="800"/>
                      <a:pt x="250" y="800"/>
                    </a:cubicBezTo>
                    <a:lnTo>
                      <a:pt x="1750" y="800"/>
                    </a:lnTo>
                    <a:cubicBezTo>
                      <a:pt x="1889" y="800"/>
                      <a:pt x="2000" y="621"/>
                      <a:pt x="2000" y="400"/>
                    </a:cubicBezTo>
                    <a:cubicBezTo>
                      <a:pt x="2000" y="179"/>
                      <a:pt x="1889" y="0"/>
                      <a:pt x="1750" y="0"/>
                    </a:cubicBezTo>
                    <a:lnTo>
                      <a:pt x="250" y="0"/>
                    </a:lnTo>
                    <a:cubicBezTo>
                      <a:pt x="112" y="0"/>
                      <a:pt x="0" y="179"/>
                      <a:pt x="0" y="400"/>
                    </a:cubicBezTo>
                    <a:close/>
                  </a:path>
                </a:pathLst>
              </a:custGeom>
              <a:solidFill>
                <a:srgbClr val="4a95b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851720" y="2576520"/>
                <a:ext cx="71280" cy="115920"/>
              </a:xfrm>
              <a:prstGeom prst="ellipse">
                <a:avLst/>
              </a:prstGeom>
              <a:solidFill>
                <a:srgbClr val="6daa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851720" y="25765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2000" h="800">
                    <a:moveTo>
                      <a:pt x="0" y="400"/>
                    </a:moveTo>
                    <a:cubicBezTo>
                      <a:pt x="0" y="621"/>
                      <a:pt x="112" y="800"/>
                      <a:pt x="250" y="800"/>
                    </a:cubicBezTo>
                    <a:lnTo>
                      <a:pt x="1750" y="800"/>
                    </a:lnTo>
                    <a:cubicBezTo>
                      <a:pt x="1889" y="800"/>
                      <a:pt x="2000" y="621"/>
                      <a:pt x="2000" y="400"/>
                    </a:cubicBezTo>
                    <a:cubicBezTo>
                      <a:pt x="2000" y="179"/>
                      <a:pt x="1889" y="0"/>
                      <a:pt x="1750" y="0"/>
                    </a:cubicBezTo>
                    <a:lnTo>
                      <a:pt x="250" y="0"/>
                    </a:lnTo>
                    <a:cubicBezTo>
                      <a:pt x="112" y="0"/>
                      <a:pt x="0" y="179"/>
                      <a:pt x="0" y="40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886280" y="2576520"/>
                <a:ext cx="36360" cy="115920"/>
              </a:xfrm>
              <a:custGeom>
                <a:avLst/>
                <a:gdLst/>
                <a:ahLst/>
                <a:rect l="l" t="t" r="r" b="b"/>
                <a:pathLst>
                  <a:path w="23" h="73">
                    <a:moveTo>
                      <a:pt x="0" y="73"/>
                    </a:moveTo>
                    <a:cubicBezTo>
                      <a:pt x="13" y="73"/>
                      <a:pt x="23" y="57"/>
                      <a:pt x="23" y="37"/>
                    </a:cubicBezTo>
                    <a:cubicBezTo>
                      <a:pt x="23" y="17"/>
                      <a:pt x="13" y="0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778640" y="263520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3276720" y="2346120"/>
              <a:ext cx="288720" cy="345960"/>
              <a:chOff x="3276720" y="2346120"/>
              <a:chExt cx="288720" cy="345960"/>
            </a:xfrm>
          </p:grpSpPr>
          <p:sp>
            <p:nvSpPr>
              <p:cNvPr id="733" name=""/>
              <p:cNvSpPr/>
              <p:nvPr/>
            </p:nvSpPr>
            <p:spPr>
              <a:xfrm>
                <a:off x="3276720" y="2346120"/>
                <a:ext cx="288720" cy="345960"/>
              </a:xfrm>
              <a:custGeom>
                <a:avLst/>
                <a:gdLst/>
                <a:ahLst/>
                <a:rect l="l" t="t" r="r" b="b"/>
                <a:pathLst>
                  <a:path w="182" h="218">
                    <a:moveTo>
                      <a:pt x="182" y="109"/>
                    </a:moveTo>
                    <a:lnTo>
                      <a:pt x="0" y="0"/>
                    </a:lnTo>
                    <a:lnTo>
                      <a:pt x="0" y="218"/>
                    </a:lnTo>
                    <a:lnTo>
                      <a:pt x="182" y="109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276720" y="2346120"/>
                <a:ext cx="288720" cy="345960"/>
              </a:xfrm>
              <a:custGeom>
                <a:avLst/>
                <a:gdLst/>
                <a:ahLst/>
                <a:rect l="l" t="t" r="r" b="b"/>
                <a:pathLst>
                  <a:path w="182" h="218">
                    <a:moveTo>
                      <a:pt x="182" y="109"/>
                    </a:moveTo>
                    <a:lnTo>
                      <a:pt x="0" y="0"/>
                    </a:lnTo>
                    <a:lnTo>
                      <a:pt x="0" y="218"/>
                    </a:lnTo>
                    <a:lnTo>
                      <a:pt x="182" y="109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3408480" y="2606760"/>
              <a:ext cx="56880" cy="58680"/>
              <a:chOff x="3408480" y="2606760"/>
              <a:chExt cx="56880" cy="58680"/>
            </a:xfrm>
          </p:grpSpPr>
          <p:sp>
            <p:nvSpPr>
              <p:cNvPr id="736" name=""/>
              <p:cNvSpPr/>
              <p:nvPr/>
            </p:nvSpPr>
            <p:spPr>
              <a:xfrm>
                <a:off x="3408480" y="2606760"/>
                <a:ext cx="56880" cy="586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408480" y="2606760"/>
                <a:ext cx="56880" cy="58680"/>
              </a:xfrm>
              <a:prstGeom prst="ellipse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5294520" y="2606760"/>
              <a:ext cx="58680" cy="58680"/>
              <a:chOff x="5294520" y="2606760"/>
              <a:chExt cx="58680" cy="58680"/>
            </a:xfrm>
          </p:grpSpPr>
          <p:sp>
            <p:nvSpPr>
              <p:cNvPr id="739" name=""/>
              <p:cNvSpPr/>
              <p:nvPr/>
            </p:nvSpPr>
            <p:spPr>
              <a:xfrm>
                <a:off x="5294520" y="2606760"/>
                <a:ext cx="58680" cy="586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294520" y="2606760"/>
                <a:ext cx="58680" cy="58680"/>
              </a:xfrm>
              <a:prstGeom prst="ellipse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1" name=""/>
          <p:cNvGrpSpPr/>
          <p:nvPr/>
        </p:nvGrpSpPr>
        <p:grpSpPr>
          <a:xfrm>
            <a:off x="2514600" y="1504800"/>
            <a:ext cx="466560" cy="376560"/>
            <a:chOff x="2514600" y="1504800"/>
            <a:chExt cx="466560" cy="376560"/>
          </a:xfrm>
        </p:grpSpPr>
        <p:sp>
          <p:nvSpPr>
            <p:cNvPr id="742" name=""/>
            <p:cNvSpPr/>
            <p:nvPr/>
          </p:nvSpPr>
          <p:spPr>
            <a:xfrm>
              <a:off x="2519280" y="1530360"/>
              <a:ext cx="55440" cy="320760"/>
            </a:xfrm>
            <a:custGeom>
              <a:avLst/>
              <a:gdLst/>
              <a:ahLst/>
              <a:rect l="l" t="t" r="r" b="b"/>
              <a:pathLst>
                <a:path w="35" h="202">
                  <a:moveTo>
                    <a:pt x="0" y="202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202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514600" y="1822320"/>
              <a:ext cx="466560" cy="59040"/>
            </a:xfrm>
            <a:custGeom>
              <a:avLst/>
              <a:gdLst/>
              <a:ahLst/>
              <a:rect l="l" t="t" r="r" b="b"/>
              <a:pathLst>
                <a:path w="6466" h="800">
                  <a:moveTo>
                    <a:pt x="66" y="333"/>
                  </a:moveTo>
                  <a:lnTo>
                    <a:pt x="5800" y="333"/>
                  </a:lnTo>
                  <a:cubicBezTo>
                    <a:pt x="5837" y="333"/>
                    <a:pt x="5866" y="363"/>
                    <a:pt x="5866" y="400"/>
                  </a:cubicBezTo>
                  <a:cubicBezTo>
                    <a:pt x="5866" y="437"/>
                    <a:pt x="5837" y="467"/>
                    <a:pt x="5800" y="467"/>
                  </a:cubicBezTo>
                  <a:lnTo>
                    <a:pt x="66" y="467"/>
                  </a:lnTo>
                  <a:cubicBezTo>
                    <a:pt x="30" y="467"/>
                    <a:pt x="0" y="437"/>
                    <a:pt x="0" y="400"/>
                  </a:cubicBezTo>
                  <a:cubicBezTo>
                    <a:pt x="0" y="363"/>
                    <a:pt x="30" y="333"/>
                    <a:pt x="66" y="333"/>
                  </a:cubicBezTo>
                  <a:close/>
                  <a:moveTo>
                    <a:pt x="5666" y="0"/>
                  </a:moveTo>
                  <a:lnTo>
                    <a:pt x="6466" y="400"/>
                  </a:lnTo>
                  <a:lnTo>
                    <a:pt x="5666" y="800"/>
                  </a:lnTo>
                  <a:lnTo>
                    <a:pt x="56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519280" y="1504800"/>
              <a:ext cx="0" cy="3463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19280" y="1530360"/>
              <a:ext cx="55440" cy="320760"/>
            </a:xfrm>
            <a:custGeom>
              <a:avLst/>
              <a:gdLst/>
              <a:ahLst/>
              <a:rect l="l" t="t" r="r" b="b"/>
              <a:pathLst>
                <a:path w="35" h="202">
                  <a:moveTo>
                    <a:pt x="0" y="202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202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14600" y="1822320"/>
              <a:ext cx="466560" cy="59040"/>
            </a:xfrm>
            <a:custGeom>
              <a:avLst/>
              <a:gdLst/>
              <a:ahLst/>
              <a:rect l="l" t="t" r="r" b="b"/>
              <a:pathLst>
                <a:path w="6466" h="800">
                  <a:moveTo>
                    <a:pt x="66" y="333"/>
                  </a:moveTo>
                  <a:lnTo>
                    <a:pt x="5800" y="333"/>
                  </a:lnTo>
                  <a:cubicBezTo>
                    <a:pt x="5837" y="333"/>
                    <a:pt x="5866" y="363"/>
                    <a:pt x="5866" y="400"/>
                  </a:cubicBezTo>
                  <a:cubicBezTo>
                    <a:pt x="5866" y="437"/>
                    <a:pt x="5837" y="467"/>
                    <a:pt x="5800" y="467"/>
                  </a:cubicBezTo>
                  <a:lnTo>
                    <a:pt x="66" y="467"/>
                  </a:lnTo>
                  <a:cubicBezTo>
                    <a:pt x="30" y="467"/>
                    <a:pt x="0" y="437"/>
                    <a:pt x="0" y="400"/>
                  </a:cubicBezTo>
                  <a:cubicBezTo>
                    <a:pt x="0" y="363"/>
                    <a:pt x="30" y="333"/>
                    <a:pt x="66" y="333"/>
                  </a:cubicBezTo>
                  <a:close/>
                  <a:moveTo>
                    <a:pt x="5666" y="0"/>
                  </a:moveTo>
                  <a:lnTo>
                    <a:pt x="6466" y="400"/>
                  </a:lnTo>
                  <a:lnTo>
                    <a:pt x="5666" y="800"/>
                  </a:lnTo>
                  <a:lnTo>
                    <a:pt x="56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519280" y="1504800"/>
              <a:ext cx="0" cy="3463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5867280" y="1447560"/>
            <a:ext cx="757440" cy="433800"/>
            <a:chOff x="5867280" y="1447560"/>
            <a:chExt cx="757440" cy="433800"/>
          </a:xfrm>
        </p:grpSpPr>
        <p:grpSp>
          <p:nvGrpSpPr>
            <p:cNvPr id="749" name=""/>
            <p:cNvGrpSpPr/>
            <p:nvPr/>
          </p:nvGrpSpPr>
          <p:grpSpPr>
            <a:xfrm>
              <a:off x="5867280" y="1447560"/>
              <a:ext cx="757080" cy="433800"/>
              <a:chOff x="5867280" y="1447560"/>
              <a:chExt cx="757080" cy="433800"/>
            </a:xfrm>
          </p:grpSpPr>
          <p:sp>
            <p:nvSpPr>
              <p:cNvPr id="750" name=""/>
              <p:cNvSpPr/>
              <p:nvPr/>
            </p:nvSpPr>
            <p:spPr>
              <a:xfrm>
                <a:off x="5867280" y="1765440"/>
                <a:ext cx="757080" cy="58680"/>
              </a:xfrm>
              <a:custGeom>
                <a:avLst/>
                <a:gdLst/>
                <a:ahLst/>
                <a:rect l="l" t="t" r="r" b="b"/>
                <a:pathLst>
                  <a:path w="5233" h="400">
                    <a:moveTo>
                      <a:pt x="33" y="166"/>
                    </a:moveTo>
                    <a:lnTo>
                      <a:pt x="4900" y="166"/>
                    </a:lnTo>
                    <a:cubicBezTo>
                      <a:pt x="4919" y="166"/>
                      <a:pt x="4933" y="181"/>
                      <a:pt x="4933" y="200"/>
                    </a:cubicBezTo>
                    <a:cubicBezTo>
                      <a:pt x="4933" y="218"/>
                      <a:pt x="4919" y="233"/>
                      <a:pt x="4900" y="233"/>
                    </a:cubicBezTo>
                    <a:lnTo>
                      <a:pt x="33" y="233"/>
                    </a:lnTo>
                    <a:cubicBezTo>
                      <a:pt x="15" y="233"/>
                      <a:pt x="0" y="218"/>
                      <a:pt x="0" y="200"/>
                    </a:cubicBezTo>
                    <a:cubicBezTo>
                      <a:pt x="0" y="181"/>
                      <a:pt x="15" y="166"/>
                      <a:pt x="33" y="166"/>
                    </a:cubicBezTo>
                    <a:close/>
                    <a:moveTo>
                      <a:pt x="4833" y="0"/>
                    </a:moveTo>
                    <a:lnTo>
                      <a:pt x="5233" y="200"/>
                    </a:lnTo>
                    <a:lnTo>
                      <a:pt x="4833" y="400"/>
                    </a:lnTo>
                    <a:lnTo>
                      <a:pt x="48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5871960" y="1447560"/>
                <a:ext cx="0" cy="3459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71960" y="1582920"/>
                <a:ext cx="636480" cy="29844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0" y="133"/>
                    </a:moveTo>
                    <a:cubicBezTo>
                      <a:pt x="9" y="88"/>
                      <a:pt x="19" y="42"/>
                      <a:pt x="37" y="24"/>
                    </a:cubicBezTo>
                    <a:cubicBezTo>
                      <a:pt x="55" y="6"/>
                      <a:pt x="91" y="0"/>
                      <a:pt x="110" y="24"/>
                    </a:cubicBezTo>
                    <a:cubicBezTo>
                      <a:pt x="128" y="48"/>
                      <a:pt x="128" y="152"/>
                      <a:pt x="146" y="170"/>
                    </a:cubicBezTo>
                    <a:cubicBezTo>
                      <a:pt x="164" y="188"/>
                      <a:pt x="195" y="146"/>
                      <a:pt x="219" y="133"/>
                    </a:cubicBezTo>
                    <a:cubicBezTo>
                      <a:pt x="243" y="121"/>
                      <a:pt x="267" y="97"/>
                      <a:pt x="292" y="97"/>
                    </a:cubicBezTo>
                    <a:cubicBezTo>
                      <a:pt x="316" y="97"/>
                      <a:pt x="346" y="127"/>
                      <a:pt x="364" y="133"/>
                    </a:cubicBezTo>
                    <a:cubicBezTo>
                      <a:pt x="383" y="139"/>
                      <a:pt x="392" y="136"/>
                      <a:pt x="401" y="133"/>
                    </a:cubicBezTo>
                  </a:path>
                </a:pathLst>
              </a:custGeom>
              <a:noFill/>
              <a:ln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5867280" y="1765440"/>
              <a:ext cx="757440" cy="59040"/>
            </a:xfrm>
            <a:custGeom>
              <a:avLst/>
              <a:gdLst/>
              <a:ahLst/>
              <a:rect l="l" t="t" r="r" b="b"/>
              <a:pathLst>
                <a:path w="5233" h="400">
                  <a:moveTo>
                    <a:pt x="33" y="166"/>
                  </a:moveTo>
                  <a:lnTo>
                    <a:pt x="4900" y="166"/>
                  </a:lnTo>
                  <a:cubicBezTo>
                    <a:pt x="4919" y="166"/>
                    <a:pt x="4933" y="181"/>
                    <a:pt x="4933" y="200"/>
                  </a:cubicBezTo>
                  <a:cubicBezTo>
                    <a:pt x="4933" y="218"/>
                    <a:pt x="4919" y="233"/>
                    <a:pt x="4900" y="233"/>
                  </a:cubicBezTo>
                  <a:lnTo>
                    <a:pt x="33" y="233"/>
                  </a:lnTo>
                  <a:cubicBezTo>
                    <a:pt x="15" y="233"/>
                    <a:pt x="0" y="218"/>
                    <a:pt x="0" y="200"/>
                  </a:cubicBezTo>
                  <a:cubicBezTo>
                    <a:pt x="0" y="181"/>
                    <a:pt x="15" y="166"/>
                    <a:pt x="33" y="166"/>
                  </a:cubicBezTo>
                  <a:close/>
                  <a:moveTo>
                    <a:pt x="4833" y="0"/>
                  </a:moveTo>
                  <a:lnTo>
                    <a:pt x="5233" y="200"/>
                  </a:lnTo>
                  <a:lnTo>
                    <a:pt x="4833" y="400"/>
                  </a:lnTo>
                  <a:lnTo>
                    <a:pt x="48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5871960" y="1447920"/>
              <a:ext cx="0" cy="3463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71960" y="1582920"/>
              <a:ext cx="636840" cy="298440"/>
            </a:xfrm>
            <a:custGeom>
              <a:avLst/>
              <a:gdLst/>
              <a:ahLst/>
              <a:rect l="l" t="t" r="r" b="b"/>
              <a:pathLst>
                <a:path w="401" h="188">
                  <a:moveTo>
                    <a:pt x="0" y="133"/>
                  </a:moveTo>
                  <a:cubicBezTo>
                    <a:pt x="9" y="88"/>
                    <a:pt x="19" y="42"/>
                    <a:pt x="37" y="24"/>
                  </a:cubicBezTo>
                  <a:cubicBezTo>
                    <a:pt x="55" y="6"/>
                    <a:pt x="91" y="0"/>
                    <a:pt x="110" y="24"/>
                  </a:cubicBezTo>
                  <a:cubicBezTo>
                    <a:pt x="128" y="48"/>
                    <a:pt x="128" y="152"/>
                    <a:pt x="146" y="170"/>
                  </a:cubicBezTo>
                  <a:cubicBezTo>
                    <a:pt x="164" y="188"/>
                    <a:pt x="195" y="146"/>
                    <a:pt x="219" y="133"/>
                  </a:cubicBezTo>
                  <a:cubicBezTo>
                    <a:pt x="243" y="121"/>
                    <a:pt x="267" y="97"/>
                    <a:pt x="292" y="97"/>
                  </a:cubicBezTo>
                  <a:cubicBezTo>
                    <a:pt x="316" y="97"/>
                    <a:pt x="346" y="127"/>
                    <a:pt x="364" y="133"/>
                  </a:cubicBezTo>
                  <a:cubicBezTo>
                    <a:pt x="383" y="139"/>
                    <a:pt x="392" y="136"/>
                    <a:pt x="401" y="133"/>
                  </a:cubicBez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867280" y="1765440"/>
              <a:ext cx="757440" cy="59040"/>
            </a:xfrm>
            <a:custGeom>
              <a:avLst/>
              <a:gdLst/>
              <a:ahLst/>
              <a:rect l="l" t="t" r="r" b="b"/>
              <a:pathLst>
                <a:path w="5233" h="400">
                  <a:moveTo>
                    <a:pt x="33" y="166"/>
                  </a:moveTo>
                  <a:lnTo>
                    <a:pt x="4900" y="166"/>
                  </a:lnTo>
                  <a:cubicBezTo>
                    <a:pt x="4919" y="166"/>
                    <a:pt x="4933" y="181"/>
                    <a:pt x="4933" y="200"/>
                  </a:cubicBezTo>
                  <a:cubicBezTo>
                    <a:pt x="4933" y="218"/>
                    <a:pt x="4919" y="233"/>
                    <a:pt x="4900" y="233"/>
                  </a:cubicBezTo>
                  <a:lnTo>
                    <a:pt x="33" y="233"/>
                  </a:lnTo>
                  <a:cubicBezTo>
                    <a:pt x="15" y="233"/>
                    <a:pt x="0" y="218"/>
                    <a:pt x="0" y="200"/>
                  </a:cubicBezTo>
                  <a:cubicBezTo>
                    <a:pt x="0" y="181"/>
                    <a:pt x="15" y="166"/>
                    <a:pt x="33" y="166"/>
                  </a:cubicBezTo>
                  <a:close/>
                  <a:moveTo>
                    <a:pt x="4833" y="0"/>
                  </a:moveTo>
                  <a:lnTo>
                    <a:pt x="5233" y="200"/>
                  </a:lnTo>
                  <a:lnTo>
                    <a:pt x="4833" y="400"/>
                  </a:lnTo>
                  <a:lnTo>
                    <a:pt x="48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5871960" y="1447920"/>
              <a:ext cx="0" cy="3463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871960" y="1582920"/>
              <a:ext cx="636840" cy="298440"/>
            </a:xfrm>
            <a:custGeom>
              <a:avLst/>
              <a:gdLst/>
              <a:ahLst/>
              <a:rect l="l" t="t" r="r" b="b"/>
              <a:pathLst>
                <a:path w="401" h="188">
                  <a:moveTo>
                    <a:pt x="0" y="133"/>
                  </a:moveTo>
                  <a:cubicBezTo>
                    <a:pt x="9" y="88"/>
                    <a:pt x="19" y="42"/>
                    <a:pt x="37" y="24"/>
                  </a:cubicBezTo>
                  <a:cubicBezTo>
                    <a:pt x="55" y="6"/>
                    <a:pt x="91" y="0"/>
                    <a:pt x="110" y="24"/>
                  </a:cubicBezTo>
                  <a:cubicBezTo>
                    <a:pt x="128" y="48"/>
                    <a:pt x="128" y="152"/>
                    <a:pt x="146" y="170"/>
                  </a:cubicBezTo>
                  <a:cubicBezTo>
                    <a:pt x="164" y="188"/>
                    <a:pt x="195" y="146"/>
                    <a:pt x="219" y="133"/>
                  </a:cubicBezTo>
                  <a:cubicBezTo>
                    <a:pt x="243" y="121"/>
                    <a:pt x="267" y="97"/>
                    <a:pt x="292" y="97"/>
                  </a:cubicBezTo>
                  <a:cubicBezTo>
                    <a:pt x="316" y="97"/>
                    <a:pt x="346" y="127"/>
                    <a:pt x="364" y="133"/>
                  </a:cubicBezTo>
                  <a:cubicBezTo>
                    <a:pt x="383" y="139"/>
                    <a:pt x="392" y="136"/>
                    <a:pt x="401" y="133"/>
                  </a:cubicBez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"/>
          <p:cNvSpPr/>
          <p:nvPr/>
        </p:nvSpPr>
        <p:spPr>
          <a:xfrm rot="2523000">
            <a:off x="3048120" y="1981080"/>
            <a:ext cx="609480" cy="152640"/>
          </a:xfrm>
          <a:custGeom>
            <a:avLst/>
            <a:gdLst/>
            <a:ahLst/>
            <a:rect l="l" t="t" r="r" b="b"/>
            <a:pathLst>
              <a:path w="546" h="82">
                <a:moveTo>
                  <a:pt x="0" y="28"/>
                </a:moveTo>
                <a:lnTo>
                  <a:pt x="28" y="28"/>
                </a:lnTo>
                <a:lnTo>
                  <a:pt x="28" y="55"/>
                </a:lnTo>
                <a:lnTo>
                  <a:pt x="0" y="55"/>
                </a:lnTo>
                <a:lnTo>
                  <a:pt x="0" y="28"/>
                </a:lnTo>
                <a:close/>
                <a:moveTo>
                  <a:pt x="55" y="28"/>
                </a:moveTo>
                <a:lnTo>
                  <a:pt x="82" y="28"/>
                </a:lnTo>
                <a:lnTo>
                  <a:pt x="82" y="55"/>
                </a:lnTo>
                <a:lnTo>
                  <a:pt x="55" y="55"/>
                </a:lnTo>
                <a:lnTo>
                  <a:pt x="55" y="28"/>
                </a:lnTo>
                <a:close/>
                <a:moveTo>
                  <a:pt x="109" y="28"/>
                </a:moveTo>
                <a:lnTo>
                  <a:pt x="137" y="28"/>
                </a:lnTo>
                <a:lnTo>
                  <a:pt x="137" y="55"/>
                </a:lnTo>
                <a:lnTo>
                  <a:pt x="109" y="55"/>
                </a:lnTo>
                <a:lnTo>
                  <a:pt x="109" y="28"/>
                </a:lnTo>
                <a:close/>
                <a:moveTo>
                  <a:pt x="164" y="28"/>
                </a:moveTo>
                <a:lnTo>
                  <a:pt x="191" y="28"/>
                </a:lnTo>
                <a:lnTo>
                  <a:pt x="191" y="55"/>
                </a:lnTo>
                <a:lnTo>
                  <a:pt x="164" y="55"/>
                </a:lnTo>
                <a:lnTo>
                  <a:pt x="164" y="28"/>
                </a:lnTo>
                <a:close/>
                <a:moveTo>
                  <a:pt x="219" y="28"/>
                </a:moveTo>
                <a:lnTo>
                  <a:pt x="246" y="28"/>
                </a:lnTo>
                <a:lnTo>
                  <a:pt x="246" y="55"/>
                </a:lnTo>
                <a:lnTo>
                  <a:pt x="219" y="55"/>
                </a:lnTo>
                <a:lnTo>
                  <a:pt x="219" y="28"/>
                </a:lnTo>
                <a:close/>
                <a:moveTo>
                  <a:pt x="273" y="28"/>
                </a:moveTo>
                <a:lnTo>
                  <a:pt x="301" y="28"/>
                </a:lnTo>
                <a:lnTo>
                  <a:pt x="301" y="55"/>
                </a:lnTo>
                <a:lnTo>
                  <a:pt x="273" y="55"/>
                </a:lnTo>
                <a:lnTo>
                  <a:pt x="273" y="28"/>
                </a:lnTo>
                <a:close/>
                <a:moveTo>
                  <a:pt x="328" y="28"/>
                </a:moveTo>
                <a:lnTo>
                  <a:pt x="355" y="28"/>
                </a:lnTo>
                <a:lnTo>
                  <a:pt x="355" y="55"/>
                </a:lnTo>
                <a:lnTo>
                  <a:pt x="328" y="55"/>
                </a:lnTo>
                <a:lnTo>
                  <a:pt x="328" y="28"/>
                </a:lnTo>
                <a:close/>
                <a:moveTo>
                  <a:pt x="382" y="28"/>
                </a:moveTo>
                <a:lnTo>
                  <a:pt x="410" y="28"/>
                </a:lnTo>
                <a:lnTo>
                  <a:pt x="410" y="55"/>
                </a:lnTo>
                <a:lnTo>
                  <a:pt x="382" y="55"/>
                </a:lnTo>
                <a:lnTo>
                  <a:pt x="382" y="28"/>
                </a:lnTo>
                <a:close/>
                <a:moveTo>
                  <a:pt x="437" y="28"/>
                </a:moveTo>
                <a:lnTo>
                  <a:pt x="464" y="28"/>
                </a:lnTo>
                <a:lnTo>
                  <a:pt x="464" y="55"/>
                </a:lnTo>
                <a:lnTo>
                  <a:pt x="437" y="55"/>
                </a:lnTo>
                <a:lnTo>
                  <a:pt x="437" y="28"/>
                </a:lnTo>
                <a:close/>
                <a:moveTo>
                  <a:pt x="464" y="0"/>
                </a:moveTo>
                <a:lnTo>
                  <a:pt x="546" y="41"/>
                </a:lnTo>
                <a:lnTo>
                  <a:pt x="464" y="82"/>
                </a:lnTo>
                <a:lnTo>
                  <a:pt x="464" y="0"/>
                </a:lnTo>
                <a:close/>
              </a:path>
            </a:pathLst>
          </a:custGeom>
          <a:solidFill>
            <a:srgbClr val="0099ff"/>
          </a:solidFill>
          <a:ln w="0">
            <a:solidFill>
              <a:srgbClr val="0099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 rot="19077000">
            <a:off x="5181480" y="1980000"/>
            <a:ext cx="609840" cy="152280"/>
          </a:xfrm>
          <a:custGeom>
            <a:avLst/>
            <a:gdLst/>
            <a:ahLst/>
            <a:rect l="l" t="t" r="r" b="b"/>
            <a:pathLst>
              <a:path w="546" h="82">
                <a:moveTo>
                  <a:pt x="0" y="28"/>
                </a:moveTo>
                <a:lnTo>
                  <a:pt x="28" y="28"/>
                </a:lnTo>
                <a:lnTo>
                  <a:pt x="28" y="55"/>
                </a:lnTo>
                <a:lnTo>
                  <a:pt x="0" y="55"/>
                </a:lnTo>
                <a:lnTo>
                  <a:pt x="0" y="28"/>
                </a:lnTo>
                <a:close/>
                <a:moveTo>
                  <a:pt x="55" y="28"/>
                </a:moveTo>
                <a:lnTo>
                  <a:pt x="82" y="28"/>
                </a:lnTo>
                <a:lnTo>
                  <a:pt x="82" y="55"/>
                </a:lnTo>
                <a:lnTo>
                  <a:pt x="55" y="55"/>
                </a:lnTo>
                <a:lnTo>
                  <a:pt x="55" y="28"/>
                </a:lnTo>
                <a:close/>
                <a:moveTo>
                  <a:pt x="109" y="28"/>
                </a:moveTo>
                <a:lnTo>
                  <a:pt x="137" y="28"/>
                </a:lnTo>
                <a:lnTo>
                  <a:pt x="137" y="55"/>
                </a:lnTo>
                <a:lnTo>
                  <a:pt x="109" y="55"/>
                </a:lnTo>
                <a:lnTo>
                  <a:pt x="109" y="28"/>
                </a:lnTo>
                <a:close/>
                <a:moveTo>
                  <a:pt x="164" y="28"/>
                </a:moveTo>
                <a:lnTo>
                  <a:pt x="191" y="28"/>
                </a:lnTo>
                <a:lnTo>
                  <a:pt x="191" y="55"/>
                </a:lnTo>
                <a:lnTo>
                  <a:pt x="164" y="55"/>
                </a:lnTo>
                <a:lnTo>
                  <a:pt x="164" y="28"/>
                </a:lnTo>
                <a:close/>
                <a:moveTo>
                  <a:pt x="219" y="28"/>
                </a:moveTo>
                <a:lnTo>
                  <a:pt x="246" y="28"/>
                </a:lnTo>
                <a:lnTo>
                  <a:pt x="246" y="55"/>
                </a:lnTo>
                <a:lnTo>
                  <a:pt x="219" y="55"/>
                </a:lnTo>
                <a:lnTo>
                  <a:pt x="219" y="28"/>
                </a:lnTo>
                <a:close/>
                <a:moveTo>
                  <a:pt x="273" y="28"/>
                </a:moveTo>
                <a:lnTo>
                  <a:pt x="301" y="28"/>
                </a:lnTo>
                <a:lnTo>
                  <a:pt x="301" y="55"/>
                </a:lnTo>
                <a:lnTo>
                  <a:pt x="273" y="55"/>
                </a:lnTo>
                <a:lnTo>
                  <a:pt x="273" y="28"/>
                </a:lnTo>
                <a:close/>
                <a:moveTo>
                  <a:pt x="328" y="28"/>
                </a:moveTo>
                <a:lnTo>
                  <a:pt x="355" y="28"/>
                </a:lnTo>
                <a:lnTo>
                  <a:pt x="355" y="55"/>
                </a:lnTo>
                <a:lnTo>
                  <a:pt x="328" y="55"/>
                </a:lnTo>
                <a:lnTo>
                  <a:pt x="328" y="28"/>
                </a:lnTo>
                <a:close/>
                <a:moveTo>
                  <a:pt x="382" y="28"/>
                </a:moveTo>
                <a:lnTo>
                  <a:pt x="410" y="28"/>
                </a:lnTo>
                <a:lnTo>
                  <a:pt x="410" y="55"/>
                </a:lnTo>
                <a:lnTo>
                  <a:pt x="382" y="55"/>
                </a:lnTo>
                <a:lnTo>
                  <a:pt x="382" y="28"/>
                </a:lnTo>
                <a:close/>
                <a:moveTo>
                  <a:pt x="437" y="28"/>
                </a:moveTo>
                <a:lnTo>
                  <a:pt x="464" y="28"/>
                </a:lnTo>
                <a:lnTo>
                  <a:pt x="464" y="55"/>
                </a:lnTo>
                <a:lnTo>
                  <a:pt x="437" y="55"/>
                </a:lnTo>
                <a:lnTo>
                  <a:pt x="437" y="28"/>
                </a:lnTo>
                <a:close/>
                <a:moveTo>
                  <a:pt x="464" y="0"/>
                </a:moveTo>
                <a:lnTo>
                  <a:pt x="546" y="41"/>
                </a:lnTo>
                <a:lnTo>
                  <a:pt x="464" y="82"/>
                </a:lnTo>
                <a:lnTo>
                  <a:pt x="464" y="0"/>
                </a:lnTo>
                <a:close/>
              </a:path>
            </a:pathLst>
          </a:custGeom>
          <a:solidFill>
            <a:srgbClr val="0099ff"/>
          </a:solidFill>
          <a:ln w="0">
            <a:solidFill>
              <a:srgbClr val="0099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76BA-D0CD-487A-88F5-491973DC19E5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mmunications Analysi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14400" y="3504960"/>
            <a:ext cx="77724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Uses circuit characterization data to predict link behavior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any methods exist – fundamental concepts are similar, but implementation details vary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mmercial numerical computation tool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llaboration efforts (StatEye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n-house SerDes vendor solution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mmercial systems-level analysis tool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057400" y="2364840"/>
            <a:ext cx="757080" cy="433800"/>
            <a:chOff x="2057400" y="2364840"/>
            <a:chExt cx="757080" cy="433800"/>
          </a:xfrm>
        </p:grpSpPr>
        <p:grpSp>
          <p:nvGrpSpPr>
            <p:cNvPr id="764" name=""/>
            <p:cNvGrpSpPr/>
            <p:nvPr/>
          </p:nvGrpSpPr>
          <p:grpSpPr>
            <a:xfrm>
              <a:off x="2057400" y="2364840"/>
              <a:ext cx="757080" cy="433800"/>
              <a:chOff x="2057400" y="2364840"/>
              <a:chExt cx="757080" cy="433800"/>
            </a:xfrm>
          </p:grpSpPr>
          <p:sp>
            <p:nvSpPr>
              <p:cNvPr id="765" name=""/>
              <p:cNvSpPr/>
              <p:nvPr/>
            </p:nvSpPr>
            <p:spPr>
              <a:xfrm>
                <a:off x="2057400" y="2682720"/>
                <a:ext cx="757080" cy="58680"/>
              </a:xfrm>
              <a:custGeom>
                <a:avLst/>
                <a:gdLst/>
                <a:ahLst/>
                <a:rect l="l" t="t" r="r" b="b"/>
                <a:pathLst>
                  <a:path w="5233" h="400">
                    <a:moveTo>
                      <a:pt x="33" y="166"/>
                    </a:moveTo>
                    <a:lnTo>
                      <a:pt x="4900" y="166"/>
                    </a:lnTo>
                    <a:cubicBezTo>
                      <a:pt x="4919" y="166"/>
                      <a:pt x="4933" y="181"/>
                      <a:pt x="4933" y="200"/>
                    </a:cubicBezTo>
                    <a:cubicBezTo>
                      <a:pt x="4933" y="218"/>
                      <a:pt x="4919" y="233"/>
                      <a:pt x="4900" y="233"/>
                    </a:cubicBezTo>
                    <a:lnTo>
                      <a:pt x="33" y="233"/>
                    </a:lnTo>
                    <a:cubicBezTo>
                      <a:pt x="15" y="233"/>
                      <a:pt x="0" y="218"/>
                      <a:pt x="0" y="200"/>
                    </a:cubicBezTo>
                    <a:cubicBezTo>
                      <a:pt x="0" y="181"/>
                      <a:pt x="15" y="166"/>
                      <a:pt x="33" y="166"/>
                    </a:cubicBezTo>
                    <a:close/>
                    <a:moveTo>
                      <a:pt x="4833" y="0"/>
                    </a:moveTo>
                    <a:lnTo>
                      <a:pt x="5233" y="200"/>
                    </a:lnTo>
                    <a:lnTo>
                      <a:pt x="4833" y="400"/>
                    </a:lnTo>
                    <a:lnTo>
                      <a:pt x="48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2062080" y="2364840"/>
                <a:ext cx="0" cy="3459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62080" y="2500200"/>
                <a:ext cx="636480" cy="29844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0" y="133"/>
                    </a:moveTo>
                    <a:cubicBezTo>
                      <a:pt x="9" y="88"/>
                      <a:pt x="19" y="42"/>
                      <a:pt x="37" y="24"/>
                    </a:cubicBezTo>
                    <a:cubicBezTo>
                      <a:pt x="55" y="6"/>
                      <a:pt x="91" y="0"/>
                      <a:pt x="110" y="24"/>
                    </a:cubicBezTo>
                    <a:cubicBezTo>
                      <a:pt x="128" y="48"/>
                      <a:pt x="128" y="152"/>
                      <a:pt x="146" y="170"/>
                    </a:cubicBezTo>
                    <a:cubicBezTo>
                      <a:pt x="164" y="188"/>
                      <a:pt x="195" y="146"/>
                      <a:pt x="219" y="133"/>
                    </a:cubicBezTo>
                    <a:cubicBezTo>
                      <a:pt x="243" y="121"/>
                      <a:pt x="267" y="97"/>
                      <a:pt x="292" y="97"/>
                    </a:cubicBezTo>
                    <a:cubicBezTo>
                      <a:pt x="316" y="97"/>
                      <a:pt x="346" y="127"/>
                      <a:pt x="364" y="133"/>
                    </a:cubicBezTo>
                    <a:cubicBezTo>
                      <a:pt x="383" y="139"/>
                      <a:pt x="392" y="136"/>
                      <a:pt x="401" y="133"/>
                    </a:cubicBezTo>
                  </a:path>
                </a:pathLst>
              </a:custGeom>
              <a:noFill/>
              <a:ln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2057400" y="2682720"/>
              <a:ext cx="757080" cy="59040"/>
            </a:xfrm>
            <a:custGeom>
              <a:avLst/>
              <a:gdLst/>
              <a:ahLst/>
              <a:rect l="l" t="t" r="r" b="b"/>
              <a:pathLst>
                <a:path w="5233" h="400">
                  <a:moveTo>
                    <a:pt x="33" y="166"/>
                  </a:moveTo>
                  <a:lnTo>
                    <a:pt x="4900" y="166"/>
                  </a:lnTo>
                  <a:cubicBezTo>
                    <a:pt x="4919" y="166"/>
                    <a:pt x="4933" y="181"/>
                    <a:pt x="4933" y="200"/>
                  </a:cubicBezTo>
                  <a:cubicBezTo>
                    <a:pt x="4933" y="218"/>
                    <a:pt x="4919" y="233"/>
                    <a:pt x="4900" y="233"/>
                  </a:cubicBezTo>
                  <a:lnTo>
                    <a:pt x="33" y="233"/>
                  </a:lnTo>
                  <a:cubicBezTo>
                    <a:pt x="15" y="233"/>
                    <a:pt x="0" y="218"/>
                    <a:pt x="0" y="200"/>
                  </a:cubicBezTo>
                  <a:cubicBezTo>
                    <a:pt x="0" y="181"/>
                    <a:pt x="15" y="166"/>
                    <a:pt x="33" y="166"/>
                  </a:cubicBezTo>
                  <a:close/>
                  <a:moveTo>
                    <a:pt x="4833" y="0"/>
                  </a:moveTo>
                  <a:lnTo>
                    <a:pt x="5233" y="200"/>
                  </a:lnTo>
                  <a:lnTo>
                    <a:pt x="4833" y="400"/>
                  </a:lnTo>
                  <a:lnTo>
                    <a:pt x="48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061720" y="2365200"/>
              <a:ext cx="0" cy="3463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061720" y="2500200"/>
              <a:ext cx="636480" cy="298440"/>
            </a:xfrm>
            <a:custGeom>
              <a:avLst/>
              <a:gdLst/>
              <a:ahLst/>
              <a:rect l="l" t="t" r="r" b="b"/>
              <a:pathLst>
                <a:path w="401" h="188">
                  <a:moveTo>
                    <a:pt x="0" y="133"/>
                  </a:moveTo>
                  <a:cubicBezTo>
                    <a:pt x="9" y="88"/>
                    <a:pt x="19" y="42"/>
                    <a:pt x="37" y="24"/>
                  </a:cubicBezTo>
                  <a:cubicBezTo>
                    <a:pt x="55" y="6"/>
                    <a:pt x="91" y="0"/>
                    <a:pt x="110" y="24"/>
                  </a:cubicBezTo>
                  <a:cubicBezTo>
                    <a:pt x="128" y="48"/>
                    <a:pt x="128" y="152"/>
                    <a:pt x="146" y="170"/>
                  </a:cubicBezTo>
                  <a:cubicBezTo>
                    <a:pt x="164" y="188"/>
                    <a:pt x="195" y="146"/>
                    <a:pt x="219" y="133"/>
                  </a:cubicBezTo>
                  <a:cubicBezTo>
                    <a:pt x="243" y="121"/>
                    <a:pt x="267" y="97"/>
                    <a:pt x="292" y="97"/>
                  </a:cubicBezTo>
                  <a:cubicBezTo>
                    <a:pt x="316" y="97"/>
                    <a:pt x="346" y="127"/>
                    <a:pt x="364" y="133"/>
                  </a:cubicBezTo>
                  <a:cubicBezTo>
                    <a:pt x="383" y="139"/>
                    <a:pt x="392" y="136"/>
                    <a:pt x="401" y="133"/>
                  </a:cubicBez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057400" y="2682720"/>
              <a:ext cx="757080" cy="59040"/>
            </a:xfrm>
            <a:custGeom>
              <a:avLst/>
              <a:gdLst/>
              <a:ahLst/>
              <a:rect l="l" t="t" r="r" b="b"/>
              <a:pathLst>
                <a:path w="5233" h="400">
                  <a:moveTo>
                    <a:pt x="33" y="166"/>
                  </a:moveTo>
                  <a:lnTo>
                    <a:pt x="4900" y="166"/>
                  </a:lnTo>
                  <a:cubicBezTo>
                    <a:pt x="4919" y="166"/>
                    <a:pt x="4933" y="181"/>
                    <a:pt x="4933" y="200"/>
                  </a:cubicBezTo>
                  <a:cubicBezTo>
                    <a:pt x="4933" y="218"/>
                    <a:pt x="4919" y="233"/>
                    <a:pt x="4900" y="233"/>
                  </a:cubicBezTo>
                  <a:lnTo>
                    <a:pt x="33" y="233"/>
                  </a:lnTo>
                  <a:cubicBezTo>
                    <a:pt x="15" y="233"/>
                    <a:pt x="0" y="218"/>
                    <a:pt x="0" y="200"/>
                  </a:cubicBezTo>
                  <a:cubicBezTo>
                    <a:pt x="0" y="181"/>
                    <a:pt x="15" y="166"/>
                    <a:pt x="33" y="166"/>
                  </a:cubicBezTo>
                  <a:close/>
                  <a:moveTo>
                    <a:pt x="4833" y="0"/>
                  </a:moveTo>
                  <a:lnTo>
                    <a:pt x="5233" y="200"/>
                  </a:lnTo>
                  <a:lnTo>
                    <a:pt x="4833" y="400"/>
                  </a:lnTo>
                  <a:lnTo>
                    <a:pt x="48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2061720" y="2365200"/>
              <a:ext cx="0" cy="3463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061720" y="2500200"/>
              <a:ext cx="636480" cy="298440"/>
            </a:xfrm>
            <a:custGeom>
              <a:avLst/>
              <a:gdLst/>
              <a:ahLst/>
              <a:rect l="l" t="t" r="r" b="b"/>
              <a:pathLst>
                <a:path w="401" h="188">
                  <a:moveTo>
                    <a:pt x="0" y="133"/>
                  </a:moveTo>
                  <a:cubicBezTo>
                    <a:pt x="9" y="88"/>
                    <a:pt x="19" y="42"/>
                    <a:pt x="37" y="24"/>
                  </a:cubicBezTo>
                  <a:cubicBezTo>
                    <a:pt x="55" y="6"/>
                    <a:pt x="91" y="0"/>
                    <a:pt x="110" y="24"/>
                  </a:cubicBezTo>
                  <a:cubicBezTo>
                    <a:pt x="128" y="48"/>
                    <a:pt x="128" y="152"/>
                    <a:pt x="146" y="170"/>
                  </a:cubicBezTo>
                  <a:cubicBezTo>
                    <a:pt x="164" y="188"/>
                    <a:pt x="195" y="146"/>
                    <a:pt x="219" y="133"/>
                  </a:cubicBezTo>
                  <a:cubicBezTo>
                    <a:pt x="243" y="121"/>
                    <a:pt x="267" y="97"/>
                    <a:pt x="292" y="97"/>
                  </a:cubicBezTo>
                  <a:cubicBezTo>
                    <a:pt x="316" y="97"/>
                    <a:pt x="346" y="127"/>
                    <a:pt x="364" y="133"/>
                  </a:cubicBezTo>
                  <a:cubicBezTo>
                    <a:pt x="383" y="139"/>
                    <a:pt x="392" y="136"/>
                    <a:pt x="401" y="133"/>
                  </a:cubicBez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3888720" y="2124000"/>
            <a:ext cx="10296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282480" y="1371600"/>
            <a:ext cx="8679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578120" y="1371600"/>
            <a:ext cx="8924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038480" y="1828800"/>
            <a:ext cx="1526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4571640" y="1828800"/>
            <a:ext cx="1522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6019200" y="2154240"/>
            <a:ext cx="1469880" cy="859680"/>
            <a:chOff x="6019200" y="2154240"/>
            <a:chExt cx="1469880" cy="859680"/>
          </a:xfrm>
        </p:grpSpPr>
        <p:sp>
          <p:nvSpPr>
            <p:cNvPr id="780" name=""/>
            <p:cNvSpPr/>
            <p:nvPr/>
          </p:nvSpPr>
          <p:spPr>
            <a:xfrm>
              <a:off x="6019200" y="2706840"/>
              <a:ext cx="146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TX, RX 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6324840" y="2154240"/>
              <a:ext cx="906480" cy="477720"/>
              <a:chOff x="6324840" y="2154240"/>
              <a:chExt cx="906480" cy="477720"/>
            </a:xfrm>
          </p:grpSpPr>
          <p:sp>
            <p:nvSpPr>
              <p:cNvPr id="782" name=""/>
              <p:cNvSpPr/>
              <p:nvPr/>
            </p:nvSpPr>
            <p:spPr>
              <a:xfrm>
                <a:off x="6324840" y="2631960"/>
                <a:ext cx="90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>
                <a:off x="6324840" y="2222280"/>
                <a:ext cx="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328080" y="2154240"/>
                <a:ext cx="796680" cy="475920"/>
              </a:xfrm>
              <a:custGeom>
                <a:avLst/>
                <a:gdLst/>
                <a:ahLst/>
                <a:rect l="l" t="t" r="r" b="b"/>
                <a:pathLst>
                  <a:path w="502" h="300">
                    <a:moveTo>
                      <a:pt x="0" y="300"/>
                    </a:moveTo>
                    <a:lnTo>
                      <a:pt x="6" y="288"/>
                    </a:lnTo>
                    <a:cubicBezTo>
                      <a:pt x="10" y="245"/>
                      <a:pt x="14" y="82"/>
                      <a:pt x="21" y="41"/>
                    </a:cubicBezTo>
                    <a:cubicBezTo>
                      <a:pt x="28" y="0"/>
                      <a:pt x="46" y="8"/>
                      <a:pt x="51" y="41"/>
                    </a:cubicBezTo>
                    <a:cubicBezTo>
                      <a:pt x="56" y="74"/>
                      <a:pt x="46" y="197"/>
                      <a:pt x="48" y="236"/>
                    </a:cubicBezTo>
                    <a:cubicBezTo>
                      <a:pt x="50" y="275"/>
                      <a:pt x="58" y="285"/>
                      <a:pt x="62" y="278"/>
                    </a:cubicBezTo>
                    <a:cubicBezTo>
                      <a:pt x="66" y="271"/>
                      <a:pt x="72" y="214"/>
                      <a:pt x="75" y="193"/>
                    </a:cubicBezTo>
                    <a:cubicBezTo>
                      <a:pt x="78" y="172"/>
                      <a:pt x="77" y="163"/>
                      <a:pt x="78" y="150"/>
                    </a:cubicBezTo>
                    <a:cubicBezTo>
                      <a:pt x="79" y="137"/>
                      <a:pt x="79" y="132"/>
                      <a:pt x="80" y="115"/>
                    </a:cubicBezTo>
                    <a:cubicBezTo>
                      <a:pt x="81" y="98"/>
                      <a:pt x="82" y="58"/>
                      <a:pt x="86" y="49"/>
                    </a:cubicBezTo>
                    <a:cubicBezTo>
                      <a:pt x="90" y="40"/>
                      <a:pt x="98" y="57"/>
                      <a:pt x="104" y="59"/>
                    </a:cubicBezTo>
                    <a:cubicBezTo>
                      <a:pt x="110" y="61"/>
                      <a:pt x="118" y="33"/>
                      <a:pt x="120" y="64"/>
                    </a:cubicBezTo>
                    <a:cubicBezTo>
                      <a:pt x="122" y="95"/>
                      <a:pt x="112" y="213"/>
                      <a:pt x="114" y="246"/>
                    </a:cubicBezTo>
                    <a:cubicBezTo>
                      <a:pt x="116" y="279"/>
                      <a:pt x="129" y="264"/>
                      <a:pt x="135" y="263"/>
                    </a:cubicBezTo>
                    <a:cubicBezTo>
                      <a:pt x="141" y="262"/>
                      <a:pt x="145" y="240"/>
                      <a:pt x="151" y="240"/>
                    </a:cubicBezTo>
                    <a:cubicBezTo>
                      <a:pt x="157" y="240"/>
                      <a:pt x="167" y="263"/>
                      <a:pt x="174" y="265"/>
                    </a:cubicBezTo>
                    <a:cubicBezTo>
                      <a:pt x="181" y="267"/>
                      <a:pt x="193" y="283"/>
                      <a:pt x="196" y="253"/>
                    </a:cubicBezTo>
                    <a:cubicBezTo>
                      <a:pt x="199" y="223"/>
                      <a:pt x="188" y="113"/>
                      <a:pt x="194" y="82"/>
                    </a:cubicBezTo>
                    <a:cubicBezTo>
                      <a:pt x="200" y="51"/>
                      <a:pt x="221" y="66"/>
                      <a:pt x="231" y="67"/>
                    </a:cubicBezTo>
                    <a:cubicBezTo>
                      <a:pt x="241" y="68"/>
                      <a:pt x="248" y="87"/>
                      <a:pt x="255" y="89"/>
                    </a:cubicBezTo>
                    <a:cubicBezTo>
                      <a:pt x="262" y="91"/>
                      <a:pt x="271" y="55"/>
                      <a:pt x="276" y="82"/>
                    </a:cubicBezTo>
                    <a:cubicBezTo>
                      <a:pt x="281" y="109"/>
                      <a:pt x="280" y="225"/>
                      <a:pt x="286" y="254"/>
                    </a:cubicBezTo>
                    <a:cubicBezTo>
                      <a:pt x="292" y="283"/>
                      <a:pt x="306" y="271"/>
                      <a:pt x="314" y="259"/>
                    </a:cubicBezTo>
                    <a:cubicBezTo>
                      <a:pt x="322" y="247"/>
                      <a:pt x="327" y="203"/>
                      <a:pt x="332" y="181"/>
                    </a:cubicBezTo>
                    <a:cubicBezTo>
                      <a:pt x="337" y="159"/>
                      <a:pt x="338" y="115"/>
                      <a:pt x="343" y="126"/>
                    </a:cubicBezTo>
                    <a:cubicBezTo>
                      <a:pt x="348" y="137"/>
                      <a:pt x="356" y="223"/>
                      <a:pt x="363" y="246"/>
                    </a:cubicBezTo>
                    <a:cubicBezTo>
                      <a:pt x="370" y="269"/>
                      <a:pt x="382" y="277"/>
                      <a:pt x="388" y="264"/>
                    </a:cubicBezTo>
                    <a:cubicBezTo>
                      <a:pt x="394" y="251"/>
                      <a:pt x="396" y="171"/>
                      <a:pt x="400" y="170"/>
                    </a:cubicBezTo>
                    <a:cubicBezTo>
                      <a:pt x="404" y="169"/>
                      <a:pt x="406" y="246"/>
                      <a:pt x="412" y="259"/>
                    </a:cubicBezTo>
                    <a:cubicBezTo>
                      <a:pt x="418" y="272"/>
                      <a:pt x="432" y="249"/>
                      <a:pt x="438" y="248"/>
                    </a:cubicBezTo>
                    <a:cubicBezTo>
                      <a:pt x="444" y="247"/>
                      <a:pt x="448" y="286"/>
                      <a:pt x="451" y="252"/>
                    </a:cubicBezTo>
                    <a:cubicBezTo>
                      <a:pt x="454" y="218"/>
                      <a:pt x="454" y="75"/>
                      <a:pt x="459" y="46"/>
                    </a:cubicBezTo>
                    <a:cubicBezTo>
                      <a:pt x="464" y="17"/>
                      <a:pt x="477" y="46"/>
                      <a:pt x="482" y="80"/>
                    </a:cubicBezTo>
                    <a:cubicBezTo>
                      <a:pt x="487" y="114"/>
                      <a:pt x="486" y="223"/>
                      <a:pt x="489" y="253"/>
                    </a:cubicBezTo>
                    <a:cubicBezTo>
                      <a:pt x="492" y="283"/>
                      <a:pt x="497" y="272"/>
                      <a:pt x="502" y="262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"/>
          <p:cNvSpPr/>
          <p:nvPr/>
        </p:nvSpPr>
        <p:spPr>
          <a:xfrm flipV="1">
            <a:off x="2971800" y="2574720"/>
            <a:ext cx="760320" cy="14040"/>
          </a:xfrm>
          <a:prstGeom prst="line">
            <a:avLst/>
          </a:prstGeom>
          <a:ln w="57240">
            <a:solidFill>
              <a:srgbClr val="00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5105520" y="2572920"/>
            <a:ext cx="914400" cy="17640"/>
          </a:xfrm>
          <a:prstGeom prst="line">
            <a:avLst/>
          </a:prstGeom>
          <a:ln w="57240">
            <a:solidFill>
              <a:srgbClr val="00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977A-470D-4293-95E1-DECD7E0B3992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erDes Analysi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rial Links present new analysis requiremen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odel SerDes TX/RX equalizat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odel RX clock recovery behavio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edict link behavior over &gt;&gt; 10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bits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edict link bit error rat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tect SerDes vendor IP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rial Link analysis often combines analytical method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ircuit analysis (network characterization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mmunications analysis (equalization, clock recovery modeling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deling standards are </a:t>
            </a:r>
            <a:r>
              <a:rPr b="0" i="1" lang="en-US" sz="2000" spc="-1" strike="noStrike" u="sng">
                <a:solidFill>
                  <a:srgbClr val="336699"/>
                </a:solidFill>
                <a:uFillTx/>
                <a:latin typeface="Arial"/>
              </a:rPr>
              <a:t>essential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, there can be no interoperable models or analysis tools without them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8640-217A-48AD-9D1B-1CDA9F6996D9}" type="slidenum">
              <a:t>6</a:t>
            </a:fld>
          </a:p>
        </p:txBody>
      </p:sp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7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7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7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TM SerDes Task Group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Goal: SerDes Rx/TX model interoperability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ultiple EDA platform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ultiple SerDes vendor model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tect SerDes vendor IP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BIS-ATM committee particip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DA: Agilent, Cadence, Mentor, SiSof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miconductor: IBM, Intel, Micron, ST-Micro, TI, Xilinx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ystem: Cisc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wo part modeling standar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haracterization model: existing IBIS syntax models TX / RX analog characteristic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lgorithmic model: equalization, clock recovery, device optimization algorithm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AD5C-3757-46A4-B4AB-A438435EDF37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609480" y="1447920"/>
            <a:ext cx="2981520" cy="2514600"/>
          </a:xfrm>
          <a:custGeom>
            <a:avLst/>
            <a:gdLst/>
            <a:ahLst/>
            <a:rect l="l" t="t" r="r" b="b"/>
            <a:pathLst>
              <a:path w="2019" h="2174">
                <a:moveTo>
                  <a:pt x="26" y="2174"/>
                </a:moveTo>
                <a:lnTo>
                  <a:pt x="2019" y="2174"/>
                </a:lnTo>
                <a:lnTo>
                  <a:pt x="2019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64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5018040" y="1447920"/>
            <a:ext cx="3897360" cy="2514600"/>
          </a:xfrm>
          <a:custGeom>
            <a:avLst/>
            <a:gdLst/>
            <a:ahLst/>
            <a:rect l="l" t="t" r="r" b="b"/>
            <a:pathLst>
              <a:path w="2019" h="2174">
                <a:moveTo>
                  <a:pt x="26" y="2174"/>
                </a:moveTo>
                <a:lnTo>
                  <a:pt x="2019" y="2174"/>
                </a:lnTo>
                <a:lnTo>
                  <a:pt x="2019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64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84360" y="306072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84360" y="283212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84360" y="313704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84360" y="290844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84360" y="298440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84360" y="321300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84360" y="328932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MI Serial Link Analysi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362320" y="1981080"/>
            <a:ext cx="3892320" cy="1568520"/>
          </a:xfrm>
          <a:prstGeom prst="rect">
            <a:avLst/>
          </a:prstGeom>
          <a:solidFill>
            <a:srgbClr val="33cc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900920" y="2932200"/>
            <a:ext cx="174600" cy="658800"/>
          </a:xfrm>
          <a:custGeom>
            <a:avLst/>
            <a:gdLst/>
            <a:ahLst/>
            <a:rect l="l" t="t" r="r" b="b"/>
            <a:pathLst>
              <a:path w="187" h="434">
                <a:moveTo>
                  <a:pt x="187" y="0"/>
                </a:moveTo>
                <a:lnTo>
                  <a:pt x="103" y="0"/>
                </a:lnTo>
                <a:lnTo>
                  <a:pt x="103" y="434"/>
                </a:lnTo>
                <a:lnTo>
                  <a:pt x="0" y="43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30960" y="2744640"/>
            <a:ext cx="378000" cy="854280"/>
          </a:xfrm>
          <a:custGeom>
            <a:avLst/>
            <a:gdLst/>
            <a:ahLst/>
            <a:rect l="l" t="t" r="r" b="b"/>
            <a:pathLst>
              <a:path w="91" h="563">
                <a:moveTo>
                  <a:pt x="0" y="0"/>
                </a:moveTo>
                <a:lnTo>
                  <a:pt x="0" y="563"/>
                </a:lnTo>
                <a:lnTo>
                  <a:pt x="91" y="56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275580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68440" y="2460600"/>
            <a:ext cx="614520" cy="61920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mi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qual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790720" y="2470320"/>
            <a:ext cx="777960" cy="6188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ag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616200" y="2470320"/>
            <a:ext cx="1368720" cy="6188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299360" y="3309840"/>
            <a:ext cx="584280" cy="40320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075520" y="2562120"/>
            <a:ext cx="623880" cy="48096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 rot="5400000">
            <a:off x="468360" y="2635920"/>
            <a:ext cx="1436760" cy="376200"/>
          </a:xfrm>
          <a:custGeom>
            <a:avLst/>
            <a:gdLst>
              <a:gd name="textAreaLeft" fmla="*/ 315720 w 1436760"/>
              <a:gd name="textAreaRight" fmla="*/ 1121040 w 1436760"/>
              <a:gd name="textAreaTop" fmla="*/ 82800 h 376200"/>
              <a:gd name="textAreaBottom" fmla="*/ 29340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056200" y="2470320"/>
            <a:ext cx="779400" cy="6188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ag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405480" y="2492280"/>
            <a:ext cx="615960" cy="52236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qual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rot="5400000">
            <a:off x="5848560" y="2595960"/>
            <a:ext cx="441360" cy="2970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rot="5400000">
            <a:off x="2322000" y="2625480"/>
            <a:ext cx="441360" cy="2574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830240" y="1523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47892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378160" y="4108320"/>
            <a:ext cx="3984480" cy="785520"/>
            <a:chOff x="2378160" y="4108320"/>
            <a:chExt cx="3984480" cy="785520"/>
          </a:xfrm>
        </p:grpSpPr>
        <p:sp>
          <p:nvSpPr>
            <p:cNvPr id="818" name=""/>
            <p:cNvSpPr/>
            <p:nvPr/>
          </p:nvSpPr>
          <p:spPr>
            <a:xfrm rot="16200000">
              <a:off x="4290120" y="2196360"/>
              <a:ext cx="160560" cy="3984480"/>
            </a:xfrm>
            <a:custGeom>
              <a:avLst/>
              <a:gdLst>
                <a:gd name="textAreaLeft" fmla="*/ 47160 w 160560"/>
                <a:gd name="textAreaRight" fmla="*/ 160920 w 160560"/>
                <a:gd name="textAreaTop" fmla="*/ 165960 h 3984480"/>
                <a:gd name="textAreaBottom" fmla="*/ 3818520 h 398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39640" y="4313160"/>
              <a:ext cx="225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Channel &amp; Analog I/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near, Time-Invari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359400" y="4114440"/>
            <a:ext cx="2327400" cy="759960"/>
            <a:chOff x="6359400" y="4114440"/>
            <a:chExt cx="2327400" cy="759960"/>
          </a:xfrm>
        </p:grpSpPr>
        <p:sp>
          <p:nvSpPr>
            <p:cNvPr id="821" name=""/>
            <p:cNvSpPr/>
            <p:nvPr/>
          </p:nvSpPr>
          <p:spPr>
            <a:xfrm rot="16200000">
              <a:off x="7445880" y="3027960"/>
              <a:ext cx="154440" cy="2327400"/>
            </a:xfrm>
            <a:custGeom>
              <a:avLst/>
              <a:gdLst>
                <a:gd name="textAreaLeft" fmla="*/ 45360 w 154440"/>
                <a:gd name="textAreaRight" fmla="*/ 154800 w 154440"/>
                <a:gd name="textAreaTop" fmla="*/ 96840 h 2327400"/>
                <a:gd name="textAreaBottom" fmla="*/ 2230560 h 23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703920" y="4293720"/>
              <a:ext cx="1463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9900"/>
                  </a:solidFill>
                  <a:latin typeface="Arial"/>
                </a:rPr>
                <a:t>RX EQ, CD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TI or non-L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609480" y="4114440"/>
            <a:ext cx="1828800" cy="779400"/>
            <a:chOff x="609480" y="4114440"/>
            <a:chExt cx="1828800" cy="779400"/>
          </a:xfrm>
        </p:grpSpPr>
        <p:sp>
          <p:nvSpPr>
            <p:cNvPr id="824" name=""/>
            <p:cNvSpPr/>
            <p:nvPr/>
          </p:nvSpPr>
          <p:spPr>
            <a:xfrm rot="16200000">
              <a:off x="1454040" y="3345840"/>
              <a:ext cx="152280" cy="168912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70200 h 1689120"/>
                <a:gd name="textAreaBottom" fmla="*/ 1618920 h 168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9480" y="4313160"/>
              <a:ext cx="182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9900"/>
                  </a:solidFill>
                  <a:latin typeface="Arial"/>
                </a:rPr>
                <a:t>TX E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TI or non-L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3219120" y="5105520"/>
            <a:ext cx="259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nnel Character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Impulse respon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00560" y="5105520"/>
            <a:ext cx="175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X Eq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X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8200" y="5105520"/>
            <a:ext cx="212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X Eq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X Clock Recov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X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F389-CEC2-41C9-894A-39181D414ABC}" type="slidenum">
              <a:t>8</a:t>
            </a:fld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TM Algorithmic Model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mmunication models provided as [binary] cod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ast, efficient execu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otects vendor IP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nsible modeling capability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lows models to be developed in multiple languag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andardized execution interfa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dule loading mechanism &amp; call signatur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ata input/output forma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andardized model parameter interfa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erved parameters” interpreted by EDA platform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del-specific parameters can be exposed to and set by end-use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E856-07B1-4710-835E-8E70F1FB1747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4:20:00Z</dcterms:created>
  <dc:creator>Adam Kustin</dc:creator>
  <dc:description/>
  <dc:language>en-US</dc:language>
  <cp:lastModifiedBy>SiSoft</cp:lastModifiedBy>
  <dcterms:modified xsi:type="dcterms:W3CDTF">2007-08-27T02:38:05Z</dcterms:modified>
  <cp:revision>282</cp:revision>
  <dc:subject/>
  <dc:title>Slide 1</dc:title>
</cp:coreProperties>
</file>