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7280" y="7444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5F86B-8B26-4EF1-BC96-E60612EC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8480" y="5046840"/>
            <a:ext cx="528480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makes EDA standards in Ja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We appreciate EIA/IBIS Forum members support and we are glad to have this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 EDA-WG Activ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1960" y="4894200"/>
            <a:ext cx="50767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This is Outline of my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015920" y="473976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 Phone, LCD/PDP Display, Digital Camera and Video, DVD Recor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consisted mainly of Digital circuit, RF and  Analog circui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examine the possibility of  IBIS Model or need for New EDA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87400" y="75240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t is necessary to standardize each component EDA Model for simulation PCB board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スタンダダイズ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960" y="4818240"/>
            <a:ext cx="507672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Necessary EDA Model on PCB whole board Simulation are mainly 8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ICs; such as Memory, Micro controller, ASIC, AS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F Mod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Passive 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C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Conn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Crystal 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ﾊﾟｰﾃｲｼﾍﾟｲ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companies participate JEITA-EDA-W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of committee are consisted 6 indus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ondly, let me describe Short Term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c6600"/>
                </a:solidFill>
                <a:latin typeface="Arial"/>
              </a:rPr>
              <a:t>Our first goal is improvement of “SI Simulation environ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herefore we are working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1. Study of  Interconnect Model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ja-JP" sz="1200" spc="-1" strike="noStrike">
                <a:solidFill>
                  <a:srgbClr val="cc3300"/>
                </a:solidFill>
                <a:latin typeface="Arial"/>
              </a:rPr>
              <a:t>Passive Components and 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ja-JP" sz="12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tudy of Interconnect Model (Mea. and Sim.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tandardization activities o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th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JP Comments on ICM Model Touchston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2. IBIS Model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Investigate and analyze IBIS quality problem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and comment to EIA/IBIS Quality Task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3. IBIS guidebook for SI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4. Technology exchange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IBIS Summit Japan  co-organized by EIA/IBIS and JE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E444D7-31E8-4692-A187-594D01AE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how the problems at EDA Simula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*each circle means JEITA activ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me introduce the presentations of the activities in the second pl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0640" y="77940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ank you for all the hel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インテイン     ﾅｰﾁ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We would like to maintain and nurture friendly relations with EIA/IBIS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k you for all the help EIA/IBIS Committee and all attend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inte'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【＠】メインテイ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э':(r)t∫э(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他動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】 育て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DF76-3595-4A79-8C13-DD5499B28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B81D-3CEA-4131-87F7-DE507A9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4992-9784-471A-A8CC-6C258C8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C44C-A560-447C-8F80-5E475444B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1C04-6FF8-4070-9CF8-8BFB61C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0E72-2AAC-4D3D-8988-3B758FD1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A427-5FF9-4F33-A151-A807CA8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B10C-AF7E-4083-99DD-C7EFB86B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33AE-78CC-4143-A150-E2D08D53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A031-1D6B-4BBE-B1F5-B118B4A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9362-11DC-41F0-A4B2-0A9F814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EFBB-BFCF-4833-BBED-4FF8F52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03B-61A3-4EAA-87CF-58F02E95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80988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p 14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Jap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akeshi Watanabe (NEC Electronic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EDA WG A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93C8-7B43-4D7E-A4D9-84DE2C141E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440" y="609480"/>
            <a:ext cx="913716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ut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45E5-8D70-41FC-A0CA-70B7C04894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82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ization activit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4400" y="396072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2040" y="327492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590920"/>
            <a:ext cx="647712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62440" y="266688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or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5960" y="4724280"/>
            <a:ext cx="71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I: IBIS, Spic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ive component: Interconnect Mode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B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pendent on EDA t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838080"/>
            <a:ext cx="403848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6667-AEB9-4DEF-8181-89A09F256A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760" y="40924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20620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14840" y="3457440"/>
            <a:ext cx="208944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2040" y="51595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21114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2960" y="36352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20720" y="222552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94280" y="52498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14000" y="43974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880" y="35593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8600" y="25844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1720" y="530208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1560" y="426708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65760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34080" y="30258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80880"/>
            <a:ext cx="85341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EMI, SI and P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6440" y="137160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CB whole level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8973-028F-4E85-84D3-636923E3E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8288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5627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2860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62360" y="441936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320" y="838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8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89360" y="518148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lexible Printed Circuit Bo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3DDF-EB02-4109-9D0F-B69929348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83280" y="2471760"/>
            <a:ext cx="11923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5240" y="4716360"/>
            <a:ext cx="1293840" cy="69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Ibi-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3760" y="2681280"/>
            <a:ext cx="119412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4952880"/>
            <a:ext cx="7128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982920" y="4576320"/>
            <a:ext cx="561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913440" y="3173040"/>
            <a:ext cx="56052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299200" y="2895480"/>
            <a:ext cx="34920" cy="41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33600" y="3313080"/>
            <a:ext cx="4000680" cy="16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13120" y="4646520"/>
            <a:ext cx="91260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90512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14800"/>
            <a:ext cx="23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A 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(internal/ven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4320" y="5486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06280" y="43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7200" y="17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em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5040" y="1863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46440" y="5811840"/>
            <a:ext cx="1614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04920"/>
            <a:ext cx="746748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648320"/>
            <a:ext cx="2286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adence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yberne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TE(Sig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828800"/>
            <a:ext cx="142236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27720" y="2049480"/>
            <a:ext cx="1542960" cy="922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6432-5D07-4B1F-B440-AEB1F841E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4840" y="2133720"/>
            <a:ext cx="72964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Study of  Interconnect Mode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cc3300"/>
                </a:solidFill>
                <a:latin typeface="Arial"/>
              </a:rPr>
              <a:t>Passive Components and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Arial Unicode MS"/>
              </a:rPr>
              <a:t>*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 of Interconnect Model (Mea. and Sim.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ization activities 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the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**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P Comments on ICM Model Touchstone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BIS Model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vestigate and analyze the probl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mment to EIA/IBIS Quality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BIS guidebook for SI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echnology exchang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BIS Summit Japan  co-organized by EIA/IBIS and J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1600" y="838080"/>
            <a:ext cx="6994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Standardization activity of EDA Mode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 u="sng">
                <a:solidFill>
                  <a:srgbClr val="cc6600"/>
                </a:solidFill>
                <a:uFillTx/>
                <a:latin typeface="Arial"/>
                <a:ea typeface="Arial Unicode MS"/>
              </a:rPr>
              <a:t>SI Simulation environment</a:t>
            </a:r>
            <a:r>
              <a:rPr b="1" lang="en-US" sz="4000" spc="-1" strike="noStrike" u="sng">
                <a:solidFill>
                  <a:srgbClr val="cc6600"/>
                </a:solidFill>
                <a:uFillTx/>
                <a:latin typeface="Arial"/>
                <a:ea typeface="Arial Unicode MS"/>
              </a:rPr>
              <a:t> </a:t>
            </a:r>
            <a:r>
              <a:rPr b="1" lang="en-US" sz="2800" spc="-1" strike="noStrike" u="sng">
                <a:solidFill>
                  <a:srgbClr val="cc6600"/>
                </a:solidFill>
                <a:uFillTx/>
                <a:latin typeface="Arial"/>
                <a:ea typeface="Arial Unicode MS"/>
              </a:rPr>
              <a:t> &lt;1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D78E-F1A3-4197-92CA-31BB4EDE1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3020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40720" y="1700280"/>
            <a:ext cx="1174680" cy="3097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0" y="4952880"/>
            <a:ext cx="382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IBIS Model Portal site P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997360"/>
            <a:ext cx="46958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14800" y="91440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3320" y="533520"/>
            <a:ext cx="3321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connect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840" y="1143000"/>
            <a:ext cx="2255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BIS Model 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152388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048120"/>
            <a:ext cx="76212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001000" y="4648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5410080"/>
            <a:ext cx="406836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IBIS guidebook for 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505320"/>
            <a:ext cx="5181480" cy="990360"/>
          </a:xfrm>
          <a:prstGeom prst="ellips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6960" y="4572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 Unicode MS"/>
              </a:rPr>
              <a:t>Nex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734A-DC8B-46CA-9676-1CC059A1B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219320"/>
            <a:ext cx="76960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ank you for all the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IA/IBIS Committee!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7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5246-90D5-416D-B057-99D035899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Takeshi Watanabe</cp:lastModifiedBy>
  <dcterms:modified xsi:type="dcterms:W3CDTF">2007-09-10T04:37:53Z</dcterms:modified>
  <cp:revision>557</cp:revision>
  <dc:subject/>
  <dc:title>JEITA</dc:title>
</cp:coreProperties>
</file>