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E0ED-102F-4736-B370-7E014265B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FEE1-C828-49C7-A98F-9A3F096B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3473-6F09-4E1B-A39B-E66970E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9F53-CD4B-441C-947B-C810DECF9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4D93-6C32-4D20-8FEB-86AFFD4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A7CF-51B0-4D34-86DC-0935BECE3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E4DB7-B9BC-4D5C-AE0F-6BC4F1C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2E486-852A-443A-AB05-AC740ED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CB9DE-7BCC-40BC-8564-FF0ECCC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CB80-3C02-4584-8CBA-21DAF7F7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509D-60B7-4006-9D29-6A12931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08E64-4B4C-44C3-A6F5-7FCA567A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1D52-CF5A-439A-8876-16874672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A2D4F-619A-4561-929F-C7ADE983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DF20C-9AD8-4F41-AEC7-ED559FC0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23DF-FAE4-42C7-A00B-748B0BB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4E000-34BC-496B-950F-AF43198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D61C-B284-4EE2-9090-AAA94E4A3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113B-68F7-4CD2-90B5-CE07288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0F3-72C3-466A-B6C0-274306866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4C7C-5394-4B78-9368-8804CEC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55D-C06A-4DB1-8759-DCF37C4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122A-261C-4B2D-94DA-1E2C7E4F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152-DD95-4AAE-A8FA-258E9AE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050B-0BB5-4C3B-8786-89125257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8BAF-28A3-4E07-9A0F-17BD40B8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37F-85CB-4217-BDB5-88FA53B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EE66-681A-41B5-823C-3C95A73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2753-78F9-49B0-ACF1-BFBA3408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73FA-9C0A-4D30-B086-821191E8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2D5C-1844-486E-AB2C-F8F4D9C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9F06-6DDC-4CF7-869E-8CED21C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DFAA-F5F2-45E5-9E1A-47AAE9E20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1C34-23DF-48D0-AC2B-EE45245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D65EC-E590-44E6-BD3F-9C6BF74AB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4DEEA-EB43-424C-821E-1CD7CA6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01057-A9C7-4C00-A47B-AADB799F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A7EAB-2712-4082-A7A2-7FB1ED6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CF6D2-9DBD-42D0-AB2C-62303FF0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7C495-B3BE-4710-A4C0-FCB2DF2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402C5-C5A6-4478-AA0F-85A82F8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4B20-C381-41D2-8CFA-F8C4284A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65B57-4B3C-4280-9270-AA18E52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856F2-0115-442D-B061-B00FB6A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40B3D-115F-4816-B9C3-7A78E56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B0FF6-9B2D-45B3-BAB8-AE02C72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50FFC-6201-48C5-B6B1-91DD2D9EC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18F4-DC70-4B5E-AC69-FA9096B5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B8A-5CED-48FB-8F45-BDDE44864542}" type="slidenum">
              <a: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3240" y="61272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DB4-A8A0-458C-BF35-ED22BAD39730}" type="slidenum">
              <a: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6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4D55-F48D-464F-8EB1-0739F2F46012}" type="slidenum">
              <a: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604-3D40-4063-AD5E-69FE99E73439}" type="slidenum">
              <a:rPr b="0" lang="ja-JP" sz="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h@cadence.com" TargetMode="External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hah@cadence.com" TargetMode="External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hdl.org/pub/ibis/macromodel_wip/archive-date.html" TargetMode="External"/><Relationship Id="rId2" Type="http://schemas.openxmlformats.org/officeDocument/2006/relationships/hyperlink" Target="http://www.vhdl.org/pub/ibis/summits/" TargetMode="Externa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6577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BIS AMI Model Developers Toolbo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52228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mant Shah (</a:t>
            </a:r>
            <a:r>
              <a:rPr b="0" lang="en-US" sz="2000" spc="-1" strike="noStrike" u="sng">
                <a:solidFill>
                  <a:srgbClr val="f6580f"/>
                </a:solidFill>
                <a:uFillTx/>
                <a:latin typeface="Arial"/>
                <a:ea typeface="ＭＳ Ｐゴシック"/>
                <a:hlinkClick r:id="rId1"/>
              </a:rPr>
              <a:t>shah@cadence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BIS Summit -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1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 Rx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4520" y="1218960"/>
            <a:ext cx="75661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ous Time Filter (CTF) RX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ion of feed forward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d backw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s the waveform given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of coeffic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d for 6.25Gbps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configurable forward and backward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eters need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forward taps, Number of backward taps,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provided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omp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) gcc -c ibis_ctf_rx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) gcc -shared -o ibis_ctf_rx.dll ibis_ctf_rx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791320" y="1295280"/>
            <a:ext cx="3047400" cy="1676160"/>
            <a:chOff x="5791320" y="1295280"/>
            <a:chExt cx="3047400" cy="1676160"/>
          </a:xfrm>
        </p:grpSpPr>
        <p:sp>
          <p:nvSpPr>
            <p:cNvPr id="705" name=""/>
            <p:cNvSpPr/>
            <p:nvPr/>
          </p:nvSpPr>
          <p:spPr>
            <a:xfrm>
              <a:off x="6346080" y="28929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6080" y="20775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46080" y="227304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46080" y="246672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1320" y="1495800"/>
              <a:ext cx="30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7400" y="1295280"/>
              <a:ext cx="435240" cy="317880"/>
            </a:xfrm>
            <a:prstGeom prst="ellipse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46080" y="1495800"/>
              <a:ext cx="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83960" y="2000520"/>
              <a:ext cx="484560" cy="15516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83960" y="219420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83960" y="239004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08880" y="2531160"/>
              <a:ext cx="22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77320" y="161316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83960" y="2815920"/>
              <a:ext cx="48456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83600" y="28929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83600" y="207756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83600" y="227304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83600" y="2466720"/>
              <a:ext cx="8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214840" y="1495800"/>
              <a:ext cx="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21840" y="2000520"/>
              <a:ext cx="485640" cy="15516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21840" y="219420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21840" y="239004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48560" y="2531160"/>
              <a:ext cx="22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7383600" y="161316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21840" y="2815920"/>
              <a:ext cx="485640" cy="155520"/>
            </a:xfrm>
            <a:prstGeom prst="rect">
              <a:avLst/>
            </a:prstGeom>
            <a:solidFill>
              <a:srgbClr val="4a95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477120" y="2895480"/>
            <a:ext cx="1218960" cy="0"/>
          </a:xfrm>
          <a:prstGeom prst="line">
            <a:avLst/>
          </a:prstGeom>
          <a:ln w="7632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3505320"/>
            <a:ext cx="1219320" cy="0"/>
          </a:xfrm>
          <a:prstGeom prst="line">
            <a:avLst/>
          </a:prstGeom>
          <a:ln w="76320">
            <a:solidFill>
              <a:srgbClr val="cc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NS AMI Tester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4880" y="1066320"/>
            <a:ext cx="81964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 Stream: “(0111100001111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ly, users can specify the number of bits and let tester generate random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LL to interf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specific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_out: *voltage-time pairs in txt file*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 form data modifi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_in: *voltage-time pairs in txt file*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s waveform passed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ulseResponse: IR data if it is modified by the model (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2590920"/>
            <a:ext cx="2361960" cy="121896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DNS_AMI_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2743200"/>
            <a:ext cx="762120" cy="99072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NS AMI Tester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96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g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NS_TESTER [-h] ctf_rx_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640" y="327672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 Strea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(10111000)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15000" y="2362320"/>
            <a:ext cx="3276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 File contai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easurement Del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nore data for spec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del specific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r config file cont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nformation generally se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end users through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A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Number of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 file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files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89000" y="3200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249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3716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66680" y="4267080"/>
            <a:ext cx="609840" cy="60984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2590920"/>
            <a:ext cx="761760" cy="121896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57600" y="3143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10240" y="27432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657600" y="3686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741120" y="340344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67652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71680" y="4114800"/>
            <a:ext cx="506520" cy="76212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54160" y="4114800"/>
            <a:ext cx="506520" cy="76212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06080" y="487692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txt fil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-time 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4800600"/>
            <a:ext cx="533160" cy="68580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91680" y="5460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 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modified by 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6576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3080" y="31240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914400" cy="5144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3733920" y="2951280"/>
            <a:ext cx="990360" cy="1728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3809880" y="3728880"/>
            <a:ext cx="914400" cy="3859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666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809880"/>
            <a:ext cx="761760" cy="5335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28600" y="4267080"/>
            <a:ext cx="609480" cy="838440"/>
          </a:xfrm>
          <a:prstGeom prst="flowChartMagneticDisk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ster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2590920"/>
            <a:ext cx="2362320" cy="1371600"/>
          </a:xfrm>
          <a:prstGeom prst="rect">
            <a:avLst/>
          </a:prstGeom>
          <a:solidFill>
            <a:srgbClr val="4a95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DNS_AMI_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4"/>
          <a:stretch/>
        </p:blipFill>
        <p:spPr>
          <a:xfrm>
            <a:off x="3962520" y="2381400"/>
            <a:ext cx="6094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get the k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ce AMI Developers toolbox will be available through IBIS web site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mean time, you can send request for the toolbox to: </a:t>
            </a:r>
            <a:r>
              <a:rPr b="0" lang="en-US" sz="2400" spc="-1" strike="noStrike" u="sng">
                <a:solidFill>
                  <a:srgbClr val="9cbf20"/>
                </a:solidFill>
                <a:uFillTx/>
                <a:latin typeface="Arial"/>
                <a:ea typeface="ＭＳ Ｐゴシック"/>
                <a:hlinkClick r:id="rId1"/>
              </a:rPr>
              <a:t>shah@cadenc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presentations on Algorithmic Modeling starting from June 2006 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cbf20"/>
                </a:solidFill>
                <a:uFillTx/>
                <a:latin typeface="Arial"/>
                <a:ea typeface="ＭＳ Ｐゴシック"/>
                <a:hlinkClick r:id="rId1"/>
              </a:rPr>
              <a:t>http://www.vhdl.org/pub/ibis/macromodel_wip/archive-date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s on the AMI work can also be found in ATM subcommittee updates provided at DAC 2007 and DesignCon 2007 IBIS Su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s can be accessed from this page: </a:t>
            </a:r>
            <a:r>
              <a:rPr b="0" lang="en-US" sz="2000" spc="-1" strike="noStrike" u="sng">
                <a:solidFill>
                  <a:srgbClr val="9cbf20"/>
                </a:solidFill>
                <a:uFillTx/>
                <a:latin typeface="Arial"/>
                <a:ea typeface="ＭＳ Ｐゴシック"/>
                <a:hlinkClick r:id="rId2"/>
              </a:rPr>
              <a:t>http://www.vhdl.org/pub/ibis/summits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reach the IBIS-ATM group on this topic, you can send email to: ibis-ami-toolkit@freelist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operability with &lt; 6Gbps SERDES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8920" y="1154160"/>
            <a:ext cx="819612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B Design &amp; Simulation env from EDA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s ne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come from IC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Environment managed by EDA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 users happy with Interoper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31640" y="3430440"/>
            <a:ext cx="8383680" cy="2478240"/>
            <a:chOff x="431640" y="3430440"/>
            <a:chExt cx="8383680" cy="2478240"/>
          </a:xfrm>
        </p:grpSpPr>
        <p:sp>
          <p:nvSpPr>
            <p:cNvPr id="327" name=""/>
            <p:cNvSpPr/>
            <p:nvPr/>
          </p:nvSpPr>
          <p:spPr>
            <a:xfrm>
              <a:off x="431640" y="3430440"/>
              <a:ext cx="8383680" cy="2478240"/>
            </a:xfrm>
            <a:prstGeom prst="rect">
              <a:avLst/>
            </a:prstGeom>
            <a:solidFill>
              <a:srgbClr val="dbee96"/>
            </a:solidFill>
            <a:ln w="0">
              <a:noFill/>
            </a:ln>
            <a:effectLst>
              <a:outerShdw dist="17819" dir="2700000" blurRad="0" rotWithShape="0">
                <a:srgbClr val="9cbf2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126200" y="4522680"/>
              <a:ext cx="682560" cy="588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3560" y="5462640"/>
              <a:ext cx="50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gn Environment managed by EDA 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080" y="3927600"/>
              <a:ext cx="81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B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9840" y="3925800"/>
              <a:ext cx="81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B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6000" y="5054760"/>
              <a:ext cx="561960" cy="693720"/>
            </a:xfrm>
            <a:prstGeom prst="flowChartMagneticDisk">
              <a:avLst/>
            </a:prstGeom>
            <a:solidFill>
              <a:srgbClr val="0066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0160" y="5108400"/>
              <a:ext cx="561960" cy="640080"/>
            </a:xfrm>
            <a:prstGeom prst="flowChartMagneticDisk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73400" y="4578480"/>
              <a:ext cx="2935440" cy="345960"/>
            </a:xfrm>
            <a:prstGeom prst="rect">
              <a:avLst/>
            </a:prstGeom>
            <a:solidFill>
              <a:srgbClr val="9cbf2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ckage-PCB Top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413000" y="3852720"/>
              <a:ext cx="6172200" cy="1179360"/>
              <a:chOff x="1413000" y="3852720"/>
              <a:chExt cx="6172200" cy="1179360"/>
            </a:xfrm>
          </p:grpSpPr>
          <p:sp>
            <p:nvSpPr>
              <p:cNvPr id="336" name=""/>
              <p:cNvSpPr/>
              <p:nvPr/>
            </p:nvSpPr>
            <p:spPr>
              <a:xfrm rot="5400000">
                <a:off x="2036520" y="4030560"/>
                <a:ext cx="722520" cy="60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1836360" y="4325760"/>
                <a:ext cx="25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400000">
                <a:off x="6652800" y="4030560"/>
                <a:ext cx="722520" cy="60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R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7313760" y="4325760"/>
                <a:ext cx="25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1413000" y="4401720"/>
                <a:ext cx="658800" cy="63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35200" y="3852720"/>
                <a:ext cx="5850000" cy="1070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517840" y="4237200"/>
                <a:ext cx="40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2610000" y="4432320"/>
                <a:ext cx="25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71840" y="4387680"/>
                <a:ext cx="87120" cy="8604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389640" y="4235400"/>
                <a:ext cx="33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389280" y="4430880"/>
                <a:ext cx="25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27960" y="4386240"/>
                <a:ext cx="87120" cy="8568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859120" y="4164120"/>
                <a:ext cx="3568680" cy="158760"/>
                <a:chOff x="2859120" y="4164120"/>
                <a:chExt cx="3568680" cy="158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373800" y="4164120"/>
                  <a:ext cx="5400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2859120" y="4168800"/>
                  <a:ext cx="3540960" cy="154080"/>
                  <a:chOff x="2859120" y="4168800"/>
                  <a:chExt cx="3540960" cy="1540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2917800" y="4168800"/>
                    <a:ext cx="3482280" cy="15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59120" y="4168800"/>
                    <a:ext cx="116280" cy="154080"/>
                  </a:xfrm>
                  <a:prstGeom prst="ellipse">
                    <a:avLst/>
                  </a:prstGeom>
                  <a:solidFill>
                    <a:srgbClr val="9cbf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2849400" y="4340160"/>
                <a:ext cx="3568680" cy="158760"/>
                <a:chOff x="2849400" y="4340160"/>
                <a:chExt cx="3568680" cy="158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364080" y="4340160"/>
                  <a:ext cx="5400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49400" y="4344840"/>
                  <a:ext cx="3540960" cy="154080"/>
                  <a:chOff x="2849400" y="4344840"/>
                  <a:chExt cx="3540960" cy="1540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2908080" y="4344840"/>
                    <a:ext cx="3482280" cy="15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849400" y="4344840"/>
                    <a:ext cx="116280" cy="154080"/>
                  </a:xfrm>
                  <a:prstGeom prst="ellipse">
                    <a:avLst/>
                  </a:prstGeom>
                  <a:solidFill>
                    <a:srgbClr val="9cbf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8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operability with &gt; 6Gbps SERDES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329840"/>
            <a:ext cx="4800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 Devices that operate at 6+ Gbps can’t be modeled with current modeling standards in PCB SI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E/DFE tap coefficient optimization CDR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tary noise cancellation techniques and post-processing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 to develop, distribute and support internal tools to model SERDES IP / 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protect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Compan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to learn different tools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ifferent IC compan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t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576760" y="4862520"/>
            <a:ext cx="3360960" cy="1345680"/>
            <a:chOff x="5576760" y="4862520"/>
            <a:chExt cx="3360960" cy="1345680"/>
          </a:xfrm>
        </p:grpSpPr>
        <p:sp>
          <p:nvSpPr>
            <p:cNvPr id="361" name=""/>
            <p:cNvSpPr/>
            <p:nvPr/>
          </p:nvSpPr>
          <p:spPr>
            <a:xfrm>
              <a:off x="5627520" y="4862520"/>
              <a:ext cx="3310200" cy="1316160"/>
            </a:xfrm>
            <a:prstGeom prst="rect">
              <a:avLst/>
            </a:prstGeom>
            <a:solidFill>
              <a:srgbClr val="dbee96"/>
            </a:solidFill>
            <a:ln w="0">
              <a:noFill/>
            </a:ln>
            <a:effectLst>
              <a:outerShdw dist="17819" dir="2700000" blurRad="0" rotWithShape="0">
                <a:srgbClr val="9cbf2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143840" y="4991040"/>
              <a:ext cx="1731960" cy="1217160"/>
              <a:chOff x="7143840" y="4991040"/>
              <a:chExt cx="1731960" cy="121716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7578720" y="4991040"/>
                <a:ext cx="863280" cy="722160"/>
                <a:chOff x="7578720" y="4991040"/>
                <a:chExt cx="863280" cy="722160"/>
              </a:xfrm>
            </p:grpSpPr>
            <p:sp>
              <p:nvSpPr>
                <p:cNvPr id="364" name=""/>
                <p:cNvSpPr/>
                <p:nvPr/>
              </p:nvSpPr>
              <p:spPr>
                <a:xfrm rot="5400000">
                  <a:off x="7778520" y="5049720"/>
                  <a:ext cx="722160" cy="6048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460000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R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7578720" y="524484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7578720" y="545904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750440" y="5415480"/>
                  <a:ext cx="86760" cy="849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143840" y="5752800"/>
                <a:ext cx="17319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137160" anchor="t">
                <a:normAutofit fontScale="87000"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FE, Clock Recovery Algorith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576760" y="5043600"/>
              <a:ext cx="1474920" cy="990000"/>
              <a:chOff x="5576760" y="5043600"/>
              <a:chExt cx="1474920" cy="99000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948280" y="5043600"/>
                <a:ext cx="733320" cy="722160"/>
                <a:chOff x="5948280" y="5043600"/>
                <a:chExt cx="733320" cy="722160"/>
              </a:xfrm>
            </p:grpSpPr>
            <p:sp>
              <p:nvSpPr>
                <p:cNvPr id="371" name=""/>
                <p:cNvSpPr/>
                <p:nvPr/>
              </p:nvSpPr>
              <p:spPr>
                <a:xfrm rot="5400000">
                  <a:off x="5889600" y="5102280"/>
                  <a:ext cx="722160" cy="6048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460000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T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6423120" y="530532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6423120" y="5519520"/>
                  <a:ext cx="258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84960" y="5475240"/>
                  <a:ext cx="87120" cy="8568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576760" y="5813280"/>
                <a:ext cx="14749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137160" anchor="t">
                <a:normAutofit fontScale="46000"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FE Algorith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000840" y="4048200"/>
            <a:ext cx="2514600" cy="654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324480" y="2955960"/>
            <a:ext cx="1866960" cy="314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534000" y="1165320"/>
            <a:ext cx="1447920" cy="666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281640" y="3552840"/>
            <a:ext cx="1952640" cy="3906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6184800" y="2025720"/>
            <a:ext cx="2144880" cy="801720"/>
            <a:chOff x="6184800" y="2025720"/>
            <a:chExt cx="2144880" cy="801720"/>
          </a:xfrm>
        </p:grpSpPr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7508880" y="2025720"/>
              <a:ext cx="82080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6184800" y="2035080"/>
              <a:ext cx="127476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5410080"/>
            <a:ext cx="1828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7057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orithmic Modeling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Architecture &amp; Fl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e on “traditional” CA waveform output with additional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 transmitter, receiver models as 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framework for customers to evaluate IP in PCB system environment that offers interoperability with other drivers/rece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66680" y="4494240"/>
            <a:ext cx="7492680" cy="2155320"/>
            <a:chOff x="1066680" y="4494240"/>
            <a:chExt cx="7492680" cy="2155320"/>
          </a:xfrm>
        </p:grpSpPr>
        <p:sp>
          <p:nvSpPr>
            <p:cNvPr id="387" name=""/>
            <p:cNvSpPr/>
            <p:nvPr/>
          </p:nvSpPr>
          <p:spPr>
            <a:xfrm>
              <a:off x="3119040" y="5179680"/>
              <a:ext cx="25416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682720" y="4636800"/>
              <a:ext cx="268200" cy="1159920"/>
              <a:chOff x="2682720" y="4636800"/>
              <a:chExt cx="268200" cy="1159920"/>
            </a:xfrm>
          </p:grpSpPr>
          <p:sp>
            <p:nvSpPr>
              <p:cNvPr id="389" name=""/>
              <p:cNvSpPr/>
              <p:nvPr/>
            </p:nvSpPr>
            <p:spPr>
              <a:xfrm>
                <a:off x="2682720" y="4636800"/>
                <a:ext cx="230040" cy="307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720880" y="5353920"/>
                <a:ext cx="230040" cy="442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4306680" y="4878000"/>
              <a:ext cx="1676520" cy="75852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ave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4120" y="4981320"/>
              <a:ext cx="1782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54960" y="6021000"/>
              <a:ext cx="1675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w Wave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725640" y="5592240"/>
              <a:ext cx="55404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57360" y="5133600"/>
              <a:ext cx="94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6435360" y="4566960"/>
              <a:ext cx="21240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983200" y="5100480"/>
              <a:ext cx="41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207960" y="5671800"/>
              <a:ext cx="806400" cy="977760"/>
              <a:chOff x="3207960" y="5671800"/>
              <a:chExt cx="806400" cy="977760"/>
            </a:xfrm>
          </p:grpSpPr>
          <p:sp>
            <p:nvSpPr>
              <p:cNvPr id="399" name=""/>
              <p:cNvSpPr/>
              <p:nvPr/>
            </p:nvSpPr>
            <p:spPr>
              <a:xfrm>
                <a:off x="3207960" y="5671800"/>
                <a:ext cx="806400" cy="977760"/>
              </a:xfrm>
              <a:prstGeom prst="can">
                <a:avLst>
                  <a:gd name="adj" fmla="val 25000"/>
                </a:avLst>
              </a:prstGeom>
              <a:solidFill>
                <a:srgbClr val="ed171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72560" y="6011280"/>
                <a:ext cx="26136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x,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Rx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ib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066680" y="4833720"/>
              <a:ext cx="2287080" cy="609120"/>
              <a:chOff x="1066680" y="4833720"/>
              <a:chExt cx="2287080" cy="609120"/>
            </a:xfrm>
          </p:grpSpPr>
          <p:sp>
            <p:nvSpPr>
              <p:cNvPr id="402" name=""/>
              <p:cNvSpPr/>
              <p:nvPr/>
            </p:nvSpPr>
            <p:spPr>
              <a:xfrm>
                <a:off x="2850840" y="4975920"/>
                <a:ext cx="45720" cy="144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23520" y="4975920"/>
                <a:ext cx="1350720" cy="1443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01200" y="4975920"/>
                <a:ext cx="44280" cy="1443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50840" y="5155560"/>
                <a:ext cx="45720" cy="14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23520" y="5155560"/>
                <a:ext cx="1350720" cy="1440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01200" y="5155560"/>
                <a:ext cx="44280" cy="1440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400000">
                <a:off x="922320" y="4978080"/>
                <a:ext cx="609120" cy="320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400000">
                <a:off x="2889000" y="4978080"/>
                <a:ext cx="609120" cy="320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94920" y="5191920"/>
                <a:ext cx="45720" cy="7128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1294920" y="504756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1341000" y="5228640"/>
                <a:ext cx="18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2896920" y="50475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2896920" y="522864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87280" y="5191920"/>
                <a:ext cx="45720" cy="7128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61840" y="5025240"/>
                <a:ext cx="9788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261440" y="5484600"/>
              <a:ext cx="1738800" cy="358560"/>
              <a:chOff x="1261440" y="5484600"/>
              <a:chExt cx="1738800" cy="358560"/>
            </a:xfrm>
          </p:grpSpPr>
          <p:sp>
            <p:nvSpPr>
              <p:cNvPr id="418" name=""/>
              <p:cNvSpPr/>
              <p:nvPr/>
            </p:nvSpPr>
            <p:spPr>
              <a:xfrm>
                <a:off x="2817360" y="5484600"/>
                <a:ext cx="46080" cy="144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0400" y="5484600"/>
                <a:ext cx="1351080" cy="14436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68080" y="5484600"/>
                <a:ext cx="44640" cy="1443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17360" y="5663880"/>
                <a:ext cx="46080" cy="14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0400" y="5663880"/>
                <a:ext cx="1351080" cy="1440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68080" y="5663880"/>
                <a:ext cx="44640" cy="1440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61800" y="5700240"/>
                <a:ext cx="46080" cy="7128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61440" y="5555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307520" y="5736960"/>
                <a:ext cx="18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863440" y="5555880"/>
                <a:ext cx="13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863440" y="5736960"/>
                <a:ext cx="13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54160" y="5700240"/>
                <a:ext cx="46080" cy="7128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28360" y="5514480"/>
                <a:ext cx="9795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237680" y="4494240"/>
              <a:ext cx="1738800" cy="358560"/>
              <a:chOff x="1237680" y="4494240"/>
              <a:chExt cx="1738800" cy="358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793600" y="4494240"/>
                <a:ext cx="46080" cy="14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66640" y="4494240"/>
                <a:ext cx="1351080" cy="1440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44320" y="4494240"/>
                <a:ext cx="44640" cy="1440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93600" y="4673160"/>
                <a:ext cx="46080" cy="14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66640" y="4673160"/>
                <a:ext cx="1351080" cy="1440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44320" y="4673160"/>
                <a:ext cx="44640" cy="1440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38040" y="4709880"/>
                <a:ext cx="46080" cy="7092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237680" y="45651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283760" y="4746240"/>
                <a:ext cx="18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839680" y="4565160"/>
                <a:ext cx="13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839680" y="4746240"/>
                <a:ext cx="13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30400" y="4709880"/>
                <a:ext cx="46080" cy="7092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04600" y="4524120"/>
                <a:ext cx="9795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596880" y="4114800"/>
            <a:ext cx="8066160" cy="1752480"/>
          </a:xfrm>
          <a:prstGeom prst="rect">
            <a:avLst/>
          </a:prstGeom>
          <a:noFill/>
          <a:ln w="25560">
            <a:solidFill>
              <a:srgbClr val="a311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75120" y="5576760"/>
            <a:ext cx="1077840" cy="12193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0" y="4145040"/>
            <a:ext cx="27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117d"/>
                </a:solidFill>
                <a:latin typeface="Arial"/>
                <a:ea typeface="ＭＳ Ｐゴシック"/>
              </a:rPr>
              <a:t>Cadence / EDA 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91840" y="6400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C Co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with PCB Design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2320" y="4724280"/>
            <a:ext cx="1371600" cy="124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5040" y="519588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f20"/>
                </a:solidFill>
                <a:latin typeface="Arial"/>
                <a:ea typeface="ＭＳ Ｐゴシック"/>
              </a:rPr>
              <a:t>Tx + 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296040" y="4782960"/>
            <a:ext cx="1279440" cy="866880"/>
            <a:chOff x="6296040" y="4782960"/>
            <a:chExt cx="1279440" cy="866880"/>
          </a:xfrm>
        </p:grpSpPr>
        <p:sp>
          <p:nvSpPr>
            <p:cNvPr id="453" name=""/>
            <p:cNvSpPr/>
            <p:nvPr/>
          </p:nvSpPr>
          <p:spPr>
            <a:xfrm>
              <a:off x="6543000" y="4782960"/>
              <a:ext cx="1032480" cy="866880"/>
            </a:xfrm>
            <a:custGeom>
              <a:avLst/>
              <a:gdLst/>
              <a:ahLst/>
              <a:rect l="l" t="t" r="r" b="b"/>
              <a:pathLst>
                <a:path w="1501" h="572">
                  <a:moveTo>
                    <a:pt x="0" y="546"/>
                  </a:moveTo>
                  <a:cubicBezTo>
                    <a:pt x="43" y="503"/>
                    <a:pt x="79" y="455"/>
                    <a:pt x="113" y="405"/>
                  </a:cubicBezTo>
                  <a:cubicBezTo>
                    <a:pt x="136" y="317"/>
                    <a:pt x="150" y="228"/>
                    <a:pt x="170" y="140"/>
                  </a:cubicBezTo>
                  <a:cubicBezTo>
                    <a:pt x="187" y="65"/>
                    <a:pt x="168" y="139"/>
                    <a:pt x="198" y="65"/>
                  </a:cubicBezTo>
                  <a:cubicBezTo>
                    <a:pt x="206" y="46"/>
                    <a:pt x="217" y="8"/>
                    <a:pt x="217" y="8"/>
                  </a:cubicBezTo>
                  <a:cubicBezTo>
                    <a:pt x="287" y="25"/>
                    <a:pt x="234" y="0"/>
                    <a:pt x="264" y="46"/>
                  </a:cubicBezTo>
                  <a:cubicBezTo>
                    <a:pt x="271" y="57"/>
                    <a:pt x="283" y="65"/>
                    <a:pt x="293" y="74"/>
                  </a:cubicBezTo>
                  <a:cubicBezTo>
                    <a:pt x="319" y="155"/>
                    <a:pt x="277" y="40"/>
                    <a:pt x="330" y="131"/>
                  </a:cubicBezTo>
                  <a:cubicBezTo>
                    <a:pt x="336" y="142"/>
                    <a:pt x="335" y="156"/>
                    <a:pt x="340" y="168"/>
                  </a:cubicBezTo>
                  <a:cubicBezTo>
                    <a:pt x="345" y="179"/>
                    <a:pt x="353" y="187"/>
                    <a:pt x="359" y="197"/>
                  </a:cubicBezTo>
                  <a:cubicBezTo>
                    <a:pt x="365" y="229"/>
                    <a:pt x="372" y="280"/>
                    <a:pt x="387" y="310"/>
                  </a:cubicBezTo>
                  <a:cubicBezTo>
                    <a:pt x="397" y="330"/>
                    <a:pt x="425" y="367"/>
                    <a:pt x="425" y="367"/>
                  </a:cubicBezTo>
                  <a:cubicBezTo>
                    <a:pt x="428" y="376"/>
                    <a:pt x="432" y="385"/>
                    <a:pt x="434" y="395"/>
                  </a:cubicBezTo>
                  <a:cubicBezTo>
                    <a:pt x="438" y="417"/>
                    <a:pt x="438" y="440"/>
                    <a:pt x="444" y="461"/>
                  </a:cubicBezTo>
                  <a:cubicBezTo>
                    <a:pt x="455" y="496"/>
                    <a:pt x="471" y="491"/>
                    <a:pt x="500" y="508"/>
                  </a:cubicBezTo>
                  <a:cubicBezTo>
                    <a:pt x="585" y="558"/>
                    <a:pt x="527" y="535"/>
                    <a:pt x="585" y="556"/>
                  </a:cubicBezTo>
                  <a:cubicBezTo>
                    <a:pt x="655" y="547"/>
                    <a:pt x="672" y="553"/>
                    <a:pt x="708" y="499"/>
                  </a:cubicBezTo>
                  <a:cubicBezTo>
                    <a:pt x="744" y="508"/>
                    <a:pt x="767" y="525"/>
                    <a:pt x="802" y="537"/>
                  </a:cubicBezTo>
                  <a:cubicBezTo>
                    <a:pt x="900" y="524"/>
                    <a:pt x="852" y="535"/>
                    <a:pt x="935" y="508"/>
                  </a:cubicBezTo>
                  <a:cubicBezTo>
                    <a:pt x="944" y="505"/>
                    <a:pt x="963" y="499"/>
                    <a:pt x="963" y="499"/>
                  </a:cubicBezTo>
                  <a:cubicBezTo>
                    <a:pt x="991" y="505"/>
                    <a:pt x="1023" y="503"/>
                    <a:pt x="1048" y="518"/>
                  </a:cubicBezTo>
                  <a:cubicBezTo>
                    <a:pt x="1103" y="551"/>
                    <a:pt x="1011" y="572"/>
                    <a:pt x="1086" y="546"/>
                  </a:cubicBezTo>
                  <a:cubicBezTo>
                    <a:pt x="1102" y="498"/>
                    <a:pt x="1123" y="478"/>
                    <a:pt x="1171" y="461"/>
                  </a:cubicBezTo>
                  <a:cubicBezTo>
                    <a:pt x="1240" y="486"/>
                    <a:pt x="1272" y="500"/>
                    <a:pt x="1350" y="508"/>
                  </a:cubicBezTo>
                  <a:cubicBezTo>
                    <a:pt x="1353" y="509"/>
                    <a:pt x="1404" y="528"/>
                    <a:pt x="1407" y="527"/>
                  </a:cubicBezTo>
                  <a:cubicBezTo>
                    <a:pt x="1418" y="525"/>
                    <a:pt x="1424" y="510"/>
                    <a:pt x="1435" y="508"/>
                  </a:cubicBezTo>
                  <a:cubicBezTo>
                    <a:pt x="1457" y="504"/>
                    <a:pt x="1479" y="508"/>
                    <a:pt x="1501" y="508"/>
                  </a:cubicBezTo>
                </a:path>
              </a:pathLst>
            </a:custGeom>
            <a:noFill/>
            <a:ln w="25560">
              <a:solidFill>
                <a:srgbClr val="a31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96040" y="5611680"/>
              <a:ext cx="240480" cy="13680"/>
            </a:xfrm>
            <a:prstGeom prst="line">
              <a:avLst/>
            </a:prstGeom>
            <a:ln w="25560">
              <a:solidFill>
                <a:srgbClr val="a311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076560" y="4683240"/>
            <a:ext cx="1371600" cy="1245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075120" y="4753080"/>
            <a:ext cx="1312560" cy="828720"/>
            <a:chOff x="3075120" y="4753080"/>
            <a:chExt cx="1312560" cy="828720"/>
          </a:xfrm>
        </p:grpSpPr>
        <p:pic>
          <p:nvPicPr>
            <p:cNvPr id="457" name="" descr=""/>
            <p:cNvPicPr/>
            <p:nvPr/>
          </p:nvPicPr>
          <p:blipFill>
            <a:blip r:embed="rId1"/>
            <a:stretch/>
          </p:blipFill>
          <p:spPr>
            <a:xfrm>
              <a:off x="3075120" y="4753080"/>
              <a:ext cx="13125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358080" y="51195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cbf20"/>
                  </a:solidFill>
                  <a:latin typeface="Arial"/>
                  <a:ea typeface="ＭＳ Ｐゴシック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341440" y="5060880"/>
            <a:ext cx="238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bf2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87800" y="5019840"/>
            <a:ext cx="238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bf20"/>
                </a:solidFill>
                <a:latin typeface="Arial"/>
                <a:ea typeface="ＭＳ Ｐゴシック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585680" y="1295280"/>
            <a:ext cx="3643920" cy="2620800"/>
            <a:chOff x="4585680" y="1295280"/>
            <a:chExt cx="3643920" cy="2620800"/>
          </a:xfrm>
        </p:grpSpPr>
        <p:grpSp>
          <p:nvGrpSpPr>
            <p:cNvPr id="462" name=""/>
            <p:cNvGrpSpPr/>
            <p:nvPr/>
          </p:nvGrpSpPr>
          <p:grpSpPr>
            <a:xfrm>
              <a:off x="4838760" y="1620720"/>
              <a:ext cx="3340800" cy="2295360"/>
              <a:chOff x="4838760" y="1620720"/>
              <a:chExt cx="3340800" cy="2295360"/>
            </a:xfrm>
          </p:grpSpPr>
          <p:sp>
            <p:nvSpPr>
              <p:cNvPr id="463" name=""/>
              <p:cNvSpPr/>
              <p:nvPr/>
            </p:nvSpPr>
            <p:spPr>
              <a:xfrm>
                <a:off x="4838760" y="3458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941720" y="1620720"/>
                <a:ext cx="3237840" cy="1694880"/>
                <a:chOff x="4941720" y="1620720"/>
                <a:chExt cx="3237840" cy="1694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941720" y="2093760"/>
                  <a:ext cx="441360" cy="592200"/>
                </a:xfrm>
                <a:prstGeom prst="ellipse">
                  <a:avLst/>
                </a:prstGeom>
                <a:solidFill>
                  <a:srgbClr val="a3117d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ＭＳ Ｐゴシック"/>
                    </a:rPr>
                    <a:t>~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635800" y="2263680"/>
                  <a:ext cx="1385640" cy="338040"/>
                </a:xfrm>
                <a:prstGeom prst="rect">
                  <a:avLst/>
                </a:prstGeom>
                <a:solidFill>
                  <a:srgbClr val="a3117d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ＭＳ Ｐゴシック"/>
                    </a:rPr>
                    <a:t>channe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383080" y="2431800"/>
                  <a:ext cx="2527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021440" y="2431800"/>
                  <a:ext cx="25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11960" y="2172960"/>
                  <a:ext cx="496800" cy="433440"/>
                </a:xfrm>
                <a:prstGeom prst="ellipse">
                  <a:avLst/>
                </a:prstGeom>
                <a:solidFill>
                  <a:srgbClr val="a3117d"/>
                </a:solidFill>
                <a:ln cap="sq" w="12600">
                  <a:solidFill>
                    <a:srgbClr val="a311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5170320" y="1620720"/>
                  <a:ext cx="2409480" cy="1694880"/>
                  <a:chOff x="5170320" y="1620720"/>
                  <a:chExt cx="2409480" cy="169488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170320" y="1620720"/>
                    <a:ext cx="2141640" cy="393840"/>
                    <a:chOff x="5170320" y="1620720"/>
                    <a:chExt cx="2141640" cy="3938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170320" y="1620720"/>
                      <a:ext cx="405000" cy="393840"/>
                    </a:xfrm>
                    <a:prstGeom prst="ellipse">
                      <a:avLst/>
                    </a:prstGeom>
                    <a:solidFill>
                      <a:srgbClr val="f6580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~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806800" y="1733040"/>
                      <a:ext cx="1273680" cy="225000"/>
                    </a:xfrm>
                    <a:prstGeom prst="rect">
                      <a:avLst/>
                    </a:prstGeom>
                    <a:solidFill>
                      <a:srgbClr val="f6580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Xtalk cha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75320" y="1845720"/>
                      <a:ext cx="231120" cy="0"/>
                    </a:xfrm>
                    <a:prstGeom prst="line">
                      <a:avLst/>
                    </a:prstGeom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7080480" y="1845720"/>
                      <a:ext cx="231480" cy="0"/>
                    </a:xfrm>
                    <a:prstGeom prst="line">
                      <a:avLst/>
                    </a:prstGeom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5208480" y="2921760"/>
                    <a:ext cx="2141640" cy="393840"/>
                    <a:chOff x="5208480" y="2921760"/>
                    <a:chExt cx="2141640" cy="3938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208480" y="2921760"/>
                      <a:ext cx="405000" cy="393840"/>
                    </a:xfrm>
                    <a:prstGeom prst="ellipse">
                      <a:avLst/>
                    </a:prstGeom>
                    <a:solidFill>
                      <a:srgbClr val="f6580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~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5844960" y="3034080"/>
                      <a:ext cx="1273680" cy="225000"/>
                    </a:xfrm>
                    <a:prstGeom prst="rect">
                      <a:avLst/>
                    </a:prstGeom>
                    <a:solidFill>
                      <a:srgbClr val="f6580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Xtalk cha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613480" y="3146760"/>
                      <a:ext cx="231120" cy="0"/>
                    </a:xfrm>
                    <a:prstGeom prst="line">
                      <a:avLst/>
                    </a:prstGeom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7118640" y="3146760"/>
                      <a:ext cx="231480" cy="0"/>
                    </a:xfrm>
                    <a:prstGeom prst="line">
                      <a:avLst/>
                    </a:prstGeom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7312320" y="1817640"/>
                    <a:ext cx="229320" cy="3546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350480" y="2645640"/>
                    <a:ext cx="229320" cy="5126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7852680" y="2234880"/>
                  <a:ext cx="326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a3117d"/>
                      </a:solidFill>
                      <a:latin typeface="Arial"/>
                      <a:ea typeface="ＭＳ Ｐゴシック"/>
                    </a:rPr>
                    <a:t>R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4959360" y="1295280"/>
              <a:ext cx="638280" cy="253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1295280"/>
              <a:ext cx="1595520" cy="253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72360" y="1295280"/>
              <a:ext cx="957240" cy="253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85680" y="2374920"/>
              <a:ext cx="28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3117d"/>
                  </a:solidFill>
                  <a:latin typeface="Arial"/>
                  <a:ea typeface="ＭＳ Ｐゴシック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79480" y="1401840"/>
            <a:ext cx="2628000" cy="2595600"/>
            <a:chOff x="879480" y="1401840"/>
            <a:chExt cx="2628000" cy="2595600"/>
          </a:xfrm>
        </p:grpSpPr>
        <p:grpSp>
          <p:nvGrpSpPr>
            <p:cNvPr id="489" name=""/>
            <p:cNvGrpSpPr/>
            <p:nvPr/>
          </p:nvGrpSpPr>
          <p:grpSpPr>
            <a:xfrm>
              <a:off x="879480" y="1401840"/>
              <a:ext cx="2420280" cy="2224080"/>
              <a:chOff x="879480" y="1401840"/>
              <a:chExt cx="2420280" cy="22240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879480" y="2216520"/>
                <a:ext cx="511920" cy="595080"/>
                <a:chOff x="879480" y="2216520"/>
                <a:chExt cx="511920" cy="595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055160" y="2216520"/>
                  <a:ext cx="336240" cy="5950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117d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480" y="244656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3440" y="260892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879480" y="3011760"/>
                <a:ext cx="511920" cy="596880"/>
                <a:chOff x="879480" y="3011760"/>
                <a:chExt cx="511920" cy="5968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1055160" y="3011760"/>
                  <a:ext cx="336240" cy="5968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95b0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79480" y="324252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3440" y="340524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879480" y="1401840"/>
                <a:ext cx="511920" cy="596880"/>
                <a:chOff x="879480" y="1401840"/>
                <a:chExt cx="511920" cy="59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055160" y="1401840"/>
                  <a:ext cx="336240" cy="5968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95b0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79480" y="163260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83440" y="179532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787120" y="2233800"/>
                <a:ext cx="512640" cy="596880"/>
                <a:chOff x="2787120" y="2233800"/>
                <a:chExt cx="512640" cy="5968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963160" y="2233800"/>
                  <a:ext cx="336600" cy="5968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117d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787120" y="246456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791080" y="262728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87120" y="3029040"/>
                <a:ext cx="512640" cy="596880"/>
                <a:chOff x="2787120" y="3029040"/>
                <a:chExt cx="512640" cy="596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963160" y="3029040"/>
                  <a:ext cx="336600" cy="5968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95b0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87120" y="325980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91080" y="342252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787120" y="1419480"/>
                <a:ext cx="512640" cy="596880"/>
                <a:chOff x="2787120" y="1419480"/>
                <a:chExt cx="512640" cy="5968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963160" y="1419480"/>
                  <a:ext cx="336600" cy="59688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0" y="0"/>
                      </a:moveTo>
                      <a:lnTo>
                        <a:pt x="0" y="672"/>
                      </a:lnTo>
                      <a:lnTo>
                        <a:pt x="480" y="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95b0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787120" y="165024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791080" y="1812960"/>
                  <a:ext cx="1681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1522080" y="1498680"/>
                <a:ext cx="1263240" cy="2065320"/>
              </a:xfrm>
              <a:prstGeom prst="rect">
                <a:avLst/>
              </a:prstGeom>
              <a:solidFill>
                <a:srgbClr val="4a95b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Cha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(Pkg + conns +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PCBs 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Backplane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90240" y="1614600"/>
                <a:ext cx="239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90240" y="1794240"/>
                <a:ext cx="239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06080" y="2418120"/>
                <a:ext cx="2379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06080" y="2598840"/>
                <a:ext cx="2379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82320" y="3213360"/>
                <a:ext cx="239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82320" y="3394440"/>
                <a:ext cx="239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180600" y="2149560"/>
              <a:ext cx="32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117d"/>
                  </a:solidFill>
                  <a:latin typeface="Arial"/>
                  <a:ea typeface="ＭＳ Ｐゴシック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85600" y="3722760"/>
              <a:ext cx="76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cbf20"/>
                  </a:solidFill>
                  <a:latin typeface="Arial"/>
                  <a:ea typeface="ＭＳ Ｐゴシック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581280" y="24382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cc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A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ize and optimize channel with Tx / Rx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where the IC DSP decides how to drive the system: e.g., filter coefficients, channel compensa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: Channel Characterization, system and dll specific parameters from config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61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1808"/>
                </a:solidFill>
                <a:latin typeface="Arial"/>
                <a:ea typeface="ＭＳ Ｐゴシック"/>
              </a:rPr>
              <a:t>bit peri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e61808"/>
                </a:solidFill>
                <a:latin typeface="Arial"/>
                <a:ea typeface="ＭＳ Ｐゴシック"/>
              </a:rPr>
              <a:t>sampling interv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# of forward/backward coefficient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: Modified Channel Characterization, st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y continuous time domain waveform [CDR, Post Process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: Voltage at Rx input at specific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: Modified Voltage, Clock tics,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n up,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51360" y="6059520"/>
            <a:ext cx="5746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1808"/>
                </a:solidFill>
                <a:latin typeface="Arial"/>
                <a:ea typeface="ＭＳ Ｐゴシック"/>
              </a:rPr>
              <a:t>Parameters passed by the system simulation platform are in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191120" y="685800"/>
            <a:ext cx="4343400" cy="5334120"/>
          </a:xfrm>
          <a:prstGeom prst="rect">
            <a:avLst/>
          </a:prstGeom>
          <a:solidFill>
            <a:srgbClr val="feb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990720"/>
            <a:ext cx="3733560" cy="2209680"/>
          </a:xfrm>
          <a:prstGeom prst="rect">
            <a:avLst/>
          </a:prstGeom>
          <a:solidFill>
            <a:srgbClr val="9cb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_in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81200" y="1474920"/>
            <a:ext cx="2378880" cy="1166040"/>
            <a:chOff x="781200" y="1474920"/>
            <a:chExt cx="2378880" cy="1166040"/>
          </a:xfrm>
        </p:grpSpPr>
        <p:grpSp>
          <p:nvGrpSpPr>
            <p:cNvPr id="531" name=""/>
            <p:cNvGrpSpPr/>
            <p:nvPr/>
          </p:nvGrpSpPr>
          <p:grpSpPr>
            <a:xfrm>
              <a:off x="781200" y="1775520"/>
              <a:ext cx="2378880" cy="541080"/>
              <a:chOff x="781200" y="1775520"/>
              <a:chExt cx="2378880" cy="541080"/>
            </a:xfrm>
          </p:grpSpPr>
          <p:sp>
            <p:nvSpPr>
              <p:cNvPr id="532" name=""/>
              <p:cNvSpPr/>
              <p:nvPr/>
            </p:nvSpPr>
            <p:spPr>
              <a:xfrm>
                <a:off x="2637000" y="190188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56400" y="190188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233360" y="190188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37000" y="206136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256400" y="206136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33360" y="206136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5400000">
                <a:off x="677160" y="1879200"/>
                <a:ext cx="541080" cy="333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5400000">
                <a:off x="2722680" y="1879200"/>
                <a:ext cx="541080" cy="333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18800" y="20937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1018800" y="196560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066320" y="212616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684880" y="1965600"/>
                <a:ext cx="1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2684880" y="2126160"/>
                <a:ext cx="1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78840" y="20937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04440" y="1945800"/>
                <a:ext cx="101808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984240" y="2354040"/>
              <a:ext cx="1807200" cy="286920"/>
              <a:chOff x="984240" y="2354040"/>
              <a:chExt cx="1807200" cy="286920"/>
            </a:xfrm>
          </p:grpSpPr>
          <p:sp>
            <p:nvSpPr>
              <p:cNvPr id="548" name=""/>
              <p:cNvSpPr/>
              <p:nvPr/>
            </p:nvSpPr>
            <p:spPr>
              <a:xfrm>
                <a:off x="2601360" y="235404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21840" y="235404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198440" y="235404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01360" y="251316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21840" y="2513160"/>
                <a:ext cx="140472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198440" y="2513160"/>
                <a:ext cx="4608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84240" y="25455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984240" y="241740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1031760" y="257796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648880" y="241740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2648880" y="2577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43560" y="25455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70960" y="2382120"/>
                <a:ext cx="101628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959040" y="1474920"/>
              <a:ext cx="1809000" cy="286560"/>
              <a:chOff x="959040" y="1474920"/>
              <a:chExt cx="1809000" cy="286560"/>
            </a:xfrm>
          </p:grpSpPr>
          <p:sp>
            <p:nvSpPr>
              <p:cNvPr id="562" name=""/>
              <p:cNvSpPr/>
              <p:nvPr/>
            </p:nvSpPr>
            <p:spPr>
              <a:xfrm>
                <a:off x="2577960" y="147492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196640" y="1474920"/>
                <a:ext cx="140616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73600" y="1474920"/>
                <a:ext cx="4644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77960" y="163368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196640" y="1633680"/>
                <a:ext cx="140616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173600" y="1633680"/>
                <a:ext cx="4644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9040" y="1666080"/>
                <a:ext cx="47880" cy="6300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959040" y="153792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006560" y="169812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625480" y="153792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625480" y="169812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20160" y="1666080"/>
                <a:ext cx="47880" cy="6300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44320" y="1502640"/>
                <a:ext cx="101916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986360" y="1353960"/>
            <a:ext cx="2106720" cy="11844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187960" y="3900600"/>
            <a:ext cx="1920960" cy="1090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529080" y="2050920"/>
            <a:ext cx="109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352320" y="1752480"/>
            <a:ext cx="12380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 characterizatio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33960" y="2930400"/>
            <a:ext cx="234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P algorith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y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838840" y="249696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03560" y="3282840"/>
            <a:ext cx="2790720" cy="1206720"/>
          </a:xfrm>
          <a:custGeom>
            <a:avLst/>
            <a:gdLst/>
            <a:ahLst/>
            <a:rect l="l" t="t" r="r" b="b"/>
            <a:pathLst>
              <a:path w="1758" h="760">
                <a:moveTo>
                  <a:pt x="1758" y="760"/>
                </a:moveTo>
                <a:lnTo>
                  <a:pt x="0" y="76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84720" y="4935600"/>
            <a:ext cx="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63360" y="5450040"/>
            <a:ext cx="15858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35160" y="4572000"/>
            <a:ext cx="1609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73120" y="5715000"/>
            <a:ext cx="6210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2895480"/>
            <a:ext cx="13845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A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04920" y="990720"/>
            <a:ext cx="3733560" cy="2133360"/>
          </a:xfrm>
          <a:prstGeom prst="rect">
            <a:avLst/>
          </a:prstGeom>
          <a:solidFill>
            <a:srgbClr val="9cb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05520" y="914400"/>
            <a:ext cx="3733560" cy="5257800"/>
          </a:xfrm>
          <a:prstGeom prst="rect">
            <a:avLst/>
          </a:prstGeom>
          <a:solidFill>
            <a:srgbClr val="feb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_getw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1200" y="1474920"/>
            <a:ext cx="2378880" cy="1166040"/>
            <a:chOff x="781200" y="1474920"/>
            <a:chExt cx="2378880" cy="1166040"/>
          </a:xfrm>
        </p:grpSpPr>
        <p:grpSp>
          <p:nvGrpSpPr>
            <p:cNvPr id="591" name=""/>
            <p:cNvGrpSpPr/>
            <p:nvPr/>
          </p:nvGrpSpPr>
          <p:grpSpPr>
            <a:xfrm>
              <a:off x="781200" y="1775520"/>
              <a:ext cx="2378880" cy="541080"/>
              <a:chOff x="781200" y="1775520"/>
              <a:chExt cx="2378880" cy="541080"/>
            </a:xfrm>
          </p:grpSpPr>
          <p:sp>
            <p:nvSpPr>
              <p:cNvPr id="592" name=""/>
              <p:cNvSpPr/>
              <p:nvPr/>
            </p:nvSpPr>
            <p:spPr>
              <a:xfrm>
                <a:off x="2637000" y="190188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256400" y="190188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33360" y="190188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37000" y="206136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256400" y="206136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33360" y="206136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400000">
                <a:off x="677160" y="1879200"/>
                <a:ext cx="541080" cy="333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2722680" y="1879200"/>
                <a:ext cx="541080" cy="333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0000"/>
                  </a:gs>
                  <a:gs pos="100000">
                    <a:srgbClr val="4600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18800" y="20937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1018800" y="196560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1066320" y="212616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684880" y="1965600"/>
                <a:ext cx="1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684880" y="2126160"/>
                <a:ext cx="1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78840" y="20937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04440" y="1945800"/>
                <a:ext cx="101808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984240" y="2354040"/>
              <a:ext cx="1807200" cy="286920"/>
              <a:chOff x="984240" y="2354040"/>
              <a:chExt cx="1807200" cy="286920"/>
            </a:xfrm>
          </p:grpSpPr>
          <p:sp>
            <p:nvSpPr>
              <p:cNvPr id="608" name=""/>
              <p:cNvSpPr/>
              <p:nvPr/>
            </p:nvSpPr>
            <p:spPr>
              <a:xfrm>
                <a:off x="2601360" y="2354040"/>
                <a:ext cx="47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1840" y="2354040"/>
                <a:ext cx="1404720" cy="12816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98440" y="2354040"/>
                <a:ext cx="46080" cy="12816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01360" y="251316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21840" y="2513160"/>
                <a:ext cx="140472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98440" y="2513160"/>
                <a:ext cx="4608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84240" y="25455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984240" y="241740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031760" y="257796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2648880" y="241740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648880" y="25779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43560" y="2545560"/>
                <a:ext cx="47880" cy="6336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470960" y="2382120"/>
                <a:ext cx="101628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959040" y="1474920"/>
              <a:ext cx="1809000" cy="286560"/>
              <a:chOff x="959040" y="1474920"/>
              <a:chExt cx="1809000" cy="286560"/>
            </a:xfrm>
          </p:grpSpPr>
          <p:sp>
            <p:nvSpPr>
              <p:cNvPr id="622" name=""/>
              <p:cNvSpPr/>
              <p:nvPr/>
            </p:nvSpPr>
            <p:spPr>
              <a:xfrm>
                <a:off x="2577960" y="147492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96640" y="1474920"/>
                <a:ext cx="140616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73600" y="1474920"/>
                <a:ext cx="4644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577960" y="1633680"/>
                <a:ext cx="47880" cy="127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96640" y="1633680"/>
                <a:ext cx="1406160" cy="127800"/>
              </a:xfrm>
              <a:prstGeom prst="rect">
                <a:avLst/>
              </a:prstGeom>
              <a:gradFill rotWithShape="0">
                <a:gsLst>
                  <a:gs pos="0">
                    <a:srgbClr val="004358"/>
                  </a:gs>
                  <a:gs pos="50000">
                    <a:srgbClr val="0192bf"/>
                  </a:gs>
                  <a:gs pos="100000">
                    <a:srgbClr val="0043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73600" y="1633680"/>
                <a:ext cx="46440" cy="127800"/>
              </a:xfrm>
              <a:prstGeom prst="ellipse">
                <a:avLst/>
              </a:prstGeom>
              <a:solidFill>
                <a:srgbClr val="9c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59040" y="1666080"/>
                <a:ext cx="47880" cy="6300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959040" y="1537920"/>
                <a:ext cx="23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006560" y="1698120"/>
                <a:ext cx="18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625480" y="153792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625480" y="169812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20160" y="1666080"/>
                <a:ext cx="47880" cy="63000"/>
              </a:xfrm>
              <a:prstGeom prst="ellipse">
                <a:avLst/>
              </a:prstGeom>
              <a:solidFill>
                <a:srgbClr val="99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44320" y="1502640"/>
                <a:ext cx="101916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XTALK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Black"/>
                    <a:ea typeface="ＭＳ Ｐゴシック"/>
                  </a:rPr>
                  <a:t>CHANN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1378080" cy="241560"/>
          </a:xfrm>
          <a:prstGeom prst="rect">
            <a:avLst/>
          </a:prstGeom>
          <a:ln w="0">
            <a:noFill/>
          </a:ln>
        </p:spPr>
      </p:pic>
      <p:grpSp>
        <p:nvGrpSpPr>
          <p:cNvPr id="636" name=""/>
          <p:cNvGrpSpPr/>
          <p:nvPr/>
        </p:nvGrpSpPr>
        <p:grpSpPr>
          <a:xfrm>
            <a:off x="6046920" y="2468520"/>
            <a:ext cx="1581120" cy="1000440"/>
            <a:chOff x="6046920" y="2468520"/>
            <a:chExt cx="1581120" cy="1000440"/>
          </a:xfrm>
        </p:grpSpPr>
        <p:sp>
          <p:nvSpPr>
            <p:cNvPr id="637" name=""/>
            <p:cNvSpPr/>
            <p:nvPr/>
          </p:nvSpPr>
          <p:spPr>
            <a:xfrm>
              <a:off x="6312240" y="2468520"/>
              <a:ext cx="122400" cy="14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30520" y="2518920"/>
              <a:ext cx="8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37240" y="2468520"/>
              <a:ext cx="125280" cy="14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6701400" y="2848680"/>
              <a:ext cx="101880" cy="282240"/>
              <a:chOff x="6701400" y="2848680"/>
              <a:chExt cx="101880" cy="282240"/>
            </a:xfrm>
          </p:grpSpPr>
          <p:sp>
            <p:nvSpPr>
              <p:cNvPr id="641" name=""/>
              <p:cNvSpPr/>
              <p:nvPr/>
            </p:nvSpPr>
            <p:spPr>
              <a:xfrm>
                <a:off x="6701400" y="2848680"/>
                <a:ext cx="101880" cy="151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52520" y="2881800"/>
                <a:ext cx="36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6435000" y="2518920"/>
              <a:ext cx="10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6189840" y="2696760"/>
              <a:ext cx="102240" cy="274320"/>
              <a:chOff x="6189840" y="2696760"/>
              <a:chExt cx="102240" cy="274320"/>
            </a:xfrm>
          </p:grpSpPr>
          <p:sp>
            <p:nvSpPr>
              <p:cNvPr id="645" name=""/>
              <p:cNvSpPr/>
              <p:nvPr/>
            </p:nvSpPr>
            <p:spPr>
              <a:xfrm>
                <a:off x="6189840" y="2696760"/>
                <a:ext cx="10224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38440" y="280620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6435000" y="2696760"/>
              <a:ext cx="102600" cy="274320"/>
              <a:chOff x="6435000" y="2696760"/>
              <a:chExt cx="102600" cy="274320"/>
            </a:xfrm>
          </p:grpSpPr>
          <p:sp>
            <p:nvSpPr>
              <p:cNvPr id="648" name=""/>
              <p:cNvSpPr/>
              <p:nvPr/>
            </p:nvSpPr>
            <p:spPr>
              <a:xfrm>
                <a:off x="6435000" y="2696760"/>
                <a:ext cx="1026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84680" y="280620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6230520" y="251892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76040" y="251892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30520" y="2924640"/>
              <a:ext cx="47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30520" y="2848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76040" y="2848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46920" y="2518920"/>
              <a:ext cx="18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247160" y="293184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171560" y="3346200"/>
              <a:ext cx="8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46200" y="3346200"/>
              <a:ext cx="1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7205040" y="3015720"/>
              <a:ext cx="101880" cy="167400"/>
              <a:chOff x="7205040" y="3015720"/>
              <a:chExt cx="101880" cy="167400"/>
            </a:xfrm>
          </p:grpSpPr>
          <p:sp>
            <p:nvSpPr>
              <p:cNvPr id="660" name=""/>
              <p:cNvSpPr/>
              <p:nvPr/>
            </p:nvSpPr>
            <p:spPr>
              <a:xfrm flipH="1" flipV="1">
                <a:off x="7204680" y="3030480"/>
                <a:ext cx="10188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7253640" y="3015360"/>
                <a:ext cx="360" cy="1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959520" y="3015720"/>
              <a:ext cx="101880" cy="167400"/>
              <a:chOff x="6959520" y="3015720"/>
              <a:chExt cx="101880" cy="167400"/>
            </a:xfrm>
          </p:grpSpPr>
          <p:sp>
            <p:nvSpPr>
              <p:cNvPr id="663" name=""/>
              <p:cNvSpPr/>
              <p:nvPr/>
            </p:nvSpPr>
            <p:spPr>
              <a:xfrm flipH="1" flipV="1">
                <a:off x="6959160" y="3030480"/>
                <a:ext cx="10188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7008120" y="3015360"/>
                <a:ext cx="360" cy="1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 flipV="1">
              <a:off x="7266960" y="316800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021440" y="316800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796440" y="2940480"/>
              <a:ext cx="83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021440" y="2940480"/>
              <a:ext cx="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26640" y="3069720"/>
              <a:ext cx="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78600" y="3065400"/>
              <a:ext cx="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64120" y="3345480"/>
              <a:ext cx="128880" cy="1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a3117d"/>
                  </a:solidFill>
                  <a:latin typeface="Arial"/>
                  <a:ea typeface="ＭＳ Ｐゴシック"/>
                </a:rPr>
                <a:t>Z</a:t>
              </a:r>
              <a:r>
                <a:rPr b="0" lang="en-US" sz="900" spc="-1" strike="noStrike" baseline="30000">
                  <a:solidFill>
                    <a:srgbClr val="a3117d"/>
                  </a:solidFill>
                  <a:latin typeface="Arial"/>
                  <a:ea typeface="ＭＳ Ｐゴシック"/>
                </a:rPr>
                <a:t>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75080" y="3340800"/>
              <a:ext cx="128880" cy="1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a3117d"/>
                  </a:solidFill>
                  <a:latin typeface="Arial"/>
                  <a:ea typeface="ＭＳ Ｐゴシック"/>
                </a:rPr>
                <a:t>Z</a:t>
              </a:r>
              <a:r>
                <a:rPr b="0" lang="en-US" sz="900" spc="-1" strike="noStrike" baseline="30000">
                  <a:solidFill>
                    <a:srgbClr val="a3117d"/>
                  </a:solidFill>
                  <a:latin typeface="Arial"/>
                  <a:ea typeface="ＭＳ Ｐゴシック"/>
                </a:rPr>
                <a:t>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66960" y="2952000"/>
              <a:ext cx="227160" cy="382680"/>
            </a:xfrm>
            <a:custGeom>
              <a:avLst/>
              <a:gdLst/>
              <a:ahLst/>
              <a:rect l="l" t="t" r="r" b="b"/>
              <a:pathLst>
                <a:path w="192" h="514">
                  <a:moveTo>
                    <a:pt x="192" y="0"/>
                  </a:moveTo>
                  <a:lnTo>
                    <a:pt x="192" y="514"/>
                  </a:lnTo>
                  <a:lnTo>
                    <a:pt x="0" y="5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37160" y="3323880"/>
              <a:ext cx="128880" cy="12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a3117d"/>
                  </a:solidFill>
                  <a:latin typeface="Arial"/>
                  <a:ea typeface="ＭＳ Ｐゴシック"/>
                </a:rPr>
                <a:t>Z</a:t>
              </a:r>
              <a:r>
                <a:rPr b="0" lang="en-US" sz="900" spc="-1" strike="noStrike" baseline="30000">
                  <a:solidFill>
                    <a:srgbClr val="a3117d"/>
                  </a:solidFill>
                  <a:latin typeface="Arial"/>
                  <a:ea typeface="ＭＳ Ｐゴシック"/>
                </a:rPr>
                <a:t>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1377720" cy="581040"/>
          </a:xfrm>
          <a:prstGeom prst="rect">
            <a:avLst/>
          </a:prstGeom>
          <a:ln w="0">
            <a:noFill/>
          </a:ln>
        </p:spPr>
      </p:pic>
      <p:grpSp>
        <p:nvGrpSpPr>
          <p:cNvPr id="676" name=""/>
          <p:cNvGrpSpPr/>
          <p:nvPr/>
        </p:nvGrpSpPr>
        <p:grpSpPr>
          <a:xfrm>
            <a:off x="3048120" y="4876920"/>
            <a:ext cx="1019160" cy="376200"/>
            <a:chOff x="3048120" y="4876920"/>
            <a:chExt cx="1019160" cy="376200"/>
          </a:xfrm>
        </p:grpSpPr>
        <p:grpSp>
          <p:nvGrpSpPr>
            <p:cNvPr id="677" name=""/>
            <p:cNvGrpSpPr/>
            <p:nvPr/>
          </p:nvGrpSpPr>
          <p:grpSpPr>
            <a:xfrm>
              <a:off x="3177000" y="4954320"/>
              <a:ext cx="761760" cy="222120"/>
              <a:chOff x="3177000" y="4954320"/>
              <a:chExt cx="761760" cy="222120"/>
            </a:xfrm>
          </p:grpSpPr>
          <p:sp>
            <p:nvSpPr>
              <p:cNvPr id="678" name=""/>
              <p:cNvSpPr/>
              <p:nvPr/>
            </p:nvSpPr>
            <p:spPr>
              <a:xfrm flipV="1">
                <a:off x="317700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332928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48156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363420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78648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3938760" y="4954320"/>
                <a:ext cx="0" cy="222120"/>
              </a:xfrm>
              <a:prstGeom prst="line">
                <a:avLst/>
              </a:prstGeom>
              <a:ln w="28440">
                <a:solidFill>
                  <a:srgbClr val="ed171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3048120" y="4876920"/>
              <a:ext cx="1019160" cy="37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815080" y="2333520"/>
            <a:ext cx="2074680" cy="16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305160" y="2028960"/>
            <a:ext cx="3476520" cy="257040"/>
          </a:xfrm>
          <a:custGeom>
            <a:avLst/>
            <a:gdLst/>
            <a:ahLst/>
            <a:rect l="l" t="t" r="r" b="b"/>
            <a:pathLst>
              <a:path w="2179" h="96">
                <a:moveTo>
                  <a:pt x="0" y="0"/>
                </a:moveTo>
                <a:lnTo>
                  <a:pt x="2179" y="0"/>
                </a:lnTo>
                <a:lnTo>
                  <a:pt x="2179" y="9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2827200">
            <a:off x="6733080" y="4699800"/>
            <a:ext cx="541080" cy="561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37200" y="4371840"/>
            <a:ext cx="1852560" cy="120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72560" y="5257800"/>
            <a:ext cx="494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248520" y="3657600"/>
            <a:ext cx="10414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P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58520" y="1676520"/>
            <a:ext cx="17258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ve_in (v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38480" y="3083040"/>
            <a:ext cx="3541680" cy="574560"/>
          </a:xfrm>
          <a:custGeom>
            <a:avLst/>
            <a:gdLst/>
            <a:ahLst/>
            <a:rect l="l" t="t" r="r" b="b"/>
            <a:pathLst>
              <a:path w="2231" h="362">
                <a:moveTo>
                  <a:pt x="2231" y="362"/>
                </a:moveTo>
                <a:lnTo>
                  <a:pt x="0" y="36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73240" y="3333600"/>
            <a:ext cx="1609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tered wave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00280" y="3152880"/>
            <a:ext cx="4325760" cy="2257200"/>
          </a:xfrm>
          <a:custGeom>
            <a:avLst/>
            <a:gdLst/>
            <a:ahLst/>
            <a:rect l="l" t="t" r="r" b="b"/>
            <a:pathLst>
              <a:path w="2725" h="1507">
                <a:moveTo>
                  <a:pt x="2725" y="1507"/>
                </a:moveTo>
                <a:lnTo>
                  <a:pt x="0" y="150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72160" y="5467320"/>
            <a:ext cx="12564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ck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764400" y="2016000"/>
            <a:ext cx="1687320" cy="2521080"/>
          </a:xfrm>
          <a:custGeom>
            <a:avLst/>
            <a:gdLst/>
            <a:ahLst/>
            <a:rect l="l" t="t" r="r" b="b"/>
            <a:pathLst>
              <a:path w="1063" h="1588">
                <a:moveTo>
                  <a:pt x="0" y="0"/>
                </a:moveTo>
                <a:lnTo>
                  <a:pt x="1063" y="0"/>
                </a:lnTo>
                <a:lnTo>
                  <a:pt x="1056" y="1588"/>
                </a:lnTo>
                <a:lnTo>
                  <a:pt x="724" y="15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065080" y="5848200"/>
            <a:ext cx="6210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77960" y="2819520"/>
            <a:ext cx="13845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A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’s in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34880" y="1218960"/>
            <a:ext cx="512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 Model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able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params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able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r 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er model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91320" y="1143000"/>
            <a:ext cx="3124080" cy="4419720"/>
          </a:xfrm>
          <a:prstGeom prst="rect">
            <a:avLst/>
          </a:prstGeom>
          <a:solidFill>
            <a:srgbClr val="4a95b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sample model and tester program to understand the details of the IBIS AMI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 your own algorithmic models using starter model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the tester program to test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mant Shah</dc:creator>
  <dc:description/>
  <cp:keywords>AMI API</cp:keywords>
  <dc:language>en-US</dc:language>
  <cp:lastModifiedBy>masuko</cp:lastModifiedBy>
  <dcterms:modified xsi:type="dcterms:W3CDTF">2007-09-13T02:13:1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NewReviewCycle">
    <vt:lpwstr/>
  </property>
</Properties>
</file>