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07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38FF1104-6AA5-480F-BE9B-97C51EC257C6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Tree and Evolution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Document Update</a:t>
            </a:r>
            <a:br>
              <a:rPr sz="3600"/>
            </a:b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ian IBIS Summ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kyo, Jap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ptember 14, 2007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ree Diagram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ee diagram featu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Keywords and hierarchy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Subparameter list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Reserved arguments and other defined list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Additions in major IBIS version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Other pre-defined information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.ibs, .ebd, .pkg full trees and combination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Evolution Documen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volution document featu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Organized by major version evolution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Additional rules and changes evolution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Significant subparameter selections such as the *_type subparameter list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Naming consistency made apparent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ee and Evolution documents contain overlapping information and some unique inform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Usage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yntax guides: IBIS syntax summa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lps to fit in future addi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poses some unfamiliar areas of IBIS with minimal or no industrial suppo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ll continue to find/fix minor erro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inor corrections from July 2006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http://www.eda.org/pub/ibis/summits/sep07b/: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ross_4_2_tree.txt  (unofficial expansion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ross_4_2_evol.pdf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07-08-30T17:20:08Z</dcterms:modified>
  <cp:revision>591</cp:revision>
  <dc:subject/>
  <dc:title>IBIS</dc:title>
</cp:coreProperties>
</file>