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391B-F9F2-4DF4-B129-D7E4F1ABE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A1C2-7AE7-4011-B8CE-4810939D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46873-5CE0-4A33-A41D-F59AB6BF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B1E87-ED3E-4E1D-9E40-B266E78C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ABA25-F9EE-4952-8EAE-C2F1900B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0E8A8-D9D0-44D9-A71F-5C9E5E4A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0077E-306B-49ED-BAC0-0AF5F1F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2121F-8803-4704-B53D-EA709DC0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2920F-174F-4C5E-A93A-69594447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8775D8-C307-44D0-835B-76644C0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8BC53-EC98-40FA-B5E5-C1FA70337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397E-9ED4-4716-9D73-9530C71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98AC-BA29-4793-A26F-9066877CD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F2E2-247F-4367-AB41-9CD185760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BB54-1271-449F-A374-7366FDC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D8B5C-D65C-4D0C-AEA9-9074624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3B09-6E19-4D42-B558-06B6AB0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4107-677E-4725-8EB7-6062A391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BC69-4C5F-465F-991D-D16960F3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D217-CBF5-42E4-892E-4807F539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EFB9-7235-4B3B-8987-B5D5F512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BDD63-7858-412B-A80E-5B89F180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8C02-5E32-4298-9F82-CC4BD00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9D364-9481-4B0D-8F70-4239C0D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3727-8A6F-4FA8-A9FC-130CB6400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E520A-61D8-4771-A32D-6517083A8E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A6F79-84F1-403B-AC93-9682F8C9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55F5F-1405-46E1-AA0B-4253D5E7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D3329-3858-4230-9F3F-A5EB2975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F8FCF-4084-472C-8DDE-422D703D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FB928-1471-42F9-A252-50710C44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A1FDD-0E5A-401A-8189-02C4D5BD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AA381-127B-453F-B1CC-E2C67C28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BC980-CDDA-41FA-A5BF-725A7503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4B943-7A6D-45D5-B708-C5260AF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A9EC6-88B0-457C-80A4-B03E546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B3CA5-FD03-40E6-8416-459D44B20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C87E8-26F7-48AD-B01F-E3DBD450F3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2B2849-1452-4431-BFDE-F729D77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DB299-E55C-40DE-AD94-7B89E8F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17E80-C76D-4CA6-AE7B-2798E9BB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49777-A482-427A-A8BB-FFE0D5A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4EA01A-5821-4A2D-A06F-26925943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A5D09-B333-4802-B021-B9ED6FC2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75427-852C-43FD-A371-3021DED4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D6E73-E7EC-4BCB-995A-E1840BC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1537A-A094-482F-9B7D-FA97CEE9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431FC-634D-4B24-B2B0-3BF6978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BC6BB-0283-4655-9EA8-485A66F8F5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8F8E-B209-4CB9-8472-E7233AF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A49B8-A780-4A03-BE28-71ED6C53F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20A1-EB82-4B4D-B842-613D9A86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F655D-00AA-4EB7-9E5C-1DA69F5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6DBC5-E825-4EBB-8E16-53A50220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529EE-5953-4421-B203-FE17595B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80B2-649D-46A9-8C50-1FE7A8F2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FEBBD-6328-4E56-B589-EB7E614C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FB0C8-06D5-4875-B425-86A48A6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B8EFD-E2C9-4879-BC11-557A857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67C8B-DBF4-4ED3-BEC0-97D14194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CC698-AD64-45CC-879D-5B0A75F2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756CB-D4D9-4C4D-86A7-C3B0B1B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70DDD-8A28-4DCC-83DC-6062E22931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8635-5163-42A2-89E2-941C0515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4E81-AFC9-4268-854A-BE0D0B12C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3FF9-F1C7-4ECE-8A5D-EB603CB7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C9CC-8D38-4DCD-BAB9-86D3B283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39F-CE41-4F5A-87F9-616746D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10C-067F-4C7F-9B57-00C7AA2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D19-E787-4E83-9828-DE9ED96C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C6E1-A68F-4DE7-853F-DD58500B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85B-68E4-4CB1-A0F8-C6E769F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BEF-0F43-4E0C-8C73-6DD189A8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9A44-6AB7-4032-B4CE-C4AD842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839A-94D2-4ED3-9176-6F0CE528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B744-948E-4A2B-A2C9-7FC6BC5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5192-DB84-4853-A872-2FA71278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D98-949E-4439-A61B-2F89C4875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68D6-DD11-47A3-9AFC-50BDF150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76361-67E6-4881-AC76-CFE6C1383C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8BC01-CE5E-4AC6-8751-76B3C6D3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9E8CB-642B-48FB-A3C1-9A01D6B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3902D-1056-4AE7-BA77-A4DB232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AD544-864F-41FB-A445-041359A5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19107-A71C-4059-A227-E3C40395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40BB7-34A8-431C-BD35-D570BC2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A3D6-7155-41ED-84F0-514DBF19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DC425-AB1C-4BCD-B6F7-66660E6A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1C6DC-2DF9-4336-A65D-7E8DA02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F1C91-E418-4AED-839E-031EE78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B345A-72E2-4461-A952-BC4571F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8717C-FFE2-4239-A8F5-F633D43ABB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F684-593B-4516-9985-379394E9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180F-C910-4946-B86F-B33E735C5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C950F-F0C4-4942-A495-F2DEF06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FEC82-1776-4541-BCDE-0A6048CC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312-CCBC-46DE-A396-CFB111E241B9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1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2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8DC7-21C1-46B7-8312-36D6646D2EFE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3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4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208-6A79-45C6-98F7-98D6935B0F25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15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sldNum" idx="16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7F8C-3DCF-4651-B7C7-16F7B4C066DF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53240" y="612720"/>
            <a:ext cx="13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D3C8-0CE5-4B03-BB53-57DB1321A59D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5"/>
          </p:nvPr>
        </p:nvSpPr>
        <p:spPr>
          <a:xfrm>
            <a:off x="372960" y="6510240"/>
            <a:ext cx="55562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8A4D-12B8-492E-9B01-2C188AF11BE6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7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8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34FE-4B17-4159-9AEC-487ECDCD02EC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9"/>
          </p:nvPr>
        </p:nvSpPr>
        <p:spPr>
          <a:xfrm>
            <a:off x="372600" y="6509880"/>
            <a:ext cx="27370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0"/>
          </p:nvPr>
        </p:nvSpPr>
        <p:spPr>
          <a:xfrm>
            <a:off x="55440" y="6511680"/>
            <a:ext cx="30168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82BB-407D-4FD2-8BB5-529E499654F9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74560" y="948960"/>
            <a:ext cx="62053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Understanding and 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Using ICM Model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272520" y="4700160"/>
            <a:ext cx="4489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ian IBIS Summ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kyo, Jap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ptember 14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eviously presented on September 11, 2007 at Beij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438280" y="2306520"/>
            <a:ext cx="46245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Meng, Yubao (yubao@cadence.co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Cadence Shanghai SPB R&amp;D Cent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1: ICM acts as device model (Black box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603360" y="3287880"/>
            <a:ext cx="7785000" cy="28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76280" y="1841400"/>
            <a:ext cx="79725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package ICM model has been wrapped into one black box model, just like one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37D-2D97-436F-9DD5-572AA1ADCF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4520" y="329760"/>
            <a:ext cx="70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1: Simulation Results comparing (with/o ICM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784560" y="2300400"/>
            <a:ext cx="210492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pink line represents the simulation with IC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lack line represents the simulation without IC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33440" y="1608120"/>
            <a:ext cx="6648480" cy="444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21AD-1EA8-4E0F-BE40-455C64915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age model case (associating with its corresponding IBIS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550800" y="1638360"/>
            <a:ext cx="7547040" cy="44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A96-F5A1-43C8-AF04-DC953699C0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2: ICM acts as packag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787320" y="1650960"/>
            <a:ext cx="7434360" cy="48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2292-84AE-42EC-A15B-B7F261BB9A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se 2: Simulation Results comparing (with/o ICM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407880" y="1432080"/>
            <a:ext cx="821376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EE1-4A4C-4117-9071-35CD1194C2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-parameter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568440" y="1401840"/>
            <a:ext cx="775476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CB14-DA30-43C7-8211-4A2912B261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Swath model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31720" y="1555920"/>
            <a:ext cx="6647040" cy="4572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889520" y="1332000"/>
            <a:ext cx="394344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a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s a method of using a small matrix section to define a much larger and variable size section of a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facilitates faster simulation, smaller file size, and makes the creation of a family of connectors much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C71D-6859-4D08-8ACE-E6F4AE4DCE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anding the swath matr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rcRect l="0" t="0" r="46060" b="52158"/>
          <a:stretch/>
        </p:blipFill>
        <p:spPr>
          <a:xfrm>
            <a:off x="152280" y="1819440"/>
            <a:ext cx="2870280" cy="17506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3195720" y="1955880"/>
            <a:ext cx="594828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ree methods can be used to expand a swath matrix into a full-siz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ntering the Swath around the pins of inter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pansion and Centering: Expanding the Swath matrix into a larger sized Swath matrix and centering it about the path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pansion to Full Sized Interconnect:  Expanding the swath matrix to the full sized interconnect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247680" y="3641760"/>
            <a:ext cx="316224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A207-2A52-4933-8391-2CC3C1F906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mmar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7780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s offer open, non-proprietary way for vendors to provide interconnect models to their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31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s can be accurate for simulation at higher frequencies *they can include coupling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5C88-92D3-43F7-B557-A6576A662B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538200" y="1146240"/>
            <a:ext cx="5959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a95b0"/>
                </a:solidFill>
                <a:latin typeface="Arial"/>
                <a:ea typeface="宋体"/>
              </a:rPr>
              <a:t>Thanks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p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ICM Model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’s IBIS ICM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can we do with IC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mode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model usage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lack box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ag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-paramet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swath mode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6947-82A0-4BA5-AD50-D5BD4BC6A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BIS ICM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34880" y="1331640"/>
            <a:ext cx="8196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ter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nect </a:t>
            </a:r>
            <a:r>
              <a:rPr b="1" lang="en-US" sz="2400" spc="-1" strike="noStrike">
                <a:solidFill>
                  <a:srgbClr val="ed171f"/>
                </a:solidFill>
                <a:latin typeface="Arial"/>
                <a:ea typeface="宋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deling Spec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CM stands for InterConnect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goal of the I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vide a better, *more accurate*, non-proprietary interconnect data exchang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aster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maller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nal Draft 1.0 released publicly May 16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e IBIS web site under “Connector Inf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sion 1.1 “ICM” specification approved in Jul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66F-D8CF-4220-A6C6-A90EF09B8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can we do with ICM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93480" y="1852560"/>
            <a:ext cx="819612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supports models for Connectors, PCB traces and IC-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ca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LGC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w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-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36680" y="2830680"/>
            <a:ext cx="81961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D93-884A-4E34-A368-1C5D3BDF26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tion of I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section is made up of a Single Line Model (SLM) or Multiple Line Model (ML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matrix section is a set of tables of numerical values that represent the electrical relationships between all conductors of a given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-parameter can be used in place of RLG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440000" y="3664080"/>
            <a:ext cx="566712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111E-5B9F-4310-A557-14813A81A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tion: ICM core unit 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454360" y="3565440"/>
            <a:ext cx="328284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ctions are basic units and core structure of one IC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509760" y="1486080"/>
            <a:ext cx="376236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E92C-0A9F-4F78-AAB8-8F3569219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CM model usage scen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20560" y="1494000"/>
            <a:ext cx="81964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CM models can be used during pre-layout and post-layou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wo cases a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1: In pre-layout simulation, ICM model is used as a Black box model in a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se2: In post-layout simulation, ICM package model is assigned to a component IBIS model on the P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34C2-14EB-4A24-A7DA-A34AD305EF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ICM model of PCI express pack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593040" y="4403880"/>
            <a:ext cx="255096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330120" y="1395360"/>
            <a:ext cx="5781600" cy="413856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6373800" y="2797200"/>
            <a:ext cx="2770200" cy="33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68B-D188-4DA7-9A36-6C510F1964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ice model case (Black box mod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819000" y="1495440"/>
            <a:ext cx="6958080" cy="49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A524-E66B-4C45-B5DC-D2BFC1775D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4:25:49Z</dcterms:created>
  <dc:creator>Cadence Design Systems, Inc</dc:creator>
  <dc:description/>
  <dc:language>en-US</dc:language>
  <cp:lastModifiedBy>Hemant Shah</cp:lastModifiedBy>
  <cp:lastPrinted>2006-09-27T23:49:20Z</cp:lastPrinted>
  <dcterms:modified xsi:type="dcterms:W3CDTF">2007-08-28T19:39:52Z</dcterms:modified>
  <cp:revision>177</cp:revision>
  <dc:subject/>
  <dc:title>Cadence Careers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7373277</vt:r8>
  </property>
  <property fmtid="{D5CDD505-2E9C-101B-9397-08002B2CF9AE}" pid="3" name="_AuthorEmail">
    <vt:lpwstr>shah@cadence.com</vt:lpwstr>
  </property>
  <property fmtid="{D5CDD505-2E9C-101B-9397-08002B2CF9AE}" pid="4" name="_AuthorEmailDisplayName">
    <vt:lpwstr>Hemant Shah</vt:lpwstr>
  </property>
  <property fmtid="{D5CDD505-2E9C-101B-9397-08002B2CF9AE}" pid="5" name="_EmailSubject">
    <vt:lpwstr>Asian IBIS Summit (Japan) - Cadence Presentations.</vt:lpwstr>
  </property>
  <property fmtid="{D5CDD505-2E9C-101B-9397-08002B2CF9AE}" pid="6" name="_NewReviewCycle">
    <vt:lpwstr/>
  </property>
  <property fmtid="{D5CDD505-2E9C-101B-9397-08002B2CF9AE}" pid="7" name="_PreviousAdHocReviewCycleID">
    <vt:r8>-1445352655</vt:r8>
  </property>
</Properties>
</file>