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6AC5-F6A1-4041-AC6F-D419CCCF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5F1F-B2D3-4162-8198-3B8B09E7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1412-E5C4-480E-BA62-D7D8C48E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11CB3-18D1-4913-8DC2-C4EFB6A5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6FA80-A128-49E2-8990-FE95343B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20E9-EBBB-4C6B-9951-923FFBC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D650-6C50-4939-865C-CC8B163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1CC03-846A-4211-BF26-11A3D67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3CA52-A437-4666-ACD1-0777F5D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2626-C527-4540-AF7C-734694A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4D5C-EAD7-4169-94A0-690DE8D6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0E14-9FB8-4EEC-B97D-C264D75B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3520" y="6477120"/>
            <a:ext cx="52549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C1E3-7D46-4C2C-A525-CE57AE2E49DC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5240" y="1844640"/>
            <a:ext cx="750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637-D181-4473-82A0-E79472B0D7F9}" type="slidenum">
              <a:rPr b="0" lang="ja-JP" sz="11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5240" y="6477120"/>
            <a:ext cx="371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2007, Toshiba Corpor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ctr">
              <a:spcAft>
                <a:spcPts val="624"/>
              </a:spcAft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8960" algn="ctr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41560" algn="ctr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141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5240" y="1844640"/>
            <a:ext cx="750240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Quality Activ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JEITA EDA W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886200"/>
            <a:ext cx="23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/09/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sumasa K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shiba Co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760" y="2514600"/>
            <a:ext cx="38473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ngle-end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080" y="3505320"/>
            <a:ext cx="3987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 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put/Outpu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tage r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6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V-T data (ramp/wavefor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lden Wave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circui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929880" y="1798560"/>
            <a:ext cx="800280" cy="831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276800" y="2754360"/>
            <a:ext cx="272880" cy="689040"/>
            <a:chOff x="4276800" y="2754360"/>
            <a:chExt cx="272880" cy="689040"/>
          </a:xfrm>
        </p:grpSpPr>
        <p:sp>
          <p:nvSpPr>
            <p:cNvPr id="261" name=""/>
            <p:cNvSpPr/>
            <p:nvPr/>
          </p:nvSpPr>
          <p:spPr>
            <a:xfrm flipH="1">
              <a:off x="4276800" y="320292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276800" y="313380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276800" y="306504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276800" y="299592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276800" y="292716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413240" y="2892240"/>
              <a:ext cx="136440" cy="3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276800" y="3271680"/>
              <a:ext cx="136440" cy="3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13240" y="275436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413240" y="3305880"/>
              <a:ext cx="0" cy="1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13240" y="2230560"/>
            <a:ext cx="0" cy="53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30520" y="2222640"/>
            <a:ext cx="26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1920" y="20066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0920" y="28954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5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0240" y="2817720"/>
            <a:ext cx="24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: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=1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2023920"/>
            <a:ext cx="609480" cy="43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1800" y="3354480"/>
            <a:ext cx="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179600" y="3908520"/>
            <a:ext cx="463680" cy="115920"/>
            <a:chOff x="4179600" y="3908520"/>
            <a:chExt cx="463680" cy="115920"/>
          </a:xfrm>
        </p:grpSpPr>
        <p:sp>
          <p:nvSpPr>
            <p:cNvPr id="278" name=""/>
            <p:cNvSpPr/>
            <p:nvPr/>
          </p:nvSpPr>
          <p:spPr>
            <a:xfrm>
              <a:off x="4179960" y="3908520"/>
              <a:ext cx="46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179600" y="3908520"/>
              <a:ext cx="115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295520" y="3908520"/>
              <a:ext cx="115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411440" y="3908520"/>
              <a:ext cx="115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876920" y="4572000"/>
            <a:ext cx="3886200" cy="1447920"/>
            <a:chOff x="4876920" y="4572000"/>
            <a:chExt cx="3886200" cy="1447920"/>
          </a:xfrm>
        </p:grpSpPr>
        <p:sp>
          <p:nvSpPr>
            <p:cNvPr id="283" name=""/>
            <p:cNvSpPr/>
            <p:nvPr/>
          </p:nvSpPr>
          <p:spPr>
            <a:xfrm>
              <a:off x="5072400" y="4572000"/>
              <a:ext cx="3505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9720" y="50324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63000" y="4924440"/>
              <a:ext cx="576000" cy="219240"/>
              <a:chOff x="5463000" y="4924440"/>
              <a:chExt cx="576000" cy="219240"/>
            </a:xfrm>
          </p:grpSpPr>
          <p:sp>
            <p:nvSpPr>
              <p:cNvPr id="286" name=""/>
              <p:cNvSpPr/>
              <p:nvPr/>
            </p:nvSpPr>
            <p:spPr>
              <a:xfrm>
                <a:off x="583812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77980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2292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6496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0700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578560" y="492444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895360" y="503388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63000" y="503388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24160" y="5033880"/>
                <a:ext cx="11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996160" y="5032440"/>
              <a:ext cx="108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6920" y="4986360"/>
              <a:ext cx="10980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7075800" y="4940280"/>
              <a:ext cx="450720" cy="95040"/>
              <a:chOff x="7075800" y="4940280"/>
              <a:chExt cx="450720" cy="95040"/>
            </a:xfrm>
          </p:grpSpPr>
          <p:sp>
            <p:nvSpPr>
              <p:cNvPr id="298" name=""/>
              <p:cNvSpPr/>
              <p:nvPr/>
            </p:nvSpPr>
            <p:spPr>
              <a:xfrm>
                <a:off x="707580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21600" y="494028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424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7517160" y="5032440"/>
              <a:ext cx="114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3680" y="498636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42520" y="50292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2840" y="5340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02840" y="544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2520" y="543564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529400" y="5742000"/>
              <a:ext cx="464040" cy="115920"/>
              <a:chOff x="7529400" y="5742000"/>
              <a:chExt cx="464040" cy="115920"/>
            </a:xfrm>
          </p:grpSpPr>
          <p:sp>
            <p:nvSpPr>
              <p:cNvPr id="308" name=""/>
              <p:cNvSpPr/>
              <p:nvPr/>
            </p:nvSpPr>
            <p:spPr>
              <a:xfrm>
                <a:off x="7529760" y="574200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52940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645320" y="574200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6124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5022720" y="4648320"/>
              <a:ext cx="1480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pkg = 35.5 m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17160" y="4648320"/>
              <a:ext cx="1213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pkg = 4.23 n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6320" y="5264280"/>
              <a:ext cx="122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pkg = 1.06 p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029200" y="4346640"/>
            <a:ext cx="52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038120" y="1752480"/>
            <a:ext cx="3812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77000" y="1395360"/>
            <a:ext cx="798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pro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76720" y="589104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adjus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80880" y="822240"/>
            <a:ext cx="83822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circuit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90240" y="990720"/>
            <a:ext cx="8165160" cy="2666880"/>
            <a:chOff x="390240" y="990720"/>
            <a:chExt cx="8165160" cy="2666880"/>
          </a:xfrm>
        </p:grpSpPr>
        <p:sp>
          <p:nvSpPr>
            <p:cNvPr id="323" name=""/>
            <p:cNvSpPr/>
            <p:nvPr/>
          </p:nvSpPr>
          <p:spPr>
            <a:xfrm rot="5400000">
              <a:off x="929880" y="1431720"/>
              <a:ext cx="799920" cy="83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30520" y="1855800"/>
              <a:ext cx="36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1920" y="16398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R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2529000"/>
              <a:ext cx="11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 = 3 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240" y="2817720"/>
              <a:ext cx="248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 : PU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quency=100M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90920" y="1657440"/>
              <a:ext cx="609480" cy="43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6998760" y="3541680"/>
              <a:ext cx="464040" cy="115920"/>
              <a:chOff x="6998760" y="3541680"/>
              <a:chExt cx="464040" cy="11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6999120" y="354168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98760" y="354168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7114680" y="354168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230600" y="354168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6705720" y="18558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9000" y="1494000"/>
              <a:ext cx="1828800" cy="761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umped Circu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185580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4952520" y="837720"/>
              <a:ext cx="304920" cy="3505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59040" y="2819520"/>
              <a:ext cx="1092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stat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38880" y="1857240"/>
              <a:ext cx="0" cy="7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7440" y="2751120"/>
              <a:ext cx="0" cy="78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35840" y="2598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5840" y="27511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973920" y="1347840"/>
              <a:ext cx="3808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2080" y="99072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838440" y="4346640"/>
            <a:ext cx="52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62120" y="4572000"/>
            <a:ext cx="3886200" cy="1447920"/>
            <a:chOff x="762120" y="4572000"/>
            <a:chExt cx="3886200" cy="1447920"/>
          </a:xfrm>
        </p:grpSpPr>
        <p:sp>
          <p:nvSpPr>
            <p:cNvPr id="347" name=""/>
            <p:cNvSpPr/>
            <p:nvPr/>
          </p:nvSpPr>
          <p:spPr>
            <a:xfrm>
              <a:off x="957600" y="4572000"/>
              <a:ext cx="3505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4920" y="50324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348200" y="4924440"/>
              <a:ext cx="576000" cy="219240"/>
              <a:chOff x="1348200" y="4924440"/>
              <a:chExt cx="576000" cy="219240"/>
            </a:xfrm>
          </p:grpSpPr>
          <p:sp>
            <p:nvSpPr>
              <p:cNvPr id="350" name=""/>
              <p:cNvSpPr/>
              <p:nvPr/>
            </p:nvSpPr>
            <p:spPr>
              <a:xfrm>
                <a:off x="172332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66500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812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550160" y="4924440"/>
                <a:ext cx="5724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220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463760" y="492444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780560" y="503388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348200" y="503388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809360" y="5033880"/>
                <a:ext cx="11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881360" y="5032440"/>
              <a:ext cx="108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2120" y="4986360"/>
              <a:ext cx="10980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2961000" y="4940280"/>
              <a:ext cx="450720" cy="95040"/>
              <a:chOff x="2961000" y="4940280"/>
              <a:chExt cx="450720" cy="95040"/>
            </a:xfrm>
          </p:grpSpPr>
          <p:sp>
            <p:nvSpPr>
              <p:cNvPr id="362" name=""/>
              <p:cNvSpPr/>
              <p:nvPr/>
            </p:nvSpPr>
            <p:spPr>
              <a:xfrm>
                <a:off x="296100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06800" y="494028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5944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3402360" y="5032440"/>
              <a:ext cx="114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38880" y="498636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27720" y="50292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8040" y="5340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88040" y="5442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7720" y="543564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414600" y="5742000"/>
              <a:ext cx="464040" cy="115920"/>
              <a:chOff x="3414600" y="5742000"/>
              <a:chExt cx="464040" cy="115920"/>
            </a:xfrm>
          </p:grpSpPr>
          <p:sp>
            <p:nvSpPr>
              <p:cNvPr id="372" name=""/>
              <p:cNvSpPr/>
              <p:nvPr/>
            </p:nvSpPr>
            <p:spPr>
              <a:xfrm>
                <a:off x="3414960" y="574200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41460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530520" y="574200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64644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07920" y="4648320"/>
              <a:ext cx="1480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pkg = 35.5 m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02360" y="4648320"/>
              <a:ext cx="1213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pkg = 4.23 n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61520" y="5264280"/>
              <a:ext cx="122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pkg = 1.06 p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876920" y="4346640"/>
            <a:ext cx="3462120" cy="1673280"/>
            <a:chOff x="4876920" y="4346640"/>
            <a:chExt cx="3462120" cy="1673280"/>
          </a:xfrm>
        </p:grpSpPr>
        <p:sp>
          <p:nvSpPr>
            <p:cNvPr id="380" name=""/>
            <p:cNvSpPr/>
            <p:nvPr/>
          </p:nvSpPr>
          <p:spPr>
            <a:xfrm>
              <a:off x="5072040" y="4572000"/>
              <a:ext cx="308124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59360" y="503244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462280" y="4924440"/>
              <a:ext cx="576360" cy="219240"/>
              <a:chOff x="5462280" y="4924440"/>
              <a:chExt cx="576360" cy="219240"/>
            </a:xfrm>
          </p:grpSpPr>
          <p:sp>
            <p:nvSpPr>
              <p:cNvPr id="383" name=""/>
              <p:cNvSpPr/>
              <p:nvPr/>
            </p:nvSpPr>
            <p:spPr>
              <a:xfrm>
                <a:off x="583704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77944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72184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66424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06640" y="492444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577840" y="492444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5894640" y="503388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5462280" y="503388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5923440" y="503388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996160" y="5032440"/>
              <a:ext cx="10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76920" y="498636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075440" y="4940280"/>
              <a:ext cx="450720" cy="95040"/>
              <a:chOff x="7075440" y="4940280"/>
              <a:chExt cx="450720" cy="95040"/>
            </a:xfrm>
          </p:grpSpPr>
          <p:sp>
            <p:nvSpPr>
              <p:cNvPr id="395" name=""/>
              <p:cNvSpPr/>
              <p:nvPr/>
            </p:nvSpPr>
            <p:spPr>
              <a:xfrm>
                <a:off x="707544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21240" y="494028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3880" y="494028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7516800" y="5032440"/>
              <a:ext cx="71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29600" y="4976640"/>
              <a:ext cx="10944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31120" y="50292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91440" y="53402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91440" y="5442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31120" y="543564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318000" y="5742000"/>
              <a:ext cx="463680" cy="115920"/>
              <a:chOff x="6318000" y="5742000"/>
              <a:chExt cx="463680" cy="115920"/>
            </a:xfrm>
          </p:grpSpPr>
          <p:sp>
            <p:nvSpPr>
              <p:cNvPr id="405" name=""/>
              <p:cNvSpPr/>
              <p:nvPr/>
            </p:nvSpPr>
            <p:spPr>
              <a:xfrm>
                <a:off x="6318360" y="5742000"/>
                <a:ext cx="463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31800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433920" y="574200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549840" y="574200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5086440" y="4648320"/>
              <a:ext cx="136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lump = 5 m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1680" y="4648320"/>
              <a:ext cx="1252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lump = 301 p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92920" y="5264280"/>
              <a:ext cx="151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lump = 120.4 fF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57920" y="4346640"/>
              <a:ext cx="128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mped Circu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76720" y="589104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adjus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80880" y="822240"/>
            <a:ext cx="83822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886760" y="1752480"/>
            <a:ext cx="505584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Differential Sign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2680" y="2819520"/>
            <a:ext cx="39877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 ty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tage r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.3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V-T data (ramp/wavefor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circui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929880" y="1798560"/>
            <a:ext cx="800280" cy="831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276800" y="2754360"/>
            <a:ext cx="272880" cy="689040"/>
            <a:chOff x="4276800" y="2754360"/>
            <a:chExt cx="272880" cy="689040"/>
          </a:xfrm>
        </p:grpSpPr>
        <p:sp>
          <p:nvSpPr>
            <p:cNvPr id="421" name=""/>
            <p:cNvSpPr/>
            <p:nvPr/>
          </p:nvSpPr>
          <p:spPr>
            <a:xfrm flipH="1">
              <a:off x="4276800" y="320292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276800" y="313380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276800" y="306504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4276800" y="299592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276800" y="2927160"/>
              <a:ext cx="272880" cy="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413240" y="2892240"/>
              <a:ext cx="136440" cy="3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76800" y="3271680"/>
              <a:ext cx="136440" cy="3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413240" y="2754360"/>
              <a:ext cx="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4413240" y="3305880"/>
              <a:ext cx="0" cy="13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413240" y="2230560"/>
            <a:ext cx="0" cy="534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30520" y="2222640"/>
            <a:ext cx="322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52480" y="2054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V_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0560" y="289548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1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5840" y="2743200"/>
            <a:ext cx="24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: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=1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2023920"/>
            <a:ext cx="609480" cy="43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11800" y="3354480"/>
            <a:ext cx="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572000" y="1752480"/>
            <a:ext cx="38088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10160" y="1395360"/>
            <a:ext cx="798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pro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929880" y="3481200"/>
            <a:ext cx="799920" cy="831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30520" y="3905280"/>
            <a:ext cx="322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52840" y="373680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V_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3706920"/>
            <a:ext cx="609480" cy="43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572000" y="343548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10160" y="3078000"/>
            <a:ext cx="798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pro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3920" y="2219400"/>
            <a:ext cx="464040" cy="685440"/>
            <a:chOff x="4723920" y="2219400"/>
            <a:chExt cx="464040" cy="685440"/>
          </a:xfrm>
        </p:grpSpPr>
        <p:sp>
          <p:nvSpPr>
            <p:cNvPr id="446" name=""/>
            <p:cNvSpPr/>
            <p:nvPr/>
          </p:nvSpPr>
          <p:spPr>
            <a:xfrm>
              <a:off x="4937040" y="221940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97360" y="24768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360" y="2561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7040" y="255564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723920" y="2809080"/>
              <a:ext cx="464040" cy="95760"/>
              <a:chOff x="4723920" y="2809080"/>
              <a:chExt cx="464040" cy="95760"/>
            </a:xfrm>
          </p:grpSpPr>
          <p:sp>
            <p:nvSpPr>
              <p:cNvPr id="451" name=""/>
              <p:cNvSpPr/>
              <p:nvPr/>
            </p:nvSpPr>
            <p:spPr>
              <a:xfrm>
                <a:off x="4724280" y="280908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723920" y="2809080"/>
                <a:ext cx="11556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4839840" y="2809080"/>
                <a:ext cx="11592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955760" y="2809080"/>
                <a:ext cx="11556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4723920" y="3895560"/>
            <a:ext cx="464040" cy="685440"/>
            <a:chOff x="4723920" y="3895560"/>
            <a:chExt cx="464040" cy="685440"/>
          </a:xfrm>
        </p:grpSpPr>
        <p:sp>
          <p:nvSpPr>
            <p:cNvPr id="456" name=""/>
            <p:cNvSpPr/>
            <p:nvPr/>
          </p:nvSpPr>
          <p:spPr>
            <a:xfrm>
              <a:off x="4937040" y="389556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97360" y="4152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97360" y="4237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37040" y="4231800"/>
              <a:ext cx="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723920" y="4485240"/>
              <a:ext cx="464040" cy="95760"/>
              <a:chOff x="4723920" y="4485240"/>
              <a:chExt cx="464040" cy="95760"/>
            </a:xfrm>
          </p:grpSpPr>
          <p:sp>
            <p:nvSpPr>
              <p:cNvPr id="461" name=""/>
              <p:cNvSpPr/>
              <p:nvPr/>
            </p:nvSpPr>
            <p:spPr>
              <a:xfrm>
                <a:off x="4724280" y="448524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723920" y="4485240"/>
                <a:ext cx="11556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839840" y="4485240"/>
                <a:ext cx="11592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955760" y="4485240"/>
                <a:ext cx="115560" cy="9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5105520" y="2286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3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38862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3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10440" y="4662360"/>
            <a:ext cx="52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029200" y="4952880"/>
            <a:ext cx="3886200" cy="1447920"/>
            <a:chOff x="5029200" y="4952880"/>
            <a:chExt cx="3886200" cy="1447920"/>
          </a:xfrm>
        </p:grpSpPr>
        <p:sp>
          <p:nvSpPr>
            <p:cNvPr id="469" name=""/>
            <p:cNvSpPr/>
            <p:nvPr/>
          </p:nvSpPr>
          <p:spPr>
            <a:xfrm>
              <a:off x="5224320" y="4952880"/>
              <a:ext cx="35053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11640" y="54133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614560" y="5305320"/>
              <a:ext cx="576360" cy="219240"/>
              <a:chOff x="5614560" y="5305320"/>
              <a:chExt cx="576360" cy="219240"/>
            </a:xfrm>
          </p:grpSpPr>
          <p:sp>
            <p:nvSpPr>
              <p:cNvPr id="472" name=""/>
              <p:cNvSpPr/>
              <p:nvPr/>
            </p:nvSpPr>
            <p:spPr>
              <a:xfrm>
                <a:off x="5989320" y="530532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5931720" y="530532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74120" y="530532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816520" y="530532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8920" y="530532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730120" y="530532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046920" y="541476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5614560" y="541476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075720" y="541476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6148440" y="5413320"/>
              <a:ext cx="10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9200" y="536724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7227720" y="5321160"/>
              <a:ext cx="450720" cy="95040"/>
              <a:chOff x="7227720" y="5321160"/>
              <a:chExt cx="450720" cy="9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7227720" y="532116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73520" y="532116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26160" y="532116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7669080" y="5413320"/>
              <a:ext cx="114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805600" y="5367240"/>
              <a:ext cx="10980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94440" y="541008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4760" y="5721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54760" y="5823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94440" y="581652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681320" y="6122880"/>
              <a:ext cx="464040" cy="115920"/>
              <a:chOff x="7681320" y="6122880"/>
              <a:chExt cx="464040" cy="115920"/>
            </a:xfrm>
          </p:grpSpPr>
          <p:sp>
            <p:nvSpPr>
              <p:cNvPr id="494" name=""/>
              <p:cNvSpPr/>
              <p:nvPr/>
            </p:nvSpPr>
            <p:spPr>
              <a:xfrm>
                <a:off x="7681680" y="612288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7681320" y="612288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797240" y="612288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913160" y="612288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5234040" y="5029200"/>
              <a:ext cx="136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pkg = 50.0 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32720" y="5029200"/>
              <a:ext cx="1291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pkg = 1.164 n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91880" y="5645160"/>
              <a:ext cx="129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pkg = 0.207 p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76720" y="589104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adjus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80880" y="822240"/>
            <a:ext cx="83822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 circuit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72960" y="838080"/>
            <a:ext cx="7858440" cy="3636360"/>
            <a:chOff x="372960" y="838080"/>
            <a:chExt cx="7858440" cy="3636360"/>
          </a:xfrm>
        </p:grpSpPr>
        <p:sp>
          <p:nvSpPr>
            <p:cNvPr id="506" name=""/>
            <p:cNvSpPr/>
            <p:nvPr/>
          </p:nvSpPr>
          <p:spPr>
            <a:xfrm rot="5400000">
              <a:off x="929880" y="1241280"/>
              <a:ext cx="799920" cy="83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235200" y="2197080"/>
              <a:ext cx="273240" cy="689040"/>
              <a:chOff x="6235200" y="2197080"/>
              <a:chExt cx="273240" cy="689040"/>
            </a:xfrm>
          </p:grpSpPr>
          <p:sp>
            <p:nvSpPr>
              <p:cNvPr id="508" name=""/>
              <p:cNvSpPr/>
              <p:nvPr/>
            </p:nvSpPr>
            <p:spPr>
              <a:xfrm flipH="1">
                <a:off x="6235200" y="2645640"/>
                <a:ext cx="27324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6235200" y="2576520"/>
                <a:ext cx="27324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6235200" y="2507760"/>
                <a:ext cx="27324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6235200" y="2438640"/>
                <a:ext cx="27324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235200" y="2369880"/>
                <a:ext cx="27324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6372000" y="2334960"/>
                <a:ext cx="13644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6235560" y="2714400"/>
                <a:ext cx="13644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372000" y="2197080"/>
                <a:ext cx="0" cy="13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6372000" y="2748600"/>
                <a:ext cx="0" cy="13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6372360" y="1673280"/>
              <a:ext cx="0" cy="5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30520" y="1665360"/>
              <a:ext cx="284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2480" y="149724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V_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29680" y="233856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 = 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2960" y="2185920"/>
              <a:ext cx="248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put : PU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quency=100M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05120" y="1467000"/>
              <a:ext cx="609480" cy="43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70560" y="2797200"/>
              <a:ext cx="0" cy="55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31120" y="1195560"/>
              <a:ext cx="3808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69280" y="83808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5400000">
              <a:off x="929880" y="2923920"/>
              <a:ext cx="799920" cy="83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30520" y="3348000"/>
              <a:ext cx="284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2840" y="3179880"/>
              <a:ext cx="80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V_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5120" y="3149640"/>
              <a:ext cx="609480" cy="43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31120" y="2878200"/>
              <a:ext cx="3808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69280" y="2521080"/>
              <a:ext cx="798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6683040" y="1662120"/>
              <a:ext cx="464040" cy="685440"/>
              <a:chOff x="6683040" y="1662120"/>
              <a:chExt cx="464040" cy="685440"/>
            </a:xfrm>
          </p:grpSpPr>
          <p:sp>
            <p:nvSpPr>
              <p:cNvPr id="533" name=""/>
              <p:cNvSpPr/>
              <p:nvPr/>
            </p:nvSpPr>
            <p:spPr>
              <a:xfrm>
                <a:off x="6896160" y="166212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56480" y="191952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56480" y="20037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96160" y="199836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6683040" y="2251800"/>
                <a:ext cx="464040" cy="95760"/>
                <a:chOff x="6683040" y="2251800"/>
                <a:chExt cx="464040" cy="957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683400" y="2251800"/>
                  <a:ext cx="463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6683040" y="2251800"/>
                  <a:ext cx="11556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6798960" y="2251800"/>
                  <a:ext cx="11592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914880" y="2251800"/>
                  <a:ext cx="11556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6683040" y="3338640"/>
              <a:ext cx="464040" cy="685440"/>
              <a:chOff x="6683040" y="3338640"/>
              <a:chExt cx="464040" cy="685440"/>
            </a:xfrm>
          </p:grpSpPr>
          <p:sp>
            <p:nvSpPr>
              <p:cNvPr id="543" name=""/>
              <p:cNvSpPr/>
              <p:nvPr/>
            </p:nvSpPr>
            <p:spPr>
              <a:xfrm>
                <a:off x="6896160" y="333864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56480" y="3596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56480" y="36802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96160" y="3674880"/>
                <a:ext cx="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6683040" y="3928320"/>
                <a:ext cx="464040" cy="95760"/>
                <a:chOff x="6683040" y="3928320"/>
                <a:chExt cx="464040" cy="95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683400" y="3928320"/>
                  <a:ext cx="463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683040" y="3928320"/>
                  <a:ext cx="11556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798960" y="3928320"/>
                  <a:ext cx="11592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914880" y="3928320"/>
                  <a:ext cx="115560" cy="9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"/>
            <p:cNvSpPr/>
            <p:nvPr/>
          </p:nvSpPr>
          <p:spPr>
            <a:xfrm>
              <a:off x="7064280" y="1728720"/>
              <a:ext cx="11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 = 3 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4280" y="3405240"/>
              <a:ext cx="116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 = 3 p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66880" y="1390680"/>
              <a:ext cx="1600200" cy="549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mped 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66880" y="3081240"/>
              <a:ext cx="1600200" cy="549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mped 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5000" y="3348000"/>
              <a:ext cx="11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4080" y="1662120"/>
              <a:ext cx="116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72000" y="1662120"/>
              <a:ext cx="1165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6000" y="3348000"/>
              <a:ext cx="10890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4191120" y="2109600"/>
              <a:ext cx="304560" cy="35049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91080 h 3504960"/>
                <a:gd name="textAreaBottom" fmla="*/ 341388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32560" y="4091040"/>
              <a:ext cx="10249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step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57200" y="4651200"/>
            <a:ext cx="52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80880" y="4876920"/>
            <a:ext cx="3886200" cy="1447560"/>
            <a:chOff x="380880" y="4876920"/>
            <a:chExt cx="3886200" cy="1447560"/>
          </a:xfrm>
        </p:grpSpPr>
        <p:sp>
          <p:nvSpPr>
            <p:cNvPr id="564" name=""/>
            <p:cNvSpPr/>
            <p:nvPr/>
          </p:nvSpPr>
          <p:spPr>
            <a:xfrm>
              <a:off x="576000" y="4876920"/>
              <a:ext cx="350532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3320" y="53370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966240" y="5229000"/>
              <a:ext cx="576360" cy="218880"/>
              <a:chOff x="966240" y="5229000"/>
              <a:chExt cx="576360" cy="218880"/>
            </a:xfrm>
          </p:grpSpPr>
          <p:sp>
            <p:nvSpPr>
              <p:cNvPr id="567" name=""/>
              <p:cNvSpPr/>
              <p:nvPr/>
            </p:nvSpPr>
            <p:spPr>
              <a:xfrm>
                <a:off x="1341000" y="5229000"/>
                <a:ext cx="5760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3400" y="5229000"/>
                <a:ext cx="5760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225800" y="5229000"/>
                <a:ext cx="5760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168200" y="5229000"/>
                <a:ext cx="5760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10600" y="5229000"/>
                <a:ext cx="5760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81800" y="522900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398600" y="533844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966240" y="533844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427400" y="533844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500120" y="5337000"/>
              <a:ext cx="10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0880" y="5290920"/>
              <a:ext cx="109440" cy="10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2579400" y="5244840"/>
              <a:ext cx="450720" cy="95040"/>
              <a:chOff x="2579400" y="5244840"/>
              <a:chExt cx="450720" cy="95040"/>
            </a:xfrm>
          </p:grpSpPr>
          <p:sp>
            <p:nvSpPr>
              <p:cNvPr id="579" name=""/>
              <p:cNvSpPr/>
              <p:nvPr/>
            </p:nvSpPr>
            <p:spPr>
              <a:xfrm>
                <a:off x="2579400" y="524484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725200" y="524484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77840" y="524484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020760" y="5337000"/>
              <a:ext cx="114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57280" y="5290920"/>
              <a:ext cx="109800" cy="10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46120" y="533376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06440" y="56448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06440" y="57466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46120" y="5740200"/>
              <a:ext cx="0" cy="31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033000" y="6046560"/>
              <a:ext cx="464040" cy="115560"/>
              <a:chOff x="3033000" y="6046560"/>
              <a:chExt cx="464040" cy="115560"/>
            </a:xfrm>
          </p:grpSpPr>
          <p:sp>
            <p:nvSpPr>
              <p:cNvPr id="589" name=""/>
              <p:cNvSpPr/>
              <p:nvPr/>
            </p:nvSpPr>
            <p:spPr>
              <a:xfrm>
                <a:off x="3033360" y="6046560"/>
                <a:ext cx="46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33000" y="6046560"/>
                <a:ext cx="11556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148920" y="6046560"/>
                <a:ext cx="11592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264840" y="6046560"/>
                <a:ext cx="11556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85720" y="4952880"/>
              <a:ext cx="136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pkg = 50.0 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84400" y="4952880"/>
              <a:ext cx="1291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pkg = 1.164 n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43560" y="5568840"/>
              <a:ext cx="129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pkg = 0.207 p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072040" y="4651200"/>
            <a:ext cx="3462120" cy="1673280"/>
            <a:chOff x="5072040" y="4651200"/>
            <a:chExt cx="3462120" cy="1673280"/>
          </a:xfrm>
        </p:grpSpPr>
        <p:sp>
          <p:nvSpPr>
            <p:cNvPr id="597" name=""/>
            <p:cNvSpPr/>
            <p:nvPr/>
          </p:nvSpPr>
          <p:spPr>
            <a:xfrm>
              <a:off x="5267160" y="4876560"/>
              <a:ext cx="308124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54480" y="53370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657400" y="5229000"/>
              <a:ext cx="576360" cy="219240"/>
              <a:chOff x="5657400" y="5229000"/>
              <a:chExt cx="576360" cy="219240"/>
            </a:xfrm>
          </p:grpSpPr>
          <p:sp>
            <p:nvSpPr>
              <p:cNvPr id="600" name=""/>
              <p:cNvSpPr/>
              <p:nvPr/>
            </p:nvSpPr>
            <p:spPr>
              <a:xfrm>
                <a:off x="6032160" y="522900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974560" y="522900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916960" y="522900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859360" y="522900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01760" y="5229000"/>
                <a:ext cx="5760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772960" y="5229000"/>
                <a:ext cx="28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089760" y="5338440"/>
                <a:ext cx="2880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657400" y="533844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6118560" y="5338440"/>
                <a:ext cx="1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6191280" y="5337000"/>
              <a:ext cx="10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72040" y="5290920"/>
              <a:ext cx="109440" cy="109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7270560" y="5244840"/>
              <a:ext cx="450720" cy="95040"/>
              <a:chOff x="7270560" y="5244840"/>
              <a:chExt cx="450720" cy="95040"/>
            </a:xfrm>
          </p:grpSpPr>
          <p:sp>
            <p:nvSpPr>
              <p:cNvPr id="612" name=""/>
              <p:cNvSpPr/>
              <p:nvPr/>
            </p:nvSpPr>
            <p:spPr>
              <a:xfrm>
                <a:off x="7270560" y="524484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6360" y="524484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69000" y="524484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cubicBezTo>
                      <a:pt x="16" y="48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7711920" y="5337000"/>
              <a:ext cx="71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4720" y="5281200"/>
              <a:ext cx="10944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26240" y="533376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86560" y="564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86560" y="57466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26240" y="5740200"/>
              <a:ext cx="0" cy="31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6513120" y="6046560"/>
              <a:ext cx="463680" cy="115920"/>
              <a:chOff x="6513120" y="6046560"/>
              <a:chExt cx="463680" cy="115920"/>
            </a:xfrm>
          </p:grpSpPr>
          <p:sp>
            <p:nvSpPr>
              <p:cNvPr id="622" name=""/>
              <p:cNvSpPr/>
              <p:nvPr/>
            </p:nvSpPr>
            <p:spPr>
              <a:xfrm>
                <a:off x="6513480" y="6046560"/>
                <a:ext cx="463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513120" y="604656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629040" y="6046560"/>
                <a:ext cx="11592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744960" y="6046560"/>
                <a:ext cx="115560" cy="11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5281560" y="4952880"/>
              <a:ext cx="1363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_lump = 5 mOh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96800" y="4952880"/>
              <a:ext cx="1252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_lump = 301 p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88040" y="5568840"/>
              <a:ext cx="1512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_lump = 120.4 fF</a:t>
              </a:r>
              <a:r>
                <a:rPr b="0" lang="zh-CN" sz="11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53040" y="4651200"/>
              <a:ext cx="128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mped Circu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76720" y="5891040"/>
            <a:ext cx="1883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 adjus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80880" y="822240"/>
            <a:ext cx="83822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's the "Quality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view points for "Quality"…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ctionary, "Quality" mean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"standar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et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hen it is compar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ther things like 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first, we define the "Quality" in this activity 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"standard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ulation result with the device EDA mode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it is compar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measurement result with the dev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this definition is very difficul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steps in this a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ng test circuits for "IBIS Quality"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/ Differential mod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50Ohm resistance lo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with complex  transmission line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ng with the EDA vendors for this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ng IBIS Models from JEITA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the next step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567400" y="3645000"/>
            <a:ext cx="2389320" cy="2448000"/>
          </a:xfrm>
          <a:prstGeom prst="cube">
            <a:avLst>
              <a:gd name="adj" fmla="val 20000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12000" y="3645000"/>
            <a:ext cx="1944720" cy="1944720"/>
          </a:xfrm>
          <a:prstGeom prst="rect">
            <a:avLst/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67400" y="4905360"/>
            <a:ext cx="733320" cy="118764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300720" y="5157720"/>
            <a:ext cx="21456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227640" y="5714640"/>
            <a:ext cx="1087560" cy="1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943600" y="4267080"/>
            <a:ext cx="0" cy="741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7461360" y="4589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266720" y="623268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HG丸ｺﾞｼｯｸM-PRO"/>
              </a:rPr>
              <a:t>Simple tes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788160" y="6095880"/>
            <a:ext cx="1994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HG丸ｺﾞｼｯｸM-PRO"/>
              </a:rPr>
              <a:t>Complex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HG丸ｺﾞｼｯｸM-PRO"/>
              </a:rPr>
              <a:t>test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1640" y="5410080"/>
            <a:ext cx="137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HG丸ｺﾞｼｯｸM-PRO"/>
              </a:rPr>
              <a:t>Inside J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99720" y="4800600"/>
            <a:ext cx="160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HG丸ｺﾞｼｯｸM-PRO"/>
              </a:rPr>
              <a:t>Over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352680" y="5791320"/>
            <a:ext cx="21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HG丸ｺﾞｼｯｸM-PRO"/>
              </a:rPr>
              <a:t>Some EDA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360" y="3962520"/>
            <a:ext cx="2094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HG丸ｺﾞｼｯｸM-PRO"/>
              </a:rPr>
              <a:t>many EDA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HG丸ｺﾞｼｯｸM-PRO"/>
              </a:rPr>
              <a:t>In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fu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ctivity is under preparation in presen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TA hopes that many simulator vendors take part in our activ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expand and improve the standard test circu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ly, this test circuits will be public inside JEI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. IBIS users (companies) will make use of test circuits for checking their simulation environments and proceeding operator's 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the same activity in EIA, let's join tha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 and Validation are very importa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SO9001 in the near fu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745000" y="2666880"/>
            <a:ext cx="31176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an you!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612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Meas. and Simul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958760" cy="5256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14600" y="685800"/>
            <a:ext cx="6235560" cy="1211400"/>
            <a:chOff x="2514600" y="685800"/>
            <a:chExt cx="6235560" cy="1211400"/>
          </a:xfrm>
        </p:grpSpPr>
        <p:grpSp>
          <p:nvGrpSpPr>
            <p:cNvPr id="97" name=""/>
            <p:cNvGrpSpPr/>
            <p:nvPr/>
          </p:nvGrpSpPr>
          <p:grpSpPr>
            <a:xfrm>
              <a:off x="2514600" y="762120"/>
              <a:ext cx="6235560" cy="1135080"/>
              <a:chOff x="2514600" y="762120"/>
              <a:chExt cx="6235560" cy="1135080"/>
            </a:xfrm>
          </p:grpSpPr>
          <p:pic>
            <p:nvPicPr>
              <p:cNvPr id="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10280" y="762120"/>
                <a:ext cx="173988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2514600" y="1295280"/>
                <a:ext cx="434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16600" y="1066680"/>
                <a:ext cx="115164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easur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stru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624080" y="685800"/>
              <a:ext cx="5968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96080" y="1676520"/>
            <a:ext cx="1371600" cy="533160"/>
          </a:xfrm>
          <a:custGeom>
            <a:avLst/>
            <a:gdLst>
              <a:gd name="textAreaLeft" fmla="*/ 0 w 1371600"/>
              <a:gd name="textAreaRight" fmla="*/ 137196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6160" y="3809880"/>
            <a:ext cx="7672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mulation result does not necessary agree with measuring wavefor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causes this difference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are so many reason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8840" y="76212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devices on P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36240" y="1676520"/>
            <a:ext cx="8426880" cy="1906560"/>
            <a:chOff x="336240" y="1676520"/>
            <a:chExt cx="8426880" cy="1906560"/>
          </a:xfrm>
        </p:grpSpPr>
        <p:grpSp>
          <p:nvGrpSpPr>
            <p:cNvPr id="106" name=""/>
            <p:cNvGrpSpPr/>
            <p:nvPr/>
          </p:nvGrpSpPr>
          <p:grpSpPr>
            <a:xfrm>
              <a:off x="336240" y="1676520"/>
              <a:ext cx="8426880" cy="1747800"/>
              <a:chOff x="336240" y="1676520"/>
              <a:chExt cx="8426880" cy="174780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405000" y="2520000"/>
                <a:ext cx="519120" cy="539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23760" y="2795760"/>
                <a:ext cx="2810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6240" y="2657520"/>
                <a:ext cx="50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28600" y="2666880"/>
                <a:ext cx="395280" cy="282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K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76520" y="2590920"/>
                <a:ext cx="1023840" cy="493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stribut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ircu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71800" y="2666880"/>
                <a:ext cx="395280" cy="282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K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3727800" y="2504160"/>
                <a:ext cx="519120" cy="539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8680" y="2641680"/>
                <a:ext cx="50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C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71600" y="1676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43400" y="274320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83840" y="2438280"/>
                <a:ext cx="109224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mul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o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4320" y="2209680"/>
                <a:ext cx="182880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7678800" y="2133720"/>
                <a:ext cx="48564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Sim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06480" y="3124080"/>
              <a:ext cx="290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ing Circuits and device 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ending on simul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612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auses this differe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1739880" cy="113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1958760" cy="525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1295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6600" y="1066680"/>
            <a:ext cx="115164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600200"/>
            <a:ext cx="1066680" cy="609480"/>
          </a:xfrm>
          <a:prstGeom prst="upArrowCallout">
            <a:avLst>
              <a:gd name="adj1" fmla="val 43758"/>
              <a:gd name="adj2" fmla="val 4375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05000" y="252000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23760" y="279576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6240" y="2657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86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9092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727800" y="250416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8680" y="2641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048120"/>
            <a:ext cx="1067040" cy="609480"/>
          </a:xfrm>
          <a:prstGeom prst="upArrowCallout">
            <a:avLst>
              <a:gd name="adj1" fmla="val 43772"/>
              <a:gd name="adj2" fmla="val 4376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048120"/>
            <a:ext cx="1066680" cy="609480"/>
          </a:xfrm>
          <a:prstGeom prst="upArrowCallout">
            <a:avLst>
              <a:gd name="adj1" fmla="val 43758"/>
              <a:gd name="adj2" fmla="val 43754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676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743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7400" y="2438280"/>
            <a:ext cx="10036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971800"/>
            <a:ext cx="1066680" cy="609480"/>
          </a:xfrm>
          <a:prstGeom prst="upArrowCallout">
            <a:avLst>
              <a:gd name="adj1" fmla="val 43758"/>
              <a:gd name="adj2" fmla="val 4375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934320" y="2209680"/>
            <a:ext cx="1828800" cy="1214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383840" y="3657600"/>
            <a:ext cx="72522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The problem on the Measuring instrument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.The operator cannot use Measuring instrument well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.SPICE Model accuracy is too poor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Simulation tools with SPICE Model cannot simulate accurately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.The operator cannot use Simulation tools well…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(including not knowing how to set it up rightly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83480" y="5486400"/>
            <a:ext cx="624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1,2 are dependent on the measuring matter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3,4,5 are dependent on semi-conductor vendors intern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JEITA doesn't focus on them as the "Quality"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Please, let the semi-conductor vendors do wel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focus on the "Quality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We redefine the "Quality" in this activity as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"standard of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the simulation result using IBIS model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when it is compared to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that using SPICE model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Unfortunately, even this definition has some problem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The discripancy between IBIS and SPICE waveform  results are caused by not only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the different model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(IBIS and SPICE) but also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different simulator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operator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etting up the environmen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viewing tool of waveform depending on the simulator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( ex. time step control for viewing)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612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should we focus on for the "IBIS Quality"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1739880" cy="1135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rot="5400000">
            <a:off x="405000" y="252000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23760" y="279576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40" y="2657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86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3727800" y="250416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8680" y="2641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743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4880" y="2438280"/>
            <a:ext cx="100368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828800" cy="1214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94440" y="3505320"/>
            <a:ext cx="802476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n two waveforms are different, can you assert  that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 differences are caused by the distinctions of IBIS and SPICE mode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metimes Yes, actually we don't kn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n semi-conductor vendors receive the question from customers,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y must confirm their customer's simulation environment and reappea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ustomer's problems with same tool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EITA consider that "IBIS Quality" is NOT only IBIS Model accuracy itself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should we focus on for the "IBIS Quality"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1920" y="2438280"/>
            <a:ext cx="101268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405000" y="107208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23760" y="134784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6240" y="1209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286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14300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727800" y="105624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8680" y="11937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4880" y="990720"/>
            <a:ext cx="1003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41920" y="990720"/>
            <a:ext cx="1012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612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ITA activities for "IBIS Quality"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1739880" cy="1135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5400000">
            <a:off x="405000" y="252000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23760" y="279576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6240" y="2657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86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59092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3727800" y="250416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8680" y="2641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2743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4880" y="2438280"/>
            <a:ext cx="1003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828800" cy="1214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46560" y="3733920"/>
            <a:ext cx="75654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umpt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)Operator is fixed; besides that operator has the best abilit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2)Simulator is fixed; besides that simulator can calculate circuit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using IBIS and SPICE accurately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＞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fference is caused by the distinction of IBIS and SPICE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's more assumption:   (3)SPICE is accu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＞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BIS is Wrong!!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1920" y="2438280"/>
            <a:ext cx="1012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05000" y="107208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3760" y="134784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6240" y="1209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286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114300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727800" y="105624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58680" y="11937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295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4880" y="990720"/>
            <a:ext cx="1003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41920" y="990720"/>
            <a:ext cx="1012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20574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0574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9720" y="5638680"/>
            <a:ext cx="4411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Task Group in JEITA study thi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"IBIS Guide for the Japanese Engineer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1739880" cy="1135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400000">
            <a:off x="405000" y="252000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23760" y="279576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6240" y="26575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286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259092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 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266688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3727800" y="250416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8680" y="26416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743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4880" y="2438280"/>
            <a:ext cx="100368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828800" cy="1214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641920" y="2438280"/>
            <a:ext cx="1012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97180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05000" y="107208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3760" y="1347840"/>
            <a:ext cx="281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" y="1209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286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1143000"/>
            <a:ext cx="102384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 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1219320"/>
            <a:ext cx="39528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727800" y="1056240"/>
            <a:ext cx="519120" cy="539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8680" y="11937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295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4880" y="990720"/>
            <a:ext cx="100368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41920" y="990720"/>
            <a:ext cx="1012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ve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1523880"/>
            <a:ext cx="914400" cy="53352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612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ITA activities for "IBIS Quality"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5680" y="3581280"/>
            <a:ext cx="8040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sumpt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)Operator is fixed; besides that operator has the best abilit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2)IBIS is accu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dit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)Changing "distributed circuit" to equivalent "lumped circuit" using LC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2)using same viewing tool (like EXCEL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3480" y="5486400"/>
            <a:ext cx="7083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Is the simulation result calculated by different simulators same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i="1" lang="en-US" sz="1900" spc="-1" strike="noStrike">
                <a:solidFill>
                  <a:srgbClr val="ff0000"/>
                </a:solidFill>
                <a:latin typeface="Arial"/>
              </a:rPr>
              <a:t>JEITA studies this matter in the activit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ps in this a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ng test circuits for "IBIS Quality"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/ Differential mod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50Ohm resistance lo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with complex  transmission line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ng with the EDA vendors for this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ng IBIS Models from JEITA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keshi Watanabe</cp:lastModifiedBy>
  <dcterms:modified xsi:type="dcterms:W3CDTF">2007-09-11T04:44:34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