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937728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14560" y="937728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A2BA-9641-4056-B146-728C1B435A4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ood afternoon everyone. Firstable, I have to apologize for  my poor Englis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 was too busy working Jeita activity to study Engli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f you don’t understand my English presentation, please ask Mr. Shohj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e can answer your question in English instead of 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fter this presentation, I will talk about this outline, in Japane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 am welcome to have any questions in Japanese.  For English speaking, please ask Mr. Shohji.  Thank you Mr. Shohj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et’s start my presentation n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itle is guidance of passive EDA mod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slide shows the result of S parameter from bandwidth 0HZ to 100MH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DUT is the same as previou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DR and VNA results are good match excluding S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Excluding S11,  S parameters  from DC to 20GHz  can be made from  S parameters of DC point of calculated TDR and VNA res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 had questioned the cause of error measurement result of S11 to the measuring instrument vend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cause was VNA calibration err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measured  S parameters using  Electric calibration. The performance of  E-cal was not good in a low freq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’ll retry using anther E-cal or mechanical calibration k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also similarly shows the measurement result of TDR and V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dwidth is form 0Hz to 20G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UT used here is differential pair line with solid ground pla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DUT is same as previou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andwidth is from 0Hz to 100MH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imilarly, the result of TDR and VNA is good ,excluding S1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se are  measurement results of TDR and V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DUT is differential pair line with meshed ground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lored lines are TDR results and , black lines are VNA res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results of DUT same as  previou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dwidth is from DC to 100M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you can see, S11 result  of VNA of 10MHz  is also not good in this D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UT is filter and fixture PC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DR res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VNA res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se are results of DUT same as  previou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andwidth is from DC to 100M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is DUT, S11 result of VNA and TDR are good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, we changed calibration kit to measure S parame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mmary at l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1. The problem of the EDA model was show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2. The problem of the EDA model was discus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3. The method of measuring of DC point of S-parameters  was sh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oday, this was interim re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 believe someone, not me,  can talk about the problem we have been examining at EDA WG next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wish to express my gratitude to people who cooperated in the Measur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nk you very much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re are today’s cont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rst section, SI modeling issues in passive devices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econd , guidance of passive EDA mod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ast is summ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shows time domain simulation using EDA models and measurement results last year in EDA-W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shows  transient waveform. Bit rate is 10Gbps. Horizontal  axis is time.  Vertical axis is voltage of  receiver e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lines is measurement resul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, blue, and the Magenta color correspond to simulator A, B, and 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ive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results are good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I will talk about problem of passive EDA model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Generally, the EDA models are described by S-parameters of equivalent circui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We studied simulation using the EDA  models and measurement using actual PCB , therefore equivalent circuit models  had no problem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But S-parameters had some problem as below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No DC point of S-parameter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Simulation based S-parameters might include DC point, but measurement  based S-parameters do not include DC poin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Because, VAN can not measure DC point of S-parameters. At later slide, I show measuring method of DC point , using TDR and software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2. Bandwidth limitation.  (300KHz-8.5GHz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3. Each bandwidth of the EDA models  might not be the sam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For examples, S-parameter of filter is the bandwidth from 300kHz to 6GHz,  S-parameter of connector is the bandwidth from 10MHz to 8GHz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other device is bandwidth from 0Hz to 4GHz.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4. Each number of points of S-parameters might not be the sam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For examples, S-parameter of filter has 400 points ,  the connector has 1000point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5. It is uncertain how S-parameters are measured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Measuring method of S-parameter  is not described  in EDA models. And EDA models user can not know that how to measure the S-parameter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For examples, To measure S-parameter of filter, fixture PCB is needed, must de-embed  excessive  etching pattern and SMA connector that  connects between  VNA and  fixture PCB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scussed previous problem, and concluded it as foll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include DC point of S-parameters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measuring method of DC point of S-parameters at later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onsider upper limitation of S-parameters for ris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been examining the ma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Not able to standardize bandwidth of S-parameters of  each EDA models in all manufactur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usage and the purpose are different, it is difficult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tandardiz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andwidth of  each EDA mode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Not able to standardize number of points of  S-parameters  each EDA models as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ason is same as No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Some manufacturers have disclosed measuring method  to the public on We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ilter vender have disclosed measuring instrument  measuring method on the  Web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 explain guidance of passive EDA models in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1.The method of measuring of DC point of S-parameters is disclosed to the publ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 explain this point at later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2. To do transient analysis, it is necessary to consider minimum  bandwidth and number of points of S-parameters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been examining the ma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3. The method of measuring the EDA models is disclosed  to the publ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4.The usage of the EDA models is disclosed to the publ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been preparing No3 and No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shows Measuring method of DC points of S-para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eft side figure shows measuring instr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Upper right side graph shows time domain wave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waveform were measured by TDR oscillosc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wer graph was translated from time domain waveform using softwa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wer graph shows s-parame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se photos  are  DU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Upper left side photo is flat cable and fixture PC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wer left side photo is differential pair line with meshed ground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Upper right side is differential pair line with solid ground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wer right side is filter and fixture PC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shows measurement results of VNA and TD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dwidth is form 0Hz to 20G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UT used here is flat cable connector and fixture PC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line is S11 and calculated S-parameters from TDR res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11 means return lo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line is S21, blue line is S31, magenta is S4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1 means insertion loss. S31 means near end cross talk. S41 means far end cross ta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lines show measured  S-parameters using V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DR and VNA results are good match to 10GHz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frequency of 10GHz or more, TDR results have ring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about the reason is that the discontinuance error margin because of the use of FFT occurr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F1127-6514-461E-AC5F-F1ADFF29F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73F97-B1BA-4E77-A0FE-53B321F8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40892-0314-4E87-B199-0A055C7EA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B39A8-6B3E-472F-8523-7A7B94291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F99A0-3FED-48C5-8EB2-E773BAB5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E5651-D63A-4D57-886D-332F0AB0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8A167-DC45-41CE-94FC-7692BB30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7CC25-C47F-4AEC-BD7C-AD0D27F9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070D7-4668-4123-BB07-D3340352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A0C98-AE08-4156-BBCB-3A5CAD0F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E69E5-2C86-47A6-B496-F0D8D247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A67E5-6437-41F2-91D6-BF17B0B3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856E-C4F5-4386-83D4-CE772ED050A4}" type="slidenum"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0404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0404"/>
                </a:solidFill>
                <a:latin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7360" y="920880"/>
            <a:ext cx="8445600" cy="63360"/>
          </a:xfrm>
          <a:prstGeom prst="rect">
            <a:avLst/>
          </a:prstGeom>
          <a:solidFill>
            <a:srgbClr val="0000ff"/>
          </a:solidFill>
          <a:ln w="12600">
            <a:solidFill>
              <a:srgbClr val="04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280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c280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fc2806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499"/>
              </a:spcBef>
              <a:buClr>
                <a:srgbClr val="fc2806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499"/>
              </a:spcBef>
              <a:buClr>
                <a:srgbClr val="fc2806"/>
              </a:buClr>
              <a:buFont typeface="Book Antiqu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499"/>
              </a:spcBef>
              <a:buClr>
                <a:srgbClr val="040404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499"/>
              </a:spcBef>
              <a:buClr>
                <a:srgbClr val="040404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22640" y="1387440"/>
            <a:ext cx="288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ep.14,2007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BIS Summit in Japan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67520" y="2392200"/>
            <a:ext cx="57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uidance of Passive EDA models</a:t>
            </a:r>
            <a:endParaRPr b="0" lang="en-US" sz="32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55160" y="3997440"/>
            <a:ext cx="514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JEITA EDA-WG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Hiroaki Ikeda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Japan Aviation Electronics Industry ,Ltd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© JEITA  2007. All Rights Reserved.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8B25B-F6A2-4C46-9691-406D67C40A3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08000" y="3573360"/>
            <a:ext cx="4257720" cy="31910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572000" y="3573360"/>
            <a:ext cx="4257720" cy="319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752480" y="6524640"/>
            <a:ext cx="61722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© JEITA  2007. All Rights Reserved.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179280" y="525600"/>
            <a:ext cx="4257720" cy="31906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4427640" y="476280"/>
            <a:ext cx="4257720" cy="31906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620720" y="44280"/>
            <a:ext cx="577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-parameters of TDR vs. VNA(DC-100MHz)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92600" y="431640"/>
            <a:ext cx="31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at cable connector and fixture PCB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81400" y="2587680"/>
            <a:ext cx="228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2806"/>
                </a:solidFill>
                <a:latin typeface="Times New Roman"/>
              </a:rPr>
              <a:t>Calculated S-parm (TDR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1332000" y="2308320"/>
            <a:ext cx="287280" cy="35856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06840" y="99684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Measured S-parm (VNA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46160" y="1268280"/>
            <a:ext cx="216000" cy="360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99200" y="2805120"/>
            <a:ext cx="228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dd04"/>
                </a:solidFill>
                <a:latin typeface="Times New Roman"/>
              </a:rPr>
              <a:t>Calculated S-parm (TDR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245280" y="2420640"/>
            <a:ext cx="342720" cy="392040"/>
          </a:xfrm>
          <a:prstGeom prst="line">
            <a:avLst/>
          </a:prstGeom>
          <a:ln w="15840">
            <a:solidFill>
              <a:srgbClr val="04dd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61400" y="104472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Measured S-parm (VNA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6084720" y="1316160"/>
            <a:ext cx="216000" cy="2412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00240" y="5487840"/>
            <a:ext cx="228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Times New Roman"/>
              </a:rPr>
              <a:t>Calculated S-parm (TDR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900000" y="5300280"/>
            <a:ext cx="287280" cy="358920"/>
          </a:xfrm>
          <a:prstGeom prst="line">
            <a:avLst/>
          </a:prstGeom>
          <a:ln w="1584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94080" y="481320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Measured S-parm (VNA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1332000" y="4723920"/>
            <a:ext cx="287280" cy="2890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92960" y="5613480"/>
            <a:ext cx="228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99"/>
                </a:solidFill>
                <a:latin typeface="Times New Roman"/>
              </a:rPr>
              <a:t>Calculated S-parm (TDR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5443560" y="5334120"/>
            <a:ext cx="287280" cy="358560"/>
          </a:xfrm>
          <a:prstGeom prst="line">
            <a:avLst/>
          </a:prstGeom>
          <a:ln w="158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275520" y="488484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Measured S-parm (VNA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6012000" y="4797360"/>
            <a:ext cx="32832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03511-182A-47E6-80D9-AA3EA007AE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24000" y="453960"/>
            <a:ext cx="4257360" cy="31910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500720" y="476280"/>
            <a:ext cx="4257360" cy="31906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385920" y="3622680"/>
            <a:ext cx="4257360" cy="31910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4562640" y="3645000"/>
            <a:ext cx="4257360" cy="31906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654560" y="44280"/>
            <a:ext cx="567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-parameters of VAN vs. TDR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DC-20GHz)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65400" y="2508120"/>
            <a:ext cx="228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2806"/>
                </a:solidFill>
                <a:latin typeface="Times New Roman"/>
              </a:rPr>
              <a:t>Calculated S-parm (TDR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1116000" y="2228400"/>
            <a:ext cx="287280" cy="3589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74200" y="2822400"/>
            <a:ext cx="203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dd04"/>
                </a:solidFill>
                <a:latin typeface="Times New Roman"/>
              </a:rPr>
              <a:t>Calculated S-parm (TDR)</a:t>
            </a:r>
            <a:endParaRPr b="0" lang="en-US" sz="14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732720" y="2276640"/>
            <a:ext cx="431640" cy="576000"/>
          </a:xfrm>
          <a:prstGeom prst="line">
            <a:avLst/>
          </a:prstGeom>
          <a:ln w="15840">
            <a:solidFill>
              <a:srgbClr val="04dd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427720" y="5532480"/>
            <a:ext cx="228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99"/>
                </a:solidFill>
                <a:latin typeface="Times New Roman"/>
              </a:rPr>
              <a:t>Calculated S-parm (TDR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5278320" y="5253120"/>
            <a:ext cx="287280" cy="358560"/>
          </a:xfrm>
          <a:prstGeom prst="line">
            <a:avLst/>
          </a:prstGeom>
          <a:ln w="158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37040" y="4357800"/>
            <a:ext cx="228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Times New Roman"/>
              </a:rPr>
              <a:t>Calculated S-parm (TDR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1186920" y="4653000"/>
            <a:ext cx="289080" cy="504720"/>
          </a:xfrm>
          <a:prstGeom prst="line">
            <a:avLst/>
          </a:prstGeom>
          <a:ln w="1584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24000" y="453960"/>
            <a:ext cx="4257360" cy="31910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978120" y="82872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Measured S-parm (VNA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58920" y="1125360"/>
            <a:ext cx="73080" cy="4320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6"/>
          <a:stretch/>
        </p:blipFill>
        <p:spPr>
          <a:xfrm>
            <a:off x="4500720" y="476280"/>
            <a:ext cx="4257360" cy="31906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228000" y="82872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Measured S-parm (VNA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6804000" y="1125360"/>
            <a:ext cx="216000" cy="287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7"/>
          <a:stretch/>
        </p:blipFill>
        <p:spPr>
          <a:xfrm>
            <a:off x="385920" y="3622680"/>
            <a:ext cx="4257360" cy="31910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554480" y="457344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Measured S-parm (VNA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130480" y="4870440"/>
            <a:ext cx="21600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8"/>
          <a:stretch/>
        </p:blipFill>
        <p:spPr>
          <a:xfrm>
            <a:off x="4562640" y="3645000"/>
            <a:ext cx="4257360" cy="31906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5731200" y="493380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Measured S-parm (VNA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5651280" y="4581360"/>
            <a:ext cx="360360" cy="4320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62240" y="324000"/>
            <a:ext cx="42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ial pair line with solid ground plane</a:t>
            </a:r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752480" y="6448320"/>
            <a:ext cx="61722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© JEITA  2007. All Rights Reserved.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CF832-3581-405E-AAFC-91889EF816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257720" cy="31906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643280" y="549360"/>
            <a:ext cx="4257720" cy="31906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385920" y="3406680"/>
            <a:ext cx="4257360" cy="31910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4643280" y="3551400"/>
            <a:ext cx="4257720" cy="31906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5442120" y="4149720"/>
            <a:ext cx="228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99"/>
                </a:solidFill>
                <a:latin typeface="Times New Roman"/>
              </a:rPr>
              <a:t>Calculated S-parm (TDR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651640" y="4508640"/>
            <a:ext cx="504720" cy="576000"/>
          </a:xfrm>
          <a:prstGeom prst="line">
            <a:avLst/>
          </a:prstGeom>
          <a:ln w="158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41760" y="5445000"/>
            <a:ext cx="228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Times New Roman"/>
              </a:rPr>
              <a:t>Calculated S-parm (TDR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1476000" y="5229000"/>
            <a:ext cx="358920" cy="360360"/>
          </a:xfrm>
          <a:prstGeom prst="line">
            <a:avLst/>
          </a:prstGeom>
          <a:ln w="1584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049400" y="385272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Measured S-parm (VNA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41400" y="4149720"/>
            <a:ext cx="426960" cy="431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78840" y="525312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Measured S-parm (VNA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6627600" y="4900320"/>
            <a:ext cx="360360" cy="431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6448320"/>
            <a:ext cx="61722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© JEITA  2007. All Rights Reserved.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44840" y="44280"/>
            <a:ext cx="59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-parameters of VAN vs. TDR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DC-100MHz)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35520" y="2948040"/>
            <a:ext cx="228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2806"/>
                </a:solidFill>
                <a:latin typeface="Times New Roman"/>
              </a:rPr>
              <a:t>Calculated S-parm (TDR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1986120" y="2668680"/>
            <a:ext cx="287280" cy="35856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642720" y="981000"/>
            <a:ext cx="203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dd04"/>
                </a:solidFill>
                <a:latin typeface="Times New Roman"/>
              </a:rPr>
              <a:t>Calculated S-parm (TDR)</a:t>
            </a:r>
            <a:endParaRPr b="0" lang="en-US" sz="14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6876720" y="1268280"/>
            <a:ext cx="431640" cy="505080"/>
          </a:xfrm>
          <a:prstGeom prst="line">
            <a:avLst/>
          </a:prstGeom>
          <a:ln w="15840">
            <a:solidFill>
              <a:srgbClr val="04dd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378080" y="97164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Measured S-parm (VNA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763640" y="1268280"/>
            <a:ext cx="432000" cy="5050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15200" y="270036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Measured S-parm (VNA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6443640" y="2133360"/>
            <a:ext cx="433440" cy="647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62240" y="324000"/>
            <a:ext cx="42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ial pair line with solid ground plane</a:t>
            </a:r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B2B2A-40B6-4789-9DB7-31F5AFE17C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438560" y="44280"/>
            <a:ext cx="567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-parameters of VAN vs. TDR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DC-20GHz)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50920" y="3622680"/>
            <a:ext cx="4257720" cy="31910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491000" y="3622680"/>
            <a:ext cx="4257720" cy="31910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179280" y="598320"/>
            <a:ext cx="4257720" cy="31910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4356000" y="598320"/>
            <a:ext cx="4257720" cy="31910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768680" y="2508120"/>
            <a:ext cx="228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2806"/>
                </a:solidFill>
                <a:latin typeface="Times New Roman"/>
              </a:rPr>
              <a:t>Calculated S-parm (TDR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1619280" y="2228400"/>
            <a:ext cx="287280" cy="3589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083560" y="2629080"/>
            <a:ext cx="228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dd04"/>
                </a:solidFill>
                <a:latin typeface="Times New Roman"/>
              </a:rPr>
              <a:t>Calculated S-parm (TDR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6029280" y="2060280"/>
            <a:ext cx="432000" cy="576360"/>
          </a:xfrm>
          <a:prstGeom prst="line">
            <a:avLst/>
          </a:prstGeom>
          <a:ln w="15840">
            <a:solidFill>
              <a:srgbClr val="04dd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552680" y="4213080"/>
            <a:ext cx="228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Times New Roman"/>
              </a:rPr>
              <a:t>Calculated S-parm (TDR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1402920" y="4508640"/>
            <a:ext cx="289080" cy="504720"/>
          </a:xfrm>
          <a:prstGeom prst="line">
            <a:avLst/>
          </a:prstGeom>
          <a:ln w="1584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297760" y="5532480"/>
            <a:ext cx="228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99"/>
                </a:solidFill>
                <a:latin typeface="Times New Roman"/>
              </a:rPr>
              <a:t>Calculated S-parm (TDR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5148360" y="5253120"/>
            <a:ext cx="287280" cy="358560"/>
          </a:xfrm>
          <a:prstGeom prst="line">
            <a:avLst/>
          </a:prstGeom>
          <a:ln w="158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5"/>
          <a:stretch/>
        </p:blipFill>
        <p:spPr>
          <a:xfrm>
            <a:off x="179280" y="598320"/>
            <a:ext cx="4257720" cy="319104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833760" y="104472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Measured S-parm (VNA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73080" y="1339920"/>
            <a:ext cx="216000" cy="360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6"/>
          <a:stretch/>
        </p:blipFill>
        <p:spPr>
          <a:xfrm>
            <a:off x="4356000" y="598320"/>
            <a:ext cx="4257720" cy="31910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6012000" y="97308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Measured S-parm (VNA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6084720" y="1268280"/>
            <a:ext cx="216000" cy="2160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7"/>
          <a:stretch/>
        </p:blipFill>
        <p:spPr>
          <a:xfrm>
            <a:off x="250920" y="3622680"/>
            <a:ext cx="4257720" cy="31910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770120" y="443088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Measured S-parm (VNA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1692000" y="4724280"/>
            <a:ext cx="215640" cy="2890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8"/>
          <a:stretch/>
        </p:blipFill>
        <p:spPr>
          <a:xfrm>
            <a:off x="4491000" y="3622680"/>
            <a:ext cx="4257720" cy="319104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5299200" y="493380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Measured S-parm (VNA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 flipV="1">
            <a:off x="5292720" y="4723920"/>
            <a:ext cx="287280" cy="2890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758960" y="395280"/>
            <a:ext cx="45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ial pair line with meshed ground plane</a:t>
            </a:r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52480" y="6448320"/>
            <a:ext cx="61722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© JEITA  2007. All Rights Reserved.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8A214-7662-47A2-B50E-2ED6B7FE53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243000" y="3551400"/>
            <a:ext cx="4257720" cy="31906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4643280" y="3622680"/>
            <a:ext cx="4257720" cy="31910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752480" y="6448320"/>
            <a:ext cx="61722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© JEITA  2007. All Rights Reserved.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243000" y="453960"/>
            <a:ext cx="4257720" cy="31910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4500720" y="453960"/>
            <a:ext cx="4257360" cy="31910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428840" y="44280"/>
            <a:ext cx="59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-parameters of VAN vs. TDR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DC-100MHz)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58960" y="333360"/>
            <a:ext cx="45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ial pair line with meshed ground plane</a:t>
            </a:r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240600" y="860400"/>
            <a:ext cx="228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dd04"/>
                </a:solidFill>
                <a:latin typeface="Times New Roman"/>
              </a:rPr>
              <a:t>Calculated S-parm (TDR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6732360" y="1125360"/>
            <a:ext cx="215640" cy="358920"/>
          </a:xfrm>
          <a:prstGeom prst="line">
            <a:avLst/>
          </a:prstGeom>
          <a:ln w="15840">
            <a:solidFill>
              <a:srgbClr val="04dd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731200" y="263700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Measured S-parm (VNA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6156360" y="1916280"/>
            <a:ext cx="503280" cy="7920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68680" y="2660760"/>
            <a:ext cx="228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2806"/>
                </a:solidFill>
                <a:latin typeface="Times New Roman"/>
              </a:rPr>
              <a:t>Calculated S-parm (TDR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 flipV="1">
            <a:off x="1619280" y="2381400"/>
            <a:ext cx="287280" cy="35856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33760" y="83664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Measured S-parm (VNA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332000" y="1125360"/>
            <a:ext cx="431640" cy="503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625760" y="5324400"/>
            <a:ext cx="228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Times New Roman"/>
              </a:rPr>
              <a:t>Calculated S-parm (TDR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2190240" y="4964040"/>
            <a:ext cx="358920" cy="432000"/>
          </a:xfrm>
          <a:prstGeom prst="line">
            <a:avLst/>
          </a:prstGeom>
          <a:ln w="1584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735880" y="3995640"/>
            <a:ext cx="228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99"/>
                </a:solidFill>
                <a:latin typeface="Times New Roman"/>
              </a:rPr>
              <a:t>Calculated S-parm (TDR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084720" y="4292640"/>
            <a:ext cx="574920" cy="649080"/>
          </a:xfrm>
          <a:prstGeom prst="line">
            <a:avLst/>
          </a:prstGeom>
          <a:ln w="158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05040" y="393372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Measured S-parm (VNA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476360" y="4221000"/>
            <a:ext cx="503280" cy="6480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18480" y="568476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Measured S-parm (VNA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6012000" y="5474880"/>
            <a:ext cx="287280" cy="2890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5AAC9-D4AE-4429-AB1C-A71CDCF314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367280" y="44280"/>
            <a:ext cx="567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-parameters of VAN vs. TDR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DC-20GHz)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99320" y="39528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on mode filter</a:t>
            </a:r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69920" y="453960"/>
            <a:ext cx="4257720" cy="319104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4427640" y="476280"/>
            <a:ext cx="4257720" cy="31906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250920" y="3622680"/>
            <a:ext cx="4257720" cy="319104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>
            <a:off x="4500720" y="3645000"/>
            <a:ext cx="4257360" cy="31906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833760" y="2508120"/>
            <a:ext cx="228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2806"/>
                </a:solidFill>
                <a:latin typeface="Times New Roman"/>
              </a:rPr>
              <a:t>Calculated S-parm (TDR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3059280" y="2204640"/>
            <a:ext cx="433080" cy="36036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643720" y="2629080"/>
            <a:ext cx="228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dd04"/>
                </a:solidFill>
                <a:latin typeface="Times New Roman"/>
              </a:rPr>
              <a:t>Calculated S-parm (TDR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7524720" y="2060280"/>
            <a:ext cx="432000" cy="576360"/>
          </a:xfrm>
          <a:prstGeom prst="line">
            <a:avLst/>
          </a:prstGeom>
          <a:ln w="15840">
            <a:solidFill>
              <a:srgbClr val="04dd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931000" y="5821200"/>
            <a:ext cx="228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99"/>
                </a:solidFill>
                <a:latin typeface="Times New Roman"/>
              </a:rPr>
              <a:t>Calculated S-parm (TDR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7524720" y="5084280"/>
            <a:ext cx="142920" cy="792360"/>
          </a:xfrm>
          <a:prstGeom prst="line">
            <a:avLst/>
          </a:prstGeom>
          <a:ln w="158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976680" y="5942160"/>
            <a:ext cx="228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Times New Roman"/>
              </a:rPr>
              <a:t>Calculated S-parm (TDR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3132000" y="5444640"/>
            <a:ext cx="432000" cy="505080"/>
          </a:xfrm>
          <a:prstGeom prst="line">
            <a:avLst/>
          </a:prstGeom>
          <a:ln w="1584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5"/>
          <a:stretch/>
        </p:blipFill>
        <p:spPr>
          <a:xfrm>
            <a:off x="169920" y="453960"/>
            <a:ext cx="4257720" cy="31910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833760" y="176544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Measured S-parm (VNA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1476360" y="1267920"/>
            <a:ext cx="287280" cy="576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6"/>
          <a:stretch/>
        </p:blipFill>
        <p:spPr>
          <a:xfrm>
            <a:off x="4427640" y="476280"/>
            <a:ext cx="4257720" cy="31906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5148360" y="183816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Measured S-parm (VNA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5791320" y="1341000"/>
            <a:ext cx="287280" cy="576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7"/>
          <a:stretch/>
        </p:blipFill>
        <p:spPr>
          <a:xfrm>
            <a:off x="250920" y="3622680"/>
            <a:ext cx="4257720" cy="31910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906840" y="524520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Measured S-parm (VNA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411280" y="4941720"/>
            <a:ext cx="360360" cy="4320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8"/>
          <a:stretch/>
        </p:blipFill>
        <p:spPr>
          <a:xfrm>
            <a:off x="4500720" y="3645000"/>
            <a:ext cx="4257360" cy="3190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220000" y="517212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Measured S-parm (VNA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6724800" y="4868640"/>
            <a:ext cx="360360" cy="431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352680" y="396720"/>
            <a:ext cx="20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lter and Fixture PCB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752480" y="6448320"/>
            <a:ext cx="61722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© JEITA  2007. All Rights Reserved.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69D2E-E104-46E5-8EBF-636E2D7B84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257720" cy="319104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643280" y="404640"/>
            <a:ext cx="4257720" cy="319104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395280" y="3622680"/>
            <a:ext cx="4257720" cy="31910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4716360" y="3622680"/>
            <a:ext cx="4257720" cy="31910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357560" y="44280"/>
            <a:ext cx="59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-parameters of VAN vs. TDR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DC-100MHz)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332000" y="1052640"/>
            <a:ext cx="287280" cy="5047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6227280" y="1268280"/>
            <a:ext cx="360360" cy="4320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920680" y="333360"/>
            <a:ext cx="20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lter and Fixture PCB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768680" y="2508120"/>
            <a:ext cx="228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2806"/>
                </a:solidFill>
                <a:latin typeface="Times New Roman"/>
              </a:rPr>
              <a:t>Calculated S-parm (TDR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299200" y="2732040"/>
            <a:ext cx="228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dd04"/>
                </a:solidFill>
                <a:latin typeface="Times New Roman"/>
              </a:rPr>
              <a:t>Calculated S-parm (TDR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372360" y="2491920"/>
            <a:ext cx="504720" cy="360360"/>
          </a:xfrm>
          <a:prstGeom prst="line">
            <a:avLst/>
          </a:prstGeom>
          <a:ln w="15840">
            <a:solidFill>
              <a:srgbClr val="04dd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 flipV="1">
            <a:off x="1547280" y="2060280"/>
            <a:ext cx="287640" cy="57636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090800" y="75708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Measured S-parm (VNA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418440" y="93204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Measured S-parm (VNA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479960" y="5726160"/>
            <a:ext cx="228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Times New Roman"/>
              </a:rPr>
              <a:t>Calculated S-parm (TDR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752480" y="6448320"/>
            <a:ext cx="61722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© JEITA  2007. All Rights Reserved.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096240" y="5605560"/>
            <a:ext cx="228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99"/>
                </a:solidFill>
                <a:latin typeface="Times New Roman"/>
              </a:rPr>
              <a:t>Calculated S-parm (TDR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 flipV="1">
            <a:off x="6011640" y="5084280"/>
            <a:ext cx="360360" cy="505080"/>
          </a:xfrm>
          <a:prstGeom prst="line">
            <a:avLst/>
          </a:prstGeom>
          <a:ln w="158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 flipV="1">
            <a:off x="1692000" y="5157360"/>
            <a:ext cx="431640" cy="647640"/>
          </a:xfrm>
          <a:prstGeom prst="line">
            <a:avLst/>
          </a:prstGeom>
          <a:ln w="1584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098800" y="466884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Measured S-parm (VNA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3603600" y="4365360"/>
            <a:ext cx="360360" cy="431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483520" y="401940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Measured S-parm (VNA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724360" y="4365720"/>
            <a:ext cx="432000" cy="3585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2DF73-1B03-4F7F-A5AD-54EE15A1AD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3781440" y="2491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57360" y="1576440"/>
            <a:ext cx="725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The problem of the EDA model was shown. 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he problem of the EDA model was discussed. 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he method of measuring of DC point of S-parameters 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shown. 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© JEITA  2007. All Rights Reserved.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D69EF-A61E-4EC2-AC3C-D899127D0E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405440" y="260280"/>
            <a:ext cx="580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0404"/>
                </a:solidFill>
                <a:latin typeface="Arial"/>
              </a:rPr>
              <a:t>Gratitude to cooperation in measurement 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53600" y="1700280"/>
            <a:ext cx="7584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ATE  Service     Mr. Sinobu Seki</a:t>
            </a:r>
            <a:endParaRPr b="0" lang="en-US" sz="3200" spc="-1" strike="noStrike">
              <a:solidFill>
                <a:srgbClr val="0404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                            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Mr.Yutaka Honda</a:t>
            </a:r>
            <a:endParaRPr b="0" lang="en-US" sz="3200" spc="-1" strike="noStrike">
              <a:solidFill>
                <a:srgbClr val="0404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04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JAE                     Mr. Yuichi Saito </a:t>
            </a:r>
            <a:endParaRPr b="0" lang="en-US" sz="3200" spc="-1" strike="noStrike">
              <a:solidFill>
                <a:srgbClr val="0404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                            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Mr. Tatsuya Syukuzawa</a:t>
            </a:r>
            <a:endParaRPr b="0" lang="en-US" sz="32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© JEITA  2007. All Rights Reserved.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B444E-4D41-436C-B1D6-0C1E5EB4DB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462840" y="24912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32920" y="1433520"/>
            <a:ext cx="5284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SI Modeling Issues in Passive Devices 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Guidance of Passive EDA models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Summary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© JEITA  2007. All Rights Reserved.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6ABE5-BD22-41E4-AB10-331004DD12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200" y="249120"/>
            <a:ext cx="48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report of Interconnect model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9680" y="1114560"/>
            <a:ext cx="836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d studied interconnect model in JEITA EDA-WG  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and reported that simulation and measurements 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 were nearly good match. (The EDA  models were provided 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component manufacturer, but not  specially prepared models. ) 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3284640"/>
            <a:ext cx="8572680" cy="2857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414880" y="3586320"/>
            <a:ext cx="118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2806"/>
                </a:solidFill>
                <a:latin typeface="Book Antiqua"/>
              </a:rPr>
              <a:t>Measurement</a:t>
            </a:r>
            <a:endParaRPr b="0" lang="en-US" sz="12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197080" y="3859200"/>
            <a:ext cx="28728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38680" y="5316480"/>
            <a:ext cx="545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Book Antiqua"/>
              </a:rPr>
              <a:t>SimA</a:t>
            </a:r>
            <a:endParaRPr b="0" lang="en-US" sz="12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652840" y="5084280"/>
            <a:ext cx="287280" cy="360360"/>
          </a:xfrm>
          <a:prstGeom prst="line">
            <a:avLst/>
          </a:prstGeom>
          <a:ln w="25560">
            <a:solidFill>
              <a:srgbClr val="00ff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35680" y="3645000"/>
            <a:ext cx="546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cc"/>
                </a:solidFill>
                <a:latin typeface="Book Antiqua"/>
              </a:rPr>
              <a:t>SimB</a:t>
            </a:r>
            <a:endParaRPr b="0" lang="en-US" sz="12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722560" y="3932280"/>
            <a:ext cx="289080" cy="360360"/>
          </a:xfrm>
          <a:prstGeom prst="line">
            <a:avLst/>
          </a:prstGeom>
          <a:ln w="25560">
            <a:solidFill>
              <a:srgbClr val="ff00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03480" y="4884840"/>
            <a:ext cx="575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Book Antiqua"/>
              </a:rPr>
              <a:t>Sim</a:t>
            </a:r>
            <a:r>
              <a:rPr b="0" lang="zh-CN" sz="1200" spc="-1" strike="noStrike">
                <a:solidFill>
                  <a:srgbClr val="0000ff"/>
                </a:solidFill>
                <a:latin typeface="Book Antiqua"/>
              </a:rPr>
              <a:t>Ｃ</a:t>
            </a:r>
            <a:endParaRPr b="0" lang="en-US" sz="12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3635280" y="4652640"/>
            <a:ext cx="287280" cy="360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© JEITA  2007. All Rights Reserved.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ECA39-25B0-4237-AD1F-3A4376870E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10160" y="1185840"/>
            <a:ext cx="9003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DA  models were described by S-parameters and equivalent 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it. It had no problem with the equivalent circuit models but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 S-parameters had some problem as below.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No DC point of S-parameters.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Bandwidth limitation.  (300KHz-8.5GHz) 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Each bandwidth of the EDA models  might not be the same.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Each number of points of S-parameters might not be the same.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It is uncertain how S-parameters are measured. 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75360" y="249120"/>
            <a:ext cx="41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of Passive EDA models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© JEITA  2007. All Rights Reserved.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9B890-A3CC-40A9-AFE3-6705483E78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438640" y="249120"/>
            <a:ext cx="40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ussion of the EDA Models 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51920" y="1144440"/>
            <a:ext cx="7719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EDA –WG, We discussed various problems, 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concluded it as follows. 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Must include DC point of S-parameters .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Consider upper limitation of S-parameters for rise time.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Not able to standardize bandwidth of S-parameters of 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EDA models in all manufacturer.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Not able to standardize number of points of  S-parameters  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EDA models as well.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Some manufacturers have disclosed measuring method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he public on Web.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© JEITA  2007. All Rights Reserved.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BB496-EC02-4F08-AFAB-EECB2D3F02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7240" y="1433520"/>
            <a:ext cx="871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thod of measuring of DC point of S-parameters 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disclosed to the public.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do transient analysis, it is necessary to consider minimum 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nd number of points of S-parameters.   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he method of measuring the EDA models is disclosed 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he public.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The usage of the EDA models is disclosed to the public.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50200" y="249120"/>
            <a:ext cx="43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dance of Passive EDA models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© JEITA  2007. All Rights Reserved.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B9538-6187-44BC-850B-EDEC1A6D59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670040" y="297000"/>
            <a:ext cx="61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ing method  of DC point of S-parameters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82640" y="4005360"/>
            <a:ext cx="2376360" cy="1295280"/>
          </a:xfrm>
          <a:prstGeom prst="rect">
            <a:avLst/>
          </a:prstGeom>
          <a:solidFill>
            <a:srgbClr val="0000ff"/>
          </a:solidFill>
          <a:ln w="12600">
            <a:solidFill>
              <a:srgbClr val="04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T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82640" y="1773360"/>
            <a:ext cx="2303640" cy="1725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79280" y="3141720"/>
            <a:ext cx="963720" cy="2030400"/>
          </a:xfrm>
          <a:custGeom>
            <a:avLst/>
            <a:gdLst/>
            <a:ahLst/>
            <a:rect l="l" t="t" r="r" b="b"/>
            <a:pathLst>
              <a:path w="607" h="1279">
                <a:moveTo>
                  <a:pt x="607" y="0"/>
                </a:moveTo>
                <a:cubicBezTo>
                  <a:pt x="521" y="33"/>
                  <a:pt x="436" y="66"/>
                  <a:pt x="357" y="127"/>
                </a:cubicBezTo>
                <a:cubicBezTo>
                  <a:pt x="278" y="188"/>
                  <a:pt x="188" y="263"/>
                  <a:pt x="130" y="368"/>
                </a:cubicBezTo>
                <a:cubicBezTo>
                  <a:pt x="72" y="473"/>
                  <a:pt x="18" y="636"/>
                  <a:pt x="9" y="757"/>
                </a:cubicBezTo>
                <a:cubicBezTo>
                  <a:pt x="0" y="878"/>
                  <a:pt x="11" y="1005"/>
                  <a:pt x="76" y="1092"/>
                </a:cubicBezTo>
                <a:cubicBezTo>
                  <a:pt x="141" y="1179"/>
                  <a:pt x="355" y="1242"/>
                  <a:pt x="398" y="1279"/>
                </a:cubicBezTo>
              </a:path>
            </a:pathLst>
          </a:custGeom>
          <a:noFill/>
          <a:ln w="38160">
            <a:solidFill>
              <a:srgbClr val="04040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4840" y="3213000"/>
            <a:ext cx="812520" cy="1150920"/>
          </a:xfrm>
          <a:custGeom>
            <a:avLst/>
            <a:gdLst/>
            <a:ahLst/>
            <a:rect l="l" t="t" r="r" b="b"/>
            <a:pathLst>
              <a:path w="512" h="725">
                <a:moveTo>
                  <a:pt x="512" y="0"/>
                </a:moveTo>
                <a:cubicBezTo>
                  <a:pt x="474" y="23"/>
                  <a:pt x="436" y="46"/>
                  <a:pt x="372" y="96"/>
                </a:cubicBezTo>
                <a:cubicBezTo>
                  <a:pt x="308" y="146"/>
                  <a:pt x="191" y="217"/>
                  <a:pt x="131" y="297"/>
                </a:cubicBezTo>
                <a:cubicBezTo>
                  <a:pt x="71" y="377"/>
                  <a:pt x="0" y="507"/>
                  <a:pt x="11" y="578"/>
                </a:cubicBezTo>
                <a:cubicBezTo>
                  <a:pt x="22" y="649"/>
                  <a:pt x="176" y="696"/>
                  <a:pt x="198" y="725"/>
                </a:cubicBezTo>
              </a:path>
            </a:pathLst>
          </a:custGeom>
          <a:noFill/>
          <a:ln w="38160">
            <a:solidFill>
              <a:srgbClr val="04040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27360" y="3213000"/>
            <a:ext cx="1266840" cy="1959120"/>
          </a:xfrm>
          <a:custGeom>
            <a:avLst/>
            <a:gdLst/>
            <a:ahLst/>
            <a:rect l="l" t="t" r="r" b="b"/>
            <a:pathLst>
              <a:path w="798" h="1234">
                <a:moveTo>
                  <a:pt x="0" y="0"/>
                </a:moveTo>
                <a:cubicBezTo>
                  <a:pt x="176" y="53"/>
                  <a:pt x="353" y="106"/>
                  <a:pt x="480" y="256"/>
                </a:cubicBezTo>
                <a:cubicBezTo>
                  <a:pt x="607" y="406"/>
                  <a:pt x="798" y="736"/>
                  <a:pt x="762" y="899"/>
                </a:cubicBezTo>
                <a:cubicBezTo>
                  <a:pt x="726" y="1062"/>
                  <a:pt x="272" y="1165"/>
                  <a:pt x="266" y="1234"/>
                </a:cubicBezTo>
              </a:path>
            </a:pathLst>
          </a:custGeom>
          <a:noFill/>
          <a:ln w="38160">
            <a:solidFill>
              <a:srgbClr val="04040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83000" y="3286080"/>
            <a:ext cx="914400" cy="1100160"/>
          </a:xfrm>
          <a:custGeom>
            <a:avLst/>
            <a:gdLst/>
            <a:ahLst/>
            <a:rect l="l" t="t" r="r" b="b"/>
            <a:pathLst>
              <a:path w="576" h="693">
                <a:moveTo>
                  <a:pt x="0" y="0"/>
                </a:moveTo>
                <a:cubicBezTo>
                  <a:pt x="85" y="53"/>
                  <a:pt x="170" y="106"/>
                  <a:pt x="263" y="184"/>
                </a:cubicBezTo>
                <a:cubicBezTo>
                  <a:pt x="356" y="262"/>
                  <a:pt x="540" y="380"/>
                  <a:pt x="558" y="465"/>
                </a:cubicBezTo>
                <a:cubicBezTo>
                  <a:pt x="576" y="550"/>
                  <a:pt x="395" y="657"/>
                  <a:pt x="370" y="693"/>
                </a:cubicBezTo>
              </a:path>
            </a:pathLst>
          </a:custGeom>
          <a:noFill/>
          <a:ln w="38160">
            <a:solidFill>
              <a:srgbClr val="04040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38640" y="1185840"/>
            <a:ext cx="24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DR Oscilloscope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6160" y="543708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2806"/>
                </a:solidFill>
                <a:latin typeface="Times New Roman"/>
              </a:rPr>
              <a:t>Port 1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29800" y="55087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dd04"/>
                </a:solidFill>
                <a:latin typeface="Times New Roman"/>
              </a:rPr>
              <a:t>Port 2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29440" y="356544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Port 3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70880" y="356544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99"/>
                </a:solidFill>
                <a:latin typeface="Times New Roman"/>
              </a:rPr>
              <a:t>Port 4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859280" y="981000"/>
            <a:ext cx="3673440" cy="2755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598520" y="1044720"/>
            <a:ext cx="671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2806"/>
                </a:solidFill>
                <a:latin typeface="Times New Roman"/>
              </a:rPr>
              <a:t>Port 1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08360" y="1197000"/>
            <a:ext cx="287640" cy="2872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233400" y="18367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dd04"/>
                </a:solidFill>
                <a:latin typeface="Times New Roman"/>
              </a:rPr>
              <a:t>Port 2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940360" y="2062080"/>
            <a:ext cx="287280" cy="287280"/>
          </a:xfrm>
          <a:prstGeom prst="line">
            <a:avLst/>
          </a:prstGeom>
          <a:ln w="15840">
            <a:solidFill>
              <a:srgbClr val="04dd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7760" y="226836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Port 3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156360" y="2565360"/>
            <a:ext cx="287280" cy="28728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30160" y="313380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99"/>
                </a:solidFill>
                <a:latin typeface="Times New Roman"/>
              </a:rPr>
              <a:t>Port 4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5940360" y="3068640"/>
            <a:ext cx="287280" cy="216000"/>
          </a:xfrm>
          <a:prstGeom prst="line">
            <a:avLst/>
          </a:prstGeom>
          <a:ln w="158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003640" y="4003560"/>
            <a:ext cx="3457800" cy="2594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08360" y="2276640"/>
            <a:ext cx="719280" cy="431640"/>
          </a:xfrm>
          <a:prstGeom prst="rightArrow">
            <a:avLst>
              <a:gd name="adj1" fmla="val 39704"/>
              <a:gd name="adj2" fmla="val 66215"/>
            </a:avLst>
          </a:prstGeom>
          <a:solidFill>
            <a:srgbClr val="00ff00"/>
          </a:solidFill>
          <a:ln w="12600">
            <a:solidFill>
              <a:srgbClr val="04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5760000" y="3753720"/>
            <a:ext cx="431640" cy="360360"/>
          </a:xfrm>
          <a:prstGeom prst="rightArrow">
            <a:avLst>
              <a:gd name="adj1" fmla="val 39704"/>
              <a:gd name="adj2" fmla="val 47596"/>
            </a:avLst>
          </a:prstGeom>
          <a:solidFill>
            <a:srgbClr val="00ff00"/>
          </a:solidFill>
          <a:ln w="12600">
            <a:solidFill>
              <a:srgbClr val="04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04360" y="183528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surement</a:t>
            </a:r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7440" y="3700440"/>
            <a:ext cx="14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-CONNECT</a:t>
            </a:r>
            <a:endParaRPr b="0" lang="en-US" sz="1800" spc="-1" strike="noStrike">
              <a:solidFill>
                <a:srgbClr val="0404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FFT)</a:t>
            </a:r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84360" y="5726160"/>
            <a:ext cx="497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2806"/>
                </a:solidFill>
                <a:latin typeface="Times New Roman"/>
              </a:rPr>
              <a:t>S11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96000" y="5878440"/>
            <a:ext cx="287280" cy="2872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87600" y="4164120"/>
            <a:ext cx="4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dd04"/>
                </a:solidFill>
                <a:latin typeface="Times New Roman"/>
              </a:rPr>
              <a:t>S21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796000" y="4292640"/>
            <a:ext cx="288720" cy="146160"/>
          </a:xfrm>
          <a:prstGeom prst="line">
            <a:avLst/>
          </a:prstGeom>
          <a:ln w="15840">
            <a:solidFill>
              <a:srgbClr val="04dd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68680" y="4141800"/>
            <a:ext cx="4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S31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451640" y="4437000"/>
            <a:ext cx="144720" cy="28908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28720" y="5245200"/>
            <a:ext cx="4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99"/>
                </a:solidFill>
                <a:latin typeface="Times New Roman"/>
              </a:rPr>
              <a:t>S41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5651640" y="4725720"/>
            <a:ext cx="576000" cy="669960"/>
          </a:xfrm>
          <a:prstGeom prst="line">
            <a:avLst/>
          </a:prstGeom>
          <a:ln w="158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637236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© JEITA  2007. All Rights Reserved.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A0DE3-8580-49E3-B9AC-0896A7E43F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971640" y="1620360"/>
            <a:ext cx="3239640" cy="1087560"/>
            <a:chOff x="971640" y="1620360"/>
            <a:chExt cx="3239640" cy="108756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 rot="5400000">
              <a:off x="3463200" y="1903680"/>
              <a:ext cx="93564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1516680" y="1971000"/>
              <a:ext cx="2140560" cy="45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3"/>
            <a:stretch/>
          </p:blipFill>
          <p:spPr>
            <a:xfrm rot="16200000">
              <a:off x="716400" y="1875600"/>
              <a:ext cx="1087560" cy="57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"/>
          <p:cNvSpPr/>
          <p:nvPr/>
        </p:nvSpPr>
        <p:spPr>
          <a:xfrm>
            <a:off x="178920" y="1279440"/>
            <a:ext cx="61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2806"/>
                </a:solidFill>
                <a:latin typeface="Times New Roman"/>
              </a:rPr>
              <a:t>Port 1</a:t>
            </a:r>
            <a:endParaRPr b="0" lang="en-US" sz="14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360" y="1359000"/>
            <a:ext cx="61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dd04"/>
                </a:solidFill>
                <a:latin typeface="Times New Roman"/>
              </a:rPr>
              <a:t>Port 2</a:t>
            </a:r>
            <a:endParaRPr b="0" lang="en-US" sz="14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4400" y="1603440"/>
            <a:ext cx="61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Port 3</a:t>
            </a:r>
            <a:endParaRPr b="0" lang="en-US" sz="14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55640" y="1603440"/>
            <a:ext cx="61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99"/>
                </a:solidFill>
                <a:latin typeface="Times New Roman"/>
              </a:rPr>
              <a:t>Port 4</a:t>
            </a:r>
            <a:endParaRPr b="0" lang="en-US" sz="14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26920" y="1477800"/>
            <a:ext cx="289080" cy="21600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995280" y="1557360"/>
            <a:ext cx="360360" cy="216000"/>
          </a:xfrm>
          <a:prstGeom prst="line">
            <a:avLst/>
          </a:prstGeom>
          <a:ln w="15840">
            <a:solidFill>
              <a:srgbClr val="04dd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1773360"/>
            <a:ext cx="287280" cy="7128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140360" y="1773360"/>
            <a:ext cx="287280" cy="142920"/>
          </a:xfrm>
          <a:prstGeom prst="line">
            <a:avLst/>
          </a:prstGeom>
          <a:ln w="158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49400" y="1044720"/>
            <a:ext cx="31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at cable connector and fixture PCB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867280" y="1700280"/>
            <a:ext cx="2373480" cy="936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019480" y="1724040"/>
            <a:ext cx="61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2806"/>
                </a:solidFill>
                <a:latin typeface="Times New Roman"/>
              </a:rPr>
              <a:t>Port 1</a:t>
            </a:r>
            <a:endParaRPr b="0" lang="en-US" sz="14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17680" y="2268360"/>
            <a:ext cx="61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Port 3</a:t>
            </a:r>
            <a:endParaRPr b="0" lang="en-US" sz="14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37320" y="1922400"/>
            <a:ext cx="203040" cy="1015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665680" y="2300040"/>
            <a:ext cx="252360" cy="666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457840" y="1725480"/>
            <a:ext cx="61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dd04"/>
                </a:solidFill>
                <a:latin typeface="Times New Roman"/>
              </a:rPr>
              <a:t>Port 2</a:t>
            </a:r>
            <a:endParaRPr b="0" lang="en-US" sz="14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454600" y="2268360"/>
            <a:ext cx="61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99"/>
                </a:solidFill>
                <a:latin typeface="Times New Roman"/>
              </a:rPr>
              <a:t>Port 4</a:t>
            </a:r>
            <a:endParaRPr b="0" lang="en-US" sz="14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8167680" y="1852560"/>
            <a:ext cx="201600" cy="150840"/>
          </a:xfrm>
          <a:prstGeom prst="line">
            <a:avLst/>
          </a:prstGeom>
          <a:ln w="15840">
            <a:solidFill>
              <a:srgbClr val="04dd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8166240" y="2300040"/>
            <a:ext cx="203040" cy="50760"/>
          </a:xfrm>
          <a:prstGeom prst="line">
            <a:avLst/>
          </a:prstGeom>
          <a:ln w="158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33000" y="1044720"/>
            <a:ext cx="230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tial pair line with 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lid ground plane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1465200" y="4459320"/>
            <a:ext cx="2162160" cy="8413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402560" y="3656160"/>
            <a:ext cx="230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tial pair line with 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shed ground plane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32000" y="249120"/>
            <a:ext cx="25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ce Under Test 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6760" y="4443480"/>
            <a:ext cx="61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2806"/>
                </a:solidFill>
                <a:latin typeface="Times New Roman"/>
              </a:rPr>
              <a:t>Port 1</a:t>
            </a:r>
            <a:endParaRPr b="0" lang="en-US" sz="14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5320" y="4987800"/>
            <a:ext cx="61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Port 3</a:t>
            </a:r>
            <a:endParaRPr b="0" lang="en-US" sz="14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44600" y="4641840"/>
            <a:ext cx="203040" cy="1015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273320" y="5019480"/>
            <a:ext cx="252360" cy="666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55600" y="4444920"/>
            <a:ext cx="61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dd04"/>
                </a:solidFill>
                <a:latin typeface="Times New Roman"/>
              </a:rPr>
              <a:t>Port 2</a:t>
            </a:r>
            <a:endParaRPr b="0" lang="en-US" sz="14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52720" y="4987800"/>
            <a:ext cx="61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99"/>
                </a:solidFill>
                <a:latin typeface="Times New Roman"/>
              </a:rPr>
              <a:t>Port 4</a:t>
            </a:r>
            <a:endParaRPr b="0" lang="en-US" sz="14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565440" y="4572000"/>
            <a:ext cx="201600" cy="150840"/>
          </a:xfrm>
          <a:prstGeom prst="line">
            <a:avLst/>
          </a:prstGeom>
          <a:ln w="15840">
            <a:solidFill>
              <a:srgbClr val="04dd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564000" y="5019480"/>
            <a:ext cx="203040" cy="50760"/>
          </a:xfrm>
          <a:prstGeom prst="line">
            <a:avLst/>
          </a:prstGeom>
          <a:ln w="158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92000" y="261144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lat cable</a:t>
            </a:r>
            <a:endParaRPr b="0" lang="en-US" sz="14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627280" y="2420640"/>
            <a:ext cx="504720" cy="360360"/>
          </a:xfrm>
          <a:prstGeom prst="line">
            <a:avLst/>
          </a:prstGeom>
          <a:ln w="15840">
            <a:solidFill>
              <a:srgbClr val="040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6012000" y="4149720"/>
            <a:ext cx="1790640" cy="1457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945040" y="3565440"/>
            <a:ext cx="20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lter and Fixture PCB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49440" y="4357800"/>
            <a:ext cx="61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2806"/>
                </a:solidFill>
                <a:latin typeface="Times New Roman"/>
              </a:rPr>
              <a:t>Port 1</a:t>
            </a:r>
            <a:endParaRPr b="0" lang="en-US" sz="14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48000" y="5060880"/>
            <a:ext cx="61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Port 3</a:t>
            </a:r>
            <a:endParaRPr b="0" lang="en-US" sz="14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4556160"/>
            <a:ext cx="203400" cy="1015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796000" y="5092560"/>
            <a:ext cx="252360" cy="6696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400" y="4284720"/>
            <a:ext cx="61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dd04"/>
                </a:solidFill>
                <a:latin typeface="Times New Roman"/>
              </a:rPr>
              <a:t>Port 2</a:t>
            </a:r>
            <a:endParaRPr b="0" lang="en-US" sz="14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021160" y="4987800"/>
            <a:ext cx="61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99"/>
                </a:solidFill>
                <a:latin typeface="Times New Roman"/>
              </a:rPr>
              <a:t>Port 4</a:t>
            </a:r>
            <a:endParaRPr b="0" lang="en-US" sz="14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7734240" y="4411800"/>
            <a:ext cx="201600" cy="150840"/>
          </a:xfrm>
          <a:prstGeom prst="line">
            <a:avLst/>
          </a:prstGeom>
          <a:ln w="15840">
            <a:solidFill>
              <a:srgbClr val="04dd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7732800" y="5019480"/>
            <a:ext cx="203040" cy="50760"/>
          </a:xfrm>
          <a:prstGeom prst="line">
            <a:avLst/>
          </a:prstGeom>
          <a:ln w="158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© JEITA  2007. All Rights Reserved.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1EF20-F21B-4734-AEDD-894888F1F6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694520" y="104760"/>
            <a:ext cx="56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-parameters of TDR vs. VNA (DC-20GHz)</a:t>
            </a:r>
            <a:endParaRPr b="0" lang="en-US" sz="2400" spc="-1" strike="noStrike">
              <a:solidFill>
                <a:srgbClr val="040404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4257720" cy="31910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643280" y="620640"/>
            <a:ext cx="4257720" cy="31910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395280" y="3646440"/>
            <a:ext cx="4257720" cy="31910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4716360" y="3645000"/>
            <a:ext cx="4257720" cy="31906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768680" y="2413080"/>
            <a:ext cx="228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2806"/>
                </a:solidFill>
                <a:latin typeface="Times New Roman"/>
              </a:rPr>
              <a:t>Calculated S-parm (TDR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1619280" y="2133720"/>
            <a:ext cx="287280" cy="35856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97920" y="2629080"/>
            <a:ext cx="228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dd04"/>
                </a:solidFill>
                <a:latin typeface="Times New Roman"/>
              </a:rPr>
              <a:t>Calculated S-parm (TDR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443640" y="2060280"/>
            <a:ext cx="432000" cy="576360"/>
          </a:xfrm>
          <a:prstGeom prst="line">
            <a:avLst/>
          </a:prstGeom>
          <a:ln w="15840">
            <a:solidFill>
              <a:srgbClr val="04dd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68680" y="5487840"/>
            <a:ext cx="228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Times New Roman"/>
              </a:rPr>
              <a:t>Calculated S-parm (TDR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1619280" y="5208120"/>
            <a:ext cx="287280" cy="358920"/>
          </a:xfrm>
          <a:prstGeom prst="line">
            <a:avLst/>
          </a:prstGeom>
          <a:ln w="1584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70640" y="5532480"/>
            <a:ext cx="228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99"/>
                </a:solidFill>
                <a:latin typeface="Times New Roman"/>
              </a:rPr>
              <a:t>Calculated S-parm (TDR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5421240" y="5253120"/>
            <a:ext cx="287280" cy="358560"/>
          </a:xfrm>
          <a:prstGeom prst="line">
            <a:avLst/>
          </a:prstGeom>
          <a:ln w="158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395280" y="620640"/>
            <a:ext cx="4257720" cy="31910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4643280" y="620640"/>
            <a:ext cx="4257720" cy="31910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161400" y="104472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Measured S-parm (VNA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00720" y="1316160"/>
            <a:ext cx="216000" cy="360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63960" y="99684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Measured S-parm (VNA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03280" y="1268280"/>
            <a:ext cx="216000" cy="360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395280" y="3645000"/>
            <a:ext cx="4257720" cy="31906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479600" y="407196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Measured S-parm (VNA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19280" y="4343400"/>
            <a:ext cx="216000" cy="360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8"/>
          <a:stretch/>
        </p:blipFill>
        <p:spPr>
          <a:xfrm>
            <a:off x="4716360" y="3645000"/>
            <a:ext cx="4257720" cy="31906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162840" y="402120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Measured S-parm (VNA)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084360" y="4221000"/>
            <a:ext cx="142920" cy="2160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92600" y="492120"/>
            <a:ext cx="31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at cable connector and fixture PCB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52480" y="6524640"/>
            <a:ext cx="61722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© JEITA  2007. All Rights Reserved.</a:t>
            </a:r>
            <a:endParaRPr b="0" lang="en-US" sz="1600" spc="-1" strike="noStrike">
              <a:solidFill>
                <a:srgbClr val="040404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A2C0F-4F47-462D-95ED-FFFEB71A1D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07:53:10Z</dcterms:created>
  <dc:creator>ikeda</dc:creator>
  <dc:description/>
  <dc:language>en-US</dc:language>
  <cp:lastModifiedBy>ikeda</cp:lastModifiedBy>
  <dcterms:modified xsi:type="dcterms:W3CDTF">2007-09-13T04:32:11Z</dcterms:modified>
  <cp:revision>91</cp:revision>
  <dc:subject/>
  <dc:title>スライド 1</dc:title>
</cp:coreProperties>
</file>