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4CBA-A2AC-4679-B8E5-803A9C2E3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B791-5D41-4DBE-8649-559F82F6E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8B6B-D71F-42B7-9C6D-20A5526BF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1A9F-2D74-44FA-B822-F5DDEF53B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229A-601E-491B-9119-E6F69D028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708E-5AFF-4EA6-9DCC-225AB78D8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3CEB-3E91-40C3-8867-F36CF1C3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1C2E-7A4D-4C16-BF93-B690D7713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C97F-C598-4FE1-9EF7-2A3D82160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030D-78E7-429A-B56D-7A457EC3E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EDCF6-26F5-4EA6-BBA3-DCEA2F85F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3D1D-4747-47B1-91EA-B293863B7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826240" y="6234120"/>
            <a:ext cx="2266920" cy="47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609120" y="6552720"/>
            <a:ext cx="308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IBIS Open Forum, Tokyo, Japan 14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gilent TT Cond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 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016400" y="6490800"/>
            <a:ext cx="165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gilent TT C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Page </a:t>
            </a:r>
            <a:fld id="{23D8CB4C-A260-4273-850E-65266D9D5409}" type="slidenum"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1" marL="14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2" marL="233280" indent="-2300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3" marL="465120" indent="-23004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4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5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lvl="6" marL="677880" indent="-211320">
              <a:lnSpc>
                <a:spcPct val="95000"/>
              </a:lnSpc>
              <a:spcAft>
                <a:spcPts val="1624"/>
              </a:spcAft>
              <a:buClr>
                <a:srgbClr val="000000"/>
              </a:buClr>
              <a:buFont typeface="Agilent TT C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0" y="6324480"/>
            <a:ext cx="10429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523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gilent TT Cond"/>
              </a:rPr>
              <a:t>Click to edit the title text format</a:t>
            </a:r>
            <a:endParaRPr b="1" lang="en-US" sz="24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45080" y="5981760"/>
            <a:ext cx="3319560" cy="691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86200" y="6095880"/>
            <a:ext cx="1447920" cy="53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99cc"/>
                </a:solidFill>
                <a:latin typeface="Agilent TT Cond"/>
              </a:rPr>
              <a:t>Click to edit the outline text format</a:t>
            </a:r>
            <a:endParaRPr b="1" lang="en-US" sz="3500" spc="-1" strike="noStrike">
              <a:solidFill>
                <a:srgbClr val="0099cc"/>
              </a:solidFill>
              <a:latin typeface="Agilent TT Cond"/>
            </a:endParaRPr>
          </a:p>
          <a:p>
            <a:pPr lvl="1" indent="0" algn="ctr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3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4" algn="ctr">
              <a:lnSpc>
                <a:spcPct val="95000"/>
              </a:lnSpc>
              <a:spcAft>
                <a:spcPts val="1125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5">
              <a:spcBef>
                <a:spcPts val="45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6">
              <a:spcBef>
                <a:spcPts val="451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144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 Review of existing Multi-Gbps Serial Channel Analysis Methods and the Evolution of the Proposed IBIS ATM Algorithmic Modeling  Standard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5400" y="341280"/>
            <a:ext cx="823572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an Dodd, Signal Integrity Market Segment Specialist 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Richard Ward, Texas Instruments.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Sanjeev Gupta, SI Product Marketing Manager, Agilent Technologies</a:t>
            </a: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  <a:p>
            <a:pPr indent="0">
              <a:lnSpc>
                <a:spcPct val="8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876920"/>
            <a:ext cx="16002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</a:rPr>
              <a:t>IBIS Open Forum, Tokyo,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cc"/>
                </a:solidFill>
                <a:latin typeface="Agilent TT Cond"/>
              </a:rPr>
              <a:t>14th Sept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840" y="6372360"/>
            <a:ext cx="26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99cc"/>
                </a:solidFill>
                <a:latin typeface="Arial"/>
              </a:rPr>
              <a:t>contact: ian_dodd@exch.agilen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7480" y="55418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(Previously presented at the IBIS Op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Forum Beijing, China, 11</a:t>
            </a:r>
            <a:r>
              <a:rPr b="0" lang="en-US" sz="800" spc="-1" strike="noStrike" baseline="30000">
                <a:solidFill>
                  <a:srgbClr val="66ffff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66ffff"/>
                </a:solidFill>
                <a:latin typeface="Arial"/>
              </a:rPr>
              <a:t> September 2007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71520" y="274680"/>
            <a:ext cx="8391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Obtaining meaningful data from a limited dataset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38040"/>
            <a:ext cx="481968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Random jitter will include low probability events that have a major influence of the overall bit error rates for a channe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Statistical methods allow the full random jitter distribution to be predicted from the results of simulating a channel for a comparatively short number of bi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figures on the right show the statistical separation of random jitter from the combination of deterministic jitter and random jitter and the subsequent extrapolation of a worst case BER plot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Other statistical methods such as improved importance sampling can achieve a similar result.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Instruments used to do hardware validation of multi-Gbps channels use similar statistical analysis to predict BER from a finite data sampl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99" name=""/>
          <p:cNvSpPr/>
          <p:nvPr/>
        </p:nvSpPr>
        <p:spPr>
          <a:xfrm>
            <a:off x="6219720" y="1087560"/>
            <a:ext cx="212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Jitte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38760" y="3392640"/>
            <a:ext cx="146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Worst Case BER P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905440" y="3633840"/>
            <a:ext cx="2879640" cy="1874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853240" y="1305000"/>
            <a:ext cx="2914560" cy="19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E927-40AF-4B9D-AB81-107D85F6AD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Observations on circuit and system co-simulation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Circuit and system co-simulation allows the behavior of multi-Gbps channels to be modeled to a very high level of accurac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includes the accurate modeling of random jitter and the prediction of its effect on the overall BE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is important to note that there are many sources of random jitter 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s an example, just a few sources of random jitter present in the transmitter include: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rmal nois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Jitter in the system clock,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Jitter inherent in the clock multiplier PLL design and noise introduced into it from the reference plane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lthough this analysis of circuit and system co-simulation concentrates on driver and receiver modeling, it is also essential to also accurately model the interconnect over the full range of frequencies used for signaling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 particular, vias and breakouts if not designed appropriately, will  severely compromise channel reliability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3D EM modeling is generally required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-21132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Decomposition techniques that ignore the significant fringing fields generally produce inadequate resul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4560"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EB22-5CD7-4451-ABFB-020CD97729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Established system level multi-Gbps solutions: StatEye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StatEye tool was developed during the creation of the Optical Internetworking Forum CEI standard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Original authors: Anthony Sanders and Edoardo Prete of Infine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vailable as open sourc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cluded as an integral part of compliance testing for multiple high speed channel standard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Provides a fast standardized analysis including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ransmitter FFE and receiver FFE and DFE equalization with automatic optimiz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nnel ISI and crosstalk noise from adjacent chann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Random jitt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omputes output pulse spectrum, bathtub curve and eye diagrams for different BER’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0AC7-6C38-450D-94E6-ECC09051E5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42480" y="274320"/>
            <a:ext cx="774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StatEye Example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390840" y="3591000"/>
            <a:ext cx="5295960" cy="24271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37600" y="1057320"/>
            <a:ext cx="3076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Simulation of a representative </a:t>
            </a:r>
            <a:br>
              <a:rPr sz="1600"/>
            </a:b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10 Gbps channe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Circuit simulation provides the impulse response of the channel, optionally including crosstalk from adjacent channel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StatEye module calculates the optimal FFE and DFE coefficien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BER and statistical eye is then generated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521240" y="884160"/>
            <a:ext cx="4035240" cy="27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2A3F-21AA-40D2-9138-EADE6754B4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New system level multi-Gbps solutions: IBIS ATM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33480"/>
            <a:ext cx="82296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7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re is a critical need for standardized system level analysis for multi-Gbps channel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oving forward, we need the ability to model much more complex drivers and receivers than those presently built into StatEye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Need transmitter and receiver models that are interchangeable between IC vendors as EDA too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Require a standard interface so models can be automatically incorporated into simulation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IBIS Advanced Technology Modeling working group has proposed a system level simulation framework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Well defined programmatic interfaces to algorithmic transmitter and receiv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tandardized parameter passing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nitial effort has been to develop fast system level solutions suitable for PCB interactive and batch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framework and standardized model interface promises to solve many of the current system level simulation issues</a:t>
            </a: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t this time, reference models are available and their use in simulations demonstrat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Further details of the progress of the working group will be presented in an separate pap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4AEF-A5E5-4D50-AC9C-61BAD1209F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The Standardized Interfaces of the IBIS ATM Algorithmic</a:t>
            </a:r>
            <a:br>
              <a:rPr sz="2600"/>
            </a:b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Transmitter and Receiver Models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98400" y="1762200"/>
            <a:ext cx="7794720" cy="37684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489720" y="5332320"/>
            <a:ext cx="189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15120" y="5722920"/>
            <a:ext cx="24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 courtesy of Todd Westerhoff, SiSo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8652-008E-463A-8FBD-38DE2F8BAA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199800"/>
            <a:ext cx="857268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Observations on the IBIS ATM multi-Gbps proposal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6280" y="74736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26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IBIS ATM working group proposal offers a flexible solution to system level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multi-Gbps modeling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working group has exhaustively considered alternate approaches and found this to be the most practica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t this time the proposal includes a well defined interface between the simulation framework and the models including parameter passing from the IBIS source fil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took a lot of hard work on behalf of the working group to achieve this result!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A general review of multi-Gbps analysis methods suggests that once the existing proposal is passed it could be further refined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tandardized information as to which sources of jitter are included in the model</a:t>
            </a: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Allows appropriate statistical post-processing to obtain worst case BER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A standardized approach for including RTL and other system level descriptions into the receiver and transmitter modul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Many IC vendors use RTL to synthesize their silicon design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conversion of RTL into ‘C’ or other conventional programming languages would add costs and be a major source of modeling error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re appear to be few technical obstacles to this extension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0A5A-E9D7-433A-B59B-EBEDE4D04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gilent TT Cond"/>
              </a:rPr>
              <a:t>Conclusion</a:t>
            </a:r>
            <a:endParaRPr b="1" lang="en-US" sz="32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472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re are a multitude of approaches to multi-Gbps channel analysi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is paper has presented just a few exampl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C vendors have historically favored a combination of circuit and system level simulat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CB system designers have a need to do system level channel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lack of a standard way of deriving system level models that protect IP from the IC vendors internal models is a major issu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The IBIS ATM working group has made considerable progress in solving this crucial issu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61E4-DEAE-4218-AF7D-9D70CBF067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Introduction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IBIS Advanced Technology Modeling (ATM) committee has a proposal for a flexible approach to system level modeling of multi-Gbps channel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principal target for this modeling technology is the PCB system design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Other standards bodies such as the IEEE and INCITS have undertaken major efforts to define standards for multi-Gbps channel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is includes standardized modeling for these channels, principally targeted at the IC designe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is paper contrasts the modeling approaches and shows how the IBIS ATM proposal promises to solve problems not addressed by previous solutions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also suggests how some of the features of previous approaches could be incorporated into the IBIS ATM proposal at future date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4D2C-1FFA-4E66-A093-D301CB8256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5615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Overall goal – Design and implement reliable</a:t>
            </a:r>
            <a:br>
              <a:rPr sz="2800"/>
            </a:b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1-10Gbps self clocked serial channels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6280" y="1160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Silicon Vendor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Design Transmitter and Receiver meeting specified channel standard and BE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Must be interoperable with other vendors designs for that channel standard e.g. 802.3ap and CEI11</a:t>
            </a:r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mulate Transmitter, Receiver and representative interconnect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reate Prototype silicon and PCB, measure actual performanc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-20916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Silicon design must tolerate a range of real PCB channel layouts with connectors, vias and cables</a:t>
            </a:r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orrelate simulation results to measurements to fine tune the modeling proc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he PCB System Implementer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hoose IC vendors and technolog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Plan channel implementation: set constraints on layers, lengths, via type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Simulate Transmitter, Receiver with representative interconnect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Layout channel, re-simulate with accurate modeling of channel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Fabricate PCB, measure actual performanc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orrelate simulation results to measurements to fine tune the modeling proc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2" marL="212040" indent="0"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7C58-4F20-4042-9EE5-DEFD550B58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-360"/>
            <a:ext cx="85615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Distribution of multi-Gbps models from the IC vendor to the PCB systems implementer</a:t>
            </a:r>
            <a:endParaRPr b="1" lang="en-US" sz="26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6280" y="1093320"/>
            <a:ext cx="82296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n creating models, the IC vendor wishes to satisfy customers while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rotect their intellectual property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elivery accurate, easy to use models that require a minimum of support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inimize the incremental cost in providing externally distributed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e PCB System Implementer has additional preferences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ompatibility of models between IC vendors and support from multiple SI analysis too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imulation speeds that allow full coverage of a design including corner case analysi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16720"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This presents new model creation challenges for the IC vendor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Historically many IC vendors internally utilized SPICE to design their general purpose buffer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BIS was the preferred format for model distribution, frequently created from the IC vendors internal SPICE models using SPICE to IBIS utiliti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ome IC vendors preferred to delivered encrypted versions of their internal SPICE mode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oday IC vendors are internally using  a mixture of SPICE, RTL and system level tools to design multi-Gbps buffers and the channel control logic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B6D7E-61AC-40E9-9EE4-31CCC76F7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31760" y="190440"/>
            <a:ext cx="7931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The topology of a typical 6 Gbps serial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67560" y="166536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838080"/>
            <a:ext cx="6629400" cy="1676520"/>
            <a:chOff x="1295280" y="838080"/>
            <a:chExt cx="6629400" cy="1676520"/>
          </a:xfrm>
        </p:grpSpPr>
        <p:sp>
          <p:nvSpPr>
            <p:cNvPr id="97" name=""/>
            <p:cNvSpPr/>
            <p:nvPr/>
          </p:nvSpPr>
          <p:spPr>
            <a:xfrm>
              <a:off x="1295280" y="838080"/>
              <a:ext cx="6629400" cy="167652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6620040" y="1347480"/>
              <a:ext cx="685800" cy="685800"/>
            </a:xfrm>
            <a:prstGeom prst="flowChartMerg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657520" y="1728360"/>
              <a:ext cx="162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928800"/>
              <a:ext cx="1066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Pre-emphasis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1119240"/>
              <a:ext cx="40968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5280" y="1347840"/>
              <a:ext cx="8478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438280" y="1804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1080" y="11955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127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3478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424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81080" y="1500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157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52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1728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1957320"/>
              <a:ext cx="457200" cy="381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2680" y="2185920"/>
              <a:ext cx="65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66760" y="843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eri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188136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Multiplier 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1785960"/>
              <a:ext cx="847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yste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86160" y="1376280"/>
              <a:ext cx="6858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78160" y="880920"/>
              <a:ext cx="878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Encoding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(8,10 etc)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10080" y="1386000"/>
              <a:ext cx="6858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24480" y="92880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95880" y="1662120"/>
              <a:ext cx="53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71800" y="111924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1271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127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886200" y="1566360"/>
              <a:ext cx="3906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8600" y="8524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Training patt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71960" y="1654200"/>
              <a:ext cx="4572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20574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66"/>
                  </a:solidFill>
                  <a:latin typeface="Agilent TT Cond"/>
                </a:rPr>
                <a:t>Transm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1676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81360" y="2495520"/>
            <a:ext cx="9720" cy="34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29240" y="3819600"/>
            <a:ext cx="9360" cy="32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5280" y="2819520"/>
            <a:ext cx="6629400" cy="1190160"/>
            <a:chOff x="1295280" y="2819520"/>
            <a:chExt cx="6629400" cy="1190160"/>
          </a:xfrm>
        </p:grpSpPr>
        <p:sp>
          <p:nvSpPr>
            <p:cNvPr id="133" name=""/>
            <p:cNvSpPr/>
            <p:nvPr/>
          </p:nvSpPr>
          <p:spPr>
            <a:xfrm>
              <a:off x="1477800" y="3048120"/>
              <a:ext cx="6350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95280" y="2819520"/>
              <a:ext cx="6629400" cy="99036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0840" y="3048120"/>
              <a:ext cx="444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7956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260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4200" y="3048120"/>
              <a:ext cx="6346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8960" y="3048120"/>
              <a:ext cx="4431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48520" y="3048120"/>
              <a:ext cx="6332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098800" y="3276720"/>
              <a:ext cx="12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65572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39876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41800" y="3276720"/>
              <a:ext cx="125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883040" y="3276720"/>
              <a:ext cx="127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442120" y="3276720"/>
              <a:ext cx="12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2900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66"/>
                  </a:solidFill>
                  <a:latin typeface="Agilent TT Cond"/>
                </a:rPr>
                <a:t>Physical 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576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5320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3505320"/>
              <a:ext cx="190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gilent TT Cond"/>
                </a:rPr>
                <a:t>Neighboring channels not sh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95840" y="3048120"/>
              <a:ext cx="6336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2360" y="3048120"/>
              <a:ext cx="6350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C block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apaci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9360" y="327672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05880" y="3276720"/>
              <a:ext cx="11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52360" y="4143240"/>
            <a:ext cx="6972480" cy="1900800"/>
            <a:chOff x="1152360" y="4143240"/>
            <a:chExt cx="6972480" cy="1900800"/>
          </a:xfrm>
        </p:grpSpPr>
        <p:sp>
          <p:nvSpPr>
            <p:cNvPr id="156" name=""/>
            <p:cNvSpPr/>
            <p:nvPr/>
          </p:nvSpPr>
          <p:spPr>
            <a:xfrm>
              <a:off x="1284120" y="4152960"/>
              <a:ext cx="6699240" cy="1752480"/>
            </a:xfrm>
            <a:prstGeom prst="rect">
              <a:avLst/>
            </a:prstGeom>
            <a:solidFill>
              <a:srgbClr val="ffff00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68400" y="5591160"/>
              <a:ext cx="8366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9736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19520" y="4295880"/>
              <a:ext cx="1122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Equalization</a:t>
              </a:r>
              <a:br>
                <a:rPr sz="1200"/>
              </a:br>
              <a:r>
                <a:rPr b="1" lang="en-US" sz="900" spc="-1" strike="noStrike">
                  <a:solidFill>
                    <a:srgbClr val="000000"/>
                  </a:solidFill>
                  <a:latin typeface="Agilent TT Cond"/>
                </a:rPr>
                <a:t>FFE, DF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300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5057640"/>
              <a:ext cx="9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76640" y="4448160"/>
              <a:ext cx="182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/ Data 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07080" y="4753080"/>
              <a:ext cx="6778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15880" y="5133960"/>
              <a:ext cx="15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7560" y="4448160"/>
              <a:ext cx="6778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5440" y="46004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0800" y="4600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620800" y="4896000"/>
              <a:ext cx="38592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120" y="4181400"/>
              <a:ext cx="120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Training patte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25600" y="5638680"/>
              <a:ext cx="95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760" y="5400720"/>
              <a:ext cx="83808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System 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1400" y="5438880"/>
              <a:ext cx="45216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5120" y="5619600"/>
              <a:ext cx="23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 Multiplier 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52360" y="4933800"/>
              <a:ext cx="836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484960" y="5067000"/>
              <a:ext cx="936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3338640" y="5372280"/>
              <a:ext cx="288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43320" y="5510160"/>
              <a:ext cx="38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61160" y="4676760"/>
              <a:ext cx="4032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534000" y="5209920"/>
              <a:ext cx="50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34000" y="521028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4960" y="505764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0880" y="5057640"/>
              <a:ext cx="37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4448160"/>
              <a:ext cx="89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24640" y="4371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e-Serial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11880" y="47530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11880" y="48290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11880" y="490536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11880" y="49816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11880" y="50576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1880" y="513396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11880" y="521028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11880" y="5286240"/>
              <a:ext cx="22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8200" y="4829040"/>
              <a:ext cx="836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34120" y="5362560"/>
              <a:ext cx="847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Recov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gilent TT Cond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0040" y="41432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66"/>
                  </a:solidFill>
                  <a:latin typeface="Agilent TT Cond"/>
                </a:rPr>
                <a:t>Rece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1200" y="5648400"/>
              <a:ext cx="21398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991040" y="5376960"/>
              <a:ext cx="468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3CA4-8D12-447C-B143-1B66B5F385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4680" y="0"/>
            <a:ext cx="85615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Agilent TT Cond"/>
              </a:rPr>
              <a:t>Approaches to multi-Gbps simulation</a:t>
            </a:r>
            <a:endParaRPr b="1" lang="en-US" sz="30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6280" y="845640"/>
            <a:ext cx="8229600" cy="56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Transistor and circuit level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SPICE, IBIS and SPICE macro-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ackages and interconnect are modeled using transmission line and ‘S’ 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inimize the incremental cost in providing externally distributed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Good accuracy but poor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Circuit and system level co-simulation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IBIS and SPICE macro-models co-simulating with RTL, Verilog AMS, VHDL-AMS, System-C, Proprietary ‘C’ or ‘C++” and system level simulation too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ackages and interconnect are modeled using impulse response, transmission line and S- 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Good accuracy and moderate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2140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System level simulation</a:t>
            </a:r>
            <a:endParaRPr b="1" lang="en-US" sz="20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Drivers and receivers are modeled using RTL, Verilog AMS, VHDL-AMS, System-C, Proprietary ‘C’ or ‘C++” and system level simulation tools.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nnels are characterized using impulse response or S-parameter model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Moderate Accuracy with good simulation speed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1" marL="1080" indent="0">
              <a:lnSpc>
                <a:spcPct val="85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75D1-09C9-4C92-94D7-9DD55093D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6280" y="2685960"/>
            <a:ext cx="5124600" cy="205740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4200" y="736560"/>
            <a:ext cx="7385040" cy="167652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520" y="152280"/>
            <a:ext cx="8712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cc"/>
                </a:solidFill>
                <a:latin typeface="Agilent TT Cond"/>
              </a:rPr>
              <a:t>Circuit and system level co-simulation of a multi-Gbps cha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52600" y="1131840"/>
            <a:ext cx="4572000" cy="311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lvl="1" marL="1440" indent="0">
              <a:lnSpc>
                <a:spcPct val="95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2943360" y="1395000"/>
            <a:ext cx="685800" cy="6858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90640" y="1741320"/>
            <a:ext cx="23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33640" y="1541520"/>
            <a:ext cx="2590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639960" y="1727280"/>
            <a:ext cx="17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74080" y="852480"/>
            <a:ext cx="286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ackage, Breakout, Traces and Via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c S-Parameter Models from 3D Field So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6681960" y="1383840"/>
            <a:ext cx="685800" cy="68580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8320" y="172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2280" y="781200"/>
            <a:ext cx="1371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An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Non-linear 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33800" y="811080"/>
            <a:ext cx="1032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Analo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Non-lin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Load Section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1840" y="3565440"/>
            <a:ext cx="9302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6208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95320" y="2776680"/>
            <a:ext cx="1122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Equalization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gilent TT Cond"/>
              </a:rPr>
              <a:t>FFE, D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2876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47880" y="3570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19520" y="2754360"/>
            <a:ext cx="132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Clock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82080" y="409428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hased Lock Lo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95800" y="32655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07520" y="278604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Data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14560" y="37227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067200" y="4019400"/>
            <a:ext cx="23605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000160" y="3112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00160" y="3112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7200" y="3112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7200" y="3417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954600" y="3560760"/>
            <a:ext cx="147312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0520" y="3249720"/>
            <a:ext cx="5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6120" y="371484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67200" y="37227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5040" y="4084560"/>
            <a:ext cx="1663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High Speed Window samp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67560" y="1665360"/>
            <a:ext cx="93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8400" y="860400"/>
            <a:ext cx="106704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Encoding</a:t>
            </a:r>
            <a:br>
              <a:rPr sz="11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(8,10…)</a:t>
            </a:r>
            <a:br>
              <a:rPr sz="900"/>
            </a:b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re-emph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ircuit Simulation (Non-lin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4343400"/>
            <a:ext cx="392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System Level or Behavioral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Co-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235560" y="3057480"/>
            <a:ext cx="2446560" cy="1540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356520" y="2754360"/>
            <a:ext cx="2361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ecovered Data Eye Diagram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gilent TT Cond"/>
              </a:rPr>
              <a:t>(includes periodic and random jitte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5181480"/>
            <a:ext cx="3124080" cy="990720"/>
          </a:xfrm>
          <a:prstGeom prst="rec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486400"/>
            <a:ext cx="2971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Random Noise Extrap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宋体"/>
              </a:rPr>
              <a:t>BER and Jitter Plo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83600" y="1727280"/>
            <a:ext cx="684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4840" y="143676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" y="765000"/>
            <a:ext cx="8474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Stimulus</a:t>
            </a:r>
            <a:r>
              <a:rPr b="1" lang="en-US" sz="1100" spc="-1" strike="noStrike">
                <a:solidFill>
                  <a:srgbClr val="000000"/>
                </a:solidFill>
                <a:latin typeface="Agilent TT Cond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9240" y="479916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662440" y="3798360"/>
            <a:ext cx="536760" cy="18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5715000"/>
            <a:ext cx="19274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240" y="127476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3240" y="189396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6280" y="1665360"/>
            <a:ext cx="98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Random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12800" y="1631880"/>
            <a:ext cx="228600" cy="22860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52560" y="174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14360" y="1494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14360" y="2084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71680" y="1741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67000" y="1460520"/>
            <a:ext cx="468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7840" y="912960"/>
            <a:ext cx="139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luding training pattern, periodic j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200" y="2577960"/>
            <a:ext cx="784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72280" y="1741320"/>
            <a:ext cx="50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1840" y="2587680"/>
            <a:ext cx="0" cy="9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1440" y="135252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jacent channels not show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477120" y="4800600"/>
            <a:ext cx="2144520" cy="140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010280" y="457200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Jitter/BER P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10200" y="321948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10200" y="3219480"/>
            <a:ext cx="6858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2000" y="2800440"/>
            <a:ext cx="7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0,8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5720" y="4218120"/>
            <a:ext cx="685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0120" y="3790800"/>
            <a:ext cx="799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6840" y="442764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486080" y="3903840"/>
            <a:ext cx="9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A0E0-A8E6-4353-BEF8-8EA22BEB0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Circuit and system level co-simulation</a:t>
            </a: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 </a:t>
            </a:r>
            <a:endParaRPr b="1" lang="en-US" sz="2000" spc="-1" strike="noStrike">
              <a:solidFill>
                <a:srgbClr val="0099cc"/>
              </a:solidFill>
              <a:latin typeface="Agilent TT C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0600" y="80964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5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Introduct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Presently favored by IC vendors for internal us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Explicitly implemented as co-simulation between a circuit level and system level simulato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mplicitly implemented as structural and behavioral modules in a AMS/SPICE simul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The number of nodes in the circuit simulation generally governs simulation performance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07360" indent="-204480">
              <a:lnSpc>
                <a:spcPct val="95000"/>
              </a:lnSpc>
              <a:spcBef>
                <a:spcPts val="176"/>
              </a:spcBef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For best results use IBIS or behavioral models for the analog portion of buffer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It is critical to choose a tool with fast and accurate S-parameter simul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Major Benefit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an use the primary models used to design the silic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an include channel protocol logic e.g. training patterns in original design language e.g. RTL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Supports non-linear drivers and loads with complex random jitter sources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gilent TT Cond"/>
              </a:rPr>
              <a:t>Disadvantage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No standard interface between the models and the simulator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lvl="2" marL="207360" indent="-204480">
              <a:lnSpc>
                <a:spcPct val="95000"/>
              </a:lnSpc>
              <a:spcAft>
                <a:spcPts val="349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Can an extension to the IBIS ATM proposal be used to solve this issue?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Waiting for IEEE standardized HDL encryp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F4F2-B086-44AC-AEA1-607CCEE21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320" y="160200"/>
            <a:ext cx="7895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Example of circuit and system co-simulation</a:t>
            </a:r>
            <a:endParaRPr b="1" lang="en-US" sz="2800" spc="-1" strike="noStrike">
              <a:solidFill>
                <a:srgbClr val="0099cc"/>
              </a:solidFill>
              <a:latin typeface="Agilent TT Cond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83240" y="843120"/>
            <a:ext cx="3852720" cy="252540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314280" y="3467160"/>
            <a:ext cx="8329680" cy="2818080"/>
            <a:chOff x="314280" y="3467160"/>
            <a:chExt cx="8329680" cy="2818080"/>
          </a:xfrm>
        </p:grpSpPr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6002280" y="3762360"/>
              <a:ext cx="2641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314280" y="3776760"/>
              <a:ext cx="2638440" cy="155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3168720" y="3757680"/>
              <a:ext cx="2644560" cy="15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476280" y="5424480"/>
              <a:ext cx="103500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1709640" y="5438880"/>
              <a:ext cx="107496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3394080" y="5434200"/>
              <a:ext cx="10144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4591080" y="5434200"/>
              <a:ext cx="105732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6224400" y="5438880"/>
              <a:ext cx="100332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0"/>
            <a:stretch/>
          </p:blipFill>
          <p:spPr>
            <a:xfrm>
              <a:off x="7443720" y="5438880"/>
              <a:ext cx="10270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071800" y="57150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57150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8680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588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33920" y="572940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9040" y="5724720"/>
              <a:ext cx="43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cc"/>
                  </a:solidFill>
                  <a:latin typeface="Arial"/>
                </a:rPr>
                <a:t>F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4840" y="3476880"/>
              <a:ext cx="11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Ey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00360" y="34671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ye after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29280" y="3486240"/>
              <a:ext cx="26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ye after modified stimul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86040" y="6010560"/>
              <a:ext cx="185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62800" y="6010560"/>
              <a:ext cx="185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8080" y="6039000"/>
              <a:ext cx="185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FE and DFE coeffici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14280" y="914400"/>
            <a:ext cx="420048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Agilent TT Cond"/>
              </a:rPr>
              <a:t>Simulation of a representative 10 Gbps channel with initial training and dynamic equalization</a:t>
            </a:r>
            <a:endParaRPr b="1" lang="en-US" sz="16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3000 bit training sequence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initial eye is completely closed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The FFE and DFE coefficients can be seen to change as a function of the stimulus 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gilent TT Cond"/>
              </a:rPr>
              <a:t>Environmental variables such as supply voltage, temperature and humidity will also affect coefficients</a:t>
            </a: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EA68-CF04-4EC5-B0C2-F94A32857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an dodd</cp:lastModifiedBy>
  <dcterms:modified xsi:type="dcterms:W3CDTF">2007-08-24T06:17:02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