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60A70-100D-447E-B5E5-D3C3C86DA0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78200-53A1-46C2-B286-84F6A37BD6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708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38082-EB6E-48DF-BDF0-96DB7B7EA3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4240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004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A8C50-4911-4262-A436-29DC76C9C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14400" y="234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EF572-7203-411C-B6C4-952FC01990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9708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1440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9708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1440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4240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7004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AAF55-C616-40A0-BCDF-EF701EC01E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AABE9-BBFE-4EF6-901F-3356AAF34E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D5654-D1B8-4337-BD5B-3EF2141C31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234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D1BE6-5DD4-420C-9181-EB73B7794F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E332E-F91C-43D9-8703-E4A49F5B86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708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B0076-DC14-470E-91F9-0D4DEA3331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CA5F0-F7DA-4AFF-8F26-AE0F6B6B48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848720" y="6534000"/>
            <a:ext cx="8380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0F5A-AFFD-4FE6-B949-20C56D358C21}" type="slidenum"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040" y="6400800"/>
            <a:ext cx="62485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IBIS-AMI Model Validation – Beijing IBIS Summit – Sept 11, 2007 </a:t>
            </a: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           © 2007, SiSo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36378" t="0" r="0" b="0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364520" y="6105600"/>
            <a:ext cx="1517400" cy="51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36378" t="0" r="0" b="0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283520" y="6529320"/>
            <a:ext cx="182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Signal Integrity Software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364520" y="6105600"/>
            <a:ext cx="1517400" cy="517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lnSpc>
                <a:spcPct val="9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lnSpc>
                <a:spcPct val="9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erDes Modeling: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BIS-AMI Evaluation Toolki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002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d by: Todd Westerhoff, SiSof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sterh@sisoft.com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IS Summi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ijing, China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tember 11, 2007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hallenge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BISCHK cannot check compiled model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milar problem to AMS model call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everal possible sources of platform/model incompatibilit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ncorrect EDA tool implementatio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ncorrect model implementatio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ncompatible run-time librarie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 “reference standard” for IBIS-AMI is neede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ference platform implementatio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ference model implementatio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9B8FD-3088-49A1-BF1C-D225509F1A0E}" type="slidenum">
              <a:t>2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BIS_AMI_Tes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3809880" cy="45259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876560" y="144792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llows IBIS-AMI .dll models to be run as standalone “executables”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Facilitates model debug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rovides standard environment for testing model compliance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uthored by SiSoft, source code to be turned over to IBIS Open Forum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Executable will be publicly available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6755F-F1A8-4052-B9BD-E62DE186B8AB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523880"/>
            <a:ext cx="335268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(IBIS_AMI_T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(Dll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(linux ibis_ami_tx_lnx.so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(solaris ibis_ami_tx_sun4.so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(windows ibis_ami_tx.dll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(Reserved_Paramete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(Ignore_Bits (Type Integer) (Default 21)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(Max_Init_Aggressors (Type Integer)(Default 25)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(Init_Returns_Impulse (Type Bool)(Default True)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(GetWave_Exists (Type Bool) (Default True)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) | End Reserv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(Model_specif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(txtap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(tapid (Range -1 3) (type int) 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(txtapcoeff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(-1 (Range -0.1 0.1 0.1) (Type float) (Default 0)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(0 (Range 1 1 0) (Type float) (Default 1)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(1 (List -0.1 0.1) (Type float)(Default  0)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(2 (Range -0.01 0.02 0.005) (Type float)</a:t>
            </a:r>
            <a:br>
              <a:rPr sz="700"/>
            </a:b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(Default 0)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(3 (Range -0.01 0.02 0.005) (Type float)</a:t>
            </a:r>
            <a:br>
              <a:rPr sz="700"/>
            </a:b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(Default 0)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)  | tapcoef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)  | txtap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(tx_freq_offset (Range 0 150 1) (Type ppm) (Default 0)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) | End User_Defin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)  | End IBIS_AMI_t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BIS_AMI_Tx Model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876560" y="144792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ference IBIS &amp; AMI file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ference Algorithmic mod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Impulse response and waveform processing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4 tap equalizer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Pre-cursor tap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Cursor tap 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2 post-cursor tap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Model normalizes tap sum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calable transmit swing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Executable and source code publicly available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00200" y="3505320"/>
            <a:ext cx="3446640" cy="2379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</p:pic>
      <p:sp>
        <p:nvSpPr>
          <p:cNvPr id="94" name=""/>
          <p:cNvSpPr/>
          <p:nvPr/>
        </p:nvSpPr>
        <p:spPr>
          <a:xfrm>
            <a:off x="4116240" y="15238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61720" y="586728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lgorithmic Model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74E6D-FC3A-41FE-BB65-2B04F071C878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BIS-AMI Evaluation Toolki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Goal: allow interested parties to evaluate &amp; develop IBIS-AMI model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vailable on-line from IBIS-ATM task group website and from www.sisoft.com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BIS_AMI_Test utility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ample TX model and source cod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ample input data, scripts, documentatio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mail discussion group established: 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bis-ami-toolkit@freelists.or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4DF4F-A2E9-4EDA-9372-BAF8DA7D81F4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ample Results: 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o TX EQ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3809880" cy="2185920"/>
          </a:xfrm>
          <a:prstGeom prst="rect">
            <a:avLst/>
          </a:prstGeom>
          <a:ln w="19080">
            <a:solidFill>
              <a:srgbClr val="336699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876920" y="1447920"/>
            <a:ext cx="3809880" cy="2185920"/>
          </a:xfrm>
          <a:prstGeom prst="rect">
            <a:avLst/>
          </a:prstGeom>
          <a:ln w="19080">
            <a:solidFill>
              <a:srgbClr val="336699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914400" y="3786120"/>
            <a:ext cx="3809880" cy="2187720"/>
          </a:xfrm>
          <a:prstGeom prst="rect">
            <a:avLst/>
          </a:prstGeom>
          <a:ln w="19080">
            <a:solidFill>
              <a:srgbClr val="336699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876920" y="3786120"/>
            <a:ext cx="3809880" cy="2187720"/>
          </a:xfrm>
          <a:prstGeom prst="rect">
            <a:avLst/>
          </a:prstGeom>
          <a:ln w="19080">
            <a:solidFill>
              <a:srgbClr val="336699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</p:pic>
      <p:sp>
        <p:nvSpPr>
          <p:cNvPr id="103" name=""/>
          <p:cNvSpPr/>
          <p:nvPr/>
        </p:nvSpPr>
        <p:spPr>
          <a:xfrm>
            <a:off x="1905840" y="1143000"/>
            <a:ext cx="18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mpulse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49960" y="1143000"/>
            <a:ext cx="13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Eye Di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57960" y="6019920"/>
            <a:ext cx="26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ignal @ Rx pad, Stimul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FC3DD-F782-4200-A0F9-A562514D6A3E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ample Results: 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X EQ: (</a:t>
            </a:r>
            <a:r>
              <a:rPr b="1" lang="nb-NO" sz="3200" spc="-1" strike="noStrike">
                <a:solidFill>
                  <a:srgbClr val="336699"/>
                </a:solidFill>
                <a:latin typeface="Arial"/>
              </a:rPr>
              <a:t>-.15, .7,-.125,-.025)*0.8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3809880" cy="2185920"/>
          </a:xfrm>
          <a:prstGeom prst="rect">
            <a:avLst/>
          </a:prstGeom>
          <a:ln w="19080">
            <a:solidFill>
              <a:srgbClr val="336699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876920" y="1447920"/>
            <a:ext cx="3809880" cy="2185920"/>
          </a:xfrm>
          <a:prstGeom prst="rect">
            <a:avLst/>
          </a:prstGeom>
          <a:ln w="19080">
            <a:solidFill>
              <a:srgbClr val="336699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914400" y="3786120"/>
            <a:ext cx="3809880" cy="2187720"/>
          </a:xfrm>
          <a:prstGeom prst="rect">
            <a:avLst/>
          </a:prstGeom>
          <a:ln w="19080">
            <a:solidFill>
              <a:srgbClr val="336699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876920" y="3786120"/>
            <a:ext cx="3809880" cy="2187720"/>
          </a:xfrm>
          <a:prstGeom prst="rect">
            <a:avLst/>
          </a:prstGeom>
          <a:ln w="19080">
            <a:solidFill>
              <a:srgbClr val="336699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</p:pic>
      <p:sp>
        <p:nvSpPr>
          <p:cNvPr id="111" name=""/>
          <p:cNvSpPr/>
          <p:nvPr/>
        </p:nvSpPr>
        <p:spPr>
          <a:xfrm>
            <a:off x="1905840" y="1143000"/>
            <a:ext cx="18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mpulse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49960" y="1143000"/>
            <a:ext cx="13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Eye Di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57960" y="6019920"/>
            <a:ext cx="26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ignal @ Rx pad, Stimul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F08B2-5AD2-494F-8D4F-C7A51B079A0A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BIS-AMI Toolki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Provides a “reference implementation” for testing EDA platforms and IBIS-AMI model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llows users to assess IBIS-AMI model functionality and performanc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Users can run analyses based on their own designs and channel impulse respons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B7A9B-D084-4572-99DA-14F097AEB83D}" type="slidenum">
              <a:t>8</a:t>
            </a:fld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8T04:20:00Z</dcterms:created>
  <dc:creator>Adam Kustin</dc:creator>
  <dc:description/>
  <dc:language>en-US</dc:language>
  <cp:lastModifiedBy>Bob Ross</cp:lastModifiedBy>
  <dcterms:modified xsi:type="dcterms:W3CDTF">2007-08-21T19:19:15Z</dcterms:modified>
  <cp:revision>346</cp:revision>
  <dc:subject/>
  <dc:title>Slide 1</dc:title>
</cp:coreProperties>
</file>