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2006-0334-41A2-BF2C-EBB13D23B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863C-51B3-4137-8EE3-29DB293C6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7A5D-72F8-494E-98E5-99992FD5E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EA8C-30CC-4843-9154-D8DC79C6B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B139-D4BE-4C41-B9AF-A7D2ADB09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4E2F-711B-4E33-907A-614D93388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459D-375E-43F6-BEC4-72F07E2D1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F2AE-B995-46EB-9DAE-8FDB9D2F1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81D6-73F3-4D27-8089-A767225DE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CE15-CCDD-4C4B-8E0B-9A973D933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ADB2-57FA-4B34-8CE5-88E4F6417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7AEB-E991-45CC-B06C-E683F3AA5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BF2-0B08-4D97-907B-067AAB1C39B7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467400"/>
            <a:ext cx="3809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Beijing IBIS Summit – September 11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172200" y="6467400"/>
            <a:ext cx="1676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TM Task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hdl.org/pub/ibis/macromodel_wip/" TargetMode="External"/><Relationship Id="rId2" Type="http://schemas.openxmlformats.org/officeDocument/2006/relationships/hyperlink" Target="http://www.vhdl.org/pub/ibis/macromodel_wip/" TargetMode="External"/><Relationship Id="rId3" Type="http://schemas.openxmlformats.org/officeDocument/2006/relationships/hyperlink" Target="http://www.vhdl.org/pub/ibis/macromodel_wip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Update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Modeling and IB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 Todd Westerhoff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sterh@sisoft.co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647640" y="3352680"/>
            <a:ext cx="8365320" cy="2488680"/>
            <a:chOff x="647640" y="3352680"/>
            <a:chExt cx="8365320" cy="2488680"/>
          </a:xfrm>
        </p:grpSpPr>
        <p:sp>
          <p:nvSpPr>
            <p:cNvPr id="832" name=""/>
            <p:cNvSpPr/>
            <p:nvPr/>
          </p:nvSpPr>
          <p:spPr>
            <a:xfrm>
              <a:off x="647640" y="3352680"/>
              <a:ext cx="8356680" cy="2486160"/>
            </a:xfrm>
            <a:prstGeom prst="rect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81080" y="4944960"/>
              <a:ext cx="38124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32880" y="4697280"/>
              <a:ext cx="1622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WAV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87280" y="4697280"/>
              <a:ext cx="162252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ETWAV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4938840"/>
              <a:ext cx="326880" cy="1404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34120" y="4944960"/>
              <a:ext cx="3045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91520" y="4944960"/>
              <a:ext cx="4111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4360" y="5321160"/>
              <a:ext cx="91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mulus 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00560" y="53704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43080" y="525780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7848720" y="4705200"/>
              <a:ext cx="906480" cy="477720"/>
              <a:chOff x="7848720" y="4705200"/>
              <a:chExt cx="906480" cy="477720"/>
            </a:xfrm>
          </p:grpSpPr>
          <p:sp>
            <p:nvSpPr>
              <p:cNvPr id="843" name=""/>
              <p:cNvSpPr/>
              <p:nvPr/>
            </p:nvSpPr>
            <p:spPr>
              <a:xfrm>
                <a:off x="7848720" y="51829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7848720" y="47732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851960" y="470520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4495680" y="4705200"/>
              <a:ext cx="906480" cy="477720"/>
              <a:chOff x="4495680" y="4705200"/>
              <a:chExt cx="906480" cy="477720"/>
            </a:xfrm>
          </p:grpSpPr>
          <p:sp>
            <p:nvSpPr>
              <p:cNvPr id="847" name=""/>
              <p:cNvSpPr/>
              <p:nvPr/>
            </p:nvSpPr>
            <p:spPr>
              <a:xfrm>
                <a:off x="4495680" y="51829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4495680" y="47732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98920" y="470520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79246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010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773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32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2296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3059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818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4582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53452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61048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95360" y="3733920"/>
              <a:ext cx="104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391520" y="4343040"/>
              <a:ext cx="457200" cy="39204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108080" y="4773600"/>
              <a:ext cx="906480" cy="409680"/>
              <a:chOff x="1108080" y="4773600"/>
              <a:chExt cx="906480" cy="409680"/>
            </a:xfrm>
          </p:grpSpPr>
          <p:sp>
            <p:nvSpPr>
              <p:cNvPr id="863" name=""/>
              <p:cNvSpPr/>
              <p:nvPr/>
            </p:nvSpPr>
            <p:spPr>
              <a:xfrm>
                <a:off x="1108080" y="5183280"/>
                <a:ext cx="906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1108080" y="4773600"/>
                <a:ext cx="0" cy="40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143000" y="4803840"/>
                <a:ext cx="741240" cy="377640"/>
              </a:xfrm>
              <a:custGeom>
                <a:avLst/>
                <a:gdLst/>
                <a:ahLst/>
                <a:rect l="l" t="t" r="r" b="b"/>
                <a:pathLst>
                  <a:path w="467" h="238">
                    <a:moveTo>
                      <a:pt x="0" y="238"/>
                    </a:moveTo>
                    <a:lnTo>
                      <a:pt x="18" y="0"/>
                    </a:lnTo>
                    <a:lnTo>
                      <a:pt x="74" y="0"/>
                    </a:lnTo>
                    <a:lnTo>
                      <a:pt x="86" y="234"/>
                    </a:lnTo>
                    <a:lnTo>
                      <a:pt x="192" y="234"/>
                    </a:lnTo>
                    <a:lnTo>
                      <a:pt x="206" y="5"/>
                    </a:lnTo>
                    <a:lnTo>
                      <a:pt x="324" y="5"/>
                    </a:lnTo>
                    <a:lnTo>
                      <a:pt x="340" y="237"/>
                    </a:lnTo>
                    <a:lnTo>
                      <a:pt x="380" y="236"/>
                    </a:lnTo>
                    <a:lnTo>
                      <a:pt x="404" y="5"/>
                    </a:lnTo>
                    <a:lnTo>
                      <a:pt x="440" y="5"/>
                    </a:lnTo>
                    <a:lnTo>
                      <a:pt x="467" y="234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702720" y="335268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Waveform 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640" y="1042920"/>
            <a:ext cx="8365320" cy="2257560"/>
            <a:chOff x="647640" y="1042920"/>
            <a:chExt cx="8365320" cy="2257560"/>
          </a:xfrm>
        </p:grpSpPr>
        <p:sp>
          <p:nvSpPr>
            <p:cNvPr id="868" name=""/>
            <p:cNvSpPr/>
            <p:nvPr/>
          </p:nvSpPr>
          <p:spPr>
            <a:xfrm>
              <a:off x="647640" y="1042920"/>
              <a:ext cx="8356680" cy="2257560"/>
            </a:xfrm>
            <a:prstGeom prst="rect">
              <a:avLst/>
            </a:prstGeom>
            <a:solidFill>
              <a:srgbClr val="e1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1108080" y="2087640"/>
              <a:ext cx="906480" cy="512640"/>
              <a:chOff x="1108080" y="2087640"/>
              <a:chExt cx="906480" cy="512640"/>
            </a:xfrm>
          </p:grpSpPr>
          <p:sp>
            <p:nvSpPr>
              <p:cNvPr id="870" name=""/>
              <p:cNvSpPr/>
              <p:nvPr/>
            </p:nvSpPr>
            <p:spPr>
              <a:xfrm>
                <a:off x="1108080" y="249732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108080" y="20876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108080" y="2247120"/>
                <a:ext cx="76680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1981080" y="2344680"/>
              <a:ext cx="83844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25640" y="2130480"/>
              <a:ext cx="83160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IT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4537080" y="2087640"/>
              <a:ext cx="905040" cy="512640"/>
              <a:chOff x="4537080" y="2087640"/>
              <a:chExt cx="905040" cy="512640"/>
            </a:xfrm>
          </p:grpSpPr>
          <p:sp>
            <p:nvSpPr>
              <p:cNvPr id="876" name=""/>
              <p:cNvSpPr/>
              <p:nvPr/>
            </p:nvSpPr>
            <p:spPr>
              <a:xfrm>
                <a:off x="4537080" y="2497320"/>
                <a:ext cx="90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4537080" y="208764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37080" y="2247120"/>
                <a:ext cx="76536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7878600" y="2061720"/>
              <a:ext cx="905040" cy="513000"/>
              <a:chOff x="7878600" y="2061720"/>
              <a:chExt cx="905040" cy="51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7878600" y="2472120"/>
                <a:ext cx="90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7878600" y="2061720"/>
                <a:ext cx="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78600" y="2221560"/>
                <a:ext cx="765360" cy="35316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6070680" y="2122560"/>
              <a:ext cx="831600" cy="70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IT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33920" y="2344680"/>
              <a:ext cx="758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57800" y="2362320"/>
              <a:ext cx="7621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34320" y="2362320"/>
              <a:ext cx="868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3280" y="2712960"/>
              <a:ext cx="156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Impulse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00560" y="270360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43080" y="259092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97240" y="129528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9320" y="12952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00400" y="170028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92840" y="174456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2040" y="1066680"/>
              <a:ext cx="27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Impulse Response 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1369440" y="3886200"/>
            <a:ext cx="5019480" cy="727200"/>
            <a:chOff x="1369440" y="3886200"/>
            <a:chExt cx="5019480" cy="727200"/>
          </a:xfrm>
        </p:grpSpPr>
        <p:sp>
          <p:nvSpPr>
            <p:cNvPr id="896" name=""/>
            <p:cNvSpPr/>
            <p:nvPr/>
          </p:nvSpPr>
          <p:spPr>
            <a:xfrm>
              <a:off x="1369440" y="388620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27040" y="388620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 Sett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47760" y="429084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40560" y="4335480"/>
              <a:ext cx="23652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Algorithmic Mod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228480" y="2890800"/>
            <a:ext cx="3250080" cy="1730520"/>
            <a:chOff x="3228480" y="2890800"/>
            <a:chExt cx="3250080" cy="1730520"/>
          </a:xfrm>
        </p:grpSpPr>
        <p:sp>
          <p:nvSpPr>
            <p:cNvPr id="902" name=""/>
            <p:cNvSpPr/>
            <p:nvPr/>
          </p:nvSpPr>
          <p:spPr>
            <a:xfrm flipH="1">
              <a:off x="3228480" y="2908440"/>
              <a:ext cx="1800" cy="1690560"/>
            </a:xfrm>
            <a:prstGeom prst="line">
              <a:avLst/>
            </a:prstGeom>
            <a:ln w="1908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477120" y="2890800"/>
              <a:ext cx="1440" cy="1730520"/>
            </a:xfrm>
            <a:prstGeom prst="line">
              <a:avLst/>
            </a:prstGeom>
            <a:ln w="1908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6D5D-DF98-4E72-BEC8-434355E62AF0}" type="slidenum">
              <a:t>10</a:t>
            </a:fld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ecutable (DLL) Call Argu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Arial"/>
              </a:rPr>
              <a:t>Init (impulse response processin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Bit tim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umber of waveform samples per b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umber of crosstalk aggressor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Channel impulse response(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Model parameters and val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Pointers to free memory, data return are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twave (waveform processing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put waveform(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inters to data return are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qualized wavefor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lock tim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timized parameter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8543-5975-441B-AFCE-307E77562166}" type="slidenum">
              <a:t>11</a:t>
            </a:fld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el Parameter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dditional data passed between executable model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&amp; simulator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el-specific parame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 IP vendors to define data required for / provided by a specific mod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fined parameter declaration and usage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lows end-users to set and display model-specific dat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served parame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defined parameter list used by EDA tools to alter analysis flow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models to tell EDA platform what data the model does/doesn’t provi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9049-16AE-4D19-A195-D14834C34B50}" type="slidenum">
              <a:t>12</a:t>
            </a:fld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Statu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riginal proposal submitted by Cadence &amp; IBM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5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urrent version authored by Cadence, Mentor, SiSof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st draft of BIRD approved by IBIS-ATM task group for prototype model &amp; EDA platform develop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ve interoperability &amp; refine proposal before bringing back to IBIS Open Foru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ommittee work, presentations &amp; BIRD available on-line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vhdl.org/pub/ibis/macromodel_wi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ublic TX/RX models, modeling “toolkits” will be availab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1BFB-E28C-4505-95FC-EAA3E0F55368}" type="slidenum">
              <a:t>13</a:t>
            </a:fld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83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447920" y="1219320"/>
          <a:ext cx="6705360" cy="5070240"/>
        </p:xfrm>
        <a:graphic>
          <a:graphicData uri="http://schemas.openxmlformats.org/drawingml/2006/table">
            <a:tbl>
              <a:tblPr/>
              <a:tblGrid>
                <a:gridCol w="1295280"/>
                <a:gridCol w="5410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eliminary approval by IBIS-ATM subcommitt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mplete BIRD docu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velop sample models &amp; prototype EDA integration; demonstrate interoper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rge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ep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fine BIRD based on prototype experi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rget: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ct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ring to IBIS-ATM task group for final appro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ring BIRD to IBIS Open Forum for appro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corporate BIRD into updated IBIS spec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F811-0BCE-4045-AEF8-14E702FEB70F}" type="slidenum">
              <a:t>14</a:t>
            </a:fld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ypical SerDes Analysis Flow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9400" y="1533240"/>
            <a:ext cx="6773400" cy="1533600"/>
            <a:chOff x="689400" y="1533240"/>
            <a:chExt cx="6773400" cy="1533600"/>
          </a:xfrm>
        </p:grpSpPr>
        <p:grpSp>
          <p:nvGrpSpPr>
            <p:cNvPr id="85" name=""/>
            <p:cNvGrpSpPr/>
            <p:nvPr/>
          </p:nvGrpSpPr>
          <p:grpSpPr>
            <a:xfrm>
              <a:off x="4114800" y="2143080"/>
              <a:ext cx="2368440" cy="923760"/>
              <a:chOff x="4114800" y="2143080"/>
              <a:chExt cx="2368440" cy="923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4114800" y="2143080"/>
                <a:ext cx="2368440" cy="923040"/>
                <a:chOff x="4114800" y="2143080"/>
                <a:chExt cx="2368440" cy="92304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6194160" y="2431800"/>
                  <a:ext cx="289080" cy="345600"/>
                  <a:chOff x="6194160" y="2431800"/>
                  <a:chExt cx="289080" cy="3456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6194160" y="2431800"/>
                    <a:ext cx="28908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solidFill>
                    <a:srgbClr val="00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194160" y="2431800"/>
                    <a:ext cx="28908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4171680" y="2488680"/>
                  <a:ext cx="202248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287600" y="2720520"/>
                  <a:ext cx="19065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5154480" y="2258640"/>
                  <a:ext cx="262080" cy="701280"/>
                  <a:chOff x="5154480" y="2258640"/>
                  <a:chExt cx="262080" cy="701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154480" y="2258640"/>
                    <a:ext cx="262080" cy="7012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154480" y="2258640"/>
                    <a:ext cx="262080" cy="701280"/>
                  </a:xfrm>
                  <a:prstGeom prst="rect">
                    <a:avLst/>
                  </a:prstGeom>
                  <a:noFill/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"/>
                <p:cNvSpPr/>
                <p:nvPr/>
              </p:nvSpPr>
              <p:spPr>
                <a:xfrm>
                  <a:off x="5229000" y="2518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4981320" y="2720160"/>
                  <a:ext cx="115920" cy="345960"/>
                  <a:chOff x="4981320" y="2720160"/>
                  <a:chExt cx="115920" cy="34596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4981320" y="2836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981320" y="2893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V="1">
                    <a:off x="5038560" y="28929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5038560" y="27201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4981320" y="3009240"/>
                    <a:ext cx="115920" cy="56880"/>
                    <a:chOff x="4981320" y="3009240"/>
                    <a:chExt cx="115920" cy="5688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498132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98132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5443560" y="2720160"/>
                  <a:ext cx="115920" cy="345960"/>
                  <a:chOff x="5443560" y="2720160"/>
                  <a:chExt cx="115920" cy="3459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5443560" y="2836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443560" y="2893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V="1">
                    <a:off x="5500440" y="28929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5500440" y="272016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5443560" y="3009240"/>
                    <a:ext cx="115920" cy="56880"/>
                    <a:chOff x="5443560" y="3009240"/>
                    <a:chExt cx="115920" cy="5688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544356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5443560" y="3009240"/>
                      <a:ext cx="1159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6">
                          <a:moveTo>
                            <a:pt x="36" y="36"/>
                          </a:moveTo>
                          <a:lnTo>
                            <a:pt x="0" y="0"/>
                          </a:lnTo>
                          <a:lnTo>
                            <a:pt x="73" y="0"/>
                          </a:lnTo>
                          <a:lnTo>
                            <a:pt x="36" y="36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865760" y="2143080"/>
                  <a:ext cx="231480" cy="343440"/>
                  <a:chOff x="4865760" y="2143080"/>
                  <a:chExt cx="231480" cy="34344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4981320" y="2198160"/>
                    <a:ext cx="115920" cy="288360"/>
                    <a:chOff x="4981320" y="2198160"/>
                    <a:chExt cx="115920" cy="28836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 flipH="1">
                      <a:off x="4981320" y="237276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H="1">
                      <a:off x="4981320" y="231552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5038560" y="2198160"/>
                      <a:ext cx="0" cy="11556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038560" y="2372760"/>
                      <a:ext cx="0" cy="11376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4865760" y="2199960"/>
                    <a:ext cx="115560" cy="58320"/>
                    <a:chOff x="4865760" y="2199960"/>
                    <a:chExt cx="115560" cy="5832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86576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486576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" name=""/>
                  <p:cNvSpPr/>
                  <p:nvPr/>
                </p:nvSpPr>
                <p:spPr>
                  <a:xfrm>
                    <a:off x="4922640" y="214308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73" y="36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5443560" y="2143080"/>
                  <a:ext cx="231480" cy="344880"/>
                  <a:chOff x="5443560" y="2143080"/>
                  <a:chExt cx="231480" cy="344880"/>
                </a:xfrm>
              </p:grpSpPr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5443560" y="2199960"/>
                    <a:ext cx="115920" cy="288000"/>
                    <a:chOff x="5443560" y="2199960"/>
                    <a:chExt cx="115920" cy="2880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 flipH="1">
                      <a:off x="5443560" y="237276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H="1">
                      <a:off x="5443560" y="2316960"/>
                      <a:ext cx="115920" cy="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500440" y="2199960"/>
                      <a:ext cx="0" cy="11556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5500440" y="2372760"/>
                      <a:ext cx="0" cy="115200"/>
                    </a:xfrm>
                    <a:prstGeom prst="line">
                      <a:avLst/>
                    </a:prstGeom>
                    <a:ln cap="rnd"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5500440" y="214308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73" y="36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0" y="36"/>
                        </a:ln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5559480" y="2199960"/>
                    <a:ext cx="115560" cy="58320"/>
                    <a:chOff x="5559480" y="2199960"/>
                    <a:chExt cx="115560" cy="583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555948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5559480" y="2199960"/>
                      <a:ext cx="11556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7">
                          <a:moveTo>
                            <a:pt x="36" y="37"/>
                          </a:moveTo>
                          <a:lnTo>
                            <a:pt x="73" y="0"/>
                          </a:lnTo>
                          <a:lnTo>
                            <a:pt x="0" y="0"/>
                          </a:lnTo>
                          <a:lnTo>
                            <a:pt x="36" y="37"/>
                          </a:ln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4562280" y="2661840"/>
                  <a:ext cx="360360" cy="115560"/>
                  <a:chOff x="4562280" y="2661840"/>
                  <a:chExt cx="360360" cy="1155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4633920" y="2661840"/>
                    <a:ext cx="288720" cy="115560"/>
                    <a:chOff x="4633920" y="2661840"/>
                    <a:chExt cx="288720" cy="1155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4633920" y="266184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633920" y="2661840"/>
                      <a:ext cx="7308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633920" y="266184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670280" y="2661840"/>
                      <a:ext cx="36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7"/>
                            <a:pt x="23" y="37"/>
                          </a:cubicBezTo>
                          <a:cubicBezTo>
                            <a:pt x="23" y="17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" name=""/>
                  <p:cNvSpPr/>
                  <p:nvPr/>
                </p:nvSpPr>
                <p:spPr>
                  <a:xfrm>
                    <a:off x="4562280" y="272016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4576680" y="2431800"/>
                  <a:ext cx="361800" cy="115560"/>
                  <a:chOff x="4576680" y="2431800"/>
                  <a:chExt cx="361800" cy="115560"/>
                </a:xfrm>
              </p:grpSpPr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649760" y="2431800"/>
                    <a:ext cx="288720" cy="115560"/>
                    <a:chOff x="4649760" y="2431800"/>
                    <a:chExt cx="288720" cy="1155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649760" y="243180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649760" y="2431800"/>
                      <a:ext cx="7128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649760" y="2431800"/>
                      <a:ext cx="288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0" h="1600">
                          <a:moveTo>
                            <a:pt x="0" y="800"/>
                          </a:moveTo>
                          <a:cubicBezTo>
                            <a:pt x="0" y="1242"/>
                            <a:pt x="224" y="1600"/>
                            <a:pt x="500" y="1600"/>
                          </a:cubicBezTo>
                          <a:lnTo>
                            <a:pt x="3500" y="1600"/>
                          </a:lnTo>
                          <a:cubicBezTo>
                            <a:pt x="3777" y="1600"/>
                            <a:pt x="4000" y="1242"/>
                            <a:pt x="4000" y="800"/>
                          </a:cubicBezTo>
                          <a:cubicBezTo>
                            <a:pt x="4000" y="358"/>
                            <a:pt x="3777" y="0"/>
                            <a:pt x="3500" y="0"/>
                          </a:cubicBezTo>
                          <a:lnTo>
                            <a:pt x="500" y="0"/>
                          </a:lnTo>
                          <a:cubicBezTo>
                            <a:pt x="224" y="0"/>
                            <a:pt x="0" y="358"/>
                            <a:pt x="0" y="8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684680" y="2431800"/>
                      <a:ext cx="3636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6"/>
                            <a:pt x="23" y="36"/>
                          </a:cubicBezTo>
                          <a:cubicBezTo>
                            <a:pt x="23" y="16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"/>
                  <p:cNvSpPr/>
                  <p:nvPr/>
                </p:nvSpPr>
                <p:spPr>
                  <a:xfrm>
                    <a:off x="4576680" y="2488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616360" y="2431800"/>
                  <a:ext cx="362160" cy="115560"/>
                  <a:chOff x="5616360" y="2431800"/>
                  <a:chExt cx="362160" cy="11556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5689440" y="2431800"/>
                    <a:ext cx="289080" cy="115560"/>
                    <a:chOff x="5689440" y="2431800"/>
                    <a:chExt cx="289080" cy="1155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5689440" y="243180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5689440" y="2431800"/>
                      <a:ext cx="7164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5689440" y="243180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5724360" y="2431800"/>
                      <a:ext cx="36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6"/>
                            <a:pt x="23" y="36"/>
                          </a:cubicBezTo>
                          <a:cubicBezTo>
                            <a:pt x="23" y="16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" name=""/>
                  <p:cNvSpPr/>
                  <p:nvPr/>
                </p:nvSpPr>
                <p:spPr>
                  <a:xfrm>
                    <a:off x="5616360" y="248832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5616360" y="2661840"/>
                  <a:ext cx="362160" cy="115560"/>
                  <a:chOff x="5616360" y="2661840"/>
                  <a:chExt cx="362160" cy="115560"/>
                </a:xfrm>
              </p:grpSpPr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5689440" y="2661840"/>
                    <a:ext cx="289080" cy="115560"/>
                    <a:chOff x="5689440" y="2661840"/>
                    <a:chExt cx="289080" cy="11556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5689440" y="266184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solidFill>
                      <a:srgbClr val="4a95b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5689440" y="2661840"/>
                      <a:ext cx="71640" cy="115560"/>
                    </a:xfrm>
                    <a:prstGeom prst="ellipse">
                      <a:avLst/>
                    </a:prstGeom>
                    <a:solidFill>
                      <a:srgbClr val="6daa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5689440" y="2661840"/>
                      <a:ext cx="289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800">
                          <a:moveTo>
                            <a:pt x="0" y="400"/>
                          </a:moveTo>
                          <a:cubicBezTo>
                            <a:pt x="0" y="621"/>
                            <a:pt x="112" y="800"/>
                            <a:pt x="250" y="800"/>
                          </a:cubicBezTo>
                          <a:lnTo>
                            <a:pt x="1750" y="800"/>
                          </a:lnTo>
                          <a:cubicBezTo>
                            <a:pt x="1889" y="800"/>
                            <a:pt x="2000" y="621"/>
                            <a:pt x="2000" y="400"/>
                          </a:cubicBezTo>
                          <a:cubicBezTo>
                            <a:pt x="2000" y="179"/>
                            <a:pt x="1889" y="0"/>
                            <a:pt x="1750" y="0"/>
                          </a:cubicBezTo>
                          <a:lnTo>
                            <a:pt x="250" y="0"/>
                          </a:lnTo>
                          <a:cubicBezTo>
                            <a:pt x="112" y="0"/>
                            <a:pt x="0" y="179"/>
                            <a:pt x="0" y="400"/>
                          </a:cubicBezTo>
                          <a:close/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5724360" y="2661840"/>
                      <a:ext cx="3672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73">
                          <a:moveTo>
                            <a:pt x="0" y="73"/>
                          </a:moveTo>
                          <a:cubicBezTo>
                            <a:pt x="13" y="73"/>
                            <a:pt x="23" y="57"/>
                            <a:pt x="23" y="37"/>
                          </a:cubicBezTo>
                          <a:cubicBezTo>
                            <a:pt x="23" y="17"/>
                            <a:pt x="13" y="0"/>
                            <a:pt x="0" y="0"/>
                          </a:cubicBezTo>
                        </a:path>
                      </a:pathLst>
                    </a:custGeom>
                    <a:noFill/>
                    <a:ln cap="rnd"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" name=""/>
                  <p:cNvSpPr/>
                  <p:nvPr/>
                </p:nvSpPr>
                <p:spPr>
                  <a:xfrm>
                    <a:off x="5616360" y="272016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114800" y="2431800"/>
                  <a:ext cx="288720" cy="345600"/>
                  <a:chOff x="4114800" y="2431800"/>
                  <a:chExt cx="288720" cy="3456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4114800" y="2431800"/>
                    <a:ext cx="28872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solidFill>
                    <a:srgbClr val="00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114800" y="2431800"/>
                    <a:ext cx="28872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18">
                        <a:moveTo>
                          <a:pt x="182" y="109"/>
                        </a:moveTo>
                        <a:lnTo>
                          <a:pt x="0" y="0"/>
                        </a:lnTo>
                        <a:lnTo>
                          <a:pt x="0" y="218"/>
                        </a:lnTo>
                        <a:lnTo>
                          <a:pt x="182" y="109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4246560" y="2692080"/>
                  <a:ext cx="56880" cy="58320"/>
                  <a:chOff x="4246560" y="2692080"/>
                  <a:chExt cx="56880" cy="583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4246560" y="2692080"/>
                    <a:ext cx="56880" cy="5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246560" y="2692080"/>
                    <a:ext cx="56880" cy="58320"/>
                  </a:xfrm>
                  <a:prstGeom prst="ellipse">
                    <a:avLst/>
                  </a:prstGeom>
                  <a:noFill/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132240" y="2692080"/>
                  <a:ext cx="59040" cy="58320"/>
                  <a:chOff x="6132240" y="2692080"/>
                  <a:chExt cx="59040" cy="583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132240" y="2692080"/>
                    <a:ext cx="59040" cy="5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132240" y="2692080"/>
                    <a:ext cx="59040" cy="58320"/>
                  </a:xfrm>
                  <a:prstGeom prst="ellipse">
                    <a:avLst/>
                  </a:prstGeom>
                  <a:noFill/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"/>
              <p:cNvGrpSpPr/>
              <p:nvPr/>
            </p:nvGrpSpPr>
            <p:grpSpPr>
              <a:xfrm>
                <a:off x="6194520" y="2431800"/>
                <a:ext cx="288720" cy="345960"/>
                <a:chOff x="6194520" y="2431800"/>
                <a:chExt cx="288720" cy="345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4172040" y="2489040"/>
                <a:ext cx="20224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7960" y="2720880"/>
                <a:ext cx="1906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5154480" y="2259000"/>
                <a:ext cx="262080" cy="701640"/>
                <a:chOff x="5154480" y="2259000"/>
                <a:chExt cx="262080" cy="701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5229000" y="2519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4981680" y="2720520"/>
                <a:ext cx="115920" cy="345960"/>
                <a:chOff x="4981680" y="2720520"/>
                <a:chExt cx="115920" cy="345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981680" y="28364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81680" y="2893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5038920" y="28933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038920" y="27205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4981680" y="3009600"/>
                  <a:ext cx="115920" cy="56880"/>
                  <a:chOff x="4981680" y="3009600"/>
                  <a:chExt cx="115920" cy="5688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498168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8168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5443560" y="2720520"/>
                <a:ext cx="115920" cy="345960"/>
                <a:chOff x="5443560" y="2720520"/>
                <a:chExt cx="115920" cy="3459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443560" y="28364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43560" y="2893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5500440" y="28933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5500440" y="272052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5443560" y="3009600"/>
                  <a:ext cx="115920" cy="56880"/>
                  <a:chOff x="5443560" y="3009600"/>
                  <a:chExt cx="115920" cy="568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44356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443560" y="300960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865760" y="2143080"/>
                <a:ext cx="231480" cy="344520"/>
                <a:chOff x="4865760" y="2143080"/>
                <a:chExt cx="231480" cy="34452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4981320" y="2198520"/>
                  <a:ext cx="115920" cy="289080"/>
                  <a:chOff x="4981320" y="2198520"/>
                  <a:chExt cx="115920" cy="289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>
                    <a:off x="4981320" y="23734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4981320" y="231624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038560" y="2198520"/>
                    <a:ext cx="0" cy="11592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038560" y="2373480"/>
                    <a:ext cx="0" cy="11412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4865760" y="2200320"/>
                  <a:ext cx="115560" cy="58680"/>
                  <a:chOff x="4865760" y="2200320"/>
                  <a:chExt cx="115560" cy="586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486576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86576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4922640" y="214308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443560" y="2143080"/>
                <a:ext cx="231480" cy="345960"/>
                <a:chOff x="5443560" y="2143080"/>
                <a:chExt cx="231480" cy="34596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5443560" y="2200320"/>
                  <a:ext cx="115920" cy="288720"/>
                  <a:chOff x="5443560" y="2200320"/>
                  <a:chExt cx="115920" cy="2887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>
                    <a:off x="5443560" y="23734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5443560" y="23176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500440" y="2200320"/>
                    <a:ext cx="0" cy="11592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500440" y="237348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5500440" y="214308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5559480" y="2200320"/>
                  <a:ext cx="115560" cy="58680"/>
                  <a:chOff x="5559480" y="2200320"/>
                  <a:chExt cx="115560" cy="586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555948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559480" y="2200320"/>
                    <a:ext cx="1155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4562640" y="2662200"/>
                <a:ext cx="360360" cy="115920"/>
                <a:chOff x="4562640" y="2662200"/>
                <a:chExt cx="360360" cy="1159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4634280" y="2662200"/>
                  <a:ext cx="288720" cy="115920"/>
                  <a:chOff x="4634280" y="2662200"/>
                  <a:chExt cx="288720" cy="1159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463428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634280" y="2662200"/>
                    <a:ext cx="730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63428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670640" y="2662200"/>
                    <a:ext cx="36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4562640" y="27208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76680" y="2431800"/>
                <a:ext cx="361800" cy="115920"/>
                <a:chOff x="4576680" y="2431800"/>
                <a:chExt cx="361800" cy="11592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649760" y="2431800"/>
                  <a:ext cx="288720" cy="115920"/>
                  <a:chOff x="4649760" y="2431800"/>
                  <a:chExt cx="288720" cy="1159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64976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649760" y="2431800"/>
                    <a:ext cx="712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64976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684680" y="2431800"/>
                    <a:ext cx="363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4576680" y="2488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616720" y="2431800"/>
                <a:ext cx="361440" cy="115920"/>
                <a:chOff x="5616720" y="2431800"/>
                <a:chExt cx="361440" cy="11592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5689440" y="2431800"/>
                  <a:ext cx="288720" cy="115920"/>
                  <a:chOff x="5689440" y="2431800"/>
                  <a:chExt cx="288720" cy="1159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68944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689440" y="2431800"/>
                    <a:ext cx="712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689440" y="24318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724000" y="2431800"/>
                    <a:ext cx="363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5616720" y="2488680"/>
                  <a:ext cx="1155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616720" y="2662200"/>
                <a:ext cx="361440" cy="115920"/>
                <a:chOff x="5616720" y="2662200"/>
                <a:chExt cx="361440" cy="1159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689440" y="2662200"/>
                  <a:ext cx="288720" cy="115920"/>
                  <a:chOff x="5689440" y="2662200"/>
                  <a:chExt cx="288720" cy="1159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68944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89440" y="2662200"/>
                    <a:ext cx="71280" cy="11592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689440" y="2662200"/>
                    <a:ext cx="2887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724000" y="2662200"/>
                    <a:ext cx="363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>
                  <a:off x="5616720" y="2720880"/>
                  <a:ext cx="1155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114800" y="2431800"/>
                <a:ext cx="288720" cy="345960"/>
                <a:chOff x="4114800" y="2431800"/>
                <a:chExt cx="288720" cy="345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246560" y="2692440"/>
                <a:ext cx="56880" cy="58680"/>
                <a:chOff x="4246560" y="2692440"/>
                <a:chExt cx="56880" cy="58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32600" y="2692440"/>
                <a:ext cx="58680" cy="58680"/>
                <a:chOff x="6132600" y="2692440"/>
                <a:chExt cx="58680" cy="586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94520" y="2431800"/>
                <a:ext cx="288720" cy="345960"/>
                <a:chOff x="6194520" y="2431800"/>
                <a:chExt cx="288720" cy="345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9452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172040" y="2489040"/>
                <a:ext cx="20224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87960" y="2720880"/>
                <a:ext cx="1906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5154480" y="2259000"/>
                <a:ext cx="262080" cy="701640"/>
                <a:chOff x="5154480" y="2259000"/>
                <a:chExt cx="262080" cy="7016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154480" y="2259000"/>
                  <a:ext cx="262080" cy="701640"/>
                </a:xfrm>
                <a:prstGeom prst="rect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5229000" y="2519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8168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168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03892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03892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4981680" y="3009600"/>
                <a:ext cx="115920" cy="57240"/>
                <a:chOff x="4981680" y="3009600"/>
                <a:chExt cx="115920" cy="57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498168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168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03892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03892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4981680" y="3009600"/>
                <a:ext cx="115920" cy="57240"/>
                <a:chOff x="4981680" y="3009600"/>
                <a:chExt cx="115920" cy="57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8168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44356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4356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50080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550080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5443560" y="3009600"/>
                <a:ext cx="115920" cy="57240"/>
                <a:chOff x="5443560" y="3009600"/>
                <a:chExt cx="115920" cy="572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5443560" y="2836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43560" y="2894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500800" y="289368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500800" y="272088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5443560" y="3009600"/>
                <a:ext cx="115920" cy="57240"/>
                <a:chOff x="5443560" y="3009600"/>
                <a:chExt cx="115920" cy="572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443560" y="3009600"/>
                  <a:ext cx="115920" cy="572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981680" y="2198520"/>
                <a:ext cx="115920" cy="289080"/>
                <a:chOff x="4981680" y="2198520"/>
                <a:chExt cx="115920" cy="28908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4981680" y="2373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4981680" y="23162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38920" y="219852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038920" y="2373480"/>
                  <a:ext cx="0" cy="1141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865760" y="2200320"/>
                <a:ext cx="115560" cy="58680"/>
                <a:chOff x="4865760" y="2200320"/>
                <a:chExt cx="115560" cy="586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9230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498168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981680" y="2315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38920" y="21985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38920" y="2373120"/>
                <a:ext cx="0" cy="11448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98168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981680" y="2315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38920" y="21985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38920" y="2373120"/>
                <a:ext cx="0" cy="11448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4865760" y="2200320"/>
                <a:ext cx="115560" cy="58680"/>
                <a:chOff x="4865760" y="2200320"/>
                <a:chExt cx="115560" cy="58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6576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49230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5443560" y="2200320"/>
                <a:ext cx="115920" cy="288720"/>
                <a:chOff x="5443560" y="2200320"/>
                <a:chExt cx="115920" cy="288720"/>
              </a:xfrm>
            </p:grpSpPr>
            <p:sp>
              <p:nvSpPr>
                <p:cNvPr id="310" name=""/>
                <p:cNvSpPr/>
                <p:nvPr/>
              </p:nvSpPr>
              <p:spPr>
                <a:xfrm flipH="1">
                  <a:off x="5443560" y="2373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5443560" y="23176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00440" y="220032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00440" y="23734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5008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559480" y="2200320"/>
                <a:ext cx="115560" cy="58680"/>
                <a:chOff x="5559480" y="2200320"/>
                <a:chExt cx="115560" cy="586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 flipH="1">
                <a:off x="544356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43560" y="23176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00800" y="220032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00800" y="23731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443560" y="237312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5443560" y="23176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00800" y="220032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00800" y="237312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00800" y="214308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559480" y="2200320"/>
                <a:ext cx="115560" cy="58680"/>
                <a:chOff x="5559480" y="2200320"/>
                <a:chExt cx="115560" cy="586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559480" y="220032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633920" y="2662200"/>
                <a:ext cx="288720" cy="115920"/>
                <a:chOff x="4633920" y="2662200"/>
                <a:chExt cx="288720" cy="1159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33920" y="2662200"/>
                  <a:ext cx="730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670280" y="2662200"/>
                  <a:ext cx="3672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456264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4633920" y="2662200"/>
                <a:ext cx="288720" cy="115920"/>
                <a:chOff x="4633920" y="2662200"/>
                <a:chExt cx="288720" cy="115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633920" y="2662200"/>
                  <a:ext cx="730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63392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70280" y="2662200"/>
                  <a:ext cx="3672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456264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4649760" y="2431800"/>
                <a:ext cx="288720" cy="115920"/>
                <a:chOff x="4649760" y="2431800"/>
                <a:chExt cx="288720" cy="115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64976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68468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457668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4649760" y="2431800"/>
                <a:ext cx="288720" cy="115920"/>
                <a:chOff x="4649760" y="2431800"/>
                <a:chExt cx="288720" cy="115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64976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64976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8468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457668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689800" y="2431800"/>
                <a:ext cx="288720" cy="115920"/>
                <a:chOff x="5689800" y="2431800"/>
                <a:chExt cx="288720" cy="115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68980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2436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561672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5689800" y="2431800"/>
                <a:ext cx="288720" cy="115920"/>
                <a:chOff x="5689800" y="2431800"/>
                <a:chExt cx="288720" cy="115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689800" y="24318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689800" y="24318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724360" y="24318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5616720" y="248904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5689800" y="2662200"/>
                <a:ext cx="288720" cy="115920"/>
                <a:chOff x="5689800" y="2662200"/>
                <a:chExt cx="288720" cy="115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89800" y="26622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724360" y="26622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561672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5689800" y="2662200"/>
                <a:ext cx="288720" cy="115920"/>
                <a:chOff x="5689800" y="2662200"/>
                <a:chExt cx="288720" cy="1159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689800" y="266220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689800" y="266220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724360" y="266220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5616720" y="272088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4114800" y="2431800"/>
                <a:ext cx="288720" cy="345960"/>
                <a:chOff x="4114800" y="2431800"/>
                <a:chExt cx="288720" cy="3459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114800" y="2431800"/>
                  <a:ext cx="288720" cy="34596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2692440"/>
                <a:ext cx="56880" cy="58680"/>
                <a:chOff x="4246560" y="2692440"/>
                <a:chExt cx="56880" cy="58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2692440"/>
                  <a:ext cx="568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32600" y="2692440"/>
                <a:ext cx="58680" cy="58680"/>
                <a:chOff x="6132600" y="2692440"/>
                <a:chExt cx="58680" cy="586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132600" y="2692440"/>
                  <a:ext cx="58680" cy="5868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3352680" y="1590480"/>
              <a:ext cx="466560" cy="376200"/>
              <a:chOff x="3352680" y="1590480"/>
              <a:chExt cx="466560" cy="376200"/>
            </a:xfrm>
          </p:grpSpPr>
          <p:sp>
            <p:nvSpPr>
              <p:cNvPr id="388" name=""/>
              <p:cNvSpPr/>
              <p:nvPr/>
            </p:nvSpPr>
            <p:spPr>
              <a:xfrm>
                <a:off x="3357360" y="161604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35" h="202">
                    <a:moveTo>
                      <a:pt x="0" y="202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20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1908000"/>
                <a:ext cx="466560" cy="58680"/>
              </a:xfrm>
              <a:custGeom>
                <a:avLst/>
                <a:gdLst/>
                <a:ahLst/>
                <a:rect l="l" t="t" r="r" b="b"/>
                <a:pathLst>
                  <a:path w="6466" h="800">
                    <a:moveTo>
                      <a:pt x="66" y="333"/>
                    </a:moveTo>
                    <a:lnTo>
                      <a:pt x="5800" y="333"/>
                    </a:lnTo>
                    <a:cubicBezTo>
                      <a:pt x="5837" y="333"/>
                      <a:pt x="5866" y="363"/>
                      <a:pt x="5866" y="400"/>
                    </a:cubicBezTo>
                    <a:cubicBezTo>
                      <a:pt x="5866" y="437"/>
                      <a:pt x="5837" y="467"/>
                      <a:pt x="5800" y="467"/>
                    </a:cubicBezTo>
                    <a:lnTo>
                      <a:pt x="66" y="467"/>
                    </a:lnTo>
                    <a:cubicBezTo>
                      <a:pt x="30" y="467"/>
                      <a:pt x="0" y="437"/>
                      <a:pt x="0" y="400"/>
                    </a:cubicBezTo>
                    <a:cubicBezTo>
                      <a:pt x="0" y="363"/>
                      <a:pt x="30" y="333"/>
                      <a:pt x="66" y="333"/>
                    </a:cubicBezTo>
                    <a:close/>
                    <a:moveTo>
                      <a:pt x="5666" y="0"/>
                    </a:moveTo>
                    <a:lnTo>
                      <a:pt x="6466" y="400"/>
                    </a:lnTo>
                    <a:lnTo>
                      <a:pt x="5666" y="800"/>
                    </a:lnTo>
                    <a:lnTo>
                      <a:pt x="56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3357360" y="159048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357360" y="161604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35" h="202">
                    <a:moveTo>
                      <a:pt x="0" y="202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202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52680" y="1908000"/>
                <a:ext cx="466560" cy="58680"/>
              </a:xfrm>
              <a:custGeom>
                <a:avLst/>
                <a:gdLst/>
                <a:ahLst/>
                <a:rect l="l" t="t" r="r" b="b"/>
                <a:pathLst>
                  <a:path w="6466" h="800">
                    <a:moveTo>
                      <a:pt x="66" y="333"/>
                    </a:moveTo>
                    <a:lnTo>
                      <a:pt x="5800" y="333"/>
                    </a:lnTo>
                    <a:cubicBezTo>
                      <a:pt x="5837" y="333"/>
                      <a:pt x="5866" y="363"/>
                      <a:pt x="5866" y="400"/>
                    </a:cubicBezTo>
                    <a:cubicBezTo>
                      <a:pt x="5866" y="437"/>
                      <a:pt x="5837" y="467"/>
                      <a:pt x="5800" y="467"/>
                    </a:cubicBezTo>
                    <a:lnTo>
                      <a:pt x="66" y="467"/>
                    </a:lnTo>
                    <a:cubicBezTo>
                      <a:pt x="30" y="467"/>
                      <a:pt x="0" y="437"/>
                      <a:pt x="0" y="400"/>
                    </a:cubicBezTo>
                    <a:cubicBezTo>
                      <a:pt x="0" y="363"/>
                      <a:pt x="30" y="333"/>
                      <a:pt x="66" y="333"/>
                    </a:cubicBezTo>
                    <a:close/>
                    <a:moveTo>
                      <a:pt x="5666" y="0"/>
                    </a:moveTo>
                    <a:lnTo>
                      <a:pt x="6466" y="400"/>
                    </a:lnTo>
                    <a:lnTo>
                      <a:pt x="5666" y="800"/>
                    </a:lnTo>
                    <a:lnTo>
                      <a:pt x="56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3357360" y="159048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705720" y="1533240"/>
              <a:ext cx="757080" cy="433800"/>
              <a:chOff x="6705720" y="1533240"/>
              <a:chExt cx="757080" cy="43380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705720" y="1533240"/>
                <a:ext cx="757080" cy="433800"/>
                <a:chOff x="6705720" y="1533240"/>
                <a:chExt cx="757080" cy="4338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705720" y="1851120"/>
                  <a:ext cx="757080" cy="58680"/>
                </a:xfrm>
                <a:custGeom>
                  <a:avLst/>
                  <a:gdLst/>
                  <a:ahLst/>
                  <a:rect l="l" t="t" r="r" b="b"/>
                  <a:pathLst>
                    <a:path w="5233" h="400">
                      <a:moveTo>
                        <a:pt x="33" y="166"/>
                      </a:moveTo>
                      <a:lnTo>
                        <a:pt x="4900" y="166"/>
                      </a:lnTo>
                      <a:cubicBezTo>
                        <a:pt x="4919" y="166"/>
                        <a:pt x="4933" y="181"/>
                        <a:pt x="4933" y="200"/>
                      </a:cubicBezTo>
                      <a:cubicBezTo>
                        <a:pt x="4933" y="218"/>
                        <a:pt x="4919" y="233"/>
                        <a:pt x="4900" y="233"/>
                      </a:cubicBezTo>
                      <a:lnTo>
                        <a:pt x="33" y="233"/>
                      </a:lnTo>
                      <a:cubicBezTo>
                        <a:pt x="15" y="233"/>
                        <a:pt x="0" y="218"/>
                        <a:pt x="0" y="200"/>
                      </a:cubicBezTo>
                      <a:cubicBezTo>
                        <a:pt x="0" y="181"/>
                        <a:pt x="15" y="166"/>
                        <a:pt x="33" y="166"/>
                      </a:cubicBezTo>
                      <a:close/>
                      <a:moveTo>
                        <a:pt x="4833" y="0"/>
                      </a:moveTo>
                      <a:lnTo>
                        <a:pt x="5233" y="200"/>
                      </a:lnTo>
                      <a:lnTo>
                        <a:pt x="4833" y="400"/>
                      </a:lnTo>
                      <a:lnTo>
                        <a:pt x="48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710400" y="1533240"/>
                  <a:ext cx="0" cy="3459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0400" y="1668600"/>
                  <a:ext cx="636480" cy="29844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0" y="133"/>
                      </a:moveTo>
                      <a:cubicBezTo>
                        <a:pt x="9" y="88"/>
                        <a:pt x="19" y="42"/>
                        <a:pt x="37" y="24"/>
                      </a:cubicBezTo>
                      <a:cubicBezTo>
                        <a:pt x="55" y="6"/>
                        <a:pt x="91" y="0"/>
                        <a:pt x="110" y="24"/>
                      </a:cubicBezTo>
                      <a:cubicBezTo>
                        <a:pt x="128" y="48"/>
                        <a:pt x="128" y="152"/>
                        <a:pt x="146" y="170"/>
                      </a:cubicBezTo>
                      <a:cubicBezTo>
                        <a:pt x="164" y="188"/>
                        <a:pt x="195" y="146"/>
                        <a:pt x="219" y="133"/>
                      </a:cubicBezTo>
                      <a:cubicBezTo>
                        <a:pt x="243" y="121"/>
                        <a:pt x="267" y="97"/>
                        <a:pt x="292" y="97"/>
                      </a:cubicBezTo>
                      <a:cubicBezTo>
                        <a:pt x="316" y="97"/>
                        <a:pt x="346" y="127"/>
                        <a:pt x="364" y="133"/>
                      </a:cubicBezTo>
                      <a:cubicBezTo>
                        <a:pt x="383" y="139"/>
                        <a:pt x="392" y="136"/>
                        <a:pt x="401" y="133"/>
                      </a:cubicBezTo>
                    </a:path>
                  </a:pathLst>
                </a:custGeom>
                <a:noFill/>
                <a:ln w="144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705720" y="18511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6710040" y="15336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10040" y="16686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05720" y="18511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710040" y="15336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10040" y="16686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 rot="2523000">
              <a:off x="3886200" y="2066760"/>
              <a:ext cx="609480" cy="152640"/>
            </a:xfrm>
            <a:custGeom>
              <a:avLst/>
              <a:gdLst/>
              <a:ahLst/>
              <a:rect l="l" t="t" r="r" b="b"/>
              <a:pathLst>
                <a:path w="546" h="82">
                  <a:moveTo>
                    <a:pt x="0" y="28"/>
                  </a:moveTo>
                  <a:lnTo>
                    <a:pt x="28" y="28"/>
                  </a:lnTo>
                  <a:lnTo>
                    <a:pt x="28" y="55"/>
                  </a:lnTo>
                  <a:lnTo>
                    <a:pt x="0" y="55"/>
                  </a:lnTo>
                  <a:lnTo>
                    <a:pt x="0" y="28"/>
                  </a:lnTo>
                  <a:close/>
                  <a:moveTo>
                    <a:pt x="55" y="28"/>
                  </a:moveTo>
                  <a:lnTo>
                    <a:pt x="82" y="28"/>
                  </a:lnTo>
                  <a:lnTo>
                    <a:pt x="82" y="55"/>
                  </a:lnTo>
                  <a:lnTo>
                    <a:pt x="55" y="55"/>
                  </a:lnTo>
                  <a:lnTo>
                    <a:pt x="55" y="28"/>
                  </a:lnTo>
                  <a:close/>
                  <a:moveTo>
                    <a:pt x="109" y="28"/>
                  </a:moveTo>
                  <a:lnTo>
                    <a:pt x="137" y="28"/>
                  </a:lnTo>
                  <a:lnTo>
                    <a:pt x="137" y="55"/>
                  </a:lnTo>
                  <a:lnTo>
                    <a:pt x="109" y="55"/>
                  </a:lnTo>
                  <a:lnTo>
                    <a:pt x="109" y="28"/>
                  </a:lnTo>
                  <a:close/>
                  <a:moveTo>
                    <a:pt x="164" y="28"/>
                  </a:moveTo>
                  <a:lnTo>
                    <a:pt x="191" y="28"/>
                  </a:lnTo>
                  <a:lnTo>
                    <a:pt x="191" y="55"/>
                  </a:lnTo>
                  <a:lnTo>
                    <a:pt x="164" y="55"/>
                  </a:lnTo>
                  <a:lnTo>
                    <a:pt x="164" y="28"/>
                  </a:lnTo>
                  <a:close/>
                  <a:moveTo>
                    <a:pt x="219" y="28"/>
                  </a:moveTo>
                  <a:lnTo>
                    <a:pt x="246" y="28"/>
                  </a:lnTo>
                  <a:lnTo>
                    <a:pt x="246" y="55"/>
                  </a:lnTo>
                  <a:lnTo>
                    <a:pt x="219" y="55"/>
                  </a:lnTo>
                  <a:lnTo>
                    <a:pt x="219" y="28"/>
                  </a:lnTo>
                  <a:close/>
                  <a:moveTo>
                    <a:pt x="273" y="28"/>
                  </a:moveTo>
                  <a:lnTo>
                    <a:pt x="301" y="28"/>
                  </a:lnTo>
                  <a:lnTo>
                    <a:pt x="301" y="55"/>
                  </a:lnTo>
                  <a:lnTo>
                    <a:pt x="273" y="55"/>
                  </a:lnTo>
                  <a:lnTo>
                    <a:pt x="273" y="28"/>
                  </a:lnTo>
                  <a:close/>
                  <a:moveTo>
                    <a:pt x="328" y="28"/>
                  </a:moveTo>
                  <a:lnTo>
                    <a:pt x="355" y="28"/>
                  </a:lnTo>
                  <a:lnTo>
                    <a:pt x="355" y="55"/>
                  </a:lnTo>
                  <a:lnTo>
                    <a:pt x="328" y="55"/>
                  </a:lnTo>
                  <a:lnTo>
                    <a:pt x="328" y="28"/>
                  </a:lnTo>
                  <a:close/>
                  <a:moveTo>
                    <a:pt x="382" y="28"/>
                  </a:moveTo>
                  <a:lnTo>
                    <a:pt x="410" y="28"/>
                  </a:lnTo>
                  <a:lnTo>
                    <a:pt x="410" y="55"/>
                  </a:lnTo>
                  <a:lnTo>
                    <a:pt x="382" y="55"/>
                  </a:lnTo>
                  <a:lnTo>
                    <a:pt x="382" y="28"/>
                  </a:lnTo>
                  <a:close/>
                  <a:moveTo>
                    <a:pt x="437" y="28"/>
                  </a:moveTo>
                  <a:lnTo>
                    <a:pt x="464" y="28"/>
                  </a:lnTo>
                  <a:lnTo>
                    <a:pt x="464" y="55"/>
                  </a:lnTo>
                  <a:lnTo>
                    <a:pt x="437" y="55"/>
                  </a:lnTo>
                  <a:lnTo>
                    <a:pt x="437" y="28"/>
                  </a:lnTo>
                  <a:close/>
                  <a:moveTo>
                    <a:pt x="464" y="0"/>
                  </a:moveTo>
                  <a:lnTo>
                    <a:pt x="546" y="41"/>
                  </a:lnTo>
                  <a:lnTo>
                    <a:pt x="464" y="82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19077000">
              <a:off x="6019560" y="2066040"/>
              <a:ext cx="609480" cy="152640"/>
            </a:xfrm>
            <a:custGeom>
              <a:avLst/>
              <a:gdLst/>
              <a:ahLst/>
              <a:rect l="l" t="t" r="r" b="b"/>
              <a:pathLst>
                <a:path w="546" h="82">
                  <a:moveTo>
                    <a:pt x="0" y="28"/>
                  </a:moveTo>
                  <a:lnTo>
                    <a:pt x="28" y="28"/>
                  </a:lnTo>
                  <a:lnTo>
                    <a:pt x="28" y="55"/>
                  </a:lnTo>
                  <a:lnTo>
                    <a:pt x="0" y="55"/>
                  </a:lnTo>
                  <a:lnTo>
                    <a:pt x="0" y="28"/>
                  </a:lnTo>
                  <a:close/>
                  <a:moveTo>
                    <a:pt x="55" y="28"/>
                  </a:moveTo>
                  <a:lnTo>
                    <a:pt x="82" y="28"/>
                  </a:lnTo>
                  <a:lnTo>
                    <a:pt x="82" y="55"/>
                  </a:lnTo>
                  <a:lnTo>
                    <a:pt x="55" y="55"/>
                  </a:lnTo>
                  <a:lnTo>
                    <a:pt x="55" y="28"/>
                  </a:lnTo>
                  <a:close/>
                  <a:moveTo>
                    <a:pt x="109" y="28"/>
                  </a:moveTo>
                  <a:lnTo>
                    <a:pt x="137" y="28"/>
                  </a:lnTo>
                  <a:lnTo>
                    <a:pt x="137" y="55"/>
                  </a:lnTo>
                  <a:lnTo>
                    <a:pt x="109" y="55"/>
                  </a:lnTo>
                  <a:lnTo>
                    <a:pt x="109" y="28"/>
                  </a:lnTo>
                  <a:close/>
                  <a:moveTo>
                    <a:pt x="164" y="28"/>
                  </a:moveTo>
                  <a:lnTo>
                    <a:pt x="191" y="28"/>
                  </a:lnTo>
                  <a:lnTo>
                    <a:pt x="191" y="55"/>
                  </a:lnTo>
                  <a:lnTo>
                    <a:pt x="164" y="55"/>
                  </a:lnTo>
                  <a:lnTo>
                    <a:pt x="164" y="28"/>
                  </a:lnTo>
                  <a:close/>
                  <a:moveTo>
                    <a:pt x="219" y="28"/>
                  </a:moveTo>
                  <a:lnTo>
                    <a:pt x="246" y="28"/>
                  </a:lnTo>
                  <a:lnTo>
                    <a:pt x="246" y="55"/>
                  </a:lnTo>
                  <a:lnTo>
                    <a:pt x="219" y="55"/>
                  </a:lnTo>
                  <a:lnTo>
                    <a:pt x="219" y="28"/>
                  </a:lnTo>
                  <a:close/>
                  <a:moveTo>
                    <a:pt x="273" y="28"/>
                  </a:moveTo>
                  <a:lnTo>
                    <a:pt x="301" y="28"/>
                  </a:lnTo>
                  <a:lnTo>
                    <a:pt x="301" y="55"/>
                  </a:lnTo>
                  <a:lnTo>
                    <a:pt x="273" y="55"/>
                  </a:lnTo>
                  <a:lnTo>
                    <a:pt x="273" y="28"/>
                  </a:lnTo>
                  <a:close/>
                  <a:moveTo>
                    <a:pt x="328" y="28"/>
                  </a:moveTo>
                  <a:lnTo>
                    <a:pt x="355" y="28"/>
                  </a:lnTo>
                  <a:lnTo>
                    <a:pt x="355" y="55"/>
                  </a:lnTo>
                  <a:lnTo>
                    <a:pt x="328" y="55"/>
                  </a:lnTo>
                  <a:lnTo>
                    <a:pt x="328" y="28"/>
                  </a:lnTo>
                  <a:close/>
                  <a:moveTo>
                    <a:pt x="382" y="28"/>
                  </a:moveTo>
                  <a:lnTo>
                    <a:pt x="410" y="28"/>
                  </a:lnTo>
                  <a:lnTo>
                    <a:pt x="410" y="55"/>
                  </a:lnTo>
                  <a:lnTo>
                    <a:pt x="382" y="55"/>
                  </a:lnTo>
                  <a:lnTo>
                    <a:pt x="382" y="28"/>
                  </a:lnTo>
                  <a:close/>
                  <a:moveTo>
                    <a:pt x="437" y="28"/>
                  </a:moveTo>
                  <a:lnTo>
                    <a:pt x="464" y="28"/>
                  </a:lnTo>
                  <a:lnTo>
                    <a:pt x="464" y="55"/>
                  </a:lnTo>
                  <a:lnTo>
                    <a:pt x="437" y="55"/>
                  </a:lnTo>
                  <a:lnTo>
                    <a:pt x="437" y="28"/>
                  </a:lnTo>
                  <a:close/>
                  <a:moveTo>
                    <a:pt x="464" y="0"/>
                  </a:moveTo>
                  <a:lnTo>
                    <a:pt x="546" y="41"/>
                  </a:lnTo>
                  <a:lnTo>
                    <a:pt x="464" y="82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9400" y="2209680"/>
              <a:ext cx="184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racte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42040" y="3819600"/>
            <a:ext cx="7408800" cy="1669320"/>
            <a:chOff x="842040" y="3819600"/>
            <a:chExt cx="7408800" cy="1669320"/>
          </a:xfrm>
        </p:grpSpPr>
        <p:sp>
          <p:nvSpPr>
            <p:cNvPr id="409" name=""/>
            <p:cNvSpPr/>
            <p:nvPr/>
          </p:nvSpPr>
          <p:spPr>
            <a:xfrm>
              <a:off x="842040" y="4699080"/>
              <a:ext cx="17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819520" y="4812840"/>
              <a:ext cx="757080" cy="433800"/>
              <a:chOff x="2819520" y="4812840"/>
              <a:chExt cx="757080" cy="4338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2819520" y="4812840"/>
                <a:ext cx="757080" cy="433800"/>
                <a:chOff x="2819520" y="4812840"/>
                <a:chExt cx="757080" cy="433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819520" y="5130720"/>
                  <a:ext cx="757080" cy="58680"/>
                </a:xfrm>
                <a:custGeom>
                  <a:avLst/>
                  <a:gdLst/>
                  <a:ahLst/>
                  <a:rect l="l" t="t" r="r" b="b"/>
                  <a:pathLst>
                    <a:path w="5233" h="400">
                      <a:moveTo>
                        <a:pt x="33" y="166"/>
                      </a:moveTo>
                      <a:lnTo>
                        <a:pt x="4900" y="166"/>
                      </a:lnTo>
                      <a:cubicBezTo>
                        <a:pt x="4919" y="166"/>
                        <a:pt x="4933" y="181"/>
                        <a:pt x="4933" y="200"/>
                      </a:cubicBezTo>
                      <a:cubicBezTo>
                        <a:pt x="4933" y="218"/>
                        <a:pt x="4919" y="233"/>
                        <a:pt x="4900" y="233"/>
                      </a:cubicBezTo>
                      <a:lnTo>
                        <a:pt x="33" y="233"/>
                      </a:lnTo>
                      <a:cubicBezTo>
                        <a:pt x="15" y="233"/>
                        <a:pt x="0" y="218"/>
                        <a:pt x="0" y="200"/>
                      </a:cubicBezTo>
                      <a:cubicBezTo>
                        <a:pt x="0" y="181"/>
                        <a:pt x="15" y="166"/>
                        <a:pt x="33" y="166"/>
                      </a:cubicBezTo>
                      <a:close/>
                      <a:moveTo>
                        <a:pt x="4833" y="0"/>
                      </a:moveTo>
                      <a:lnTo>
                        <a:pt x="5233" y="200"/>
                      </a:lnTo>
                      <a:lnTo>
                        <a:pt x="4833" y="400"/>
                      </a:lnTo>
                      <a:lnTo>
                        <a:pt x="48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2824200" y="4812840"/>
                  <a:ext cx="0" cy="3459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24200" y="4948200"/>
                  <a:ext cx="636480" cy="298440"/>
                </a:xfrm>
                <a:custGeom>
                  <a:avLst/>
                  <a:gdLst/>
                  <a:ahLst/>
                  <a:rect l="l" t="t" r="r" b="b"/>
                  <a:pathLst>
                    <a:path w="401" h="188">
                      <a:moveTo>
                        <a:pt x="0" y="133"/>
                      </a:moveTo>
                      <a:cubicBezTo>
                        <a:pt x="9" y="88"/>
                        <a:pt x="19" y="42"/>
                        <a:pt x="37" y="24"/>
                      </a:cubicBezTo>
                      <a:cubicBezTo>
                        <a:pt x="55" y="6"/>
                        <a:pt x="91" y="0"/>
                        <a:pt x="110" y="24"/>
                      </a:cubicBezTo>
                      <a:cubicBezTo>
                        <a:pt x="128" y="48"/>
                        <a:pt x="128" y="152"/>
                        <a:pt x="146" y="170"/>
                      </a:cubicBezTo>
                      <a:cubicBezTo>
                        <a:pt x="164" y="188"/>
                        <a:pt x="195" y="146"/>
                        <a:pt x="219" y="133"/>
                      </a:cubicBezTo>
                      <a:cubicBezTo>
                        <a:pt x="243" y="121"/>
                        <a:pt x="267" y="97"/>
                        <a:pt x="292" y="97"/>
                      </a:cubicBezTo>
                      <a:cubicBezTo>
                        <a:pt x="316" y="97"/>
                        <a:pt x="346" y="127"/>
                        <a:pt x="364" y="133"/>
                      </a:cubicBezTo>
                      <a:cubicBezTo>
                        <a:pt x="383" y="139"/>
                        <a:pt x="392" y="136"/>
                        <a:pt x="401" y="133"/>
                      </a:cubicBezTo>
                    </a:path>
                  </a:pathLst>
                </a:custGeom>
                <a:noFill/>
                <a:ln w="144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2819520" y="51307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823840" y="48132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23840" y="49482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9520" y="5130720"/>
                <a:ext cx="757080" cy="5904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823840" y="4813200"/>
                <a:ext cx="0" cy="3463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23840" y="49482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650840" y="4572000"/>
              <a:ext cx="102960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4240" y="3819600"/>
              <a:ext cx="86796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X 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40240" y="3819600"/>
              <a:ext cx="89244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X 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4276800"/>
              <a:ext cx="1522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333760" y="4276800"/>
              <a:ext cx="1522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6780960" y="4602240"/>
              <a:ext cx="1469880" cy="859680"/>
              <a:chOff x="6780960" y="4602240"/>
              <a:chExt cx="1469880" cy="859680"/>
            </a:xfrm>
          </p:grpSpPr>
          <p:sp>
            <p:nvSpPr>
              <p:cNvPr id="427" name=""/>
              <p:cNvSpPr/>
              <p:nvPr/>
            </p:nvSpPr>
            <p:spPr>
              <a:xfrm>
                <a:off x="6780960" y="5154840"/>
                <a:ext cx="1469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ith TX, RX EQ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086600" y="4602240"/>
                <a:ext cx="906480" cy="477720"/>
                <a:chOff x="7086600" y="4602240"/>
                <a:chExt cx="906480" cy="477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7086600" y="5079960"/>
                  <a:ext cx="906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7086600" y="4670280"/>
                  <a:ext cx="0" cy="40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89840" y="4602240"/>
                  <a:ext cx="796680" cy="475920"/>
                </a:xfrm>
                <a:custGeom>
                  <a:avLst/>
                  <a:gdLst/>
                  <a:ahLst/>
                  <a:rect l="l" t="t" r="r" b="b"/>
                  <a:pathLst>
                    <a:path w="502" h="300">
                      <a:moveTo>
                        <a:pt x="0" y="300"/>
                      </a:moveTo>
                      <a:lnTo>
                        <a:pt x="6" y="288"/>
                      </a:lnTo>
                      <a:cubicBezTo>
                        <a:pt x="10" y="245"/>
                        <a:pt x="14" y="82"/>
                        <a:pt x="21" y="41"/>
                      </a:cubicBezTo>
                      <a:cubicBezTo>
                        <a:pt x="28" y="0"/>
                        <a:pt x="46" y="8"/>
                        <a:pt x="51" y="41"/>
                      </a:cubicBezTo>
                      <a:cubicBezTo>
                        <a:pt x="56" y="74"/>
                        <a:pt x="46" y="197"/>
                        <a:pt x="48" y="236"/>
                      </a:cubicBezTo>
                      <a:cubicBezTo>
                        <a:pt x="50" y="275"/>
                        <a:pt x="58" y="285"/>
                        <a:pt x="62" y="278"/>
                      </a:cubicBezTo>
                      <a:cubicBezTo>
                        <a:pt x="66" y="271"/>
                        <a:pt x="72" y="214"/>
                        <a:pt x="75" y="193"/>
                      </a:cubicBezTo>
                      <a:cubicBezTo>
                        <a:pt x="78" y="172"/>
                        <a:pt x="77" y="163"/>
                        <a:pt x="78" y="150"/>
                      </a:cubicBezTo>
                      <a:cubicBezTo>
                        <a:pt x="79" y="137"/>
                        <a:pt x="79" y="132"/>
                        <a:pt x="80" y="115"/>
                      </a:cubicBezTo>
                      <a:cubicBezTo>
                        <a:pt x="81" y="98"/>
                        <a:pt x="82" y="58"/>
                        <a:pt x="86" y="49"/>
                      </a:cubicBezTo>
                      <a:cubicBezTo>
                        <a:pt x="90" y="40"/>
                        <a:pt x="98" y="57"/>
                        <a:pt x="104" y="59"/>
                      </a:cubicBezTo>
                      <a:cubicBezTo>
                        <a:pt x="110" y="61"/>
                        <a:pt x="118" y="33"/>
                        <a:pt x="120" y="64"/>
                      </a:cubicBezTo>
                      <a:cubicBezTo>
                        <a:pt x="122" y="95"/>
                        <a:pt x="112" y="213"/>
                        <a:pt x="114" y="246"/>
                      </a:cubicBezTo>
                      <a:cubicBezTo>
                        <a:pt x="116" y="279"/>
                        <a:pt x="129" y="264"/>
                        <a:pt x="135" y="263"/>
                      </a:cubicBezTo>
                      <a:cubicBezTo>
                        <a:pt x="141" y="262"/>
                        <a:pt x="145" y="240"/>
                        <a:pt x="151" y="240"/>
                      </a:cubicBezTo>
                      <a:cubicBezTo>
                        <a:pt x="157" y="240"/>
                        <a:pt x="167" y="263"/>
                        <a:pt x="174" y="265"/>
                      </a:cubicBezTo>
                      <a:cubicBezTo>
                        <a:pt x="181" y="267"/>
                        <a:pt x="193" y="283"/>
                        <a:pt x="196" y="253"/>
                      </a:cubicBezTo>
                      <a:cubicBezTo>
                        <a:pt x="199" y="223"/>
                        <a:pt x="188" y="113"/>
                        <a:pt x="194" y="82"/>
                      </a:cubicBezTo>
                      <a:cubicBezTo>
                        <a:pt x="200" y="51"/>
                        <a:pt x="221" y="66"/>
                        <a:pt x="231" y="67"/>
                      </a:cubicBezTo>
                      <a:cubicBezTo>
                        <a:pt x="241" y="68"/>
                        <a:pt x="248" y="87"/>
                        <a:pt x="255" y="89"/>
                      </a:cubicBezTo>
                      <a:cubicBezTo>
                        <a:pt x="262" y="91"/>
                        <a:pt x="271" y="55"/>
                        <a:pt x="276" y="82"/>
                      </a:cubicBezTo>
                      <a:cubicBezTo>
                        <a:pt x="281" y="109"/>
                        <a:pt x="280" y="225"/>
                        <a:pt x="286" y="254"/>
                      </a:cubicBezTo>
                      <a:cubicBezTo>
                        <a:pt x="292" y="283"/>
                        <a:pt x="306" y="271"/>
                        <a:pt x="314" y="259"/>
                      </a:cubicBezTo>
                      <a:cubicBezTo>
                        <a:pt x="322" y="247"/>
                        <a:pt x="327" y="203"/>
                        <a:pt x="332" y="181"/>
                      </a:cubicBezTo>
                      <a:cubicBezTo>
                        <a:pt x="337" y="159"/>
                        <a:pt x="338" y="115"/>
                        <a:pt x="343" y="126"/>
                      </a:cubicBezTo>
                      <a:cubicBezTo>
                        <a:pt x="348" y="137"/>
                        <a:pt x="356" y="223"/>
                        <a:pt x="363" y="246"/>
                      </a:cubicBezTo>
                      <a:cubicBezTo>
                        <a:pt x="370" y="269"/>
                        <a:pt x="382" y="277"/>
                        <a:pt x="388" y="264"/>
                      </a:cubicBezTo>
                      <a:cubicBezTo>
                        <a:pt x="394" y="251"/>
                        <a:pt x="396" y="171"/>
                        <a:pt x="400" y="170"/>
                      </a:cubicBezTo>
                      <a:cubicBezTo>
                        <a:pt x="404" y="169"/>
                        <a:pt x="406" y="246"/>
                        <a:pt x="412" y="259"/>
                      </a:cubicBezTo>
                      <a:cubicBezTo>
                        <a:pt x="418" y="272"/>
                        <a:pt x="432" y="249"/>
                        <a:pt x="438" y="248"/>
                      </a:cubicBezTo>
                      <a:cubicBezTo>
                        <a:pt x="444" y="247"/>
                        <a:pt x="448" y="286"/>
                        <a:pt x="451" y="252"/>
                      </a:cubicBezTo>
                      <a:cubicBezTo>
                        <a:pt x="454" y="218"/>
                        <a:pt x="454" y="75"/>
                        <a:pt x="459" y="46"/>
                      </a:cubicBezTo>
                      <a:cubicBezTo>
                        <a:pt x="464" y="17"/>
                        <a:pt x="477" y="46"/>
                        <a:pt x="482" y="80"/>
                      </a:cubicBezTo>
                      <a:cubicBezTo>
                        <a:pt x="487" y="114"/>
                        <a:pt x="486" y="223"/>
                        <a:pt x="489" y="253"/>
                      </a:cubicBezTo>
                      <a:cubicBezTo>
                        <a:pt x="492" y="283"/>
                        <a:pt x="497" y="272"/>
                        <a:pt x="502" y="262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 flipV="1">
              <a:off x="3733920" y="5022720"/>
              <a:ext cx="760320" cy="14400"/>
            </a:xfrm>
            <a:prstGeom prst="line">
              <a:avLst/>
            </a:prstGeom>
            <a:ln w="5724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5021280"/>
              <a:ext cx="914400" cy="17280"/>
            </a:xfrm>
            <a:prstGeom prst="line">
              <a:avLst/>
            </a:prstGeom>
            <a:ln w="5724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200400" y="2143080"/>
            <a:ext cx="3886200" cy="2590920"/>
          </a:xfrm>
          <a:custGeom>
            <a:avLst/>
            <a:gdLst/>
            <a:ahLst/>
            <a:rect l="l" t="t" r="r" b="b"/>
            <a:pathLst>
              <a:path w="2448" h="1632">
                <a:moveTo>
                  <a:pt x="2448" y="0"/>
                </a:moveTo>
                <a:lnTo>
                  <a:pt x="2448" y="768"/>
                </a:lnTo>
                <a:lnTo>
                  <a:pt x="48" y="768"/>
                </a:lnTo>
                <a:lnTo>
                  <a:pt x="0" y="768"/>
                </a:lnTo>
                <a:lnTo>
                  <a:pt x="0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DEC7-9BD8-4D22-9975-19AAB7E24028}" type="slidenum">
              <a:t>2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Why Two Analysis Steps?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unications analysis  processes ~ 1,000,000 bits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er minut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PICE-based analysis throughput is much les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verage existing tools and techniqu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unications methods &amp; algorithms established in 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ther doma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qualization and clock recovery well suited to algorithmic descrip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ing/analysis algorithms are suitable for commercial numerical computation too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2C70-F14F-4CF1-9827-C55E0A373E24}" type="slidenum">
              <a:t>3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etwork Characteriza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77724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ses circuit analysis techniques to determine network behavior under reference condi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racterization can take multiple form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ulse / step / pulse response (time-domain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ransfer function (frequency-domain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276720" y="2057400"/>
            <a:ext cx="2368440" cy="923760"/>
            <a:chOff x="3276720" y="2057400"/>
            <a:chExt cx="2368440" cy="923760"/>
          </a:xfrm>
        </p:grpSpPr>
        <p:grpSp>
          <p:nvGrpSpPr>
            <p:cNvPr id="440" name=""/>
            <p:cNvGrpSpPr/>
            <p:nvPr/>
          </p:nvGrpSpPr>
          <p:grpSpPr>
            <a:xfrm>
              <a:off x="3276720" y="2057400"/>
              <a:ext cx="2368440" cy="923040"/>
              <a:chOff x="3276720" y="2057400"/>
              <a:chExt cx="2368440" cy="9230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5356080" y="2346120"/>
                <a:ext cx="289080" cy="345600"/>
                <a:chOff x="5356080" y="2346120"/>
                <a:chExt cx="289080" cy="345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356080" y="2346120"/>
                  <a:ext cx="28908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356080" y="2346120"/>
                  <a:ext cx="28908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3333600" y="2403000"/>
                <a:ext cx="20224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49520" y="2634840"/>
                <a:ext cx="1906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4316400" y="2172960"/>
                <a:ext cx="262080" cy="701280"/>
                <a:chOff x="4316400" y="2172960"/>
                <a:chExt cx="262080" cy="7012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316400" y="2172960"/>
                  <a:ext cx="262080" cy="701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16400" y="2172960"/>
                  <a:ext cx="262080" cy="701280"/>
                </a:xfrm>
                <a:prstGeom prst="rect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4390920" y="24332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4143240" y="2634480"/>
                <a:ext cx="115920" cy="345960"/>
                <a:chOff x="4143240" y="2634480"/>
                <a:chExt cx="115920" cy="345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43240" y="27504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143240" y="2807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200480" y="28072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4200480" y="26344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4143240" y="2923560"/>
                  <a:ext cx="115920" cy="56880"/>
                  <a:chOff x="4143240" y="2923560"/>
                  <a:chExt cx="115920" cy="568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414324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14324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605480" y="2634480"/>
                <a:ext cx="115920" cy="345960"/>
                <a:chOff x="4605480" y="2634480"/>
                <a:chExt cx="115920" cy="345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605480" y="27504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605480" y="2807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662360" y="28072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662360" y="263448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4605480" y="2923560"/>
                  <a:ext cx="115920" cy="56880"/>
                  <a:chOff x="4605480" y="2923560"/>
                  <a:chExt cx="115920" cy="568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460548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05480" y="2923560"/>
                    <a:ext cx="1159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6">
                        <a:moveTo>
                          <a:pt x="36" y="36"/>
                        </a:moveTo>
                        <a:lnTo>
                          <a:pt x="0" y="0"/>
                        </a:lnTo>
                        <a:lnTo>
                          <a:pt x="73" y="0"/>
                        </a:lnTo>
                        <a:lnTo>
                          <a:pt x="36" y="36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4027680" y="2057400"/>
                <a:ext cx="231480" cy="343440"/>
                <a:chOff x="4027680" y="2057400"/>
                <a:chExt cx="231480" cy="34344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4143240" y="2112480"/>
                  <a:ext cx="115920" cy="288360"/>
                  <a:chOff x="4143240" y="2112480"/>
                  <a:chExt cx="115920" cy="2883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>
                    <a:off x="4143240" y="2287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4143240" y="222984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200480" y="211248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200480" y="2287080"/>
                    <a:ext cx="0" cy="1137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027680" y="2114280"/>
                  <a:ext cx="115560" cy="58320"/>
                  <a:chOff x="4027680" y="2114280"/>
                  <a:chExt cx="115560" cy="583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02768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02768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>
                  <a:off x="4084560" y="205740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605480" y="2057400"/>
                <a:ext cx="231480" cy="344880"/>
                <a:chOff x="4605480" y="2057400"/>
                <a:chExt cx="231480" cy="3448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4605480" y="2114280"/>
                  <a:ext cx="115920" cy="288000"/>
                  <a:chOff x="4605480" y="2114280"/>
                  <a:chExt cx="115920" cy="28800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>
                    <a:off x="4605480" y="22870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4605480" y="2231280"/>
                    <a:ext cx="115920" cy="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662360" y="2114280"/>
                    <a:ext cx="0" cy="11556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662360" y="2287080"/>
                    <a:ext cx="0" cy="115200"/>
                  </a:xfrm>
                  <a:prstGeom prst="line">
                    <a:avLst/>
                  </a:prstGeom>
                  <a:ln cap="rnd"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4662360" y="205740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73" y="36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4721400" y="2114280"/>
                  <a:ext cx="115560" cy="58320"/>
                  <a:chOff x="4721400" y="2114280"/>
                  <a:chExt cx="115560" cy="583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472140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21400" y="2114280"/>
                    <a:ext cx="115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7">
                        <a:moveTo>
                          <a:pt x="36" y="37"/>
                        </a:moveTo>
                        <a:lnTo>
                          <a:pt x="73" y="0"/>
                        </a:lnTo>
                        <a:lnTo>
                          <a:pt x="0" y="0"/>
                        </a:lnTo>
                        <a:lnTo>
                          <a:pt x="36" y="37"/>
                        </a:ln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3724200" y="2576160"/>
                <a:ext cx="360360" cy="115560"/>
                <a:chOff x="3724200" y="2576160"/>
                <a:chExt cx="360360" cy="1155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3795840" y="2576160"/>
                  <a:ext cx="288720" cy="115560"/>
                  <a:chOff x="3795840" y="2576160"/>
                  <a:chExt cx="288720" cy="1155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3795840" y="257616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795840" y="2576160"/>
                    <a:ext cx="7308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795840" y="257616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832200" y="2576160"/>
                    <a:ext cx="36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3724200" y="2634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738600" y="2346120"/>
                <a:ext cx="361800" cy="115560"/>
                <a:chOff x="3738600" y="2346120"/>
                <a:chExt cx="361800" cy="1155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3811680" y="2346120"/>
                  <a:ext cx="288720" cy="115560"/>
                  <a:chOff x="3811680" y="2346120"/>
                  <a:chExt cx="288720" cy="1155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3811680" y="234612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811680" y="2346120"/>
                    <a:ext cx="7128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811680" y="2346120"/>
                    <a:ext cx="288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0" h="1600">
                        <a:moveTo>
                          <a:pt x="0" y="800"/>
                        </a:moveTo>
                        <a:cubicBezTo>
                          <a:pt x="0" y="1242"/>
                          <a:pt x="224" y="1600"/>
                          <a:pt x="500" y="1600"/>
                        </a:cubicBezTo>
                        <a:lnTo>
                          <a:pt x="3500" y="1600"/>
                        </a:lnTo>
                        <a:cubicBezTo>
                          <a:pt x="3777" y="1600"/>
                          <a:pt x="4000" y="1242"/>
                          <a:pt x="4000" y="800"/>
                        </a:cubicBezTo>
                        <a:cubicBezTo>
                          <a:pt x="4000" y="358"/>
                          <a:pt x="3777" y="0"/>
                          <a:pt x="3500" y="0"/>
                        </a:cubicBezTo>
                        <a:lnTo>
                          <a:pt x="500" y="0"/>
                        </a:lnTo>
                        <a:cubicBezTo>
                          <a:pt x="224" y="0"/>
                          <a:pt x="0" y="358"/>
                          <a:pt x="0" y="8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846600" y="2346120"/>
                    <a:ext cx="363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"/>
                <p:cNvSpPr/>
                <p:nvPr/>
              </p:nvSpPr>
              <p:spPr>
                <a:xfrm>
                  <a:off x="3738600" y="2402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778280" y="2346120"/>
                <a:ext cx="362160" cy="115560"/>
                <a:chOff x="4778280" y="2346120"/>
                <a:chExt cx="362160" cy="1155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4851360" y="2346120"/>
                  <a:ext cx="289080" cy="115560"/>
                  <a:chOff x="4851360" y="2346120"/>
                  <a:chExt cx="289080" cy="1155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4851360" y="234612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851360" y="2346120"/>
                    <a:ext cx="7164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851360" y="234612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886280" y="2346120"/>
                    <a:ext cx="36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6"/>
                          <a:pt x="23" y="36"/>
                        </a:cubicBezTo>
                        <a:cubicBezTo>
                          <a:pt x="23" y="16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4778280" y="240264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778280" y="2576160"/>
                <a:ext cx="362160" cy="115560"/>
                <a:chOff x="4778280" y="2576160"/>
                <a:chExt cx="362160" cy="11556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4851360" y="2576160"/>
                  <a:ext cx="289080" cy="115560"/>
                  <a:chOff x="4851360" y="2576160"/>
                  <a:chExt cx="289080" cy="1155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4851360" y="257616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solidFill>
                    <a:srgbClr val="4a95b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851360" y="2576160"/>
                    <a:ext cx="71640" cy="115560"/>
                  </a:xfrm>
                  <a:prstGeom prst="ellipse">
                    <a:avLst/>
                  </a:prstGeom>
                  <a:solidFill>
                    <a:srgbClr val="6daa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851360" y="2576160"/>
                    <a:ext cx="289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" h="800">
                        <a:moveTo>
                          <a:pt x="0" y="400"/>
                        </a:moveTo>
                        <a:cubicBezTo>
                          <a:pt x="0" y="621"/>
                          <a:pt x="112" y="800"/>
                          <a:pt x="250" y="800"/>
                        </a:cubicBezTo>
                        <a:lnTo>
                          <a:pt x="1750" y="800"/>
                        </a:lnTo>
                        <a:cubicBezTo>
                          <a:pt x="1889" y="800"/>
                          <a:pt x="2000" y="621"/>
                          <a:pt x="2000" y="400"/>
                        </a:cubicBezTo>
                        <a:cubicBezTo>
                          <a:pt x="2000" y="179"/>
                          <a:pt x="1889" y="0"/>
                          <a:pt x="1750" y="0"/>
                        </a:cubicBezTo>
                        <a:lnTo>
                          <a:pt x="250" y="0"/>
                        </a:lnTo>
                        <a:cubicBezTo>
                          <a:pt x="112" y="0"/>
                          <a:pt x="0" y="179"/>
                          <a:pt x="0" y="400"/>
                        </a:cubicBezTo>
                        <a:close/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886280" y="2576160"/>
                    <a:ext cx="367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73">
                        <a:moveTo>
                          <a:pt x="0" y="73"/>
                        </a:moveTo>
                        <a:cubicBezTo>
                          <a:pt x="13" y="73"/>
                          <a:pt x="23" y="57"/>
                          <a:pt x="23" y="37"/>
                        </a:cubicBezTo>
                        <a:cubicBezTo>
                          <a:pt x="23" y="17"/>
                          <a:pt x="13" y="0"/>
                          <a:pt x="0" y="0"/>
                        </a:cubicBezTo>
                      </a:path>
                    </a:pathLst>
                  </a:custGeom>
                  <a:noFill/>
                  <a:ln cap="rnd"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4778280" y="263448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3276720" y="2346120"/>
                <a:ext cx="288720" cy="345600"/>
                <a:chOff x="3276720" y="2346120"/>
                <a:chExt cx="288720" cy="3456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3276720" y="2346120"/>
                  <a:ext cx="28872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276720" y="2346120"/>
                  <a:ext cx="288720" cy="345600"/>
                </a:xfrm>
                <a:custGeom>
                  <a:avLst/>
                  <a:gdLst/>
                  <a:ahLst/>
                  <a:rect l="l" t="t" r="r" b="b"/>
                  <a:pathLst>
                    <a:path w="182" h="218">
                      <a:moveTo>
                        <a:pt x="182" y="109"/>
                      </a:moveTo>
                      <a:lnTo>
                        <a:pt x="0" y="0"/>
                      </a:lnTo>
                      <a:lnTo>
                        <a:pt x="0" y="218"/>
                      </a:lnTo>
                      <a:lnTo>
                        <a:pt x="182" y="109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408480" y="2606400"/>
                <a:ext cx="56880" cy="58320"/>
                <a:chOff x="3408480" y="2606400"/>
                <a:chExt cx="56880" cy="583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408480" y="2606400"/>
                  <a:ext cx="5688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08480" y="2606400"/>
                  <a:ext cx="56880" cy="5832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294160" y="2606400"/>
                <a:ext cx="59040" cy="58320"/>
                <a:chOff x="5294160" y="2606400"/>
                <a:chExt cx="59040" cy="583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294160" y="2606400"/>
                  <a:ext cx="59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294160" y="2606400"/>
                  <a:ext cx="59040" cy="5832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"/>
            <p:cNvGrpSpPr/>
            <p:nvPr/>
          </p:nvGrpSpPr>
          <p:grpSpPr>
            <a:xfrm>
              <a:off x="5356440" y="2346120"/>
              <a:ext cx="288720" cy="345960"/>
              <a:chOff x="5356440" y="2346120"/>
              <a:chExt cx="288720" cy="345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333960" y="2403360"/>
              <a:ext cx="202248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9880" y="2635200"/>
              <a:ext cx="190656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316400" y="2173320"/>
              <a:ext cx="262080" cy="701640"/>
              <a:chOff x="4316400" y="2173320"/>
              <a:chExt cx="262080" cy="701640"/>
            </a:xfrm>
          </p:grpSpPr>
          <p:sp>
            <p:nvSpPr>
              <p:cNvPr id="529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390920" y="243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143600" y="2634840"/>
              <a:ext cx="115920" cy="345960"/>
              <a:chOff x="4143600" y="2634840"/>
              <a:chExt cx="115920" cy="34596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3600" y="275076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43600" y="2808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200840" y="28076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200840" y="26348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143600" y="2923920"/>
                <a:ext cx="115920" cy="56880"/>
                <a:chOff x="4143600" y="2923920"/>
                <a:chExt cx="115920" cy="568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14360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14360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4605480" y="2634840"/>
              <a:ext cx="115920" cy="345960"/>
              <a:chOff x="4605480" y="2634840"/>
              <a:chExt cx="115920" cy="345960"/>
            </a:xfrm>
          </p:grpSpPr>
          <p:sp>
            <p:nvSpPr>
              <p:cNvPr id="541" name=""/>
              <p:cNvSpPr/>
              <p:nvPr/>
            </p:nvSpPr>
            <p:spPr>
              <a:xfrm>
                <a:off x="4605480" y="275076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5480" y="2808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4662360" y="28076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4662360" y="263484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4605480" y="2923920"/>
                <a:ext cx="115920" cy="56880"/>
                <a:chOff x="4605480" y="2923920"/>
                <a:chExt cx="115920" cy="568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60548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05480" y="2923920"/>
                  <a:ext cx="115920" cy="5688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36" y="36"/>
                      </a:moveTo>
                      <a:lnTo>
                        <a:pt x="0" y="0"/>
                      </a:lnTo>
                      <a:lnTo>
                        <a:pt x="73" y="0"/>
                      </a:lnTo>
                      <a:lnTo>
                        <a:pt x="36" y="36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4027680" y="2057400"/>
              <a:ext cx="231480" cy="344520"/>
              <a:chOff x="4027680" y="2057400"/>
              <a:chExt cx="231480" cy="34452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4143240" y="2112840"/>
                <a:ext cx="115920" cy="289080"/>
                <a:chOff x="4143240" y="2112840"/>
                <a:chExt cx="115920" cy="289080"/>
              </a:xfrm>
            </p:grpSpPr>
            <p:sp>
              <p:nvSpPr>
                <p:cNvPr id="550" name=""/>
                <p:cNvSpPr/>
                <p:nvPr/>
              </p:nvSpPr>
              <p:spPr>
                <a:xfrm flipH="1">
                  <a:off x="4143240" y="22878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4143240" y="223056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200480" y="211284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200480" y="2287800"/>
                  <a:ext cx="0" cy="1141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027680" y="2114640"/>
                <a:ext cx="115560" cy="58680"/>
                <a:chOff x="4027680" y="2114640"/>
                <a:chExt cx="115560" cy="586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02768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02768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084560" y="205740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605480" y="2057400"/>
              <a:ext cx="231480" cy="345960"/>
              <a:chOff x="4605480" y="2057400"/>
              <a:chExt cx="231480" cy="34596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4605480" y="2114640"/>
                <a:ext cx="115920" cy="288720"/>
                <a:chOff x="4605480" y="2114640"/>
                <a:chExt cx="115920" cy="288720"/>
              </a:xfrm>
            </p:grpSpPr>
            <p:sp>
              <p:nvSpPr>
                <p:cNvPr id="560" name=""/>
                <p:cNvSpPr/>
                <p:nvPr/>
              </p:nvSpPr>
              <p:spPr>
                <a:xfrm flipH="1">
                  <a:off x="4605480" y="22878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4605480" y="2232000"/>
                  <a:ext cx="11592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662360" y="2114640"/>
                  <a:ext cx="0" cy="1159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662360" y="2287800"/>
                  <a:ext cx="0" cy="115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4662360" y="205740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73" y="36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4721400" y="2114640"/>
                <a:ext cx="115560" cy="58680"/>
                <a:chOff x="4721400" y="2114640"/>
                <a:chExt cx="115560" cy="5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72140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721400" y="2114640"/>
                  <a:ext cx="115560" cy="58680"/>
                </a:xfrm>
                <a:custGeom>
                  <a:avLst/>
                  <a:gdLst/>
                  <a:ahLst/>
                  <a:rect l="l" t="t" r="r" b="b"/>
                  <a:pathLst>
                    <a:path w="73" h="37">
                      <a:moveTo>
                        <a:pt x="36" y="37"/>
                      </a:move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36" y="37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3724560" y="2576520"/>
              <a:ext cx="360360" cy="115920"/>
              <a:chOff x="3724560" y="2576520"/>
              <a:chExt cx="360360" cy="1159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796200" y="2576520"/>
                <a:ext cx="288720" cy="115920"/>
                <a:chOff x="3796200" y="2576520"/>
                <a:chExt cx="288720" cy="1159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79620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796200" y="2576520"/>
                  <a:ext cx="730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79620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832560" y="2576520"/>
                  <a:ext cx="3672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>
                <a:off x="3724560" y="26352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738600" y="2346120"/>
              <a:ext cx="361800" cy="115920"/>
              <a:chOff x="3738600" y="2346120"/>
              <a:chExt cx="361800" cy="1159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811680" y="2346120"/>
                <a:ext cx="288720" cy="115920"/>
                <a:chOff x="3811680" y="2346120"/>
                <a:chExt cx="288720" cy="1159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81168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811680" y="234612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81168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4000" h="1600">
                      <a:moveTo>
                        <a:pt x="0" y="800"/>
                      </a:moveTo>
                      <a:cubicBezTo>
                        <a:pt x="0" y="1242"/>
                        <a:pt x="224" y="1600"/>
                        <a:pt x="500" y="1600"/>
                      </a:cubicBezTo>
                      <a:lnTo>
                        <a:pt x="3500" y="1600"/>
                      </a:lnTo>
                      <a:cubicBezTo>
                        <a:pt x="3777" y="1600"/>
                        <a:pt x="4000" y="1242"/>
                        <a:pt x="4000" y="800"/>
                      </a:cubicBezTo>
                      <a:cubicBezTo>
                        <a:pt x="4000" y="358"/>
                        <a:pt x="3777" y="0"/>
                        <a:pt x="3500" y="0"/>
                      </a:cubicBezTo>
                      <a:lnTo>
                        <a:pt x="500" y="0"/>
                      </a:lnTo>
                      <a:cubicBezTo>
                        <a:pt x="224" y="0"/>
                        <a:pt x="0" y="358"/>
                        <a:pt x="0" y="8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846600" y="234612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3738600" y="2403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778640" y="2346120"/>
              <a:ext cx="361440" cy="115920"/>
              <a:chOff x="4778640" y="2346120"/>
              <a:chExt cx="361440" cy="11592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4851360" y="2346120"/>
                <a:ext cx="288720" cy="115920"/>
                <a:chOff x="4851360" y="2346120"/>
                <a:chExt cx="288720" cy="1159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485136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851360" y="234612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851360" y="23461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885920" y="234612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6"/>
                        <a:pt x="23" y="36"/>
                      </a:cubicBezTo>
                      <a:cubicBezTo>
                        <a:pt x="23" y="16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778640" y="2403000"/>
                <a:ext cx="115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778640" y="2576520"/>
              <a:ext cx="361440" cy="115920"/>
              <a:chOff x="4778640" y="2576520"/>
              <a:chExt cx="361440" cy="11592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4851360" y="2576520"/>
                <a:ext cx="288720" cy="115920"/>
                <a:chOff x="4851360" y="2576520"/>
                <a:chExt cx="288720" cy="1159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85136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solidFill>
                  <a:srgbClr val="4a95b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851360" y="2576520"/>
                  <a:ext cx="71280" cy="115920"/>
                </a:xfrm>
                <a:prstGeom prst="ellipse">
                  <a:avLst/>
                </a:prstGeom>
                <a:solidFill>
                  <a:srgbClr val="6daa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851360" y="2576520"/>
                  <a:ext cx="288720" cy="115920"/>
                </a:xfrm>
                <a:custGeom>
                  <a:avLst/>
                  <a:gdLst/>
                  <a:ahLst/>
                  <a:rect l="l" t="t" r="r" b="b"/>
                  <a:pathLst>
                    <a:path w="2000" h="800">
                      <a:moveTo>
                        <a:pt x="0" y="400"/>
                      </a:moveTo>
                      <a:cubicBezTo>
                        <a:pt x="0" y="621"/>
                        <a:pt x="112" y="800"/>
                        <a:pt x="250" y="800"/>
                      </a:cubicBezTo>
                      <a:lnTo>
                        <a:pt x="1750" y="800"/>
                      </a:lnTo>
                      <a:cubicBezTo>
                        <a:pt x="1889" y="800"/>
                        <a:pt x="2000" y="621"/>
                        <a:pt x="2000" y="400"/>
                      </a:cubicBezTo>
                      <a:cubicBezTo>
                        <a:pt x="2000" y="179"/>
                        <a:pt x="1889" y="0"/>
                        <a:pt x="1750" y="0"/>
                      </a:cubicBezTo>
                      <a:lnTo>
                        <a:pt x="250" y="0"/>
                      </a:lnTo>
                      <a:cubicBezTo>
                        <a:pt x="112" y="0"/>
                        <a:pt x="0" y="179"/>
                        <a:pt x="0" y="400"/>
                      </a:cubicBez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885920" y="2576520"/>
                  <a:ext cx="36360" cy="115920"/>
                </a:xfrm>
                <a:custGeom>
                  <a:avLst/>
                  <a:gdLst/>
                  <a:ahLst/>
                  <a:rect l="l" t="t" r="r" b="b"/>
                  <a:pathLst>
                    <a:path w="23" h="73">
                      <a:moveTo>
                        <a:pt x="0" y="73"/>
                      </a:moveTo>
                      <a:cubicBezTo>
                        <a:pt x="13" y="73"/>
                        <a:pt x="23" y="57"/>
                        <a:pt x="23" y="37"/>
                      </a:cubicBezTo>
                      <a:cubicBezTo>
                        <a:pt x="23" y="17"/>
                        <a:pt x="13" y="0"/>
                        <a:pt x="0" y="0"/>
                      </a:cubicBezTo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778640" y="2635200"/>
                <a:ext cx="1155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276720" y="2346120"/>
              <a:ext cx="288720" cy="345960"/>
              <a:chOff x="3276720" y="2346120"/>
              <a:chExt cx="288720" cy="345960"/>
            </a:xfrm>
          </p:grpSpPr>
          <p:sp>
            <p:nvSpPr>
              <p:cNvPr id="597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408480" y="2606760"/>
              <a:ext cx="56880" cy="58680"/>
              <a:chOff x="3408480" y="2606760"/>
              <a:chExt cx="56880" cy="58680"/>
            </a:xfrm>
          </p:grpSpPr>
          <p:sp>
            <p:nvSpPr>
              <p:cNvPr id="600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294520" y="2606760"/>
              <a:ext cx="58680" cy="58680"/>
              <a:chOff x="5294520" y="2606760"/>
              <a:chExt cx="58680" cy="58680"/>
            </a:xfrm>
          </p:grpSpPr>
          <p:sp>
            <p:nvSpPr>
              <p:cNvPr id="603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356440" y="2346120"/>
              <a:ext cx="288720" cy="345960"/>
              <a:chOff x="5356440" y="2346120"/>
              <a:chExt cx="288720" cy="345960"/>
            </a:xfrm>
          </p:grpSpPr>
          <p:sp>
            <p:nvSpPr>
              <p:cNvPr id="606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5644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333960" y="2403360"/>
              <a:ext cx="202248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49880" y="2635200"/>
              <a:ext cx="190656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316400" y="2173320"/>
              <a:ext cx="262080" cy="701640"/>
              <a:chOff x="4316400" y="2173320"/>
              <a:chExt cx="262080" cy="701640"/>
            </a:xfrm>
          </p:grpSpPr>
          <p:sp>
            <p:nvSpPr>
              <p:cNvPr id="611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16400" y="2173320"/>
                <a:ext cx="262080" cy="701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4390920" y="243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4360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4360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20084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20084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4143600" y="2923920"/>
              <a:ext cx="115920" cy="57240"/>
              <a:chOff x="4143600" y="2923920"/>
              <a:chExt cx="115920" cy="57240"/>
            </a:xfrm>
          </p:grpSpPr>
          <p:sp>
            <p:nvSpPr>
              <p:cNvPr id="619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414360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4360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20084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20084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4143600" y="2923920"/>
              <a:ext cx="115920" cy="57240"/>
              <a:chOff x="4143600" y="2923920"/>
              <a:chExt cx="115920" cy="57240"/>
            </a:xfrm>
          </p:grpSpPr>
          <p:sp>
            <p:nvSpPr>
              <p:cNvPr id="626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14360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460548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0548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66272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66272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605480" y="2923920"/>
              <a:ext cx="115920" cy="57240"/>
              <a:chOff x="4605480" y="2923920"/>
              <a:chExt cx="115920" cy="57240"/>
            </a:xfrm>
          </p:grpSpPr>
          <p:sp>
            <p:nvSpPr>
              <p:cNvPr id="633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4605480" y="275112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05480" y="2808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662720" y="280800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662720" y="263520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605480" y="2923920"/>
              <a:ext cx="115920" cy="57240"/>
              <a:chOff x="4605480" y="2923920"/>
              <a:chExt cx="115920" cy="57240"/>
            </a:xfrm>
          </p:grpSpPr>
          <p:sp>
            <p:nvSpPr>
              <p:cNvPr id="640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05480" y="2923920"/>
                <a:ext cx="115920" cy="5724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36" y="36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36" y="36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143600" y="2112840"/>
              <a:ext cx="115920" cy="289080"/>
              <a:chOff x="4143600" y="2112840"/>
              <a:chExt cx="115920" cy="289080"/>
            </a:xfrm>
          </p:grpSpPr>
          <p:sp>
            <p:nvSpPr>
              <p:cNvPr id="643" name=""/>
              <p:cNvSpPr/>
              <p:nvPr/>
            </p:nvSpPr>
            <p:spPr>
              <a:xfrm flipH="1">
                <a:off x="4143600" y="2287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4143600" y="223056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00840" y="211284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0840" y="2287800"/>
                <a:ext cx="0" cy="1141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027680" y="2114640"/>
              <a:ext cx="115560" cy="58680"/>
              <a:chOff x="4027680" y="2114640"/>
              <a:chExt cx="115560" cy="58680"/>
            </a:xfrm>
          </p:grpSpPr>
          <p:sp>
            <p:nvSpPr>
              <p:cNvPr id="648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40849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360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143600" y="2230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00840" y="21128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00840" y="2287440"/>
              <a:ext cx="0" cy="1144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4360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143600" y="2230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00840" y="21128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00840" y="2287440"/>
              <a:ext cx="0" cy="11448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027680" y="2114640"/>
              <a:ext cx="115560" cy="58680"/>
              <a:chOff x="4027680" y="2114640"/>
              <a:chExt cx="115560" cy="58680"/>
            </a:xfrm>
          </p:grpSpPr>
          <p:sp>
            <p:nvSpPr>
              <p:cNvPr id="660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768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40849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605480" y="2114640"/>
              <a:ext cx="115920" cy="288720"/>
              <a:chOff x="4605480" y="2114640"/>
              <a:chExt cx="115920" cy="2887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605480" y="22878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605480" y="2232000"/>
                <a:ext cx="115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62360" y="2114640"/>
                <a:ext cx="0" cy="1159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62360" y="2287800"/>
                <a:ext cx="0" cy="1155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6627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721400" y="2114640"/>
              <a:ext cx="115560" cy="58680"/>
              <a:chOff x="4721400" y="2114640"/>
              <a:chExt cx="115560" cy="58680"/>
            </a:xfrm>
          </p:grpSpPr>
          <p:sp>
            <p:nvSpPr>
              <p:cNvPr id="670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 flipH="1">
              <a:off x="460548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605480" y="22320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62720" y="211464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62720" y="22874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605480" y="228744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605480" y="22320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62720" y="2114640"/>
              <a:ext cx="0" cy="1155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62720" y="2287440"/>
              <a:ext cx="0" cy="115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62720" y="2057400"/>
              <a:ext cx="115920" cy="5724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73" y="36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36"/>
                  </a:ln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721400" y="2114640"/>
              <a:ext cx="115560" cy="58680"/>
              <a:chOff x="4721400" y="2114640"/>
              <a:chExt cx="115560" cy="58680"/>
            </a:xfrm>
          </p:grpSpPr>
          <p:sp>
            <p:nvSpPr>
              <p:cNvPr id="682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21400" y="21146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36" y="37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36" y="37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3795840" y="2576520"/>
              <a:ext cx="288720" cy="115920"/>
              <a:chOff x="3795840" y="2576520"/>
              <a:chExt cx="288720" cy="115920"/>
            </a:xfrm>
          </p:grpSpPr>
          <p:sp>
            <p:nvSpPr>
              <p:cNvPr id="685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95840" y="2576520"/>
                <a:ext cx="730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32200" y="2576520"/>
                <a:ext cx="3672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72456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3795840" y="2576520"/>
              <a:ext cx="288720" cy="115920"/>
              <a:chOff x="3795840" y="2576520"/>
              <a:chExt cx="288720" cy="115920"/>
            </a:xfrm>
          </p:grpSpPr>
          <p:sp>
            <p:nvSpPr>
              <p:cNvPr id="691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795840" y="2576520"/>
                <a:ext cx="730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9584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32200" y="2576520"/>
                <a:ext cx="3672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72456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811680" y="2346120"/>
              <a:ext cx="288720" cy="115920"/>
              <a:chOff x="3811680" y="2346120"/>
              <a:chExt cx="288720" cy="115920"/>
            </a:xfrm>
          </p:grpSpPr>
          <p:sp>
            <p:nvSpPr>
              <p:cNvPr id="697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81168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4660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373860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811680" y="2346120"/>
              <a:ext cx="288720" cy="115920"/>
              <a:chOff x="3811680" y="2346120"/>
              <a:chExt cx="288720" cy="115920"/>
            </a:xfrm>
          </p:grpSpPr>
          <p:sp>
            <p:nvSpPr>
              <p:cNvPr id="703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1168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1168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4000" h="1600">
                    <a:moveTo>
                      <a:pt x="0" y="800"/>
                    </a:moveTo>
                    <a:cubicBezTo>
                      <a:pt x="0" y="1242"/>
                      <a:pt x="224" y="1600"/>
                      <a:pt x="500" y="1600"/>
                    </a:cubicBezTo>
                    <a:lnTo>
                      <a:pt x="3500" y="1600"/>
                    </a:lnTo>
                    <a:cubicBezTo>
                      <a:pt x="3777" y="1600"/>
                      <a:pt x="4000" y="1242"/>
                      <a:pt x="4000" y="800"/>
                    </a:cubicBezTo>
                    <a:cubicBezTo>
                      <a:pt x="4000" y="358"/>
                      <a:pt x="3777" y="0"/>
                      <a:pt x="3500" y="0"/>
                    </a:cubicBezTo>
                    <a:lnTo>
                      <a:pt x="500" y="0"/>
                    </a:lnTo>
                    <a:cubicBezTo>
                      <a:pt x="224" y="0"/>
                      <a:pt x="0" y="358"/>
                      <a:pt x="0" y="8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4660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73860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4851720" y="2346120"/>
              <a:ext cx="288720" cy="115920"/>
              <a:chOff x="4851720" y="2346120"/>
              <a:chExt cx="288720" cy="115920"/>
            </a:xfrm>
          </p:grpSpPr>
          <p:sp>
            <p:nvSpPr>
              <p:cNvPr id="709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85172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88628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477864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4851720" y="2346120"/>
              <a:ext cx="288720" cy="115920"/>
              <a:chOff x="4851720" y="2346120"/>
              <a:chExt cx="288720" cy="115920"/>
            </a:xfrm>
          </p:grpSpPr>
          <p:sp>
            <p:nvSpPr>
              <p:cNvPr id="715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51720" y="23461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1720" y="23461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886280" y="23461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6"/>
                      <a:pt x="23" y="36"/>
                    </a:cubicBezTo>
                    <a:cubicBezTo>
                      <a:pt x="23" y="16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778640" y="240336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851720" y="2576520"/>
              <a:ext cx="288720" cy="115920"/>
              <a:chOff x="4851720" y="2576520"/>
              <a:chExt cx="288720" cy="115920"/>
            </a:xfrm>
          </p:grpSpPr>
          <p:sp>
            <p:nvSpPr>
              <p:cNvPr id="721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851720" y="25765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886280" y="25765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477864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851720" y="2576520"/>
              <a:ext cx="288720" cy="115920"/>
              <a:chOff x="4851720" y="2576520"/>
              <a:chExt cx="288720" cy="115920"/>
            </a:xfrm>
          </p:grpSpPr>
          <p:sp>
            <p:nvSpPr>
              <p:cNvPr id="727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solidFill>
                <a:srgbClr val="4a95b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851720" y="2576520"/>
                <a:ext cx="71280" cy="115920"/>
              </a:xfrm>
              <a:prstGeom prst="ellipse">
                <a:avLst/>
              </a:prstGeom>
              <a:solidFill>
                <a:srgbClr val="6daa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51720" y="2576520"/>
                <a:ext cx="288720" cy="115920"/>
              </a:xfrm>
              <a:custGeom>
                <a:avLst/>
                <a:gdLst/>
                <a:ahLst/>
                <a:rect l="l" t="t" r="r" b="b"/>
                <a:pathLst>
                  <a:path w="2000" h="800">
                    <a:moveTo>
                      <a:pt x="0" y="400"/>
                    </a:moveTo>
                    <a:cubicBezTo>
                      <a:pt x="0" y="621"/>
                      <a:pt x="112" y="800"/>
                      <a:pt x="250" y="800"/>
                    </a:cubicBezTo>
                    <a:lnTo>
                      <a:pt x="1750" y="800"/>
                    </a:lnTo>
                    <a:cubicBezTo>
                      <a:pt x="1889" y="800"/>
                      <a:pt x="2000" y="621"/>
                      <a:pt x="2000" y="400"/>
                    </a:cubicBezTo>
                    <a:cubicBezTo>
                      <a:pt x="2000" y="179"/>
                      <a:pt x="1889" y="0"/>
                      <a:pt x="1750" y="0"/>
                    </a:cubicBezTo>
                    <a:lnTo>
                      <a:pt x="250" y="0"/>
                    </a:lnTo>
                    <a:cubicBezTo>
                      <a:pt x="112" y="0"/>
                      <a:pt x="0" y="179"/>
                      <a:pt x="0" y="400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886280" y="257652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73">
                    <a:moveTo>
                      <a:pt x="0" y="73"/>
                    </a:moveTo>
                    <a:cubicBezTo>
                      <a:pt x="13" y="73"/>
                      <a:pt x="23" y="57"/>
                      <a:pt x="23" y="37"/>
                    </a:cubicBezTo>
                    <a:cubicBezTo>
                      <a:pt x="23" y="17"/>
                      <a:pt x="13" y="0"/>
                      <a:pt x="0" y="0"/>
                    </a:cubicBez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778640" y="2635200"/>
              <a:ext cx="115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3276720" y="2346120"/>
              <a:ext cx="288720" cy="345960"/>
              <a:chOff x="3276720" y="2346120"/>
              <a:chExt cx="288720" cy="345960"/>
            </a:xfrm>
          </p:grpSpPr>
          <p:sp>
            <p:nvSpPr>
              <p:cNvPr id="733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76720" y="2346120"/>
                <a:ext cx="288720" cy="345960"/>
              </a:xfrm>
              <a:custGeom>
                <a:avLst/>
                <a:gdLst/>
                <a:ahLst/>
                <a:rect l="l" t="t" r="r" b="b"/>
                <a:pathLst>
                  <a:path w="182" h="218">
                    <a:moveTo>
                      <a:pt x="182" y="109"/>
                    </a:moveTo>
                    <a:lnTo>
                      <a:pt x="0" y="0"/>
                    </a:lnTo>
                    <a:lnTo>
                      <a:pt x="0" y="218"/>
                    </a:lnTo>
                    <a:lnTo>
                      <a:pt x="182" y="109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408480" y="2606760"/>
              <a:ext cx="56880" cy="58680"/>
              <a:chOff x="3408480" y="2606760"/>
              <a:chExt cx="56880" cy="58680"/>
            </a:xfrm>
          </p:grpSpPr>
          <p:sp>
            <p:nvSpPr>
              <p:cNvPr id="736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408480" y="2606760"/>
                <a:ext cx="568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294520" y="2606760"/>
              <a:ext cx="58680" cy="58680"/>
              <a:chOff x="5294520" y="2606760"/>
              <a:chExt cx="58680" cy="58680"/>
            </a:xfrm>
          </p:grpSpPr>
          <p:sp>
            <p:nvSpPr>
              <p:cNvPr id="739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94520" y="2606760"/>
                <a:ext cx="58680" cy="5868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2514600" y="1504800"/>
            <a:ext cx="466560" cy="376560"/>
            <a:chOff x="2514600" y="1504800"/>
            <a:chExt cx="466560" cy="376560"/>
          </a:xfrm>
        </p:grpSpPr>
        <p:sp>
          <p:nvSpPr>
            <p:cNvPr id="742" name=""/>
            <p:cNvSpPr/>
            <p:nvPr/>
          </p:nvSpPr>
          <p:spPr>
            <a:xfrm>
              <a:off x="2519280" y="1530360"/>
              <a:ext cx="55440" cy="320760"/>
            </a:xfrm>
            <a:custGeom>
              <a:avLst/>
              <a:gdLst/>
              <a:ahLst/>
              <a:rect l="l" t="t" r="r" b="b"/>
              <a:pathLst>
                <a:path w="35" h="202">
                  <a:moveTo>
                    <a:pt x="0" y="202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202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14600" y="1822320"/>
              <a:ext cx="466560" cy="59040"/>
            </a:xfrm>
            <a:custGeom>
              <a:avLst/>
              <a:gdLst/>
              <a:ahLst/>
              <a:rect l="l" t="t" r="r" b="b"/>
              <a:pathLst>
                <a:path w="6466" h="800">
                  <a:moveTo>
                    <a:pt x="66" y="333"/>
                  </a:moveTo>
                  <a:lnTo>
                    <a:pt x="5800" y="333"/>
                  </a:lnTo>
                  <a:cubicBezTo>
                    <a:pt x="5837" y="333"/>
                    <a:pt x="5866" y="363"/>
                    <a:pt x="5866" y="400"/>
                  </a:cubicBezTo>
                  <a:cubicBezTo>
                    <a:pt x="5866" y="437"/>
                    <a:pt x="5837" y="467"/>
                    <a:pt x="5800" y="467"/>
                  </a:cubicBezTo>
                  <a:lnTo>
                    <a:pt x="66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6" y="333"/>
                  </a:cubicBezTo>
                  <a:close/>
                  <a:moveTo>
                    <a:pt x="5666" y="0"/>
                  </a:moveTo>
                  <a:lnTo>
                    <a:pt x="6466" y="400"/>
                  </a:lnTo>
                  <a:lnTo>
                    <a:pt x="5666" y="800"/>
                  </a:lnTo>
                  <a:lnTo>
                    <a:pt x="56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519280" y="15048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19280" y="1530360"/>
              <a:ext cx="55440" cy="320760"/>
            </a:xfrm>
            <a:custGeom>
              <a:avLst/>
              <a:gdLst/>
              <a:ahLst/>
              <a:rect l="l" t="t" r="r" b="b"/>
              <a:pathLst>
                <a:path w="35" h="202">
                  <a:moveTo>
                    <a:pt x="0" y="202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202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14600" y="1822320"/>
              <a:ext cx="466560" cy="59040"/>
            </a:xfrm>
            <a:custGeom>
              <a:avLst/>
              <a:gdLst/>
              <a:ahLst/>
              <a:rect l="l" t="t" r="r" b="b"/>
              <a:pathLst>
                <a:path w="6466" h="800">
                  <a:moveTo>
                    <a:pt x="66" y="333"/>
                  </a:moveTo>
                  <a:lnTo>
                    <a:pt x="5800" y="333"/>
                  </a:lnTo>
                  <a:cubicBezTo>
                    <a:pt x="5837" y="333"/>
                    <a:pt x="5866" y="363"/>
                    <a:pt x="5866" y="400"/>
                  </a:cubicBezTo>
                  <a:cubicBezTo>
                    <a:pt x="5866" y="437"/>
                    <a:pt x="5837" y="467"/>
                    <a:pt x="5800" y="467"/>
                  </a:cubicBezTo>
                  <a:lnTo>
                    <a:pt x="66" y="467"/>
                  </a:lnTo>
                  <a:cubicBezTo>
                    <a:pt x="30" y="467"/>
                    <a:pt x="0" y="437"/>
                    <a:pt x="0" y="400"/>
                  </a:cubicBezTo>
                  <a:cubicBezTo>
                    <a:pt x="0" y="363"/>
                    <a:pt x="30" y="333"/>
                    <a:pt x="66" y="333"/>
                  </a:cubicBezTo>
                  <a:close/>
                  <a:moveTo>
                    <a:pt x="5666" y="0"/>
                  </a:moveTo>
                  <a:lnTo>
                    <a:pt x="6466" y="400"/>
                  </a:lnTo>
                  <a:lnTo>
                    <a:pt x="5666" y="800"/>
                  </a:lnTo>
                  <a:lnTo>
                    <a:pt x="56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19280" y="15048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867280" y="1447560"/>
            <a:ext cx="757440" cy="433800"/>
            <a:chOff x="5867280" y="1447560"/>
            <a:chExt cx="757440" cy="433800"/>
          </a:xfrm>
        </p:grpSpPr>
        <p:grpSp>
          <p:nvGrpSpPr>
            <p:cNvPr id="749" name=""/>
            <p:cNvGrpSpPr/>
            <p:nvPr/>
          </p:nvGrpSpPr>
          <p:grpSpPr>
            <a:xfrm>
              <a:off x="5867280" y="1447560"/>
              <a:ext cx="757080" cy="433800"/>
              <a:chOff x="5867280" y="1447560"/>
              <a:chExt cx="757080" cy="433800"/>
            </a:xfrm>
          </p:grpSpPr>
          <p:sp>
            <p:nvSpPr>
              <p:cNvPr id="750" name=""/>
              <p:cNvSpPr/>
              <p:nvPr/>
            </p:nvSpPr>
            <p:spPr>
              <a:xfrm>
                <a:off x="5867280" y="1765440"/>
                <a:ext cx="757080" cy="5868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871960" y="144756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71960" y="158292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867280" y="1765440"/>
              <a:ext cx="75744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5871960" y="144792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1960" y="1582920"/>
              <a:ext cx="63684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67280" y="1765440"/>
              <a:ext cx="75744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871960" y="144792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71960" y="1582920"/>
              <a:ext cx="63684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2523000">
            <a:off x="3048120" y="1981080"/>
            <a:ext cx="609480" cy="152640"/>
          </a:xfrm>
          <a:custGeom>
            <a:avLst/>
            <a:gdLst/>
            <a:ahLst/>
            <a:rect l="l" t="t" r="r" b="b"/>
            <a:pathLst>
              <a:path w="546" h="82">
                <a:moveTo>
                  <a:pt x="0" y="28"/>
                </a:moveTo>
                <a:lnTo>
                  <a:pt x="28" y="28"/>
                </a:lnTo>
                <a:lnTo>
                  <a:pt x="28" y="55"/>
                </a:lnTo>
                <a:lnTo>
                  <a:pt x="0" y="55"/>
                </a:lnTo>
                <a:lnTo>
                  <a:pt x="0" y="28"/>
                </a:lnTo>
                <a:close/>
                <a:moveTo>
                  <a:pt x="55" y="28"/>
                </a:moveTo>
                <a:lnTo>
                  <a:pt x="82" y="28"/>
                </a:lnTo>
                <a:lnTo>
                  <a:pt x="82" y="55"/>
                </a:lnTo>
                <a:lnTo>
                  <a:pt x="55" y="55"/>
                </a:lnTo>
                <a:lnTo>
                  <a:pt x="55" y="28"/>
                </a:lnTo>
                <a:close/>
                <a:moveTo>
                  <a:pt x="109" y="28"/>
                </a:moveTo>
                <a:lnTo>
                  <a:pt x="137" y="28"/>
                </a:lnTo>
                <a:lnTo>
                  <a:pt x="137" y="55"/>
                </a:lnTo>
                <a:lnTo>
                  <a:pt x="109" y="55"/>
                </a:lnTo>
                <a:lnTo>
                  <a:pt x="109" y="28"/>
                </a:lnTo>
                <a:close/>
                <a:moveTo>
                  <a:pt x="164" y="28"/>
                </a:moveTo>
                <a:lnTo>
                  <a:pt x="191" y="28"/>
                </a:lnTo>
                <a:lnTo>
                  <a:pt x="191" y="55"/>
                </a:lnTo>
                <a:lnTo>
                  <a:pt x="164" y="55"/>
                </a:lnTo>
                <a:lnTo>
                  <a:pt x="164" y="28"/>
                </a:lnTo>
                <a:close/>
                <a:moveTo>
                  <a:pt x="219" y="28"/>
                </a:moveTo>
                <a:lnTo>
                  <a:pt x="246" y="28"/>
                </a:lnTo>
                <a:lnTo>
                  <a:pt x="246" y="55"/>
                </a:lnTo>
                <a:lnTo>
                  <a:pt x="219" y="55"/>
                </a:lnTo>
                <a:lnTo>
                  <a:pt x="219" y="28"/>
                </a:lnTo>
                <a:close/>
                <a:moveTo>
                  <a:pt x="273" y="28"/>
                </a:moveTo>
                <a:lnTo>
                  <a:pt x="301" y="28"/>
                </a:lnTo>
                <a:lnTo>
                  <a:pt x="301" y="55"/>
                </a:lnTo>
                <a:lnTo>
                  <a:pt x="273" y="55"/>
                </a:lnTo>
                <a:lnTo>
                  <a:pt x="273" y="28"/>
                </a:lnTo>
                <a:close/>
                <a:moveTo>
                  <a:pt x="328" y="28"/>
                </a:moveTo>
                <a:lnTo>
                  <a:pt x="355" y="28"/>
                </a:lnTo>
                <a:lnTo>
                  <a:pt x="355" y="55"/>
                </a:lnTo>
                <a:lnTo>
                  <a:pt x="328" y="55"/>
                </a:lnTo>
                <a:lnTo>
                  <a:pt x="328" y="28"/>
                </a:lnTo>
                <a:close/>
                <a:moveTo>
                  <a:pt x="382" y="28"/>
                </a:moveTo>
                <a:lnTo>
                  <a:pt x="410" y="28"/>
                </a:lnTo>
                <a:lnTo>
                  <a:pt x="410" y="55"/>
                </a:lnTo>
                <a:lnTo>
                  <a:pt x="382" y="55"/>
                </a:lnTo>
                <a:lnTo>
                  <a:pt x="382" y="28"/>
                </a:lnTo>
                <a:close/>
                <a:moveTo>
                  <a:pt x="437" y="28"/>
                </a:moveTo>
                <a:lnTo>
                  <a:pt x="464" y="28"/>
                </a:lnTo>
                <a:lnTo>
                  <a:pt x="464" y="55"/>
                </a:lnTo>
                <a:lnTo>
                  <a:pt x="437" y="55"/>
                </a:lnTo>
                <a:lnTo>
                  <a:pt x="437" y="28"/>
                </a:lnTo>
                <a:close/>
                <a:moveTo>
                  <a:pt x="464" y="0"/>
                </a:moveTo>
                <a:lnTo>
                  <a:pt x="546" y="41"/>
                </a:lnTo>
                <a:lnTo>
                  <a:pt x="464" y="82"/>
                </a:lnTo>
                <a:lnTo>
                  <a:pt x="464" y="0"/>
                </a:lnTo>
                <a:close/>
              </a:path>
            </a:pathLst>
          </a:custGeom>
          <a:solidFill>
            <a:srgbClr val="0099ff"/>
          </a:solidFill>
          <a:ln w="0">
            <a:solidFill>
              <a:srgbClr val="0099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 rot="19077000">
            <a:off x="5181480" y="1980000"/>
            <a:ext cx="609840" cy="152280"/>
          </a:xfrm>
          <a:custGeom>
            <a:avLst/>
            <a:gdLst/>
            <a:ahLst/>
            <a:rect l="l" t="t" r="r" b="b"/>
            <a:pathLst>
              <a:path w="546" h="82">
                <a:moveTo>
                  <a:pt x="0" y="28"/>
                </a:moveTo>
                <a:lnTo>
                  <a:pt x="28" y="28"/>
                </a:lnTo>
                <a:lnTo>
                  <a:pt x="28" y="55"/>
                </a:lnTo>
                <a:lnTo>
                  <a:pt x="0" y="55"/>
                </a:lnTo>
                <a:lnTo>
                  <a:pt x="0" y="28"/>
                </a:lnTo>
                <a:close/>
                <a:moveTo>
                  <a:pt x="55" y="28"/>
                </a:moveTo>
                <a:lnTo>
                  <a:pt x="82" y="28"/>
                </a:lnTo>
                <a:lnTo>
                  <a:pt x="82" y="55"/>
                </a:lnTo>
                <a:lnTo>
                  <a:pt x="55" y="55"/>
                </a:lnTo>
                <a:lnTo>
                  <a:pt x="55" y="28"/>
                </a:lnTo>
                <a:close/>
                <a:moveTo>
                  <a:pt x="109" y="28"/>
                </a:moveTo>
                <a:lnTo>
                  <a:pt x="137" y="28"/>
                </a:lnTo>
                <a:lnTo>
                  <a:pt x="137" y="55"/>
                </a:lnTo>
                <a:lnTo>
                  <a:pt x="109" y="55"/>
                </a:lnTo>
                <a:lnTo>
                  <a:pt x="109" y="28"/>
                </a:lnTo>
                <a:close/>
                <a:moveTo>
                  <a:pt x="164" y="28"/>
                </a:moveTo>
                <a:lnTo>
                  <a:pt x="191" y="28"/>
                </a:lnTo>
                <a:lnTo>
                  <a:pt x="191" y="55"/>
                </a:lnTo>
                <a:lnTo>
                  <a:pt x="164" y="55"/>
                </a:lnTo>
                <a:lnTo>
                  <a:pt x="164" y="28"/>
                </a:lnTo>
                <a:close/>
                <a:moveTo>
                  <a:pt x="219" y="28"/>
                </a:moveTo>
                <a:lnTo>
                  <a:pt x="246" y="28"/>
                </a:lnTo>
                <a:lnTo>
                  <a:pt x="246" y="55"/>
                </a:lnTo>
                <a:lnTo>
                  <a:pt x="219" y="55"/>
                </a:lnTo>
                <a:lnTo>
                  <a:pt x="219" y="28"/>
                </a:lnTo>
                <a:close/>
                <a:moveTo>
                  <a:pt x="273" y="28"/>
                </a:moveTo>
                <a:lnTo>
                  <a:pt x="301" y="28"/>
                </a:lnTo>
                <a:lnTo>
                  <a:pt x="301" y="55"/>
                </a:lnTo>
                <a:lnTo>
                  <a:pt x="273" y="55"/>
                </a:lnTo>
                <a:lnTo>
                  <a:pt x="273" y="28"/>
                </a:lnTo>
                <a:close/>
                <a:moveTo>
                  <a:pt x="328" y="28"/>
                </a:moveTo>
                <a:lnTo>
                  <a:pt x="355" y="28"/>
                </a:lnTo>
                <a:lnTo>
                  <a:pt x="355" y="55"/>
                </a:lnTo>
                <a:lnTo>
                  <a:pt x="328" y="55"/>
                </a:lnTo>
                <a:lnTo>
                  <a:pt x="328" y="28"/>
                </a:lnTo>
                <a:close/>
                <a:moveTo>
                  <a:pt x="382" y="28"/>
                </a:moveTo>
                <a:lnTo>
                  <a:pt x="410" y="28"/>
                </a:lnTo>
                <a:lnTo>
                  <a:pt x="410" y="55"/>
                </a:lnTo>
                <a:lnTo>
                  <a:pt x="382" y="55"/>
                </a:lnTo>
                <a:lnTo>
                  <a:pt x="382" y="28"/>
                </a:lnTo>
                <a:close/>
                <a:moveTo>
                  <a:pt x="437" y="28"/>
                </a:moveTo>
                <a:lnTo>
                  <a:pt x="464" y="28"/>
                </a:lnTo>
                <a:lnTo>
                  <a:pt x="464" y="55"/>
                </a:lnTo>
                <a:lnTo>
                  <a:pt x="437" y="55"/>
                </a:lnTo>
                <a:lnTo>
                  <a:pt x="437" y="28"/>
                </a:lnTo>
                <a:close/>
                <a:moveTo>
                  <a:pt x="464" y="0"/>
                </a:moveTo>
                <a:lnTo>
                  <a:pt x="546" y="41"/>
                </a:lnTo>
                <a:lnTo>
                  <a:pt x="464" y="82"/>
                </a:lnTo>
                <a:lnTo>
                  <a:pt x="464" y="0"/>
                </a:lnTo>
                <a:close/>
              </a:path>
            </a:pathLst>
          </a:custGeom>
          <a:solidFill>
            <a:srgbClr val="0099ff"/>
          </a:solidFill>
          <a:ln w="0">
            <a:solidFill>
              <a:srgbClr val="0099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922D-F624-420E-B715-3859AD51ED00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mmunications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Uses circuit characterization data to predict link behavior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ny methods exist – fundamental concepts are similar, but implementation details var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ercial numerical computation too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llaboration efforts (StatEye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-house SerDes vendor solu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ercial systems-level analysis too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057400" y="2364840"/>
            <a:ext cx="757080" cy="433800"/>
            <a:chOff x="2057400" y="2364840"/>
            <a:chExt cx="757080" cy="433800"/>
          </a:xfrm>
        </p:grpSpPr>
        <p:grpSp>
          <p:nvGrpSpPr>
            <p:cNvPr id="764" name=""/>
            <p:cNvGrpSpPr/>
            <p:nvPr/>
          </p:nvGrpSpPr>
          <p:grpSpPr>
            <a:xfrm>
              <a:off x="2057400" y="2364840"/>
              <a:ext cx="757080" cy="433800"/>
              <a:chOff x="2057400" y="2364840"/>
              <a:chExt cx="757080" cy="433800"/>
            </a:xfrm>
          </p:grpSpPr>
          <p:sp>
            <p:nvSpPr>
              <p:cNvPr id="765" name=""/>
              <p:cNvSpPr/>
              <p:nvPr/>
            </p:nvSpPr>
            <p:spPr>
              <a:xfrm>
                <a:off x="2057400" y="2682720"/>
                <a:ext cx="757080" cy="58680"/>
              </a:xfrm>
              <a:custGeom>
                <a:avLst/>
                <a:gdLst/>
                <a:ahLst/>
                <a:rect l="l" t="t" r="r" b="b"/>
                <a:pathLst>
                  <a:path w="5233" h="400">
                    <a:moveTo>
                      <a:pt x="33" y="166"/>
                    </a:moveTo>
                    <a:lnTo>
                      <a:pt x="4900" y="166"/>
                    </a:lnTo>
                    <a:cubicBezTo>
                      <a:pt x="4919" y="166"/>
                      <a:pt x="4933" y="181"/>
                      <a:pt x="4933" y="200"/>
                    </a:cubicBezTo>
                    <a:cubicBezTo>
                      <a:pt x="4933" y="218"/>
                      <a:pt x="4919" y="233"/>
                      <a:pt x="4900" y="233"/>
                    </a:cubicBezTo>
                    <a:lnTo>
                      <a:pt x="33" y="233"/>
                    </a:lnTo>
                    <a:cubicBezTo>
                      <a:pt x="15" y="233"/>
                      <a:pt x="0" y="218"/>
                      <a:pt x="0" y="200"/>
                    </a:cubicBezTo>
                    <a:cubicBezTo>
                      <a:pt x="0" y="181"/>
                      <a:pt x="15" y="166"/>
                      <a:pt x="33" y="166"/>
                    </a:cubicBezTo>
                    <a:close/>
                    <a:moveTo>
                      <a:pt x="4833" y="0"/>
                    </a:moveTo>
                    <a:lnTo>
                      <a:pt x="5233" y="200"/>
                    </a:lnTo>
                    <a:lnTo>
                      <a:pt x="4833" y="400"/>
                    </a:lnTo>
                    <a:lnTo>
                      <a:pt x="48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2062080" y="2364840"/>
                <a:ext cx="0" cy="3459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62080" y="2500200"/>
                <a:ext cx="636480" cy="298440"/>
              </a:xfrm>
              <a:custGeom>
                <a:avLst/>
                <a:gdLst/>
                <a:ahLst/>
                <a:rect l="l" t="t" r="r" b="b"/>
                <a:pathLst>
                  <a:path w="401" h="188">
                    <a:moveTo>
                      <a:pt x="0" y="133"/>
                    </a:moveTo>
                    <a:cubicBezTo>
                      <a:pt x="9" y="88"/>
                      <a:pt x="19" y="42"/>
                      <a:pt x="37" y="24"/>
                    </a:cubicBezTo>
                    <a:cubicBezTo>
                      <a:pt x="55" y="6"/>
                      <a:pt x="91" y="0"/>
                      <a:pt x="110" y="24"/>
                    </a:cubicBezTo>
                    <a:cubicBezTo>
                      <a:pt x="128" y="48"/>
                      <a:pt x="128" y="152"/>
                      <a:pt x="146" y="170"/>
                    </a:cubicBezTo>
                    <a:cubicBezTo>
                      <a:pt x="164" y="188"/>
                      <a:pt x="195" y="146"/>
                      <a:pt x="219" y="133"/>
                    </a:cubicBezTo>
                    <a:cubicBezTo>
                      <a:pt x="243" y="121"/>
                      <a:pt x="267" y="97"/>
                      <a:pt x="292" y="97"/>
                    </a:cubicBezTo>
                    <a:cubicBezTo>
                      <a:pt x="316" y="97"/>
                      <a:pt x="346" y="127"/>
                      <a:pt x="364" y="133"/>
                    </a:cubicBezTo>
                    <a:cubicBezTo>
                      <a:pt x="383" y="139"/>
                      <a:pt x="392" y="136"/>
                      <a:pt x="401" y="133"/>
                    </a:cubicBezTo>
                  </a:path>
                </a:pathLst>
              </a:custGeom>
              <a:noFill/>
              <a:ln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2057400" y="2682720"/>
              <a:ext cx="75708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061720" y="23652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61720" y="2500200"/>
              <a:ext cx="63648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57400" y="2682720"/>
              <a:ext cx="757080" cy="59040"/>
            </a:xfrm>
            <a:custGeom>
              <a:avLst/>
              <a:gdLst/>
              <a:ahLst/>
              <a:rect l="l" t="t" r="r" b="b"/>
              <a:pathLst>
                <a:path w="5233" h="400">
                  <a:moveTo>
                    <a:pt x="33" y="166"/>
                  </a:moveTo>
                  <a:lnTo>
                    <a:pt x="4900" y="166"/>
                  </a:lnTo>
                  <a:cubicBezTo>
                    <a:pt x="4919" y="166"/>
                    <a:pt x="4933" y="181"/>
                    <a:pt x="4933" y="200"/>
                  </a:cubicBezTo>
                  <a:cubicBezTo>
                    <a:pt x="4933" y="218"/>
                    <a:pt x="4919" y="233"/>
                    <a:pt x="4900" y="233"/>
                  </a:cubicBezTo>
                  <a:lnTo>
                    <a:pt x="33" y="233"/>
                  </a:lnTo>
                  <a:cubicBezTo>
                    <a:pt x="15" y="233"/>
                    <a:pt x="0" y="218"/>
                    <a:pt x="0" y="200"/>
                  </a:cubicBezTo>
                  <a:cubicBezTo>
                    <a:pt x="0" y="181"/>
                    <a:pt x="15" y="166"/>
                    <a:pt x="33" y="166"/>
                  </a:cubicBezTo>
                  <a:close/>
                  <a:moveTo>
                    <a:pt x="4833" y="0"/>
                  </a:moveTo>
                  <a:lnTo>
                    <a:pt x="5233" y="200"/>
                  </a:lnTo>
                  <a:lnTo>
                    <a:pt x="4833" y="400"/>
                  </a:lnTo>
                  <a:lnTo>
                    <a:pt x="4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061720" y="2365200"/>
              <a:ext cx="0" cy="3463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61720" y="2500200"/>
              <a:ext cx="636480" cy="298440"/>
            </a:xfrm>
            <a:custGeom>
              <a:avLst/>
              <a:gdLst/>
              <a:ahLst/>
              <a:rect l="l" t="t" r="r" b="b"/>
              <a:pathLst>
                <a:path w="401" h="188">
                  <a:moveTo>
                    <a:pt x="0" y="133"/>
                  </a:moveTo>
                  <a:cubicBezTo>
                    <a:pt x="9" y="88"/>
                    <a:pt x="19" y="42"/>
                    <a:pt x="37" y="24"/>
                  </a:cubicBezTo>
                  <a:cubicBezTo>
                    <a:pt x="55" y="6"/>
                    <a:pt x="91" y="0"/>
                    <a:pt x="110" y="24"/>
                  </a:cubicBezTo>
                  <a:cubicBezTo>
                    <a:pt x="128" y="48"/>
                    <a:pt x="128" y="152"/>
                    <a:pt x="146" y="170"/>
                  </a:cubicBezTo>
                  <a:cubicBezTo>
                    <a:pt x="164" y="188"/>
                    <a:pt x="195" y="146"/>
                    <a:pt x="219" y="133"/>
                  </a:cubicBezTo>
                  <a:cubicBezTo>
                    <a:pt x="243" y="121"/>
                    <a:pt x="267" y="97"/>
                    <a:pt x="292" y="97"/>
                  </a:cubicBezTo>
                  <a:cubicBezTo>
                    <a:pt x="316" y="97"/>
                    <a:pt x="346" y="127"/>
                    <a:pt x="364" y="133"/>
                  </a:cubicBezTo>
                  <a:cubicBezTo>
                    <a:pt x="383" y="139"/>
                    <a:pt x="392" y="136"/>
                    <a:pt x="401" y="133"/>
                  </a:cubicBez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3888720" y="2124000"/>
            <a:ext cx="10296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82480" y="1371600"/>
            <a:ext cx="867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78120" y="1371600"/>
            <a:ext cx="892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038480" y="1828800"/>
            <a:ext cx="1526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571640" y="182880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6019200" y="2154240"/>
            <a:ext cx="1469880" cy="859680"/>
            <a:chOff x="6019200" y="2154240"/>
            <a:chExt cx="1469880" cy="859680"/>
          </a:xfrm>
        </p:grpSpPr>
        <p:sp>
          <p:nvSpPr>
            <p:cNvPr id="780" name=""/>
            <p:cNvSpPr/>
            <p:nvPr/>
          </p:nvSpPr>
          <p:spPr>
            <a:xfrm>
              <a:off x="6019200" y="270684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TX, RX 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324840" y="2154240"/>
              <a:ext cx="906480" cy="477720"/>
              <a:chOff x="6324840" y="2154240"/>
              <a:chExt cx="906480" cy="477720"/>
            </a:xfrm>
          </p:grpSpPr>
          <p:sp>
            <p:nvSpPr>
              <p:cNvPr id="782" name=""/>
              <p:cNvSpPr/>
              <p:nvPr/>
            </p:nvSpPr>
            <p:spPr>
              <a:xfrm>
                <a:off x="6324840" y="2631960"/>
                <a:ext cx="90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6324840" y="222228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328080" y="2154240"/>
                <a:ext cx="796680" cy="47592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0" y="300"/>
                    </a:moveTo>
                    <a:lnTo>
                      <a:pt x="6" y="288"/>
                    </a:lnTo>
                    <a:cubicBezTo>
                      <a:pt x="10" y="245"/>
                      <a:pt x="14" y="82"/>
                      <a:pt x="21" y="41"/>
                    </a:cubicBezTo>
                    <a:cubicBezTo>
                      <a:pt x="28" y="0"/>
                      <a:pt x="46" y="8"/>
                      <a:pt x="51" y="41"/>
                    </a:cubicBezTo>
                    <a:cubicBezTo>
                      <a:pt x="56" y="74"/>
                      <a:pt x="46" y="197"/>
                      <a:pt x="48" y="236"/>
                    </a:cubicBezTo>
                    <a:cubicBezTo>
                      <a:pt x="50" y="275"/>
                      <a:pt x="58" y="285"/>
                      <a:pt x="62" y="278"/>
                    </a:cubicBezTo>
                    <a:cubicBezTo>
                      <a:pt x="66" y="271"/>
                      <a:pt x="72" y="214"/>
                      <a:pt x="75" y="193"/>
                    </a:cubicBezTo>
                    <a:cubicBezTo>
                      <a:pt x="78" y="172"/>
                      <a:pt x="77" y="163"/>
                      <a:pt x="78" y="150"/>
                    </a:cubicBezTo>
                    <a:cubicBezTo>
                      <a:pt x="79" y="137"/>
                      <a:pt x="79" y="132"/>
                      <a:pt x="80" y="115"/>
                    </a:cubicBezTo>
                    <a:cubicBezTo>
                      <a:pt x="81" y="98"/>
                      <a:pt x="82" y="58"/>
                      <a:pt x="86" y="49"/>
                    </a:cubicBezTo>
                    <a:cubicBezTo>
                      <a:pt x="90" y="40"/>
                      <a:pt x="98" y="57"/>
                      <a:pt x="104" y="59"/>
                    </a:cubicBezTo>
                    <a:cubicBezTo>
                      <a:pt x="110" y="61"/>
                      <a:pt x="118" y="33"/>
                      <a:pt x="120" y="64"/>
                    </a:cubicBezTo>
                    <a:cubicBezTo>
                      <a:pt x="122" y="95"/>
                      <a:pt x="112" y="213"/>
                      <a:pt x="114" y="246"/>
                    </a:cubicBezTo>
                    <a:cubicBezTo>
                      <a:pt x="116" y="279"/>
                      <a:pt x="129" y="264"/>
                      <a:pt x="135" y="263"/>
                    </a:cubicBezTo>
                    <a:cubicBezTo>
                      <a:pt x="141" y="262"/>
                      <a:pt x="145" y="240"/>
                      <a:pt x="151" y="240"/>
                    </a:cubicBezTo>
                    <a:cubicBezTo>
                      <a:pt x="157" y="240"/>
                      <a:pt x="167" y="263"/>
                      <a:pt x="174" y="265"/>
                    </a:cubicBezTo>
                    <a:cubicBezTo>
                      <a:pt x="181" y="267"/>
                      <a:pt x="193" y="283"/>
                      <a:pt x="196" y="253"/>
                    </a:cubicBezTo>
                    <a:cubicBezTo>
                      <a:pt x="199" y="223"/>
                      <a:pt x="188" y="113"/>
                      <a:pt x="194" y="82"/>
                    </a:cubicBezTo>
                    <a:cubicBezTo>
                      <a:pt x="200" y="51"/>
                      <a:pt x="221" y="66"/>
                      <a:pt x="231" y="67"/>
                    </a:cubicBezTo>
                    <a:cubicBezTo>
                      <a:pt x="241" y="68"/>
                      <a:pt x="248" y="87"/>
                      <a:pt x="255" y="89"/>
                    </a:cubicBezTo>
                    <a:cubicBezTo>
                      <a:pt x="262" y="91"/>
                      <a:pt x="271" y="55"/>
                      <a:pt x="276" y="82"/>
                    </a:cubicBezTo>
                    <a:cubicBezTo>
                      <a:pt x="281" y="109"/>
                      <a:pt x="280" y="225"/>
                      <a:pt x="286" y="254"/>
                    </a:cubicBezTo>
                    <a:cubicBezTo>
                      <a:pt x="292" y="283"/>
                      <a:pt x="306" y="271"/>
                      <a:pt x="314" y="259"/>
                    </a:cubicBezTo>
                    <a:cubicBezTo>
                      <a:pt x="322" y="247"/>
                      <a:pt x="327" y="203"/>
                      <a:pt x="332" y="181"/>
                    </a:cubicBezTo>
                    <a:cubicBezTo>
                      <a:pt x="337" y="159"/>
                      <a:pt x="338" y="115"/>
                      <a:pt x="343" y="126"/>
                    </a:cubicBezTo>
                    <a:cubicBezTo>
                      <a:pt x="348" y="137"/>
                      <a:pt x="356" y="223"/>
                      <a:pt x="363" y="246"/>
                    </a:cubicBezTo>
                    <a:cubicBezTo>
                      <a:pt x="370" y="269"/>
                      <a:pt x="382" y="277"/>
                      <a:pt x="388" y="264"/>
                    </a:cubicBezTo>
                    <a:cubicBezTo>
                      <a:pt x="394" y="251"/>
                      <a:pt x="396" y="171"/>
                      <a:pt x="400" y="170"/>
                    </a:cubicBezTo>
                    <a:cubicBezTo>
                      <a:pt x="404" y="169"/>
                      <a:pt x="406" y="246"/>
                      <a:pt x="412" y="259"/>
                    </a:cubicBezTo>
                    <a:cubicBezTo>
                      <a:pt x="418" y="272"/>
                      <a:pt x="432" y="249"/>
                      <a:pt x="438" y="248"/>
                    </a:cubicBezTo>
                    <a:cubicBezTo>
                      <a:pt x="444" y="247"/>
                      <a:pt x="448" y="286"/>
                      <a:pt x="451" y="252"/>
                    </a:cubicBezTo>
                    <a:cubicBezTo>
                      <a:pt x="454" y="218"/>
                      <a:pt x="454" y="75"/>
                      <a:pt x="459" y="46"/>
                    </a:cubicBezTo>
                    <a:cubicBezTo>
                      <a:pt x="464" y="17"/>
                      <a:pt x="477" y="46"/>
                      <a:pt x="482" y="80"/>
                    </a:cubicBezTo>
                    <a:cubicBezTo>
                      <a:pt x="487" y="114"/>
                      <a:pt x="486" y="223"/>
                      <a:pt x="489" y="253"/>
                    </a:cubicBezTo>
                    <a:cubicBezTo>
                      <a:pt x="492" y="283"/>
                      <a:pt x="497" y="272"/>
                      <a:pt x="502" y="26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 flipV="1">
            <a:off x="2971800" y="2574720"/>
            <a:ext cx="760320" cy="14040"/>
          </a:xfrm>
          <a:prstGeom prst="line">
            <a:avLst/>
          </a:prstGeom>
          <a:ln w="57240">
            <a:solidFill>
              <a:srgbClr val="00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105520" y="2572920"/>
            <a:ext cx="914400" cy="17640"/>
          </a:xfrm>
          <a:prstGeom prst="line">
            <a:avLst/>
          </a:prstGeom>
          <a:ln w="57240">
            <a:solidFill>
              <a:srgbClr val="00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86EF-6D0E-479C-A00F-014F0CA66E75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rial Links present new analysis require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SerDes TX/RX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RX clock recovery behavi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dict link behavior over &gt;&gt; 10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its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dict link bit error rat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tect SerDes vendor I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rial Link analysis often combines analytical metho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ircuit analysis (network characterizatio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unications analysis (equalization, clock recovery modeling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ing standards are </a:t>
            </a:r>
            <a:r>
              <a:rPr b="0" i="1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essential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, there can be no interoperable models or analysis tools without the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DA1C-50C0-401D-8973-4800C47FF4F6}" type="slidenum">
              <a:t>6</a:t>
            </a:fld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SerDes Task Group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oal: SerDes Rx/TX model interoper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ultiple EDA platform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ultiple SerDes vendor mode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tect SerDes vendor I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BIS-ATM committee particip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DA: Agilent, Cadence, Mentor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miconductor: IBM, Intel, Micron, ST-Micro, TI, Xilinx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: Cisc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wo part modeling standar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haracterization model: existing IBIS syntax models TX / RX analog characteristic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gorithmic model: equalization, clock recovery, device optimization algorithm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C048-5C36-4DCD-A71A-67E1E17ACDB6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609480" y="1447920"/>
            <a:ext cx="298152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018040" y="1447920"/>
            <a:ext cx="389736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4360" y="30607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28321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84360" y="313704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84360" y="290844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98440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84360" y="321300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4360" y="3289320"/>
            <a:ext cx="380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Serial Link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362320" y="1981080"/>
            <a:ext cx="3892320" cy="1568520"/>
          </a:xfrm>
          <a:prstGeom prst="rect">
            <a:avLst/>
          </a:prstGeom>
          <a:solidFill>
            <a:srgbClr val="33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900920" y="2932200"/>
            <a:ext cx="174600" cy="658800"/>
          </a:xfrm>
          <a:custGeom>
            <a:avLst/>
            <a:gdLst/>
            <a:ahLst/>
            <a:rect l="l" t="t" r="r" b="b"/>
            <a:pathLst>
              <a:path w="187" h="434">
                <a:moveTo>
                  <a:pt x="187" y="0"/>
                </a:moveTo>
                <a:lnTo>
                  <a:pt x="103" y="0"/>
                </a:lnTo>
                <a:lnTo>
                  <a:pt x="103" y="434"/>
                </a:lnTo>
                <a:lnTo>
                  <a:pt x="0" y="4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30960" y="2744640"/>
            <a:ext cx="378000" cy="854280"/>
          </a:xfrm>
          <a:custGeom>
            <a:avLst/>
            <a:gdLst/>
            <a:ahLst/>
            <a:rect l="l" t="t" r="r" b="b"/>
            <a:pathLst>
              <a:path w="91" h="563">
                <a:moveTo>
                  <a:pt x="0" y="0"/>
                </a:moveTo>
                <a:lnTo>
                  <a:pt x="0" y="563"/>
                </a:lnTo>
                <a:lnTo>
                  <a:pt x="91" y="56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275580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68440" y="2460600"/>
            <a:ext cx="614520" cy="619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90720" y="2470320"/>
            <a:ext cx="77796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16200" y="2470320"/>
            <a:ext cx="136872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99360" y="3309840"/>
            <a:ext cx="584280" cy="403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75520" y="2562120"/>
            <a:ext cx="623880" cy="4809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 rot="5400000">
            <a:off x="468360" y="2635920"/>
            <a:ext cx="1436760" cy="376200"/>
          </a:xfrm>
          <a:custGeom>
            <a:avLst/>
            <a:gdLst>
              <a:gd name="textAreaLeft" fmla="*/ 315720 w 1436760"/>
              <a:gd name="textAreaRight" fmla="*/ 1121040 w 1436760"/>
              <a:gd name="textAreaTop" fmla="*/ 82800 h 376200"/>
              <a:gd name="textAreaBottom" fmla="*/ 2934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056200" y="2470320"/>
            <a:ext cx="779400" cy="6188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5480" y="2492280"/>
            <a:ext cx="615960" cy="5223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5848560" y="2595960"/>
            <a:ext cx="441360" cy="297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5400000">
            <a:off x="2322000" y="2625480"/>
            <a:ext cx="441360" cy="257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3024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47892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378160" y="4108320"/>
            <a:ext cx="3984480" cy="785520"/>
            <a:chOff x="2378160" y="4108320"/>
            <a:chExt cx="3984480" cy="785520"/>
          </a:xfrm>
        </p:grpSpPr>
        <p:sp>
          <p:nvSpPr>
            <p:cNvPr id="818" name=""/>
            <p:cNvSpPr/>
            <p:nvPr/>
          </p:nvSpPr>
          <p:spPr>
            <a:xfrm rot="16200000">
              <a:off x="4290120" y="2196360"/>
              <a:ext cx="160560" cy="3984480"/>
            </a:xfrm>
            <a:custGeom>
              <a:avLst/>
              <a:gdLst>
                <a:gd name="textAreaLeft" fmla="*/ 47160 w 160560"/>
                <a:gd name="textAreaRight" fmla="*/ 160920 w 160560"/>
                <a:gd name="textAreaTop" fmla="*/ 165960 h 3984480"/>
                <a:gd name="textAreaBottom" fmla="*/ 3818520 h 398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39640" y="4313160"/>
              <a:ext cx="225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Channel &amp; Analog I/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near, Time-Invari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359400" y="4114440"/>
            <a:ext cx="2327400" cy="759960"/>
            <a:chOff x="6359400" y="4114440"/>
            <a:chExt cx="2327400" cy="759960"/>
          </a:xfrm>
        </p:grpSpPr>
        <p:sp>
          <p:nvSpPr>
            <p:cNvPr id="821" name=""/>
            <p:cNvSpPr/>
            <p:nvPr/>
          </p:nvSpPr>
          <p:spPr>
            <a:xfrm rot="16200000">
              <a:off x="7445880" y="3027960"/>
              <a:ext cx="154440" cy="2327400"/>
            </a:xfrm>
            <a:custGeom>
              <a:avLst/>
              <a:gdLst>
                <a:gd name="textAreaLeft" fmla="*/ 45360 w 154440"/>
                <a:gd name="textAreaRight" fmla="*/ 154800 w 154440"/>
                <a:gd name="textAreaTop" fmla="*/ 96840 h 2327400"/>
                <a:gd name="textAreaBottom" fmla="*/ 2230560 h 23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03920" y="4293720"/>
              <a:ext cx="146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Arial"/>
                </a:rPr>
                <a:t>RX EQ, CD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TI or non-L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09480" y="4114440"/>
            <a:ext cx="1828800" cy="779400"/>
            <a:chOff x="609480" y="4114440"/>
            <a:chExt cx="1828800" cy="779400"/>
          </a:xfrm>
        </p:grpSpPr>
        <p:sp>
          <p:nvSpPr>
            <p:cNvPr id="824" name=""/>
            <p:cNvSpPr/>
            <p:nvPr/>
          </p:nvSpPr>
          <p:spPr>
            <a:xfrm rot="16200000">
              <a:off x="1454040" y="3345840"/>
              <a:ext cx="152280" cy="16891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70200 h 1689120"/>
                <a:gd name="textAreaBottom" fmla="*/ 1618920 h 16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480" y="431316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Arial"/>
                </a:rPr>
                <a:t>TX E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TI or non-L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219120" y="5105520"/>
            <a:ext cx="25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nel Characte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Impulse 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0560" y="5105520"/>
            <a:ext cx="175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X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X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8200" y="5105520"/>
            <a:ext cx="212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Clock Re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X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4504-212D-4A24-AE4A-09874615814B}" type="slidenum">
              <a:t>8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TM Algorithmic Mod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munication models provided as [binary] cod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st, efficient exec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tects vendor I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nsible modeling cap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models to be developed in multiple languag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ndardized execution interf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ule loading mechanism &amp; call signatur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ata input/output forma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ndardized model parameter interf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erved parameters” interpreted by EDA platfor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-specific parameters can be exposed to and set by end-us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8433-21FE-40FF-9539-F0DCAEC143D0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Bob Ross</cp:lastModifiedBy>
  <dcterms:modified xsi:type="dcterms:W3CDTF">2007-08-15T23:22:34Z</dcterms:modified>
  <cp:revision>283</cp:revision>
  <dc:subject/>
  <dc:title>Slide 1</dc:title>
</cp:coreProperties>
</file>