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2D22B-FF6B-4882-9D31-2D730352FE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11362-7AF8-4DD2-A9C4-7DC6F112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8496D-9617-45A2-AD9F-778DA492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557BD-A9CF-432E-9975-83A257916D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3D4C6-9ABF-4079-97E8-9EC1F82C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A68AF-F778-4FEF-A313-D1D82C74BE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3862E6-D759-480D-BC4D-50A01DC3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DDED1-AB36-42C6-A382-F68EFB1C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4924F9-ECB4-4966-ADC9-DFA9EF88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ED9C2-777C-42A4-ADD3-95AA9796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B8E7A-55B0-4C2C-A1F6-764E1FBB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5C07E-28C8-44F9-B406-3EF071475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D2D43-DAE3-4CB5-A5F5-D95431CD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32ED8-3197-4318-B6BB-7810AA77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1D086-5E73-4025-958A-3DEAFF5A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19DC3-F3C8-4931-8CF6-91B5316E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159EB-4D75-4210-B5B9-945B4A59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C41CE-B0B6-4273-A330-6D0472490D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3E067-AFC4-418B-B9E4-137B5850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7BF9-C331-444C-9D41-9EA554F9DE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DB06D-2036-4891-8C84-39E27ADED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7715-649D-48B1-9F80-196F024C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4F0A-00A8-436B-861C-C0092DA6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563E-AAC6-406B-B95C-9B4B6628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B93B-593C-43C5-85D1-3C7A33854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E1FC-A33A-4805-996A-0FEBCF31B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6B3A-7A0C-49ED-BDE1-7C004867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9D9A-674B-4614-8ADF-D49A627B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4359-F936-48FD-A4A3-E68CA883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F24C-961F-4C59-8DB7-56F68181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A15D-F7B0-423D-9ED9-FC2D6E14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0F419-34D1-4EAC-95CE-27F63BAF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0072-DD31-4AFE-8B3A-55EFB7BA48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B2A3C-E1DE-4E7F-BF61-199BCBBD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A1A29F-3047-4F92-908C-A32D0EC50F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51ABBA-5851-4F41-9229-40A38B09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299286-AB8E-4B83-9251-839EDBFE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61098F-E116-46D3-B717-CD758E75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46A5F3-966D-4558-88A8-E82579960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08EB47-D151-4775-8596-4B2338796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975098-CC92-41CB-872B-369260B1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D0CF1-D14F-4B84-8D4E-4FE899ED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33E253-FEC7-4AC2-8D3B-CE9E0F2B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254A6F-3C06-4A03-847E-D76686EE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71C335-8074-48B3-B554-DA751038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5FE829-B359-4BDE-A07A-FEBAF921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09E79F-4E5C-499A-A8BB-B87A3B709A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AE23A-ED0E-44F0-8730-7C812CEF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3680" y="6509880"/>
            <a:ext cx="410832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5440" y="6511680"/>
            <a:ext cx="38736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025E-4C6A-463A-BC6C-5DA7C1B24D90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28720" y="1263600"/>
            <a:ext cx="574200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-1117080" y="2012760"/>
            <a:ext cx="4061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9d9d9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d9d9d9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</a:rPr>
              <a:t>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53240" y="612720"/>
            <a:ext cx="13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4240" y="2903040"/>
            <a:ext cx="5959440" cy="8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74400" y="4333680"/>
            <a:ext cx="3505320" cy="41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57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3"/>
          </p:nvPr>
        </p:nvSpPr>
        <p:spPr>
          <a:xfrm>
            <a:off x="463680" y="6509880"/>
            <a:ext cx="410832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4"/>
          </p:nvPr>
        </p:nvSpPr>
        <p:spPr>
          <a:xfrm>
            <a:off x="55440" y="6511680"/>
            <a:ext cx="38736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C59C-7D3C-4647-B4C7-084965A03A9C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indent="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29520">
              <a:spcBef>
                <a:spcPts val="2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59400"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3" marL="88920">
              <a:spcBef>
                <a:spcPts val="2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4" marL="118800">
              <a:spcBef>
                <a:spcPts val="2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5" marL="1188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6" marL="1188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5"/>
          </p:nvPr>
        </p:nvSpPr>
        <p:spPr>
          <a:xfrm>
            <a:off x="463680" y="6509880"/>
            <a:ext cx="410832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6"/>
          </p:nvPr>
        </p:nvSpPr>
        <p:spPr>
          <a:xfrm>
            <a:off x="55440" y="6511680"/>
            <a:ext cx="38736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D3FD-68FB-426B-A8AD-CB7232056E41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28720" y="1263600"/>
            <a:ext cx="574200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-1117080" y="2012760"/>
            <a:ext cx="4061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9d9d9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d9d9d9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</a:rPr>
              <a:t>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54240" y="2903040"/>
            <a:ext cx="5959440" cy="8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274400" y="4333680"/>
            <a:ext cx="3505320" cy="41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57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7"/>
          </p:nvPr>
        </p:nvSpPr>
        <p:spPr>
          <a:xfrm>
            <a:off x="463680" y="6509880"/>
            <a:ext cx="410832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8"/>
          </p:nvPr>
        </p:nvSpPr>
        <p:spPr>
          <a:xfrm>
            <a:off x="55440" y="6511680"/>
            <a:ext cx="38736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21E7-A724-4A93-A5B3-B8FD027E3E5F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indent="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29520">
              <a:spcBef>
                <a:spcPts val="2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59400"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3" marL="88920">
              <a:spcBef>
                <a:spcPts val="2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4" marL="118800">
              <a:spcBef>
                <a:spcPts val="2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5" marL="1188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6" marL="1188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shah@cadence.com" TargetMode="External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728720" y="1263600"/>
            <a:ext cx="657720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BIS AMI Model Developers Toolbox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711440" y="2521080"/>
            <a:ext cx="522288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mant Shah (shah@cadence.c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ian IBIS Summit - Beijing, 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ember 11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’s in 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34880" y="1218960"/>
            <a:ext cx="5127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Model R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able on L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params f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er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able on L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er config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er model temp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1320" y="1143000"/>
            <a:ext cx="3124080" cy="4419720"/>
          </a:xfrm>
          <a:prstGeom prst="rect">
            <a:avLst/>
          </a:prstGeom>
          <a:solidFill>
            <a:srgbClr val="4a95b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sample model and tester program to understand the details of the IBIS AMI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 your own algorithmic models using starter model templ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tester program to test th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Rx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34520" y="1218960"/>
            <a:ext cx="756612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Time Filter (CTF) RX mo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 of feed forward 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d backward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s the waveform given 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of coeffici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ed for 6.25Gbps data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onfigurable forward and backward t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ers needed by th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forward taps, Number of backward taps,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provided in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mpi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gcc -c ibis_ctf_rx.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gcc -shared -o ibis_ctf_rx.dll ibis_ctf_rx.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791320" y="1295280"/>
            <a:ext cx="3047400" cy="1676160"/>
            <a:chOff x="5791320" y="1295280"/>
            <a:chExt cx="3047400" cy="1676160"/>
          </a:xfrm>
        </p:grpSpPr>
        <p:sp>
          <p:nvSpPr>
            <p:cNvPr id="330" name=""/>
            <p:cNvSpPr/>
            <p:nvPr/>
          </p:nvSpPr>
          <p:spPr>
            <a:xfrm>
              <a:off x="6346080" y="2892960"/>
              <a:ext cx="83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346080" y="2077560"/>
              <a:ext cx="83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46080" y="2273040"/>
              <a:ext cx="83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346080" y="2466720"/>
              <a:ext cx="83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91320" y="1495800"/>
              <a:ext cx="304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097400" y="1295280"/>
              <a:ext cx="435240" cy="317880"/>
            </a:xfrm>
            <a:prstGeom prst="ellipse">
              <a:avLst/>
            </a:prstGeom>
            <a:solidFill>
              <a:srgbClr val="4a95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346080" y="1495800"/>
              <a:ext cx="0" cy="13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83960" y="2000520"/>
              <a:ext cx="484560" cy="155160"/>
            </a:xfrm>
            <a:prstGeom prst="rect">
              <a:avLst/>
            </a:prstGeom>
            <a:solidFill>
              <a:srgbClr val="4a95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483960" y="2194200"/>
              <a:ext cx="484560" cy="155520"/>
            </a:xfrm>
            <a:prstGeom prst="rect">
              <a:avLst/>
            </a:prstGeom>
            <a:solidFill>
              <a:srgbClr val="4a95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483960" y="2390040"/>
              <a:ext cx="484560" cy="155520"/>
            </a:xfrm>
            <a:prstGeom prst="rect">
              <a:avLst/>
            </a:prstGeom>
            <a:solidFill>
              <a:srgbClr val="4a95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608880" y="2531160"/>
              <a:ext cx="22356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7177320" y="1613160"/>
              <a:ext cx="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83960" y="2815920"/>
              <a:ext cx="484560" cy="155520"/>
            </a:xfrm>
            <a:prstGeom prst="rect">
              <a:avLst/>
            </a:prstGeom>
            <a:solidFill>
              <a:srgbClr val="4a95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83600" y="2892960"/>
              <a:ext cx="83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83600" y="2077560"/>
              <a:ext cx="83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383600" y="2273040"/>
              <a:ext cx="83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383600" y="2466720"/>
              <a:ext cx="83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214840" y="1495800"/>
              <a:ext cx="0" cy="13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521840" y="2000520"/>
              <a:ext cx="485640" cy="155160"/>
            </a:xfrm>
            <a:prstGeom prst="rect">
              <a:avLst/>
            </a:prstGeom>
            <a:solidFill>
              <a:srgbClr val="4a95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521840" y="2194200"/>
              <a:ext cx="485640" cy="155520"/>
            </a:xfrm>
            <a:prstGeom prst="rect">
              <a:avLst/>
            </a:prstGeom>
            <a:solidFill>
              <a:srgbClr val="4a95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521840" y="2390040"/>
              <a:ext cx="485640" cy="155520"/>
            </a:xfrm>
            <a:prstGeom prst="rect">
              <a:avLst/>
            </a:prstGeom>
            <a:solidFill>
              <a:srgbClr val="4a95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48560" y="2531160"/>
              <a:ext cx="22356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7383600" y="1613160"/>
              <a:ext cx="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21840" y="2815920"/>
              <a:ext cx="485640" cy="155520"/>
            </a:xfrm>
            <a:prstGeom prst="rect">
              <a:avLst/>
            </a:prstGeom>
            <a:solidFill>
              <a:srgbClr val="4a95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6477120" y="2895480"/>
            <a:ext cx="1218960" cy="0"/>
          </a:xfrm>
          <a:prstGeom prst="line">
            <a:avLst/>
          </a:prstGeom>
          <a:ln w="76320">
            <a:solidFill>
              <a:srgbClr val="cc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010280" y="3505320"/>
            <a:ext cx="1219320" cy="0"/>
          </a:xfrm>
          <a:prstGeom prst="line">
            <a:avLst/>
          </a:prstGeom>
          <a:ln w="76320">
            <a:solidFill>
              <a:srgbClr val="cccc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NS AMI Tester Pro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34880" y="1066320"/>
            <a:ext cx="8196480" cy="50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 Stream: “(0111100001111)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ly, users can specify the number of bits and let tester generate random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uls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LL to interface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specific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_out: *voltage-time pairs in txt file*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 form data modified by th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_in: *voltage-time pairs in txt file*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waveform passed to th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ulseResponse: IR data if it is modified by the model (i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648320" y="2590920"/>
            <a:ext cx="2361960" cy="1218960"/>
          </a:xfrm>
          <a:prstGeom prst="rect">
            <a:avLst/>
          </a:prstGeom>
          <a:solidFill>
            <a:srgbClr val="4a95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DNS_AMI_Te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696080" y="2743200"/>
            <a:ext cx="762120" cy="990720"/>
          </a:xfrm>
          <a:prstGeom prst="rect">
            <a:avLst/>
          </a:prstGeom>
          <a:solidFill>
            <a:srgbClr val="4a95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NS AMI Tester Pro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196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NS_TESTER [-h] ctf_rx_mo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0640" y="3276720"/>
            <a:ext cx="106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 Strea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(10111000)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715000" y="2362320"/>
            <a:ext cx="32767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I File contai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easurement Dela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gnore data for spec 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odel specific para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er config file conta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Information generally se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end users through th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A plat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Data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Number of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file n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put files n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89000" y="32004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6668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2497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137160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066680" y="4267080"/>
            <a:ext cx="609840" cy="609840"/>
          </a:xfrm>
          <a:prstGeom prst="flowChartMagneticDisk">
            <a:avLst/>
          </a:prstGeom>
          <a:solidFill>
            <a:srgbClr val="4a95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76920" y="2590920"/>
            <a:ext cx="761760" cy="1218960"/>
          </a:xfrm>
          <a:prstGeom prst="rect">
            <a:avLst/>
          </a:prstGeom>
          <a:solidFill>
            <a:srgbClr val="4a95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657600" y="31431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10240" y="2743200"/>
            <a:ext cx="8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ve_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657600" y="368604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741120" y="3403440"/>
            <a:ext cx="98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ve_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676520" y="27432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371680" y="4114800"/>
            <a:ext cx="506520" cy="762120"/>
          </a:xfrm>
          <a:prstGeom prst="flowChartMagneticDisk">
            <a:avLst/>
          </a:prstGeom>
          <a:solidFill>
            <a:srgbClr val="4a95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a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954160" y="4114800"/>
            <a:ext cx="506520" cy="762120"/>
          </a:xfrm>
          <a:prstGeom prst="flowChartMagneticDisk">
            <a:avLst/>
          </a:prstGeom>
          <a:solidFill>
            <a:srgbClr val="4a95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a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06080" y="4876920"/>
            <a:ext cx="159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txt files wi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tage-time pai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676520" y="4800600"/>
            <a:ext cx="533160" cy="685800"/>
          </a:xfrm>
          <a:prstGeom prst="flowChartMagneticDisk">
            <a:avLst/>
          </a:prstGeom>
          <a:solidFill>
            <a:srgbClr val="4a95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291680" y="5460840"/>
            <a:ext cx="151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R out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modified by i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6576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53080" y="3124080"/>
            <a:ext cx="7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152280" y="2514600"/>
            <a:ext cx="914400" cy="51444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3733920" y="2951280"/>
            <a:ext cx="990360" cy="1728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3809880" y="3728880"/>
            <a:ext cx="914400" cy="38592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06668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33520" y="3809880"/>
            <a:ext cx="761760" cy="533520"/>
          </a:xfrm>
          <a:custGeom>
            <a:avLst/>
            <a:gdLst/>
            <a:ahLst/>
            <a:rect l="l" t="t" r="r" b="b"/>
            <a:pathLst>
              <a:path w="480" h="336">
                <a:moveTo>
                  <a:pt x="0" y="336"/>
                </a:moveTo>
                <a:lnTo>
                  <a:pt x="0" y="0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28600" y="4267080"/>
            <a:ext cx="609480" cy="838440"/>
          </a:xfrm>
          <a:prstGeom prst="flowChartMagneticDisk">
            <a:avLst/>
          </a:prstGeom>
          <a:solidFill>
            <a:srgbClr val="4a95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ester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f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295280" y="2590920"/>
            <a:ext cx="2362320" cy="1371600"/>
          </a:xfrm>
          <a:prstGeom prst="rect">
            <a:avLst/>
          </a:prstGeom>
          <a:solidFill>
            <a:srgbClr val="4a95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DNS_AMI_Te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0666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3962520" y="2381400"/>
            <a:ext cx="60948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o get the k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ence AMI Developers toolbox will be available through IBIS web site 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mean time, you can send request for the toolbox to: </a:t>
            </a:r>
            <a:r>
              <a:rPr b="0" lang="en-US" sz="2400" spc="-1" strike="noStrike" u="sng">
                <a:solidFill>
                  <a:srgbClr val="9cbf20"/>
                </a:solidFill>
                <a:uFillTx/>
                <a:latin typeface="Arial"/>
                <a:hlinkClick r:id="rId1"/>
              </a:rPr>
              <a:t>shah@cadence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resentations on Algorithmic Modeling starting from June 2006 can be found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vhdl.org/pub/ibis/macromodel_wip/archive-date.htm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s on the AMI work can also be found in ATM subcommittee updates provided at DAC 2007 and DesignCon 2007 IBIS Sum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s can be accessed from this page: http://www.vhdl.org/pub/ibis/summits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ach the IBIS-ATM group on this topic, you can send email to: ibis-ami-toolkit@freelist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emant Shah</dc:creator>
  <dc:description/>
  <cp:keywords>AMI API</cp:keywords>
  <dc:language>en-US</dc:language>
  <cp:lastModifiedBy>Hemant Shah</cp:lastModifiedBy>
  <dcterms:modified xsi:type="dcterms:W3CDTF">2007-08-17T22:37:36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_AdHocReviewCycleID">
    <vt:r8>-85255234</vt:r8>
  </property>
  <property fmtid="{D5CDD505-2E9C-101B-9397-08002B2CF9AE}" pid="4" name="_AuthorEmail">
    <vt:lpwstr>shah@cadence.com</vt:lpwstr>
  </property>
  <property fmtid="{D5CDD505-2E9C-101B-9397-08002B2CF9AE}" pid="5" name="_AuthorEmailDisplayName">
    <vt:lpwstr>Hemant Shah</vt:lpwstr>
  </property>
  <property fmtid="{D5CDD505-2E9C-101B-9397-08002B2CF9AE}" pid="6" name="_EmailSubject">
    <vt:lpwstr>CDNS_IBIS_AMI_toolbox_v2.ppt</vt:lpwstr>
  </property>
  <property fmtid="{D5CDD505-2E9C-101B-9397-08002B2CF9AE}" pid="7" name="_NewReviewCycle">
    <vt:lpwstr/>
  </property>
</Properties>
</file>