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341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17"/>
          </p:nvPr>
        </p:nvSpPr>
        <p:spPr>
          <a:xfrm>
            <a:off x="3970440" y="0"/>
            <a:ext cx="3038400" cy="341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ftr" idx="18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sldNum" idx="19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0DAAA-B632-4DBE-85F1-1BAD67765B47}" type="slidenum">
              <a:rPr b="0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Img"/>
          </p:nvPr>
        </p:nvSpPr>
        <p:spPr>
          <a:xfrm>
            <a:off x="708120" y="340920"/>
            <a:ext cx="5594400" cy="419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708120" y="341280"/>
            <a:ext cx="5594400" cy="41958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理解并使用互联模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708120" y="341280"/>
            <a:ext cx="5594400" cy="41958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在这个拓扑里类似连接器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lack bo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器件是那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ci expres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封装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转换来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708120" y="341280"/>
            <a:ext cx="5594400" cy="4195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黑色的是拓扑中没有考虑封装模型时接收到的信号波形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粉色的是经过封装后的波形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708120" y="341280"/>
            <a:ext cx="5594400" cy="41958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这里是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CI expres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封装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转换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ackagemode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类型，这样可以和相应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BI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一起赋给芯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708120" y="341280"/>
            <a:ext cx="5594400" cy="4195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这里展示的是分配相关环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708120" y="341280"/>
            <a:ext cx="5594400" cy="41958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蓝色的波形是经过封装前的信号，粉色波形是经过封装后的信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708120" y="341280"/>
            <a:ext cx="5594400" cy="41958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这里展示的是一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-paramet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类型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，这里将其转换成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lack bo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类型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ackagemode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类型；在后面我们将看到转换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nec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类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708120" y="341280"/>
            <a:ext cx="5594400" cy="41958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 swat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大大减小了对称连接器模型的数据量，更利于仿真器快速处理模型，厂家也大大方便了模型创建，同一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wath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可以描述不同尺寸同类的连接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708120" y="341280"/>
            <a:ext cx="5594400" cy="41958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 swath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转换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nec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类型，然后直接分配给接插件，完全类似于给芯片分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BI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。注意这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nec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类型是完全针对接插件的一个新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708120" y="341280"/>
            <a:ext cx="5594400" cy="41958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给供应商找到了一个开放的没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问题的新途径来产生接插件的模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708120" y="341280"/>
            <a:ext cx="5594400" cy="4195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这里包含三个主题，一是介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BI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互联模型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的结构、格式等；二是介绍什么情况下使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，以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所支持的数据结构；最后做个简单总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708120" y="341280"/>
            <a:ext cx="5594400" cy="4195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这里介绍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BIS Interconnect Modeling Specificatio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的缩写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目标是提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H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以上信号完整性仿真要求的高精度、不涉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、不泄露厂家机密的互联器件新模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日发布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最终草稿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.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正式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发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708120" y="341280"/>
            <a:ext cx="5594400" cy="4195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我们能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做什么？或者说什么能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来表述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不仅可以用于描述连接器，也可以描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封装，甚至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C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上的互联线，只要是无源的信号互联结构，这种连接结构需要保密，就可以使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的格式来产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支持的数据结构包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pic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格式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LG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矩阵，为了减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文件的大小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有几种方式描述这种矩阵，比如说稀疏矩阵，对角矩阵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也支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-paramet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数据文件，即整体结构参数由一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-paramet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文件描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 swath mode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的一大特点，由于一般的互联结构具有对称特性，所以其电气特性也具有对称性，这样我们就可以用局部的电气参数推导出全局特性，从而大大减小了矩阵的维数和模型文件的大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708120" y="341280"/>
            <a:ext cx="5594400" cy="4195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cti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的基本机构单元，它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按照信号传输的方向进行分段参数刻画， 有利于保证每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ctio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都是比较规则、简单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每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ctio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是由单线或多线电气耦合特性数据构成， 即给定几何尺寸范围内所有信号导体之间的耦合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通常情况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ctio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是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LG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耦合数据矩阵构成，但也可以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-paramete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构成，但此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只能有一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708120" y="341280"/>
            <a:ext cx="5594400" cy="4195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使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的几种情况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根据前后仿真的不同，仿真工具需要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进行相应处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前仿真撘建拓扑时，需要以器件的形式展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，仿真器将其封装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lack bo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类型形式，从而可以任意组建拓扑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后仿真时对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封装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，仿真器将其直接翻译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ackagemode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类型形式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对于连接器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，仿真器将其翻译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nec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类型形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708120" y="341280"/>
            <a:ext cx="5594400" cy="41958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这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adenc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工具提供的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处理方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调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adence MI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后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I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会对其进行语法结构检查，正确后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I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可以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进行三种类型转换，一类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lack bo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类型，一类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ackagemode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类型，最后一类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nec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类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例子是一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CI expres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芯片封装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708120" y="341280"/>
            <a:ext cx="5594400" cy="4195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1280" y="45910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这里是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CI expres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的封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C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模型转换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lack bo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类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CFA00-935A-4B7D-B668-6C6D9EE447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AAD7D-DC8B-4A0A-A493-0D7B9E30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08F72E-4D1E-4A47-8B51-C61133B9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9DC66E-D7E8-4DAB-936A-445BE244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52EC0F-8AEA-4CDE-9E5B-DB21BE44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A184A-E304-44AC-A29E-C99B9A02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EBCB17-DFAE-4E93-B883-4A4996D4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C63D3B-49A9-49E9-B85A-826F06A7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727C2-7C0C-40BB-A52B-2B04DB35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66E07A-6521-4AAA-A68C-630E858A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45F474-E91D-4F8A-BBB2-1047F5DDCC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6109-F1B3-4F62-B5D4-49354D37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98CA-8333-44DC-88FF-F0DB399BC5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FF673-E900-4199-8926-DE88394738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17603-E9A2-4737-8F7B-37FDD255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AC1F3-5371-427F-840D-36B18AF9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304A0-B0F6-47C2-804F-2C1DBED1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3DFA1-199D-46DE-8B95-9535AC1F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D5F50-8E60-4F40-BC41-7BA1ED35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A39F7-13B5-46AC-B4F0-BA2C51D8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C965F-BB4E-4E2B-B1C1-21932BA8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F69F5-CD9C-4C30-BCF7-86976F96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2D60F-1FF5-4BEF-9A7E-7EA97B3B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90E71-12BC-418F-8738-560BA870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116F0-A9B0-42CE-9D70-5ECE8B43D5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281CF-AF61-4966-A9D1-92C4A72590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EE55C2-2097-4672-8A73-B1ADFF44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7F5DA2-7A9E-413E-A504-4A9DEE0D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B134A-917F-486E-8BBF-6E491CDD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689F39-50CD-4218-BFEC-6CACEF5F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5D65CD-2B51-463E-B6D2-F1FD180E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6A81FD-FD1C-44C7-B01E-77BE350F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1DFDB7-690C-4067-B296-6FD7BC59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32DDA-2AF3-4AAB-867B-EBD062D4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E58B8-53C8-421A-B1E3-2795EF98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D187AD-AAC5-4C6D-B040-8A72C208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526F5-2B84-4564-B903-A028932B8F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F970C9-8B8C-4401-8FFD-3475F91BD3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A714BD-4950-4659-894F-84DF70B2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DF367E-81F8-4FCC-88B5-ECFF03A4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41DD5F-0515-4767-807C-98613733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92EF88-6489-42E6-AFE5-903B91BE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922C16-15D4-4AE3-A774-31FA62C1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645FCF-0800-4DB3-930A-53C9495D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93900F-15C9-435A-8006-DC5274FC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0600FA-3CE4-457C-AD4D-E6FE74FB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5B31A5-4E4A-4802-BB6A-72EF71F8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8512F5-543E-4033-9568-6A034DF4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904B2E-A780-4237-AB4E-9F4EDBAD36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6C5E2-6895-408D-8E9D-96D69F1C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64D9B-FA87-4C00-B215-1CF278DF45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B061F-7DC6-409A-BC3E-299AC553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410EB-B164-4F36-970F-D00A5C67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99872-E0C0-44E0-9CAB-B9B1F025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CC47F-3328-46D9-A879-18448737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ABC0-3DEE-4A77-B73D-46CD6970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A06E7-E1FA-4321-BD67-95B8DCEA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C8E35-A75D-47BC-9305-1F52537E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985F2-568C-4F49-80B1-B2F53E7E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833F0-051D-4E26-A20E-2A3679A0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4199E-AD60-498A-AA34-71D1CB51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2EF30-E610-4143-9638-181E526D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34FBC-9F42-4EAE-88F9-D30CB9B80D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BDF3-B186-43CD-BCA9-B6BBDC8E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F04C-2193-4B53-ACEB-CC210BC822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B8F09-2EDA-4DD3-904D-22CC3615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2B89-2EF2-4BBC-B640-BF4F7A6E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D11B-C0E7-48CE-8648-E1F23841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53CF-4D4B-4004-B731-DB17D394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AF71-5BED-4D69-BCC6-F86C6B13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1A88-3B33-466D-A34B-BA26CF94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8DA3-0294-4B27-98E5-D0E020ED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9527-802A-4C03-9625-D0B416CB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2472-38E3-4C0C-A4AE-72566C61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6F5E-5F77-4834-829A-73D2698A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3E37-684D-4718-B986-95A95DD4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C10D-124D-4970-89F0-F4E36B54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033C-95F0-457E-B3D2-3533E85FB5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E2A93-E341-4B0E-BE5A-B552EB1D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FAA3B-36B4-44F3-A9B2-F6C4563B2C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98C08-7FE7-436A-9C5E-A2CE7370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24B0B-1E64-4BB8-B18B-90767B85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FAE25-F9A6-4262-B7DB-C98E7BBA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9320D-1682-481D-833A-F121B184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64B63-6AFD-4A5D-90A8-6397C4D2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CE47C-D76C-4737-8CFF-A0529613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782DF-6128-4C2D-ACB8-2C8FE462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67F27-4E3A-405F-9175-8C900D08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6D74A-648F-4733-A420-45925D62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47978-E988-4780-A0F7-AFA79F4A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8A702-F092-4825-8A10-9756B304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E9519-8AA2-45C0-B6D8-15FF3C9CC8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528BD-5FFC-43E2-A641-2E7A0D50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9A67B2-68F6-451A-8187-E55434DEC8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079177-F52A-4923-9F2C-5F5C1E99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C74C8-6ACD-4EFE-A421-E8B95DBF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0D3A-29CD-41B2-8BD8-3240B1E352C9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57420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5400000">
            <a:off x="-1117080" y="2012760"/>
            <a:ext cx="406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I</a:t>
            </a:r>
            <a:r>
              <a:rPr b="0" lang="en-US" sz="22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1"/>
          </p:nvPr>
        </p:nvSpPr>
        <p:spPr>
          <a:xfrm>
            <a:off x="372600" y="6509880"/>
            <a:ext cx="273708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2"/>
          </p:nvPr>
        </p:nvSpPr>
        <p:spPr>
          <a:xfrm>
            <a:off x="55440" y="6511680"/>
            <a:ext cx="30168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992D-0370-4F79-9B2A-E738EBAD39A9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3"/>
          </p:nvPr>
        </p:nvSpPr>
        <p:spPr>
          <a:xfrm>
            <a:off x="372600" y="6509880"/>
            <a:ext cx="273708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14"/>
          </p:nvPr>
        </p:nvSpPr>
        <p:spPr>
          <a:xfrm>
            <a:off x="55440" y="6511680"/>
            <a:ext cx="30168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6939-2BA5-4524-A8A7-393D30D5417B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15"/>
          </p:nvPr>
        </p:nvSpPr>
        <p:spPr>
          <a:xfrm>
            <a:off x="372600" y="6509880"/>
            <a:ext cx="273708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sldNum" idx="16"/>
          </p:nvPr>
        </p:nvSpPr>
        <p:spPr>
          <a:xfrm>
            <a:off x="55440" y="6511680"/>
            <a:ext cx="30168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CEE9-DD83-4AE3-8A6D-477B9849D4B0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57420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-1117080" y="2012760"/>
            <a:ext cx="406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I</a:t>
            </a:r>
            <a:r>
              <a:rPr b="0" lang="en-US" sz="22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53240" y="612720"/>
            <a:ext cx="13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3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4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0911-F7F4-401E-9CF7-362E53024368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5"/>
          </p:nvPr>
        </p:nvSpPr>
        <p:spPr>
          <a:xfrm>
            <a:off x="372960" y="6510240"/>
            <a:ext cx="555624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6"/>
          </p:nvPr>
        </p:nvSpPr>
        <p:spPr>
          <a:xfrm>
            <a:off x="55440" y="6511680"/>
            <a:ext cx="30168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A595-6680-48D6-B834-712CB15C13CE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57420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-1117080" y="2012760"/>
            <a:ext cx="406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I</a:t>
            </a:r>
            <a:r>
              <a:rPr b="0" lang="en-US" sz="22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7"/>
          </p:nvPr>
        </p:nvSpPr>
        <p:spPr>
          <a:xfrm>
            <a:off x="372600" y="6509880"/>
            <a:ext cx="273708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8"/>
          </p:nvPr>
        </p:nvSpPr>
        <p:spPr>
          <a:xfrm>
            <a:off x="55440" y="6511680"/>
            <a:ext cx="30168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9EC6-4431-4770-B8A4-88D2E5D8BACB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9"/>
          </p:nvPr>
        </p:nvSpPr>
        <p:spPr>
          <a:xfrm>
            <a:off x="372600" y="6509880"/>
            <a:ext cx="273708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0"/>
          </p:nvPr>
        </p:nvSpPr>
        <p:spPr>
          <a:xfrm>
            <a:off x="55440" y="6511680"/>
            <a:ext cx="30168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2CD8-466E-42A8-B6E8-F85CF93647F1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74560" y="948960"/>
            <a:ext cx="62053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Understanding and 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Using ICM Model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25520" y="5373360"/>
            <a:ext cx="323208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ian IBIS Summ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ijing Chi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ptember 11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2306520"/>
            <a:ext cx="46245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Meng, Yubao (yubao@cadence.co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Cadence Shanghai SPB R&amp;D Cent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se 1: ICM acts as device model (Black box mod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603360" y="3287880"/>
            <a:ext cx="7785000" cy="286668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76280" y="1841400"/>
            <a:ext cx="79725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package ICM model has been wrapped into one black box model, just like one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41DA-E7E8-473D-9996-96B18816F1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34520" y="329760"/>
            <a:ext cx="70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se 1: Simulation Results comparing (with/o ICM mod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784560" y="2300400"/>
            <a:ext cx="210492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pink line represents the simulation with IC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black line represents the simulation without IC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433440" y="1608120"/>
            <a:ext cx="6648480" cy="444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DB7D-ECA3-41C9-A46D-15F73EEA75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ckage model case (associating with its corresponding IBIS mod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550800" y="1638360"/>
            <a:ext cx="7547040" cy="44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371B-C32E-467E-86A9-0FA310F47C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se 2: ICM acts as packag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787320" y="1650960"/>
            <a:ext cx="7434360" cy="480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A2AE-4A20-4A4B-8D74-86D714D27B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se 2: Simulation Results comparing (with/o ICM mod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407880" y="1432080"/>
            <a:ext cx="8213760" cy="48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2F9E-03D8-4B22-8E96-640D4755DE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-parameter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568440" y="1401840"/>
            <a:ext cx="7754760" cy="48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EAE8-F232-4219-9EE9-92176E169E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CM Swath model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531720" y="1555920"/>
            <a:ext cx="6647040" cy="4572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889520" y="1332000"/>
            <a:ext cx="394344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wath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a method of using a small matrix section to define a much larger and variable size section of a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facilitates faster simulation, smaller file size, and makes the creation of a family of connectors much ea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C82C-2379-42F5-9296-091F87304C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se 3: Connector model as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-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407880" y="1424160"/>
            <a:ext cx="8290080" cy="484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B090-ED7B-414E-8006-6367850D3B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ummar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77804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CM models offer open, non-proprietary way for vendors to provide interconnect models to their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CM models can be accurate for simulation at higher freq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53D8-C602-46A3-9176-71E8E96D08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538200" y="1146240"/>
            <a:ext cx="5959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a95b0"/>
                </a:solidFill>
                <a:latin typeface="Arial"/>
                <a:ea typeface="宋体"/>
              </a:rPr>
              <a:t>Thanks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BIS ICM Model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at’s IBIS ICM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at can we do with ICM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CM model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CM model usage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lack box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ckag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necto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-paramet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CM swath mode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3ACA-B662-4EFD-9B02-8D48809914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BIS ICM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34880" y="1331640"/>
            <a:ext cx="8196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BIS </a:t>
            </a:r>
            <a:r>
              <a:rPr b="1" lang="en-US" sz="2400" spc="-1" strike="noStrike">
                <a:solidFill>
                  <a:srgbClr val="ed171f"/>
                </a:solidFill>
                <a:latin typeface="Arial"/>
                <a:ea typeface="宋体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ter</a:t>
            </a:r>
            <a:r>
              <a:rPr b="1" lang="en-US" sz="2400" spc="-1" strike="noStrike">
                <a:solidFill>
                  <a:srgbClr val="ed171f"/>
                </a:solidFill>
                <a:latin typeface="Arial"/>
                <a:ea typeface="宋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nect </a:t>
            </a:r>
            <a:r>
              <a:rPr b="1" lang="en-US" sz="2400" spc="-1" strike="noStrike">
                <a:solidFill>
                  <a:srgbClr val="ed171f"/>
                </a:solidFill>
                <a:latin typeface="Arial"/>
                <a:ea typeface="宋体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deling Spec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CM stands for InterConnect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goal of the I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vide a better, *more accurate*, non-proprietary interconnect data exchang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aster &amp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cu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maller fi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CM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al Draft 1.0 released publicly May 16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e IBIS web site under “Connector Inf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ersion 1.1 “ICM” specification approved in July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5147-56FC-4CE3-97B2-D435619DE2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can we do with ICM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93480" y="1852560"/>
            <a:ext cx="819612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CM supports models for Connectors, PCB traces and IC-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CM can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LGC Mat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w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-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36680" y="2830680"/>
            <a:ext cx="81961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AB9C-7C64-4B12-B56D-E060100E22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ection of I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ach section is made up of a Single Line Model (SLM) or Multiple Line Model (ML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matrix section is a set of tables of numerical values that represent the electrical relationships between all conductors of a given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-parameter can be used in place of RLGC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1440000" y="3664080"/>
            <a:ext cx="5667120" cy="167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FC1C-DF58-4B5A-9B21-8B88DD1AA7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ection: ICM core unit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454360" y="3565440"/>
            <a:ext cx="328284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ctions are basic units and core structure of one IC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509760" y="1486080"/>
            <a:ext cx="376236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E06F-D609-4DB9-A9A5-8AA931684B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CM model usage scen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20560" y="1494000"/>
            <a:ext cx="819648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CM models can be used during pre-layout and post-layou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ree cases are pres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se1: In pre-layout simulation, ICM model is used as a Black box model in a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se2: In post-layout simulation, ICM package model is assigned to a component IBIS model on the P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se3: Connecto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1BBE-3EB8-4232-9618-F1DD59FC6E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ample: ICM model of PCI express pack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593040" y="4403880"/>
            <a:ext cx="255096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330120" y="1395360"/>
            <a:ext cx="5781600" cy="413856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2"/>
          <a:srcRect l="42517" t="21112" r="15783" b="14902"/>
          <a:stretch/>
        </p:blipFill>
        <p:spPr>
          <a:xfrm>
            <a:off x="5499000" y="2247840"/>
            <a:ext cx="3370320" cy="388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C46A-9586-4E75-B77C-546151292D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vice model case (Black box mod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819000" y="1495440"/>
            <a:ext cx="6958080" cy="498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04A4-52E7-4FF2-9C83-9D827AD648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4:25:49Z</dcterms:created>
  <dc:creator>Cadence Design Systems, Inc</dc:creator>
  <dc:description/>
  <dc:language>en-US</dc:language>
  <cp:lastModifiedBy>Cadence Design Systems, Inc</cp:lastModifiedBy>
  <cp:lastPrinted>2006-09-27T23:49:20Z</cp:lastPrinted>
  <dcterms:modified xsi:type="dcterms:W3CDTF">2007-09-10T07:58:47Z</dcterms:modified>
  <cp:revision>223</cp:revision>
  <dc:subject/>
  <dc:title>Cadence Careers Pro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