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3C65-5E2F-488E-BE9A-B31CC4998ED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an, Drewniak, et.al., “DC Power-Bus Modeling and Design with a Mixed-Potential Integral-Equation Formulation and Circuit Extraction.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EEE Transactions on Electromagnetic Compati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, November 2001, pp4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is problem is a simulation of a multilayer board with two ports and simulated both with and without decoupling capac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an, Drewniak, et.al., “DC Power-Bus Modeling and Design with a Mixed-Potential Integral-Equation Formulation and Circuit Extraction.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EEE Transactions on Electromagnetic Compati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, November 2001, pp4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is problem is a simulation of a multilayer board with two ports and simulated both with and without decoupling capac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an, Drewniak, et.al., “DC Power-Bus Modeling and Design with a Mixed-Potential Integral-Equation Formulation and Circuit Extraction.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EEE Transactions on Electromagnetic Compati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, November 2001, pp4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is problem is a simulation of a multilayer board with two ports and simulated both with and without decoupling capac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an, Drewniak, et.al., “DC Power-Bus Modeling and Design with a Mixed-Potential Integral-Equation Formulation and Circuit Extraction.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EEE Transactions on Electromagnetic Compati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, November 2001, pp4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is problem is a simulation of a multilayer board with two ports and simulated both with and without decoupling capac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an, Drewniak, et.al., “DC Power-Bus Modeling and Design with a Mixed-Potential Integral-Equation Formulation and Circuit Extraction.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EEE Transactions on Electromagnetic Compati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, November 2001, pp4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is problem is a simulation of a multilayer board with two ports and simulated both with and without decoupling capac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an, Drewniak, et.al., “DC Power-Bus Modeling and Design with a Mixed-Potential Integral-Equation Formulation and Circuit Extraction.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EEE Transactions on Electromagnetic Compati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, November 2001, pp4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is problem is a simulation of a multilayer board with two ports and simulated both with and without decoupling capac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8486640" y="6200640"/>
            <a:ext cx="657360" cy="657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6334200"/>
            <a:ext cx="838188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5812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Asian IBIS Summit</a:t>
            </a:r>
            <a:br>
              <a:rPr sz="2400"/>
            </a:b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Beijing China</a:t>
            </a:r>
            <a:br>
              <a:rPr sz="2400"/>
            </a:br>
            <a:r>
              <a:rPr b="0" lang="en-US" sz="1800" spc="-1" strike="noStrike">
                <a:solidFill>
                  <a:srgbClr val="290678"/>
                </a:solidFill>
                <a:latin typeface="Arial"/>
                <a:ea typeface="SimSun"/>
              </a:rPr>
              <a:t>September 11,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520" y="480060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0678"/>
                </a:solidFill>
                <a:latin typeface="Arial"/>
                <a:ea typeface="SimSun"/>
              </a:rPr>
              <a:t>Baolong 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0678"/>
                </a:solidFill>
                <a:latin typeface="Arial"/>
                <a:ea typeface="SimSun"/>
              </a:rPr>
              <a:t>Baolong.li@ansoft.com.c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0678"/>
                </a:solidFill>
                <a:latin typeface="Arial"/>
                <a:ea typeface="SimSun"/>
              </a:rPr>
              <a:t>Ansoft Beijing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762120"/>
            <a:ext cx="601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S-Parameters for High Performance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0678"/>
                </a:solidFill>
                <a:latin typeface="Arial"/>
                <a:ea typeface="SimSun"/>
              </a:rPr>
              <a:t>Cross gap analysis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1295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5 Helvetica Roman"/>
                <a:ea typeface="SimSun"/>
              </a:rPr>
              <a:t>Signal Trace Transmission / Reflection</a:t>
            </a:r>
            <a:r>
              <a:rPr b="0" lang="en-US" sz="2400" spc="-1" strike="noStrike">
                <a:solidFill>
                  <a:srgbClr val="000000"/>
                </a:solidFill>
                <a:latin typeface="55 Helvetica Roman"/>
                <a:ea typeface="SimSun"/>
              </a:rPr>
              <a:t>(S21</a:t>
            </a:r>
            <a:r>
              <a:rPr b="1" lang="en-US" sz="2800" spc="-1" strike="noStrike">
                <a:solidFill>
                  <a:srgbClr val="000000"/>
                </a:solidFill>
                <a:latin typeface="55 Helvetica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5 Helvetica Roman"/>
                <a:ea typeface="SimSun"/>
              </a:rPr>
              <a:t>/S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42240" y="4417920"/>
            <a:ext cx="26388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55 Helvetica Roman"/>
                <a:ea typeface="SimSun"/>
              </a:rPr>
              <a:t>At Initi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0678"/>
                </a:solidFill>
                <a:latin typeface="Arial"/>
                <a:ea typeface="SimSun"/>
              </a:rPr>
              <a:t>Cross gap analysis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1917720"/>
            <a:ext cx="6324480" cy="4290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84480" y="4711680"/>
            <a:ext cx="421164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55 Helvetica Roman"/>
                <a:ea typeface="SimSun"/>
              </a:rPr>
              <a:t>After 26 Capacitors Ad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295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5 Helvetica Roman"/>
                <a:ea typeface="SimSun"/>
              </a:rPr>
              <a:t>Signal Trace Transmission / Reflection</a:t>
            </a:r>
            <a:r>
              <a:rPr b="0" lang="en-US" sz="2400" spc="-1" strike="noStrike">
                <a:solidFill>
                  <a:srgbClr val="000000"/>
                </a:solidFill>
                <a:latin typeface="55 Helvetica Roman"/>
                <a:ea typeface="SimSun"/>
              </a:rPr>
              <a:t>(S21</a:t>
            </a:r>
            <a:r>
              <a:rPr b="1" lang="en-US" sz="2800" spc="-1" strike="noStrike">
                <a:solidFill>
                  <a:srgbClr val="000000"/>
                </a:solidFill>
                <a:latin typeface="55 Helvetica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5 Helvetica Roman"/>
                <a:ea typeface="SimSun"/>
              </a:rPr>
              <a:t>/S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Isolation of split plane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4424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686800" cy="4840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9144000" cy="5079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152280" y="1905120"/>
            <a:ext cx="88394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63480" y="31572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Isolation analysis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1600200"/>
            <a:ext cx="7714080" cy="4419720"/>
            <a:chOff x="685800" y="1600200"/>
            <a:chExt cx="7714080" cy="4419720"/>
          </a:xfrm>
        </p:grpSpPr>
        <p:sp>
          <p:nvSpPr>
            <p:cNvPr id="220" name=""/>
            <p:cNvSpPr/>
            <p:nvPr/>
          </p:nvSpPr>
          <p:spPr>
            <a:xfrm>
              <a:off x="685800" y="1600200"/>
              <a:ext cx="7315200" cy="2895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3240" y="411480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2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7785360" y="288288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434340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" y="43434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29600" y="3429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29600" y="1828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43400" y="3276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90720" y="205740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43760" y="335268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480" y="23623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971800" y="4800600"/>
              <a:ext cx="2819520" cy="1219320"/>
              <a:chOff x="2971800" y="4800600"/>
              <a:chExt cx="2819520" cy="1219320"/>
            </a:xfrm>
          </p:grpSpPr>
          <p:sp>
            <p:nvSpPr>
              <p:cNvPr id="232" name=""/>
              <p:cNvSpPr/>
              <p:nvPr/>
            </p:nvSpPr>
            <p:spPr>
              <a:xfrm>
                <a:off x="2971800" y="5943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71800" y="5562720"/>
                <a:ext cx="281952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71800" y="518148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71800" y="4800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971800" y="563796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971800" y="4876920"/>
                <a:ext cx="2819520" cy="3045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2971800" y="525708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Result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4246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63480" y="31572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Isolation analysis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5800" y="1600200"/>
            <a:ext cx="7714080" cy="4419720"/>
            <a:chOff x="685800" y="1600200"/>
            <a:chExt cx="7714080" cy="4419720"/>
          </a:xfrm>
        </p:grpSpPr>
        <p:sp>
          <p:nvSpPr>
            <p:cNvPr id="243" name=""/>
            <p:cNvSpPr/>
            <p:nvPr/>
          </p:nvSpPr>
          <p:spPr>
            <a:xfrm>
              <a:off x="685800" y="1600200"/>
              <a:ext cx="7315200" cy="2895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3240" y="411480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2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7785360" y="288288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6920" y="434340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" y="43434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29600" y="3429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29600" y="1828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43400" y="3276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0720" y="205740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43760" y="335268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480" y="23623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971800" y="4800600"/>
              <a:ext cx="2819520" cy="1219320"/>
              <a:chOff x="2971800" y="4800600"/>
              <a:chExt cx="2819520" cy="1219320"/>
            </a:xfrm>
          </p:grpSpPr>
          <p:sp>
            <p:nvSpPr>
              <p:cNvPr id="255" name=""/>
              <p:cNvSpPr/>
              <p:nvPr/>
            </p:nvSpPr>
            <p:spPr>
              <a:xfrm>
                <a:off x="2971800" y="5943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71800" y="5562720"/>
                <a:ext cx="281952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71800" y="518148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71800" y="4800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971800" y="563796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971800" y="4876920"/>
                <a:ext cx="2819520" cy="3045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525708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1066680" y="1523880"/>
            <a:ext cx="1524240" cy="3965040"/>
            <a:chOff x="1066680" y="1523880"/>
            <a:chExt cx="1524240" cy="3965040"/>
          </a:xfrm>
        </p:grpSpPr>
        <p:sp>
          <p:nvSpPr>
            <p:cNvPr id="263" name=""/>
            <p:cNvSpPr/>
            <p:nvPr/>
          </p:nvSpPr>
          <p:spPr>
            <a:xfrm>
              <a:off x="2209680" y="1523880"/>
              <a:ext cx="152640" cy="304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66680" y="50292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pa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Result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90678"/>
              </a:solidFill>
              <a:latin typeface="Arial"/>
              <a:ea typeface="SimSu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2106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63480" y="31572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Isolation analysis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1600200"/>
            <a:ext cx="7714080" cy="4419720"/>
            <a:chOff x="685800" y="1600200"/>
            <a:chExt cx="7714080" cy="4419720"/>
          </a:xfrm>
        </p:grpSpPr>
        <p:sp>
          <p:nvSpPr>
            <p:cNvPr id="270" name=""/>
            <p:cNvSpPr/>
            <p:nvPr/>
          </p:nvSpPr>
          <p:spPr>
            <a:xfrm>
              <a:off x="685800" y="1600200"/>
              <a:ext cx="7315200" cy="2895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63240" y="411480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2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7785360" y="288288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6920" y="434340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43434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29600" y="3429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29600" y="1828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3276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90720" y="205740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760" y="335268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2480" y="23623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971800" y="4800600"/>
              <a:ext cx="2819520" cy="1219320"/>
              <a:chOff x="2971800" y="4800600"/>
              <a:chExt cx="2819520" cy="1219320"/>
            </a:xfrm>
          </p:grpSpPr>
          <p:sp>
            <p:nvSpPr>
              <p:cNvPr id="282" name=""/>
              <p:cNvSpPr/>
              <p:nvPr/>
            </p:nvSpPr>
            <p:spPr>
              <a:xfrm>
                <a:off x="2971800" y="5943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971800" y="5562720"/>
                <a:ext cx="281952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71800" y="518148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71800" y="4800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971800" y="563796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2971800" y="4876920"/>
                <a:ext cx="2819520" cy="3045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971800" y="525708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1142640" y="1600200"/>
            <a:ext cx="1604160" cy="4121280"/>
            <a:chOff x="1142640" y="1600200"/>
            <a:chExt cx="1604160" cy="4121280"/>
          </a:xfrm>
        </p:grpSpPr>
        <p:sp>
          <p:nvSpPr>
            <p:cNvPr id="290" name=""/>
            <p:cNvSpPr/>
            <p:nvPr/>
          </p:nvSpPr>
          <p:spPr>
            <a:xfrm>
              <a:off x="1676160" y="1600200"/>
              <a:ext cx="152640" cy="12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6160" y="3124080"/>
              <a:ext cx="152640" cy="137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42640" y="4896000"/>
              <a:ext cx="1604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n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onn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Result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290678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9067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63480" y="31572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Isolation analysis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600200"/>
            <a:ext cx="7315200" cy="289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3240" y="411480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SimSun"/>
              </a:rPr>
              <a:t>1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7785360" y="28828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SimSu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3434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343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29600" y="3429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2960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43760" y="335268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Sun"/>
              </a:rPr>
              <a:t>por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62480" y="2057400"/>
            <a:ext cx="887760" cy="703800"/>
            <a:chOff x="762480" y="2057400"/>
            <a:chExt cx="887760" cy="703800"/>
          </a:xfrm>
        </p:grpSpPr>
        <p:sp>
          <p:nvSpPr>
            <p:cNvPr id="308" name=""/>
            <p:cNvSpPr/>
            <p:nvPr/>
          </p:nvSpPr>
          <p:spPr>
            <a:xfrm>
              <a:off x="990720" y="205740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2480" y="23623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971800" y="4800600"/>
            <a:ext cx="2819520" cy="1219320"/>
            <a:chOff x="2971800" y="4800600"/>
            <a:chExt cx="2819520" cy="1219320"/>
          </a:xfrm>
        </p:grpSpPr>
        <p:sp>
          <p:nvSpPr>
            <p:cNvPr id="311" name=""/>
            <p:cNvSpPr/>
            <p:nvPr/>
          </p:nvSpPr>
          <p:spPr>
            <a:xfrm>
              <a:off x="2971800" y="5943600"/>
              <a:ext cx="281952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71800" y="5562720"/>
              <a:ext cx="2819520" cy="75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71800" y="5181480"/>
              <a:ext cx="281952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71800" y="4800600"/>
              <a:ext cx="2819520" cy="76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971800" y="5637960"/>
              <a:ext cx="2819520" cy="304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971800" y="4876920"/>
              <a:ext cx="2819520" cy="3045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71800" y="5257080"/>
              <a:ext cx="2819520" cy="3049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85800" y="5105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hang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05480" y="4724280"/>
            <a:ext cx="4773960" cy="1694520"/>
            <a:chOff x="1905480" y="4724280"/>
            <a:chExt cx="4773960" cy="1694520"/>
          </a:xfrm>
        </p:grpSpPr>
        <p:grpSp>
          <p:nvGrpSpPr>
            <p:cNvPr id="320" name=""/>
            <p:cNvGrpSpPr/>
            <p:nvPr/>
          </p:nvGrpSpPr>
          <p:grpSpPr>
            <a:xfrm>
              <a:off x="1905480" y="4724280"/>
              <a:ext cx="1371240" cy="398880"/>
              <a:chOff x="1905480" y="4724280"/>
              <a:chExt cx="1371240" cy="398880"/>
            </a:xfrm>
          </p:grpSpPr>
          <p:sp>
            <p:nvSpPr>
              <p:cNvPr id="321" name=""/>
              <p:cNvSpPr/>
              <p:nvPr/>
            </p:nvSpPr>
            <p:spPr>
              <a:xfrm>
                <a:off x="3200400" y="47242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05480" y="4724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  <a:ea typeface="SimSun"/>
                  </a:rPr>
                  <a:t>por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800600" y="6019920"/>
              <a:ext cx="1878840" cy="398880"/>
              <a:chOff x="4800600" y="6019920"/>
              <a:chExt cx="1878840" cy="398880"/>
            </a:xfrm>
          </p:grpSpPr>
          <p:sp>
            <p:nvSpPr>
              <p:cNvPr id="324" name=""/>
              <p:cNvSpPr/>
              <p:nvPr/>
            </p:nvSpPr>
            <p:spPr>
              <a:xfrm>
                <a:off x="5791680" y="601992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  <a:ea typeface="SimSun"/>
                  </a:rPr>
                  <a:t>por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600" y="601992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What’s S-Parameter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S-parameter-- Scattering parameter 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600520" cy="26542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5718240" y="4648320"/>
            <a:ext cx="1977840" cy="1447560"/>
            <a:chOff x="5718240" y="4648320"/>
            <a:chExt cx="1977840" cy="1447560"/>
          </a:xfrm>
        </p:grpSpPr>
        <p:sp>
          <p:nvSpPr>
            <p:cNvPr id="93" name=""/>
            <p:cNvSpPr/>
            <p:nvPr/>
          </p:nvSpPr>
          <p:spPr>
            <a:xfrm>
              <a:off x="5718240" y="4773600"/>
              <a:ext cx="17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21280" y="4884840"/>
              <a:ext cx="2016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21520" y="4835520"/>
              <a:ext cx="16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=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43720" y="4648320"/>
              <a:ext cx="146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83400" y="4772160"/>
              <a:ext cx="1112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21400" y="4924440"/>
              <a:ext cx="146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3920" y="5048280"/>
              <a:ext cx="1112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2320" y="49752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74000" y="4940280"/>
              <a:ext cx="145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11880" y="5065560"/>
              <a:ext cx="111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65960" y="4989600"/>
              <a:ext cx="163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=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47040" y="4986360"/>
              <a:ext cx="1461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51360" y="5630760"/>
              <a:ext cx="17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51520" y="57405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05680" y="5686560"/>
              <a:ext cx="16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=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50200" y="5442120"/>
              <a:ext cx="145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89880" y="5634000"/>
              <a:ext cx="1108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27880" y="5786280"/>
              <a:ext cx="145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0400" y="5910120"/>
              <a:ext cx="111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10240" y="5837400"/>
              <a:ext cx="3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967440" y="5581800"/>
              <a:ext cx="0" cy="46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77240" y="5769000"/>
              <a:ext cx="145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15120" y="5894280"/>
              <a:ext cx="111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9200" y="5818320"/>
              <a:ext cx="163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=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50280" y="5816520"/>
              <a:ext cx="145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961320" y="4765320"/>
              <a:ext cx="0" cy="4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066680" y="4648320"/>
            <a:ext cx="4067280" cy="1373040"/>
            <a:chOff x="1066680" y="4648320"/>
            <a:chExt cx="4067280" cy="1373040"/>
          </a:xfrm>
        </p:grpSpPr>
        <p:sp>
          <p:nvSpPr>
            <p:cNvPr id="120" name=""/>
            <p:cNvSpPr/>
            <p:nvPr/>
          </p:nvSpPr>
          <p:spPr>
            <a:xfrm>
              <a:off x="3127320" y="4773600"/>
              <a:ext cx="171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0720" y="4884840"/>
              <a:ext cx="2016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92520" y="4809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=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81600" y="4648320"/>
              <a:ext cx="145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1280" y="4773600"/>
              <a:ext cx="1126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0720" y="4924440"/>
              <a:ext cx="1461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1800" y="5049720"/>
              <a:ext cx="111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40200" y="497664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11520" y="4941720"/>
              <a:ext cx="146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9760" y="5065560"/>
              <a:ext cx="11124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3840" y="4989600"/>
              <a:ext cx="1634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=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84920" y="4987800"/>
              <a:ext cx="145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0800" y="5556240"/>
              <a:ext cx="1713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62400" y="5667480"/>
              <a:ext cx="2016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26000" y="5591160"/>
              <a:ext cx="164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=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9520" y="5367240"/>
              <a:ext cx="145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27400" y="5559480"/>
              <a:ext cx="111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7200" y="5711760"/>
              <a:ext cx="1461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9720" y="5835600"/>
              <a:ext cx="111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48120" y="576252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405320" y="5506560"/>
              <a:ext cx="0" cy="4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16560" y="5692680"/>
              <a:ext cx="145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54440" y="5819760"/>
              <a:ext cx="111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8520" y="5743440"/>
              <a:ext cx="16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=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87800" y="5740560"/>
              <a:ext cx="1461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ITCCentury Book"/>
                  <a:ea typeface="SimSu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00640" y="4766760"/>
              <a:ext cx="0" cy="4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66680" y="5486400"/>
              <a:ext cx="1905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sertion  L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95280" y="4800600"/>
              <a:ext cx="160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eturn L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Result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90678"/>
              </a:solidFill>
              <a:latin typeface="Arial"/>
              <a:ea typeface="SimSu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106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63480" y="31572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Isolation analysis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85800" y="1600200"/>
            <a:ext cx="7714080" cy="4419720"/>
            <a:chOff x="685800" y="1600200"/>
            <a:chExt cx="7714080" cy="4419720"/>
          </a:xfrm>
        </p:grpSpPr>
        <p:sp>
          <p:nvSpPr>
            <p:cNvPr id="331" name=""/>
            <p:cNvSpPr/>
            <p:nvPr/>
          </p:nvSpPr>
          <p:spPr>
            <a:xfrm>
              <a:off x="685800" y="1600200"/>
              <a:ext cx="7315200" cy="2895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63240" y="411480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2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7785360" y="288288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76920" y="434340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800" y="43434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29600" y="3429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9600" y="1828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43400" y="3276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90720" y="205740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3760" y="335268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2480" y="23623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971800" y="4800600"/>
              <a:ext cx="2819520" cy="1219320"/>
              <a:chOff x="2971800" y="4800600"/>
              <a:chExt cx="2819520" cy="1219320"/>
            </a:xfrm>
          </p:grpSpPr>
          <p:sp>
            <p:nvSpPr>
              <p:cNvPr id="343" name=""/>
              <p:cNvSpPr/>
              <p:nvPr/>
            </p:nvSpPr>
            <p:spPr>
              <a:xfrm>
                <a:off x="2971800" y="5943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71800" y="5562720"/>
                <a:ext cx="281952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71800" y="518148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71800" y="4800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2971800" y="563796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2971800" y="4876920"/>
                <a:ext cx="2819520" cy="3045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71800" y="525708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304920" y="1600200"/>
            <a:ext cx="7315200" cy="4360680"/>
            <a:chOff x="304920" y="1600200"/>
            <a:chExt cx="7315200" cy="4360680"/>
          </a:xfrm>
        </p:grpSpPr>
        <p:grpSp>
          <p:nvGrpSpPr>
            <p:cNvPr id="351" name=""/>
            <p:cNvGrpSpPr/>
            <p:nvPr/>
          </p:nvGrpSpPr>
          <p:grpSpPr>
            <a:xfrm>
              <a:off x="1676520" y="1600200"/>
              <a:ext cx="5943600" cy="4360680"/>
              <a:chOff x="1676520" y="1600200"/>
              <a:chExt cx="5943600" cy="4360680"/>
            </a:xfrm>
          </p:grpSpPr>
          <p:pic>
            <p:nvPicPr>
              <p:cNvPr id="3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00200"/>
                <a:ext cx="5943600" cy="436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2133720" y="4190760"/>
                <a:ext cx="457200" cy="38124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19720" y="3429000"/>
                <a:ext cx="457200" cy="38088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09680" y="464796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  <a:ea typeface="PMingLiU"/>
                  </a:rPr>
                  <a:t>port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81480" y="342900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99"/>
                    </a:solidFill>
                    <a:latin typeface="Arial"/>
                    <a:ea typeface="PMingLiU"/>
                  </a:rPr>
                  <a:t>port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304920" y="48769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dd Capaci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Result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-66600" y="1371600"/>
            <a:ext cx="92106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63480" y="31572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Isolation analysis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85800" y="1600200"/>
            <a:ext cx="7714080" cy="4419720"/>
            <a:chOff x="685800" y="1600200"/>
            <a:chExt cx="7714080" cy="4419720"/>
          </a:xfrm>
        </p:grpSpPr>
        <p:sp>
          <p:nvSpPr>
            <p:cNvPr id="362" name=""/>
            <p:cNvSpPr/>
            <p:nvPr/>
          </p:nvSpPr>
          <p:spPr>
            <a:xfrm>
              <a:off x="685800" y="1600200"/>
              <a:ext cx="7315200" cy="28954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3240" y="411480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2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7785360" y="288288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76920" y="434340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5800" y="43434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29600" y="3429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29600" y="1828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3400" y="32767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0720" y="2057400"/>
              <a:ext cx="759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3760" y="335268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2480" y="236232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Sun"/>
                </a:rPr>
                <a:t>por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2971800" y="4800600"/>
              <a:ext cx="2819520" cy="1219320"/>
              <a:chOff x="2971800" y="4800600"/>
              <a:chExt cx="2819520" cy="1219320"/>
            </a:xfrm>
          </p:grpSpPr>
          <p:sp>
            <p:nvSpPr>
              <p:cNvPr id="374" name=""/>
              <p:cNvSpPr/>
              <p:nvPr/>
            </p:nvSpPr>
            <p:spPr>
              <a:xfrm>
                <a:off x="2971800" y="5943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71800" y="5562720"/>
                <a:ext cx="281952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71800" y="518148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71800" y="4800600"/>
                <a:ext cx="281952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971800" y="563796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971800" y="4876920"/>
                <a:ext cx="2819520" cy="3045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971800" y="5257080"/>
                <a:ext cx="2819520" cy="30492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2209680" y="1523880"/>
            <a:ext cx="152640" cy="304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762120" y="2286000"/>
            <a:ext cx="2057400" cy="3492360"/>
            <a:chOff x="762120" y="2286000"/>
            <a:chExt cx="2057400" cy="3492360"/>
          </a:xfrm>
        </p:grpSpPr>
        <p:sp>
          <p:nvSpPr>
            <p:cNvPr id="383" name=""/>
            <p:cNvSpPr/>
            <p:nvPr/>
          </p:nvSpPr>
          <p:spPr>
            <a:xfrm>
              <a:off x="762120" y="49528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dd Xgap Capaci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981080" y="2286000"/>
              <a:ext cx="609840" cy="838080"/>
              <a:chOff x="1981080" y="2286000"/>
              <a:chExt cx="609840" cy="83808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1981080" y="2286000"/>
                <a:ext cx="609840" cy="304920"/>
                <a:chOff x="1981080" y="2286000"/>
                <a:chExt cx="609840" cy="304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133720" y="228600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38280" y="228600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1981080" y="243828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2438280" y="243828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981080" y="2819520"/>
                <a:ext cx="609840" cy="304560"/>
                <a:chOff x="1981080" y="2819520"/>
                <a:chExt cx="609840" cy="3045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133720" y="2819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38280" y="2819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1981080" y="297144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2438280" y="2971440"/>
                  <a:ext cx="152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Result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90678"/>
              </a:solidFill>
              <a:latin typeface="Arial"/>
              <a:ea typeface="SimSu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534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0678"/>
                </a:solidFill>
                <a:latin typeface="Arial"/>
                <a:ea typeface="SimSun"/>
              </a:rPr>
              <a:t>SSO analysis using N-port S-Parameter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90678"/>
              </a:solidFill>
              <a:latin typeface="Arial"/>
              <a:ea typeface="SimSu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071960" cy="43434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53341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0678"/>
                </a:solidFill>
                <a:latin typeface="Arial"/>
                <a:ea typeface="SimSun"/>
              </a:rPr>
              <a:t>Problem in using S-Parameter for Transient analysis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Non-convergence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Most Timing domain simulator using IFFT to solve the S-parameter (because it’s Frequency domain)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Mostly happen in multi-port S-parameter(&gt;10) or long delay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S-parameter Convolution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0678"/>
                </a:solidFill>
                <a:latin typeface="Arial"/>
                <a:ea typeface="SimSun"/>
              </a:rPr>
              <a:t>Do not Consider causality/passivity problems</a:t>
            </a:r>
            <a:endParaRPr b="0" lang="en-US" sz="2000" spc="-1" strike="noStrike">
              <a:solidFill>
                <a:srgbClr val="29067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Non-Causal or Non-Passive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0678"/>
                </a:solidFill>
                <a:latin typeface="Arial"/>
                <a:ea typeface="SimSun"/>
              </a:rPr>
              <a:t>State-space with rational functions or Enforce Passivity option</a:t>
            </a: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State Space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Pole-residue fit to frequency-domain data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Only stable poles used: causal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Very efficient transient simulation 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0678"/>
                </a:solidFill>
                <a:latin typeface="Arial"/>
                <a:ea typeface="SimSun"/>
              </a:rPr>
              <a:t>Simple first-order differential equation</a:t>
            </a:r>
            <a:endParaRPr b="0" lang="en-US" sz="20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Passivity not guaranteed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0678"/>
                </a:solidFill>
                <a:latin typeface="Arial"/>
                <a:ea typeface="SimSun"/>
              </a:rPr>
              <a:t>But can be enforced for moderate-sized problems</a:t>
            </a:r>
            <a:endParaRPr b="0" lang="en-US" sz="20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SimSun"/>
              </a:rPr>
              <a:t>Ensuring accuracy across simulation domains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0678"/>
                </a:solidFill>
                <a:latin typeface="Arial"/>
                <a:ea typeface="SimSun"/>
              </a:rPr>
              <a:t>      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SimSun"/>
              </a:rPr>
              <a:t>Transient analysis results using State Space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267440" cy="32814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4948920" y="1650960"/>
            <a:ext cx="39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SimSun"/>
              </a:rPr>
              <a:t>18 IBIS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SimSun"/>
              </a:rPr>
              <a:t>57 Port S-paramete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SimSun"/>
              </a:rPr>
              <a:t>Transient simulation time: 366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4316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SimSun"/>
              </a:rPr>
              <a:t>Reuse of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SimSun"/>
              </a:rPr>
              <a:t>state-space model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82520" y="1600200"/>
            <a:ext cx="3189240" cy="368280"/>
          </a:xfrm>
          <a:prstGeom prst="rect">
            <a:avLst/>
          </a:prstGeom>
          <a:noFill/>
          <a:ln w="9360">
            <a:solidFill>
              <a:srgbClr val="220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un simulation for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SimSu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2209680"/>
            <a:ext cx="2210040" cy="368280"/>
          </a:xfrm>
          <a:prstGeom prst="rect">
            <a:avLst/>
          </a:prstGeom>
          <a:noFill/>
          <a:ln w="9360">
            <a:solidFill>
              <a:srgbClr val="220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tate-space f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3733920"/>
            <a:ext cx="3200400" cy="642600"/>
          </a:xfrm>
          <a:prstGeom prst="rect">
            <a:avLst/>
          </a:prstGeom>
          <a:noFill/>
          <a:ln w="9360">
            <a:solidFill>
              <a:srgbClr val="220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Used in subsequent runs with unchanging S-parame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48320" y="3352680"/>
            <a:ext cx="4343400" cy="2667240"/>
          </a:xfrm>
          <a:prstGeom prst="irregularSeal2">
            <a:avLst/>
          </a:prstGeom>
          <a:solidFill>
            <a:srgbClr val="ffff99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ave simulation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No need to r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state spa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48006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44720" y="2819520"/>
            <a:ext cx="3222360" cy="642600"/>
          </a:xfrm>
          <a:prstGeom prst="rect">
            <a:avLst/>
          </a:prstGeom>
          <a:noFill/>
          <a:ln w="9360">
            <a:solidFill>
              <a:srgbClr val="2204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Generation of a .sss file with the state space mode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90920" y="1981080"/>
            <a:ext cx="0" cy="228600"/>
          </a:xfrm>
          <a:prstGeom prst="line">
            <a:avLst/>
          </a:prstGeom>
          <a:ln w="9360">
            <a:solidFill>
              <a:srgbClr val="2204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590920"/>
            <a:ext cx="0" cy="228600"/>
          </a:xfrm>
          <a:prstGeom prst="line">
            <a:avLst/>
          </a:prstGeom>
          <a:ln w="9360">
            <a:solidFill>
              <a:srgbClr val="2204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3505320"/>
            <a:ext cx="0" cy="228600"/>
          </a:xfrm>
          <a:prstGeom prst="line">
            <a:avLst/>
          </a:prstGeom>
          <a:ln w="9360">
            <a:solidFill>
              <a:srgbClr val="2204f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Insertion Loss &amp; Return Loss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9960" y="1797120"/>
            <a:ext cx="638280" cy="1350720"/>
          </a:xfrm>
          <a:custGeom>
            <a:avLst/>
            <a:gdLst/>
            <a:ahLst/>
            <a:rect l="l" t="t" r="r" b="b"/>
            <a:pathLst>
              <a:path w="442" h="965">
                <a:moveTo>
                  <a:pt x="332" y="0"/>
                </a:moveTo>
                <a:lnTo>
                  <a:pt x="92" y="1"/>
                </a:lnTo>
                <a:lnTo>
                  <a:pt x="86" y="7"/>
                </a:lnTo>
                <a:lnTo>
                  <a:pt x="80" y="13"/>
                </a:lnTo>
                <a:lnTo>
                  <a:pt x="74" y="19"/>
                </a:lnTo>
                <a:lnTo>
                  <a:pt x="68" y="28"/>
                </a:lnTo>
                <a:lnTo>
                  <a:pt x="62" y="38"/>
                </a:lnTo>
                <a:lnTo>
                  <a:pt x="56" y="49"/>
                </a:lnTo>
                <a:lnTo>
                  <a:pt x="52" y="64"/>
                </a:lnTo>
                <a:lnTo>
                  <a:pt x="45" y="80"/>
                </a:lnTo>
                <a:lnTo>
                  <a:pt x="40" y="96"/>
                </a:lnTo>
                <a:lnTo>
                  <a:pt x="35" y="115"/>
                </a:lnTo>
                <a:lnTo>
                  <a:pt x="31" y="134"/>
                </a:lnTo>
                <a:lnTo>
                  <a:pt x="27" y="155"/>
                </a:lnTo>
                <a:lnTo>
                  <a:pt x="22" y="178"/>
                </a:lnTo>
                <a:lnTo>
                  <a:pt x="18" y="202"/>
                </a:lnTo>
                <a:lnTo>
                  <a:pt x="15" y="227"/>
                </a:lnTo>
                <a:lnTo>
                  <a:pt x="12" y="253"/>
                </a:lnTo>
                <a:lnTo>
                  <a:pt x="9" y="281"/>
                </a:lnTo>
                <a:lnTo>
                  <a:pt x="7" y="308"/>
                </a:lnTo>
                <a:lnTo>
                  <a:pt x="5" y="336"/>
                </a:lnTo>
                <a:lnTo>
                  <a:pt x="3" y="364"/>
                </a:lnTo>
                <a:lnTo>
                  <a:pt x="2" y="394"/>
                </a:lnTo>
                <a:lnTo>
                  <a:pt x="0" y="424"/>
                </a:lnTo>
                <a:lnTo>
                  <a:pt x="0" y="454"/>
                </a:lnTo>
                <a:lnTo>
                  <a:pt x="0" y="484"/>
                </a:lnTo>
                <a:lnTo>
                  <a:pt x="0" y="514"/>
                </a:lnTo>
                <a:lnTo>
                  <a:pt x="0" y="544"/>
                </a:lnTo>
                <a:lnTo>
                  <a:pt x="2" y="574"/>
                </a:lnTo>
                <a:lnTo>
                  <a:pt x="3" y="603"/>
                </a:lnTo>
                <a:lnTo>
                  <a:pt x="5" y="632"/>
                </a:lnTo>
                <a:lnTo>
                  <a:pt x="7" y="661"/>
                </a:lnTo>
                <a:lnTo>
                  <a:pt x="9" y="689"/>
                </a:lnTo>
                <a:lnTo>
                  <a:pt x="12" y="715"/>
                </a:lnTo>
                <a:lnTo>
                  <a:pt x="15" y="742"/>
                </a:lnTo>
                <a:lnTo>
                  <a:pt x="18" y="766"/>
                </a:lnTo>
                <a:lnTo>
                  <a:pt x="22" y="791"/>
                </a:lnTo>
                <a:lnTo>
                  <a:pt x="27" y="812"/>
                </a:lnTo>
                <a:lnTo>
                  <a:pt x="31" y="834"/>
                </a:lnTo>
                <a:lnTo>
                  <a:pt x="35" y="854"/>
                </a:lnTo>
                <a:lnTo>
                  <a:pt x="40" y="872"/>
                </a:lnTo>
                <a:lnTo>
                  <a:pt x="45" y="889"/>
                </a:lnTo>
                <a:lnTo>
                  <a:pt x="52" y="905"/>
                </a:lnTo>
                <a:lnTo>
                  <a:pt x="56" y="918"/>
                </a:lnTo>
                <a:lnTo>
                  <a:pt x="62" y="930"/>
                </a:lnTo>
                <a:lnTo>
                  <a:pt x="68" y="941"/>
                </a:lnTo>
                <a:lnTo>
                  <a:pt x="74" y="949"/>
                </a:lnTo>
                <a:lnTo>
                  <a:pt x="80" y="956"/>
                </a:lnTo>
                <a:lnTo>
                  <a:pt x="86" y="960"/>
                </a:lnTo>
                <a:lnTo>
                  <a:pt x="92" y="962"/>
                </a:lnTo>
                <a:lnTo>
                  <a:pt x="98" y="964"/>
                </a:lnTo>
                <a:lnTo>
                  <a:pt x="98" y="962"/>
                </a:lnTo>
                <a:lnTo>
                  <a:pt x="339" y="962"/>
                </a:lnTo>
                <a:lnTo>
                  <a:pt x="342" y="962"/>
                </a:lnTo>
                <a:lnTo>
                  <a:pt x="349" y="960"/>
                </a:lnTo>
                <a:lnTo>
                  <a:pt x="355" y="958"/>
                </a:lnTo>
                <a:lnTo>
                  <a:pt x="362" y="953"/>
                </a:lnTo>
                <a:lnTo>
                  <a:pt x="367" y="946"/>
                </a:lnTo>
                <a:lnTo>
                  <a:pt x="373" y="938"/>
                </a:lnTo>
                <a:lnTo>
                  <a:pt x="379" y="927"/>
                </a:lnTo>
                <a:lnTo>
                  <a:pt x="385" y="916"/>
                </a:lnTo>
                <a:lnTo>
                  <a:pt x="390" y="903"/>
                </a:lnTo>
                <a:lnTo>
                  <a:pt x="396" y="886"/>
                </a:lnTo>
                <a:lnTo>
                  <a:pt x="401" y="870"/>
                </a:lnTo>
                <a:lnTo>
                  <a:pt x="406" y="852"/>
                </a:lnTo>
                <a:lnTo>
                  <a:pt x="410" y="831"/>
                </a:lnTo>
                <a:lnTo>
                  <a:pt x="415" y="810"/>
                </a:lnTo>
                <a:lnTo>
                  <a:pt x="419" y="787"/>
                </a:lnTo>
                <a:lnTo>
                  <a:pt x="422" y="764"/>
                </a:lnTo>
                <a:lnTo>
                  <a:pt x="426" y="739"/>
                </a:lnTo>
                <a:lnTo>
                  <a:pt x="429" y="713"/>
                </a:lnTo>
                <a:lnTo>
                  <a:pt x="432" y="686"/>
                </a:lnTo>
                <a:lnTo>
                  <a:pt x="434" y="658"/>
                </a:lnTo>
                <a:lnTo>
                  <a:pt x="436" y="630"/>
                </a:lnTo>
                <a:lnTo>
                  <a:pt x="438" y="602"/>
                </a:lnTo>
                <a:lnTo>
                  <a:pt x="440" y="572"/>
                </a:lnTo>
                <a:lnTo>
                  <a:pt x="441" y="542"/>
                </a:lnTo>
                <a:lnTo>
                  <a:pt x="441" y="512"/>
                </a:lnTo>
                <a:lnTo>
                  <a:pt x="441" y="482"/>
                </a:lnTo>
                <a:lnTo>
                  <a:pt x="441" y="452"/>
                </a:lnTo>
                <a:lnTo>
                  <a:pt x="441" y="422"/>
                </a:lnTo>
                <a:lnTo>
                  <a:pt x="440" y="392"/>
                </a:lnTo>
                <a:lnTo>
                  <a:pt x="438" y="362"/>
                </a:lnTo>
                <a:lnTo>
                  <a:pt x="436" y="333"/>
                </a:lnTo>
                <a:lnTo>
                  <a:pt x="434" y="305"/>
                </a:lnTo>
                <a:lnTo>
                  <a:pt x="432" y="277"/>
                </a:lnTo>
                <a:lnTo>
                  <a:pt x="429" y="250"/>
                </a:lnTo>
                <a:lnTo>
                  <a:pt x="426" y="224"/>
                </a:lnTo>
                <a:lnTo>
                  <a:pt x="422" y="200"/>
                </a:lnTo>
                <a:lnTo>
                  <a:pt x="419" y="176"/>
                </a:lnTo>
                <a:lnTo>
                  <a:pt x="415" y="153"/>
                </a:lnTo>
                <a:lnTo>
                  <a:pt x="410" y="132"/>
                </a:lnTo>
                <a:lnTo>
                  <a:pt x="406" y="112"/>
                </a:lnTo>
                <a:lnTo>
                  <a:pt x="401" y="94"/>
                </a:lnTo>
                <a:lnTo>
                  <a:pt x="396" y="77"/>
                </a:lnTo>
                <a:lnTo>
                  <a:pt x="390" y="61"/>
                </a:lnTo>
                <a:lnTo>
                  <a:pt x="385" y="47"/>
                </a:lnTo>
                <a:lnTo>
                  <a:pt x="379" y="36"/>
                </a:lnTo>
                <a:lnTo>
                  <a:pt x="373" y="25"/>
                </a:lnTo>
                <a:lnTo>
                  <a:pt x="367" y="16"/>
                </a:lnTo>
                <a:lnTo>
                  <a:pt x="362" y="11"/>
                </a:lnTo>
                <a:lnTo>
                  <a:pt x="355" y="5"/>
                </a:lnTo>
                <a:lnTo>
                  <a:pt x="349" y="3"/>
                </a:lnTo>
                <a:lnTo>
                  <a:pt x="342" y="1"/>
                </a:lnTo>
                <a:lnTo>
                  <a:pt x="342" y="1"/>
                </a:lnTo>
                <a:lnTo>
                  <a:pt x="332" y="0"/>
                </a:lnTo>
                <a:lnTo>
                  <a:pt x="332" y="0"/>
                </a:lnTo>
              </a:path>
            </a:pathLst>
          </a:custGeom>
          <a:gradFill rotWithShape="0">
            <a:gsLst>
              <a:gs pos="0">
                <a:srgbClr val="80ffff"/>
              </a:gs>
              <a:gs pos="50000">
                <a:srgbClr val="ffffff"/>
              </a:gs>
              <a:gs pos="100000">
                <a:srgbClr val="80ffff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75280" y="2284560"/>
            <a:ext cx="644400" cy="525240"/>
          </a:xfrm>
          <a:custGeom>
            <a:avLst/>
            <a:gdLst/>
            <a:ahLst/>
            <a:rect l="l" t="t" r="r" b="b"/>
            <a:pathLst>
              <a:path w="447" h="375">
                <a:moveTo>
                  <a:pt x="7" y="0"/>
                </a:moveTo>
                <a:lnTo>
                  <a:pt x="5" y="14"/>
                </a:lnTo>
                <a:lnTo>
                  <a:pt x="5" y="28"/>
                </a:lnTo>
                <a:lnTo>
                  <a:pt x="3" y="43"/>
                </a:lnTo>
                <a:lnTo>
                  <a:pt x="3" y="58"/>
                </a:lnTo>
                <a:lnTo>
                  <a:pt x="1" y="74"/>
                </a:lnTo>
                <a:lnTo>
                  <a:pt x="1" y="89"/>
                </a:lnTo>
                <a:lnTo>
                  <a:pt x="0" y="106"/>
                </a:lnTo>
                <a:lnTo>
                  <a:pt x="0" y="120"/>
                </a:lnTo>
                <a:lnTo>
                  <a:pt x="0" y="137"/>
                </a:lnTo>
                <a:lnTo>
                  <a:pt x="0" y="152"/>
                </a:lnTo>
                <a:lnTo>
                  <a:pt x="0" y="168"/>
                </a:lnTo>
                <a:lnTo>
                  <a:pt x="0" y="184"/>
                </a:lnTo>
                <a:lnTo>
                  <a:pt x="0" y="199"/>
                </a:lnTo>
                <a:lnTo>
                  <a:pt x="2" y="214"/>
                </a:lnTo>
                <a:lnTo>
                  <a:pt x="3" y="229"/>
                </a:lnTo>
                <a:lnTo>
                  <a:pt x="5" y="243"/>
                </a:lnTo>
                <a:lnTo>
                  <a:pt x="10" y="239"/>
                </a:lnTo>
                <a:lnTo>
                  <a:pt x="434" y="373"/>
                </a:lnTo>
                <a:lnTo>
                  <a:pt x="430" y="374"/>
                </a:lnTo>
                <a:lnTo>
                  <a:pt x="431" y="361"/>
                </a:lnTo>
                <a:lnTo>
                  <a:pt x="433" y="346"/>
                </a:lnTo>
                <a:lnTo>
                  <a:pt x="435" y="332"/>
                </a:lnTo>
                <a:lnTo>
                  <a:pt x="437" y="317"/>
                </a:lnTo>
                <a:lnTo>
                  <a:pt x="438" y="302"/>
                </a:lnTo>
                <a:lnTo>
                  <a:pt x="439" y="287"/>
                </a:lnTo>
                <a:lnTo>
                  <a:pt x="441" y="272"/>
                </a:lnTo>
                <a:lnTo>
                  <a:pt x="443" y="256"/>
                </a:lnTo>
                <a:lnTo>
                  <a:pt x="443" y="241"/>
                </a:lnTo>
                <a:lnTo>
                  <a:pt x="445" y="226"/>
                </a:lnTo>
                <a:lnTo>
                  <a:pt x="445" y="211"/>
                </a:lnTo>
                <a:lnTo>
                  <a:pt x="446" y="195"/>
                </a:lnTo>
                <a:lnTo>
                  <a:pt x="445" y="181"/>
                </a:lnTo>
                <a:lnTo>
                  <a:pt x="445" y="166"/>
                </a:lnTo>
                <a:lnTo>
                  <a:pt x="444" y="151"/>
                </a:lnTo>
                <a:lnTo>
                  <a:pt x="444" y="136"/>
                </a:lnTo>
                <a:lnTo>
                  <a:pt x="445" y="139"/>
                </a:lnTo>
                <a:lnTo>
                  <a:pt x="14" y="1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gradFill rotWithShape="0">
            <a:gsLst>
              <a:gs pos="0">
                <a:srgbClr val="ff9f9f"/>
              </a:gs>
              <a:gs pos="100000">
                <a:srgbClr val="00e1ad"/>
              </a:gs>
            </a:gsLst>
            <a:lin ang="135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5680" y="2324160"/>
            <a:ext cx="868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700" spc="-1" strike="noStrike">
                <a:solidFill>
                  <a:srgbClr val="4181c0"/>
                </a:solidFill>
                <a:latin typeface="Univers Condensed"/>
                <a:ea typeface="SimSun"/>
              </a:rPr>
              <a:t>Inci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17600" y="2967120"/>
            <a:ext cx="10191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700" spc="-1" strike="noStrike">
                <a:solidFill>
                  <a:srgbClr val="00603c"/>
                </a:solidFill>
                <a:latin typeface="Univers Condensed"/>
                <a:ea typeface="SimSun"/>
              </a:rPr>
              <a:t>Refle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35640" y="2505240"/>
            <a:ext cx="12794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Univers Condensed"/>
                <a:ea typeface="SimSun"/>
              </a:rPr>
              <a:t>Transmit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68840" y="1797120"/>
            <a:ext cx="0" cy="134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25760" y="1797120"/>
            <a:ext cx="0" cy="134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0200" y="2120760"/>
            <a:ext cx="1644840" cy="1055880"/>
          </a:xfrm>
          <a:custGeom>
            <a:avLst/>
            <a:gdLst/>
            <a:ahLst/>
            <a:rect l="l" t="t" r="r" b="b"/>
            <a:pathLst>
              <a:path w="1140" h="754">
                <a:moveTo>
                  <a:pt x="74" y="235"/>
                </a:moveTo>
                <a:lnTo>
                  <a:pt x="0" y="119"/>
                </a:lnTo>
                <a:lnTo>
                  <a:pt x="967" y="118"/>
                </a:lnTo>
                <a:lnTo>
                  <a:pt x="967" y="0"/>
                </a:lnTo>
                <a:lnTo>
                  <a:pt x="1139" y="239"/>
                </a:lnTo>
                <a:lnTo>
                  <a:pt x="967" y="478"/>
                </a:lnTo>
                <a:lnTo>
                  <a:pt x="967" y="361"/>
                </a:lnTo>
                <a:lnTo>
                  <a:pt x="934" y="359"/>
                </a:lnTo>
                <a:lnTo>
                  <a:pt x="696" y="691"/>
                </a:lnTo>
                <a:lnTo>
                  <a:pt x="742" y="731"/>
                </a:lnTo>
                <a:lnTo>
                  <a:pt x="560" y="753"/>
                </a:lnTo>
                <a:lnTo>
                  <a:pt x="546" y="555"/>
                </a:lnTo>
                <a:lnTo>
                  <a:pt x="594" y="596"/>
                </a:lnTo>
                <a:lnTo>
                  <a:pt x="766" y="354"/>
                </a:lnTo>
                <a:lnTo>
                  <a:pt x="9" y="353"/>
                </a:lnTo>
                <a:lnTo>
                  <a:pt x="74" y="235"/>
                </a:lnTo>
                <a:lnTo>
                  <a:pt x="74" y="235"/>
                </a:lnTo>
              </a:path>
            </a:pathLst>
          </a:custGeom>
          <a:gradFill rotWithShape="0">
            <a:gsLst>
              <a:gs pos="0">
                <a:srgbClr val="009f82"/>
              </a:gs>
              <a:gs pos="100000">
                <a:srgbClr val="c2efff"/>
              </a:gs>
            </a:gsLst>
            <a:lin ang="108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49920" y="2327400"/>
            <a:ext cx="1428480" cy="652320"/>
          </a:xfrm>
          <a:custGeom>
            <a:avLst/>
            <a:gdLst/>
            <a:ahLst/>
            <a:rect l="l" t="t" r="r" b="b"/>
            <a:pathLst>
              <a:path w="991" h="466">
                <a:moveTo>
                  <a:pt x="74" y="234"/>
                </a:moveTo>
                <a:lnTo>
                  <a:pt x="4" y="117"/>
                </a:lnTo>
                <a:lnTo>
                  <a:pt x="795" y="117"/>
                </a:lnTo>
                <a:lnTo>
                  <a:pt x="795" y="0"/>
                </a:lnTo>
                <a:lnTo>
                  <a:pt x="990" y="233"/>
                </a:lnTo>
                <a:lnTo>
                  <a:pt x="795" y="465"/>
                </a:lnTo>
                <a:lnTo>
                  <a:pt x="795" y="350"/>
                </a:lnTo>
                <a:lnTo>
                  <a:pt x="0" y="350"/>
                </a:lnTo>
                <a:lnTo>
                  <a:pt x="74" y="234"/>
                </a:lnTo>
                <a:lnTo>
                  <a:pt x="74" y="234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e1dc"/>
              </a:gs>
            </a:gsLst>
            <a:lin ang="108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2577960"/>
            <a:ext cx="235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Univers Condensed"/>
                <a:ea typeface="SimSu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32440" y="2765520"/>
            <a:ext cx="235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Univers Condensed"/>
                <a:ea typeface="SimSu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60680" y="3233880"/>
            <a:ext cx="245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Univers Condensed"/>
                <a:ea typeface="SimSu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79360" y="4273560"/>
            <a:ext cx="2190960" cy="907920"/>
          </a:xfrm>
          <a:custGeom>
            <a:avLst/>
            <a:gdLst/>
            <a:ahLst/>
            <a:rect l="l" t="t" r="r" b="b"/>
            <a:pathLst>
              <a:path w="1518" h="648">
                <a:moveTo>
                  <a:pt x="1517" y="0"/>
                </a:moveTo>
                <a:lnTo>
                  <a:pt x="1517" y="647"/>
                </a:lnTo>
                <a:lnTo>
                  <a:pt x="0" y="647"/>
                </a:lnTo>
                <a:lnTo>
                  <a:pt x="0" y="0"/>
                </a:lnTo>
                <a:lnTo>
                  <a:pt x="1517" y="0"/>
                </a:lnTo>
                <a:lnTo>
                  <a:pt x="1517" y="0"/>
                </a:lnTo>
              </a:path>
            </a:pathLst>
          </a:custGeom>
          <a:gradFill rotWithShape="0">
            <a:gsLst>
              <a:gs pos="0">
                <a:srgbClr val="82ffca"/>
              </a:gs>
              <a:gs pos="50000">
                <a:srgbClr val="ffffff"/>
              </a:gs>
              <a:gs pos="100000">
                <a:srgbClr val="82ffca"/>
              </a:gs>
            </a:gsLst>
            <a:lin ang="5400000"/>
          </a:gradFill>
          <a:ln w="31680">
            <a:solidFill>
              <a:srgbClr val="006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46800" y="4290840"/>
            <a:ext cx="2117520" cy="884520"/>
          </a:xfrm>
          <a:custGeom>
            <a:avLst/>
            <a:gdLst/>
            <a:ahLst/>
            <a:rect l="l" t="t" r="r" b="b"/>
            <a:pathLst>
              <a:path w="1467" h="631">
                <a:moveTo>
                  <a:pt x="1466" y="0"/>
                </a:moveTo>
                <a:lnTo>
                  <a:pt x="1466" y="630"/>
                </a:lnTo>
                <a:lnTo>
                  <a:pt x="0" y="630"/>
                </a:lnTo>
                <a:lnTo>
                  <a:pt x="0" y="0"/>
                </a:lnTo>
                <a:lnTo>
                  <a:pt x="1466" y="0"/>
                </a:lnTo>
                <a:lnTo>
                  <a:pt x="1466" y="0"/>
                </a:lnTo>
              </a:path>
            </a:pathLst>
          </a:custGeom>
          <a:gradFill rotWithShape="0">
            <a:gsLst>
              <a:gs pos="0">
                <a:srgbClr val="ffe0e6"/>
              </a:gs>
              <a:gs pos="50000">
                <a:srgbClr val="ffffff"/>
              </a:gs>
              <a:gs pos="100000">
                <a:srgbClr val="ffe0e6"/>
              </a:gs>
            </a:gsLst>
            <a:lin ang="5400000"/>
          </a:gradFill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46600" y="4451400"/>
            <a:ext cx="1071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Univers Condensed"/>
                <a:ea typeface="SimSun"/>
              </a:rPr>
              <a:t>Trans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16520" y="4732200"/>
            <a:ext cx="714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Univers Condensed"/>
                <a:ea typeface="SimSun"/>
              </a:rPr>
              <a:t>Inc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48400" y="4705200"/>
            <a:ext cx="1047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733920"/>
            <a:ext cx="21384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Univers Condensed"/>
                <a:ea typeface="SimSun"/>
              </a:rPr>
              <a:t>TRANSMIS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5257800"/>
            <a:ext cx="190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Univers Condensed"/>
                <a:ea typeface="SimSun"/>
              </a:rPr>
              <a:t>Insertion  Lo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490760" y="4462560"/>
            <a:ext cx="898200" cy="493200"/>
            <a:chOff x="1490760" y="4462560"/>
            <a:chExt cx="898200" cy="493200"/>
          </a:xfrm>
        </p:grpSpPr>
        <p:sp>
          <p:nvSpPr>
            <p:cNvPr id="169" name=""/>
            <p:cNvSpPr/>
            <p:nvPr/>
          </p:nvSpPr>
          <p:spPr>
            <a:xfrm>
              <a:off x="1528200" y="4462560"/>
              <a:ext cx="8607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400" spc="-1" strike="noStrike">
                  <a:solidFill>
                    <a:srgbClr val="00603c"/>
                  </a:solidFill>
                  <a:latin typeface="Univers Condensed"/>
                  <a:ea typeface="SimSun"/>
                </a:rPr>
                <a:t>Ref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6240" y="4733640"/>
              <a:ext cx="7164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400" spc="-1" strike="noStrike">
                  <a:solidFill>
                    <a:srgbClr val="00603c"/>
                  </a:solidFill>
                  <a:latin typeface="Univers Condensed"/>
                  <a:ea typeface="SimSun"/>
                </a:rPr>
                <a:t>Incid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90760" y="4712760"/>
              <a:ext cx="859320" cy="0"/>
            </a:xfrm>
            <a:prstGeom prst="line">
              <a:avLst/>
            </a:prstGeom>
            <a:ln w="19080">
              <a:solidFill>
                <a:srgbClr val="004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447920" y="3733920"/>
            <a:ext cx="1823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i="1" lang="en-US" sz="1900" spc="-1" strike="noStrike">
                <a:solidFill>
                  <a:srgbClr val="00603c"/>
                </a:solidFill>
                <a:latin typeface="Univers Condensed"/>
                <a:ea typeface="SimSun"/>
              </a:rPr>
              <a:t>REFLE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334120"/>
            <a:ext cx="1600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2100" spc="-1" strike="noStrike">
                <a:solidFill>
                  <a:srgbClr val="00603c"/>
                </a:solidFill>
                <a:latin typeface="Univers Condensed"/>
                <a:ea typeface="SimSun"/>
              </a:rPr>
              <a:t>Return Lo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465280" y="4451400"/>
            <a:ext cx="910800" cy="496440"/>
            <a:chOff x="2465280" y="4451400"/>
            <a:chExt cx="910800" cy="496440"/>
          </a:xfrm>
        </p:grpSpPr>
        <p:grpSp>
          <p:nvGrpSpPr>
            <p:cNvPr id="175" name=""/>
            <p:cNvGrpSpPr/>
            <p:nvPr/>
          </p:nvGrpSpPr>
          <p:grpSpPr>
            <a:xfrm>
              <a:off x="2517120" y="4451400"/>
              <a:ext cx="858960" cy="496440"/>
              <a:chOff x="2517120" y="4451400"/>
              <a:chExt cx="858960" cy="496440"/>
            </a:xfrm>
          </p:grpSpPr>
          <p:sp>
            <p:nvSpPr>
              <p:cNvPr id="176" name=""/>
              <p:cNvSpPr/>
              <p:nvPr/>
            </p:nvSpPr>
            <p:spPr>
              <a:xfrm>
                <a:off x="2517120" y="4451400"/>
                <a:ext cx="858960" cy="2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1400" spc="-1" strike="noStrike">
                    <a:solidFill>
                      <a:srgbClr val="00603c"/>
                    </a:solidFill>
                    <a:latin typeface="Univers Condensed"/>
                    <a:ea typeface="SimSu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90200" y="4725360"/>
                <a:ext cx="713520" cy="2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09680"/>
                    <a:tab algn="l" pos="819000"/>
                    <a:tab algn="l" pos="1228680"/>
                    <a:tab algn="l" pos="1638360"/>
                    <a:tab algn="l" pos="2048040"/>
                    <a:tab algn="l" pos="2457360"/>
                    <a:tab algn="l" pos="2867040"/>
                    <a:tab algn="l" pos="3276720"/>
                    <a:tab algn="l" pos="3686040"/>
                    <a:tab algn="l" pos="4095720"/>
                    <a:tab algn="l" pos="4505400"/>
                    <a:tab algn="l" pos="4915080"/>
                    <a:tab algn="l" pos="5324400"/>
                    <a:tab algn="l" pos="5734080"/>
                    <a:tab algn="l" pos="6143760"/>
                    <a:tab algn="l" pos="6553080"/>
                    <a:tab algn="l" pos="6962760"/>
                    <a:tab algn="l" pos="7372440"/>
                    <a:tab algn="l" pos="7781760"/>
                    <a:tab algn="l" pos="8191440"/>
                  </a:tabLst>
                </a:pPr>
                <a:r>
                  <a:rPr b="0" lang="en-US" sz="1400" spc="-1" strike="noStrike">
                    <a:solidFill>
                      <a:srgbClr val="00603c"/>
                    </a:solidFill>
                    <a:latin typeface="Univers Condensed"/>
                    <a:ea typeface="SimSu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09440" y="4701600"/>
                <a:ext cx="240480" cy="0"/>
              </a:xfrm>
              <a:prstGeom prst="line">
                <a:avLst/>
              </a:prstGeom>
              <a:ln w="19080">
                <a:solidFill>
                  <a:srgbClr val="004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465280" y="4605120"/>
              <a:ext cx="2505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9680"/>
                  <a:tab algn="l" pos="819000"/>
                  <a:tab algn="l" pos="1228680"/>
                  <a:tab algn="l" pos="1638360"/>
                  <a:tab algn="l" pos="2048040"/>
                  <a:tab algn="l" pos="2457360"/>
                  <a:tab algn="l" pos="2867040"/>
                  <a:tab algn="l" pos="3276720"/>
                  <a:tab algn="l" pos="3686040"/>
                  <a:tab algn="l" pos="4095720"/>
                  <a:tab algn="l" pos="4505400"/>
                  <a:tab algn="l" pos="4915080"/>
                  <a:tab algn="l" pos="5324400"/>
                  <a:tab algn="l" pos="5734080"/>
                  <a:tab algn="l" pos="6143760"/>
                  <a:tab algn="l" pos="6553080"/>
                  <a:tab algn="l" pos="6962760"/>
                  <a:tab algn="l" pos="7372440"/>
                  <a:tab algn="l" pos="7781760"/>
                  <a:tab algn="l" pos="8191440"/>
                </a:tabLst>
              </a:pPr>
              <a:r>
                <a:rPr b="0" lang="en-US" sz="1400" spc="-1" strike="noStrike">
                  <a:solidFill>
                    <a:srgbClr val="00603c"/>
                  </a:solidFill>
                  <a:latin typeface="Univers Condensed"/>
                  <a:ea typeface="SimSun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872400" y="4435560"/>
            <a:ext cx="8604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Univers Condensed"/>
                <a:ea typeface="SimSu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45480" y="4708440"/>
            <a:ext cx="7156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Univers Condensed"/>
                <a:ea typeface="SimSu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5800" y="4686480"/>
            <a:ext cx="241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21640" y="4589640"/>
            <a:ext cx="25056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Univers Condensed"/>
                <a:ea typeface="SimSu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S-Parameter Model for High Speed Interconnection 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Wideband, Accuracy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Full Wave Simulation or Measurement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0678"/>
                </a:solidFill>
                <a:latin typeface="Arial"/>
                <a:ea typeface="SimSun"/>
              </a:rPr>
              <a:t>Time Domain Simulation for S-Parameter Model</a:t>
            </a: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Convergence, Causal and Passive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State Space and  Convolution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SimSun"/>
              </a:rPr>
              <a:t>Conclusion 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How to get S-Parameter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Simulation: Full Wave EM Simulation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0678"/>
                </a:solidFill>
                <a:latin typeface="Arial"/>
                <a:ea typeface="SimSun"/>
              </a:rPr>
              <a:t>Including complex 3D construction and non-idea return path</a:t>
            </a: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Measurement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0678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290678"/>
                </a:solidFill>
                <a:latin typeface="Arial"/>
                <a:ea typeface="SimSun"/>
              </a:rPr>
              <a:t>Vector Network Analyzer</a:t>
            </a: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0678"/>
                </a:solidFill>
                <a:latin typeface="Arial"/>
                <a:ea typeface="SimSun"/>
              </a:rPr>
              <a:t>Test fixture de-embedding</a:t>
            </a: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What’s S-Parameter tell you 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0678"/>
                </a:solidFill>
                <a:latin typeface="Arial"/>
                <a:ea typeface="SimSun"/>
              </a:rPr>
              <a:t>Accurately describe the electrical characteristics of passive structures over a very wide bandwidth</a:t>
            </a:r>
            <a:endParaRPr b="0" lang="en-US" sz="36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Insertion loss and return loss of non-idea T-Line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Isolation of separate plane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678"/>
                </a:solidFill>
                <a:latin typeface="Arial"/>
                <a:ea typeface="SimSun"/>
              </a:rPr>
              <a:t>Multi-coupling of signals and power nets</a:t>
            </a:r>
            <a:endParaRPr b="0" lang="en-US" sz="2400" spc="-1" strike="noStrike">
              <a:solidFill>
                <a:srgbClr val="2906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06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S-Parameter of Non-idea plane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747880" cy="480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505320" y="1371600"/>
            <a:ext cx="5410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S-Parameter of idea plane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6095880" cy="4800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26798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06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100ps Tr/Tf</a:t>
            </a:r>
            <a:r>
              <a:rPr b="0" lang="zh-CN" sz="3200" spc="-1" strike="noStrike">
                <a:solidFill>
                  <a:srgbClr val="290678"/>
                </a:solidFill>
                <a:latin typeface="Arial"/>
                <a:ea typeface="SimSun"/>
              </a:rPr>
              <a:t>，</a:t>
            </a:r>
            <a:r>
              <a:rPr b="0" lang="en-US" sz="3200" spc="-1" strike="noStrike">
                <a:solidFill>
                  <a:srgbClr val="290678"/>
                </a:solidFill>
                <a:latin typeface="Arial"/>
                <a:ea typeface="SimSun"/>
              </a:rPr>
              <a:t>1GHz pulse</a:t>
            </a:r>
            <a:endParaRPr b="0" lang="en-US" sz="3200" spc="-1" strike="noStrike">
              <a:solidFill>
                <a:srgbClr val="29067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0678"/>
                </a:solidFill>
                <a:latin typeface="Arial"/>
                <a:ea typeface="SimSun"/>
              </a:rPr>
              <a:t>Transient analysis results</a:t>
            </a:r>
            <a:endParaRPr b="1" lang="en-US" sz="44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0678"/>
                </a:solidFill>
                <a:latin typeface="Arial"/>
                <a:ea typeface="SimSun"/>
              </a:rPr>
              <a:t>Cross gap analysis</a:t>
            </a:r>
            <a:endParaRPr b="1" lang="en-US" sz="4000" spc="-1" strike="noStrike">
              <a:solidFill>
                <a:srgbClr val="290678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5791320" cy="3854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5720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5 Helvetica Roman"/>
                <a:ea typeface="SimSun"/>
              </a:rPr>
              <a:t>SI Investigation ---Signal Net IOA8 Cross Split Power Plane: Referenc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28954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895480"/>
            <a:ext cx="2133720" cy="82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5 Helvetica Roman"/>
                <a:ea typeface="SimSun"/>
              </a:rPr>
              <a:t>Power Plane Spli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90920" y="3124080"/>
            <a:ext cx="2971800" cy="152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4:22:44Z</dcterms:created>
  <dc:creator>lnorris</dc:creator>
  <dc:description/>
  <dc:language>en-US</dc:language>
  <cp:lastModifiedBy>Bob Ross</cp:lastModifiedBy>
  <dcterms:modified xsi:type="dcterms:W3CDTF">2007-08-17T04:53:44Z</dcterms:modified>
  <cp:revision>59</cp:revision>
  <dc:subject/>
  <dc:title>Slide 1</dc:title>
</cp:coreProperties>
</file>