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671175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941220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25040" y="4624920"/>
            <a:ext cx="941220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25040" y="462492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47960" y="462492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07440" y="186660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089840" y="186660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25040" y="462492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07440" y="462492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089840" y="462492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25040" y="1866600"/>
            <a:ext cx="941220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FrutigerNext LT 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94122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25040" y="320760"/>
            <a:ext cx="94122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FrutigerNext LT Medi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25040" y="462492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25040" y="1866600"/>
            <a:ext cx="941220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47960" y="462492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5040" y="4624920"/>
            <a:ext cx="941220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941220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5040" y="4624920"/>
            <a:ext cx="941220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25040" y="462492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47960" y="462492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907440" y="186660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089840" y="186660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25040" y="462492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907440" y="462492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089840" y="4624920"/>
            <a:ext cx="30304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94122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25040" y="320760"/>
            <a:ext cx="94122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25040" y="462492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7960" y="462492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7960" y="1866600"/>
            <a:ext cx="459288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25040" y="4624920"/>
            <a:ext cx="9412200" cy="25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5040" y="1866600"/>
            <a:ext cx="94122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7257960"/>
            <a:ext cx="1066968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55640" y="7543800"/>
            <a:ext cx="299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91992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Page </a:t>
            </a:r>
            <a:fld id="{AE0D96C7-7C55-4087-9266-DF1125CACD83}" type="slidenum"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763120" y="7467480"/>
            <a:ext cx="1528560" cy="3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272120" y="7545240"/>
            <a:ext cx="1836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763120" y="650880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40" y="914400"/>
            <a:ext cx="10669680" cy="444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8240" y="380880"/>
            <a:ext cx="153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FrutigerNext LT Regular"/>
              </a:rPr>
              <a:t>25. Jul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7240680"/>
            <a:ext cx="299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456760" y="4648320"/>
            <a:ext cx="1755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FrutigerNext LT Medium"/>
                <a:ea typeface="黑体"/>
              </a:rPr>
              <a:t>www.huawei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18960"/>
            <a:ext cx="960300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33520" y="1872360"/>
            <a:ext cx="960300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FrutigerNext LT Medium"/>
              </a:rPr>
              <a:t>Click to edit the outline text format</a:t>
            </a:r>
            <a:endParaRPr b="1" lang="en-US" sz="1000" spc="-1" strike="noStrike">
              <a:solidFill>
                <a:srgbClr val="ffffff"/>
              </a:solidFill>
              <a:latin typeface="FrutigerNext LT Medium"/>
            </a:endParaRPr>
          </a:p>
          <a:p>
            <a:pPr lvl="1" marL="457200" indent="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281160" y="1592280"/>
            <a:ext cx="903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FrutigerNext LT Medium"/>
              </a:rPr>
              <a:t>Serial Link Analysi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FrutigerNext LT Medium"/>
              </a:rPr>
              <a:t>and PLL Mod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6840" y="3176640"/>
            <a:ext cx="514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ptember 11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sian IBIS Summit, Beijing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8840" y="4324320"/>
            <a:ext cx="46479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uang Chunx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uangchunxing@huawei.c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hortage of Jitter Parameter Alone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5040" y="1515600"/>
            <a:ext cx="94122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itter parameters alone are not enough for serial link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tter parameters in AMI model are mostly measured on evaluation board by chip vendor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mitting differences between evaluation board and product board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tter is a matter sensitive to environment nois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mulation should carefully consider the jitter introduced by PLL from environment nois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ia PLL, environment noise generates a lot of jitter in serial 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) Phase noise of reference clock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) Power noise at PLL power pin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specially, power noise is an important contributor to worsen link BE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5040" y="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nvironment Noise Difference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5400" y="936360"/>
            <a:ext cx="9686880" cy="26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orking environment of card board is much different from that of evaluation board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wer noise is depending on the system desig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wer on evaluation board is much more clean than that on card board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ock chain on card board may be different from that on evaluation board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31920" y="3784680"/>
            <a:ext cx="3564000" cy="2479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91200" y="3747960"/>
            <a:ext cx="3816360" cy="2557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19200" y="6296040"/>
            <a:ext cx="28432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BlackCn"/>
                <a:ea typeface="华文细黑"/>
              </a:rPr>
              <a:t>Evaluation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0280" y="6396120"/>
            <a:ext cx="284292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BlackCn"/>
                <a:ea typeface="华文细黑"/>
              </a:rPr>
              <a:t>Car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46840" y="4216320"/>
            <a:ext cx="865080" cy="1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00"/>
                </a:solidFill>
                <a:latin typeface="Symbol"/>
                <a:ea typeface="Symbol"/>
              </a:rPr>
              <a:t>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90120" y="1047600"/>
            <a:ext cx="9412200" cy="30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t Transmi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hase noise of reference clock introduces jitter of  trigger clo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wer noise transfers into output jitter of trigger clo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t Recei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hase noise of reference clock introduces jitter of sampling clo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wer noise transfers into output jitter of sampling clo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66840" y="3855960"/>
          <a:ext cx="7091280" cy="32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3855960"/>
                    <a:ext cx="7091280" cy="32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18840" y="0"/>
            <a:ext cx="994572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Jitter Introduced from PLL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25400" y="5872320"/>
            <a:ext cx="994572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PLL model should include two rel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Jitter Transfer Function: relation between input clock jitter and output clock jitt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Jitter Sensitivity: relation between power noise and output clock jitt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25040" y="1012680"/>
            <a:ext cx="9412200" cy="27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igh-speed serial link contains PLL/DLL at both transmitter and receiver.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L is a phase synchronous system, which is mainly composed o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hase Det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w Pass Fil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)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725040" y="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PLL Noise Model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706840" y="2751120"/>
            <a:ext cx="54734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84080" y="1120680"/>
            <a:ext cx="94125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L model analysis is based on the following assump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ch noise are statistically independen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tter introduced by all noises could be expressed as sum of each noise impacting jitte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of noise and interference is within the linear working area of loo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tter transfer in PLL behaves like LTI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tter from two noises could be  estimated by convolution eq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25040" y="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Jitter Simulation of PLL Model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067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871560" y="4395960"/>
                <a:ext cx="27367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725400" y="5440320"/>
            <a:ext cx="8605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Here h(t) could be jitter transfer function and could be jitter sensitivity of powe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teps of PLL Jitter Analysi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5040" y="1866600"/>
            <a:ext cx="94122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itter simulation of PLL model is composed 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) Getting Jitter Sensitivity and Jitter Transfer relation of PL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) Estimating power noise on board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 Simulating Reference Clock Jitter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) Calculating Jitter introduced from PL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 Getting Jitter Transfer and Jitter Sensitivity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5040" y="1407960"/>
            <a:ext cx="994572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ulating jitter at input clock and measuring jitter at output data to get jitter transfer functio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jecting noise at power and measuring jitter at output data to get jitter sensitivity relatio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t’s more easy to measure jitter transfer and jitter sensitivity at TX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t RX, depending on loopback mode, different methods are used to measure the rel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62320"/>
            <a:ext cx="1067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25400" y="4287960"/>
          <a:ext cx="527688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4287960"/>
                    <a:ext cx="527688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0" y="3262320"/>
            <a:ext cx="1067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27200" y="5764320"/>
          <a:ext cx="527688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200" y="5764320"/>
                    <a:ext cx="527688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6199200" y="5172120"/>
            <a:ext cx="37940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Jitter transfer measurement at 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35560" y="6737400"/>
            <a:ext cx="414036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Jitter sensitivity measurement at 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8840" y="0"/>
            <a:ext cx="963612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Jitter Transfer and Jitter Sensitivity Exampl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8840" y="1155240"/>
            <a:ext cx="94122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PLL characteristics derived by measuremen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ft picture is showing the jitter transfer relatio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ight picture is showing the jitter sensitivity relatio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083200" y="3162240"/>
            <a:ext cx="5278320" cy="3962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58840" y="3098880"/>
            <a:ext cx="536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2. Power Noise Simulation Method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5400" y="1552680"/>
            <a:ext cx="918216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w to get power noise at P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I analysis method could be borrowed here to analyze power noise at PLL power pi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I analysis method should have the ability to predict and analyze the power noise at desired points on PCB boar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I analysis flow in Huawei has three step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tting PI component models including capacitor, inductor, VRM, IC noise current and P/G plan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tting impedance of PDS with PI component model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edicting voltage noise magnitude of PDS in time doma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Power Noise Analysis Example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4968720"/>
            <a:ext cx="9412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edance simulation of P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866960" y="1839960"/>
          <a:ext cx="4297320" cy="7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839960"/>
                    <a:ext cx="429732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30040" y="3241800"/>
            <a:ext cx="2595600" cy="1309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825640" y="3236760"/>
            <a:ext cx="2443320" cy="1339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10240" y="4695840"/>
            <a:ext cx="229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noise current model of u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25640" y="4695840"/>
            <a:ext cx="256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noise current model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5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5268960" y="3238560"/>
            <a:ext cx="2595600" cy="1374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0040" y="2738520"/>
            <a:ext cx="38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Models in frequency dom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864560" y="3238560"/>
            <a:ext cx="2692440" cy="1374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487120" y="4695840"/>
            <a:ext cx="23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noise current model of V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15640" y="4694400"/>
            <a:ext cx="224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impedance model of V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0040" y="1469880"/>
            <a:ext cx="38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3.3V powe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820800" y="5477040"/>
            <a:ext cx="2211480" cy="1741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4630680" y="5427720"/>
            <a:ext cx="2757600" cy="1452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7459560" y="5756400"/>
            <a:ext cx="2678040" cy="1461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394240" y="6864480"/>
            <a:ext cx="126072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51840" y="5251320"/>
            <a:ext cx="126036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883120"/>
            <a:ext cx="1189080" cy="422280"/>
          </a:xfrm>
          <a:prstGeom prst="rightArrow">
            <a:avLst>
              <a:gd name="adj1" fmla="val 50000"/>
              <a:gd name="adj2" fmla="val 70396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Agenda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5040" y="1407600"/>
            <a:ext cx="941220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igh-speed serial link si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urrent simulation method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mulation with AMI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99"/>
                </a:solidFill>
                <a:latin typeface="Arial"/>
              </a:rPr>
              <a:t>PLL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9999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Arial"/>
              </a:rPr>
              <a:t>Jitter introduced by P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9999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Arial"/>
              </a:rPr>
              <a:t>Jitter simulation with PL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5400" y="320760"/>
            <a:ext cx="968688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3. Simulating Reference Clock Jitter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25040" y="1515960"/>
            <a:ext cx="941220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pposing that jitter transfer function and power noise sensitivity function of each component on clock chain are known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Jitter transfer function and jitter sensitivity of power supply of clock chain component could be derived by measurement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Power noise of VCC can be obtained from PI analys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imilar analysis method with PLL jitter analysis, jitter could be calculated node by node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58840" y="5116680"/>
            <a:ext cx="8100720" cy="2066040"/>
            <a:chOff x="1158840" y="5116680"/>
            <a:chExt cx="8100720" cy="2066040"/>
          </a:xfrm>
        </p:grpSpPr>
        <p:sp>
          <p:nvSpPr>
            <p:cNvPr id="223" name=""/>
            <p:cNvSpPr/>
            <p:nvPr/>
          </p:nvSpPr>
          <p:spPr>
            <a:xfrm>
              <a:off x="1158840" y="6100920"/>
              <a:ext cx="1584000" cy="108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343080" indent="-343080" algn="ctr">
                <a:lnSpc>
                  <a:spcPct val="13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FrutigerNext LT BlackCn"/>
                  <a:ea typeface="华文细黑"/>
                </a:rPr>
                <a:t>Oscillato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34840" y="57042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50840" y="570420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19200" y="5116680"/>
              <a:ext cx="100800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FrutigerNext LT BlackCn"/>
                  <a:ea typeface="华文细黑"/>
                </a:rPr>
                <a:t>VC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42840" y="63882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06480" y="6100920"/>
              <a:ext cx="1187640" cy="58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343080" indent="-343080" algn="ctr">
                <a:lnSpc>
                  <a:spcPct val="13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FrutigerNext LT BlackCn"/>
                  <a:ea typeface="华文细黑"/>
                </a:rPr>
                <a:t>Buffe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94120" y="63882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57760" y="6100920"/>
              <a:ext cx="1187280" cy="58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343080" indent="-343080" algn="ctr">
                <a:lnSpc>
                  <a:spcPct val="13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FrutigerNext LT BlackCn"/>
                  <a:ea typeface="华文细黑"/>
                </a:rPr>
                <a:t>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01760" y="57042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17760" y="570420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86120" y="5116680"/>
              <a:ext cx="100800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FrutigerNext LT BlackCn"/>
                  <a:ea typeface="华文细黑"/>
                </a:rPr>
                <a:t>VC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53040" y="57042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68680" y="570420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37040" y="5116680"/>
              <a:ext cx="100800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FrutigerNext LT BlackCn"/>
                  <a:ea typeface="华文细黑"/>
                </a:rPr>
                <a:t>VC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5040" y="63882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08680" y="6080400"/>
              <a:ext cx="1550880" cy="58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343080" indent="-343080" algn="ctr">
                <a:lnSpc>
                  <a:spcPct val="13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FrutigerNext LT BlackCn"/>
                  <a:ea typeface="华文细黑"/>
                </a:rPr>
                <a:t>Serd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4. Calculating Jitter Introduced from PLL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90120" y="1420560"/>
            <a:ext cx="941220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Equation could be transformed into frequency domai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en jitter transfer function is known, jitter introduced from input clock could be calculat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itter(f) = transfer_function(f)*jitter_clock_in(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en jitter sensitivity profile is known, jitter introduced from power noise could be calculat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itter(f) = jitter_sensitivity(f)* power_noise(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itter transfer and jitter sensitivity may not contain phase information. The jitter result could be handled as PD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) PCIE has used similar method to simulate and analyze the clock jitter transfer on serial lin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) Rambus Ralf Schmitt gave the analysis of supply noise induced jitter in his designcon 2007 papp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Next Step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5040" y="1444320"/>
            <a:ext cx="94122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y the whole analysis method  step by step and find some flaws inside i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proving current measurement method to measure jitter transfer function and jitter sensitivity at RX side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rrelating the simulated results and measured result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5040" y="18432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ummary of PLL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25400" y="1228680"/>
            <a:ext cx="9614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 initial idea about how to analyze PLL effects presented here, including power noise and clock jitter transfe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L model should at least include jitter sensitivity of power noise and jitter transfer functio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tter relationship in PLL may be expressed as function of LTI system or subsection linear system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I analysis method is used to estimate power nois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tter analysis method is used to predict jitter on clock chai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t is never too early for us to consider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L model problem in AMI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5040" y="220680"/>
            <a:ext cx="94122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High-speed Serial Link 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" y="1336680"/>
            <a:ext cx="92901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Simulation purpo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Evaluating bit error rate performance of high-speed serial lin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Checking whether the bit error rate of link could meet the specification of standard or requirements of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More factors considered in simulation, more accurate the simulation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Due to problems of</a:t>
            </a:r>
            <a:r>
              <a:rPr b="0" lang="en-US" sz="2000" spc="-1" strike="noStrike">
                <a:solidFill>
                  <a:srgbClr val="000000"/>
                </a:solidFill>
                <a:latin typeface="FrutigerNext LT BlackCn"/>
                <a:ea typeface="华文细黑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model availability, simulation technology ability and limited  analysis time, it’s difficult, if not impossible, for SI engineers to consider all factors in system s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Serial link simulation technologies lag behind serial link develop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SI engineers are struggling with models in hand to get reliabl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5680" y="381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urrent Simulation Method Overview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15680" y="1114560"/>
            <a:ext cx="9412200" cy="97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mulation with encrypted model is mostly used metho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ark block is normally not supported by current simulation metho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7720" y="2352600"/>
            <a:ext cx="1380960" cy="5968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95480" y="2602080"/>
            <a:ext cx="12268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Data Sig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49480" y="2505240"/>
            <a:ext cx="12272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FEC &amp; Co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30760" y="2370240"/>
            <a:ext cx="137952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7080" y="2505240"/>
            <a:ext cx="12268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Pre-empha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39040" y="2505240"/>
            <a:ext cx="12268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Jit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3080" y="2711520"/>
            <a:ext cx="434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89840" y="2657520"/>
            <a:ext cx="64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040" y="2092320"/>
            <a:ext cx="9421560" cy="1017720"/>
          </a:xfrm>
          <a:prstGeom prst="rect">
            <a:avLst/>
          </a:prstGeom>
          <a:noFill/>
          <a:ln w="1908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9120" y="2346480"/>
            <a:ext cx="1380960" cy="59688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30760" y="2344680"/>
            <a:ext cx="1379520" cy="5968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73560" y="267192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67480" y="2355840"/>
            <a:ext cx="1380960" cy="59688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30800" y="2671920"/>
            <a:ext cx="435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10" idx="3"/>
            <a:endCxn id="111" idx="0"/>
          </p:cNvCxnSpPr>
          <p:nvPr/>
        </p:nvCxnSpPr>
        <p:spPr>
          <a:xfrm flipH="1">
            <a:off x="2588400" y="2642760"/>
            <a:ext cx="7265160" cy="1329480"/>
          </a:xfrm>
          <a:prstGeom prst="bentConnector4">
            <a:avLst>
              <a:gd name="adj1" fmla="val -2750"/>
              <a:gd name="adj2" fmla="val 6115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482840" y="6329520"/>
            <a:ext cx="1380960" cy="5983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60600" y="6505560"/>
            <a:ext cx="12268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R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6389640"/>
            <a:ext cx="1227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Feed Forward Equaliz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95880" y="6345360"/>
            <a:ext cx="137952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72200" y="6389640"/>
            <a:ext cx="1226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Decision Feedback Eq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97760" y="6480000"/>
            <a:ext cx="12272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CDR/Jit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78200" y="6642000"/>
            <a:ext cx="434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88400" y="6620040"/>
            <a:ext cx="64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7320" y="6157800"/>
            <a:ext cx="9666360" cy="974880"/>
          </a:xfrm>
          <a:prstGeom prst="rect">
            <a:avLst/>
          </a:prstGeom>
          <a:noFill/>
          <a:ln w="1908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24240" y="6329520"/>
            <a:ext cx="1380960" cy="5983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95880" y="6319800"/>
            <a:ext cx="1379520" cy="59688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38680" y="664524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32600" y="6329520"/>
            <a:ext cx="1381320" cy="5983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95920" y="664524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60480" y="6673680"/>
            <a:ext cx="16963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marL="293760" indent="-293760">
              <a:lnSpc>
                <a:spcPct val="140000"/>
              </a:lnSpc>
              <a:spcBef>
                <a:spcPts val="4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Recei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rot="5400000">
            <a:off x="1467000" y="5766480"/>
            <a:ext cx="878760" cy="848160"/>
          </a:xfrm>
          <a:prstGeom prst="bentConnector4">
            <a:avLst>
              <a:gd name="adj1" fmla="val 32704"/>
              <a:gd name="adj2" fmla="val 17414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4549680" y="3568680"/>
            <a:ext cx="55929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rmAutofit/>
          </a:bodyPr>
          <a:p>
            <a:pPr marL="533520" indent="-533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黑体"/>
              </a:rPr>
              <a:t>Current simulation proces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黑体"/>
              </a:rPr>
              <a:t>1) Modeling channel, including PCB traces, connectors , VIAs and et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黑体"/>
              </a:rPr>
              <a:t>2) Getting Models from chip vendors, always encrypted Model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黑体"/>
              </a:rPr>
              <a:t>3) Editing serial link netlist fi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黑体"/>
              </a:rPr>
              <a:t>4) Runring netlist on simulator and analyze resul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87320" y="3971880"/>
            <a:ext cx="3603600" cy="1779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47880" y="4094280"/>
            <a:ext cx="157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marL="293760" indent="-293760">
              <a:spcBef>
                <a:spcPts val="34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alog Passive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6480" y="4000680"/>
            <a:ext cx="3340080" cy="17319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15360" y="2463840"/>
            <a:ext cx="12272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T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43800" y="2344680"/>
            <a:ext cx="1381320" cy="5968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08920" y="2657520"/>
            <a:ext cx="434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15400" y="6496200"/>
            <a:ext cx="12272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gilent TT Cond"/>
                <a:ea typeface="PMingLiU"/>
              </a:rPr>
              <a:t>Slic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806040" y="6635880"/>
            <a:ext cx="64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850240" y="6345360"/>
            <a:ext cx="1381320" cy="5983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13920" y="666108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840" y="3144960"/>
            <a:ext cx="1965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 marL="293760" indent="-293760">
              <a:lnSpc>
                <a:spcPct val="140000"/>
              </a:lnSpc>
              <a:spcBef>
                <a:spcPts val="476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Transmit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5040" y="-68760"/>
            <a:ext cx="941220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imulation Example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1920" y="3408480"/>
            <a:ext cx="6337440" cy="2844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25400" y="797040"/>
            <a:ext cx="9758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marL="332640" indent="-33264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Current simulation method with encrypted model is extremely difficult to modulate jitter on serial data or statistically post-process wave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Encrypted model simulation is a time-consuming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Here is a very simple sample netlist for 2.5Gbps high-speed serial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黑体"/>
              </a:rPr>
              <a:t>40 minute simulation time to get only 132 bit resul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95920" y="6354720"/>
            <a:ext cx="4572000" cy="798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266840" y="6202440"/>
            <a:ext cx="3220920" cy="1038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15920" y="4705200"/>
            <a:ext cx="1116000" cy="1425600"/>
          </a:xfrm>
          <a:custGeom>
            <a:avLst/>
            <a:gdLst>
              <a:gd name="textAreaLeft" fmla="*/ 0 w 1116000"/>
              <a:gd name="textAreaRight" fmla="*/ 1116360 w 111600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9880" y="4416480"/>
            <a:ext cx="11653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FrutigerNext LT BlackCn"/>
                <a:ea typeface="华文细黑"/>
              </a:rPr>
              <a:t>Add Ji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5920" y="6202440"/>
            <a:ext cx="3635280" cy="1038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35200" y="6539040"/>
            <a:ext cx="18540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BlackCn"/>
                <a:ea typeface="华文细黑"/>
              </a:rPr>
              <a:t>Jitter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5040" y="0"/>
            <a:ext cx="94122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IBIS AMI Model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66840" y="2813040"/>
            <a:ext cx="6986520" cy="4272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25400" y="907920"/>
            <a:ext cx="94122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IBIS-ATM is working at improving simulation technique and proposing Algorithmic Modeling API (AMI) in IB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Mainly focus on emphasis, equalization and CDR modeling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LTI model and Non-LTI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66840" y="6910560"/>
            <a:ext cx="716580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Picture reference from “SerDes Modeling and IBIS”  at DAC_2007_IBIS_Sum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5680" y="381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imulation with AMI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16040" y="1114560"/>
            <a:ext cx="9083520" cy="61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me welcoming features of IBIS-AMI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) Non-linear component Components, like DFE and CDR could be included in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) Jitter parameters defined in AMI model, permitting jitter simulation with AMI mode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) Rx_Receiver_Sensitiv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ameter defined in AMI, slicer performance is also included in simul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) Simulation with AMI model will be much faster than simulation with encrypted model. Global equalization optimization becomes possi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)  In theory, AMI can do the job of modeling new emerging algorith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BIS AMI model makes a giant step on improving serial link simulation techniqu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4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I model still needs time to prove itself a successful solu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5040" y="32076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Agenda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5040" y="1407600"/>
            <a:ext cx="941220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99"/>
                </a:solidFill>
                <a:latin typeface="Arial"/>
              </a:rPr>
              <a:t>High-speed serial link si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9999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Arial"/>
              </a:rPr>
              <a:t>Current simulation method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9999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Arial"/>
              </a:rPr>
              <a:t>Simulation with AMI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L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itter introduced by P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itter simulation with PL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5040" y="112680"/>
            <a:ext cx="94122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Jitter Parameters in AMI model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5040" y="1336680"/>
            <a:ext cx="9412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Jitter parameters in AMI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)Tx_Jit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_Jitter Info Float Gaussian &lt;mean&gt; &lt;sigma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_Jitter Info Float Dual-Dirac &lt;mean&gt; &lt;mean&gt; &lt;sigma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_Jitter Info Float DjRj &lt;minDj&gt; &lt;maxDj&gt; &lt;sigma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_Jitter Info Float Table &lt;time&gt; &lt;probability&gt;   &lt;data&gt; &lt;data&gt;   EndTabl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TX_DC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_DCD Info Float Range &lt;type&gt; &lt;min&gt; &lt;max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)Rx_Clock_PD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x_Clock_PDF Inf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at Gaussian &lt;mean&gt; &lt;sigma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x_Clock_PDF Info Float Dual-Dirac &lt;mean&gt; &lt;mean&gt; &lt;sigma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x_Clock_PDF Info Float DjRj &lt;minDj&gt; &lt;maxDj&gt; &lt;sigma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x_Clock_PDF Info Float Table &lt;time&gt; &lt;probability&gt; &lt;data&gt; &lt;data&gt;   EndTabl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oted from “AMI_BIRD_DRAFT_1.0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t covers single value DJ, dual-dirac DJ, uniform DJ and user-defined PDF dat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se jitter parameters are used to describe jitters at transmitter and at receive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3200" y="1654200"/>
            <a:ext cx="6048360" cy="2814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51560" y="2739960"/>
            <a:ext cx="38178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Next LT BlackCn"/>
                <a:ea typeface="华文细黑"/>
              </a:rPr>
              <a:t>Jitter parameter of TX and RX may be not enough for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4:02:18Z</dcterms:created>
  <dc:creator>Interbrand</dc:creator>
  <dc:description/>
  <dc:language>en-US</dc:language>
  <cp:lastModifiedBy>Bob Ross</cp:lastModifiedBy>
  <dcterms:modified xsi:type="dcterms:W3CDTF">2007-08-16T20:33:49Z</dcterms:modified>
  <cp:revision>3285</cp:revision>
  <dc:subject/>
  <dc:title>PowerPoint Presentation</dc:title>
</cp:coreProperties>
</file>