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10671175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53DCE-6C3F-4291-B6DA-77541890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7DCD1-11B8-4D5C-AA99-7A42F342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BD3E4-FA8C-4AEC-8A52-517C3F66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BE94E-1CEF-4B2C-815F-CD948141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5543A-7951-4148-B937-EC082E23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CFB65-C072-4B1B-8971-2A2EBB20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5A94B-4969-475F-96B7-90C8B9D3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EBF00-F703-4F43-A409-E7EE30D7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F246B-54F7-4F1E-A0C9-169DD054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7E5AB-8444-40ED-A056-85F63D1B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6FECB-5891-46E1-86E7-09389948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9AA7C-3B82-45E9-9683-3EEE8DCE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20E5D-3411-4D77-BED4-1FF4F2A4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8E6AB-F046-4AC3-90F5-30BEB90A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6140D-4612-49C4-9CD2-857A9901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55D71-2DCB-43A1-B340-BF17020C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7DE60-5701-47CF-A76B-6ED7B4CA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E67C9-B16D-4488-841B-D769A408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7FE13-1940-455B-831B-87ACA87A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AC198-DE12-411F-B4B2-3C58E11F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484AE-DD53-4A6B-99D0-658AFCC6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9FA47-36E5-41E5-A2E8-3003EFA9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66525-2E72-4E31-A185-1E3B5BFE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96308-578C-4441-A610-C120EAB1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7257960"/>
            <a:ext cx="1066968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55640" y="754380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763120" y="7467480"/>
            <a:ext cx="1528560" cy="362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19920" y="7467480"/>
            <a:ext cx="1233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Page </a:t>
            </a:r>
            <a:fld id="{EC18B307-2ADD-4A07-A776-66D82CC5DEE1}" type="slidenum"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255920" y="7534440"/>
            <a:ext cx="1843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7257960"/>
            <a:ext cx="106696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81920" y="7543800"/>
            <a:ext cx="307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763120" y="7467480"/>
            <a:ext cx="1528560" cy="362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533160" y="7286400"/>
            <a:ext cx="24908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Page </a:t>
            </a:r>
            <a:fld id="{0834C950-4CBF-42F8-82E0-BF6B87559AEE}" type="slidenum"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067112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763120" y="650880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914400"/>
            <a:ext cx="10669680" cy="444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0080" y="380880"/>
            <a:ext cx="191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FrutigerNext LT Regular"/>
              </a:rPr>
              <a:t>02. August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724068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56760" y="4648320"/>
            <a:ext cx="175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FrutigerNext LT Medium"/>
                <a:ea typeface="宋体"/>
              </a:rPr>
              <a:t>www.huawei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03920" y="7240680"/>
            <a:ext cx="192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99920" y="2486160"/>
            <a:ext cx="90709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533520" y="1872360"/>
            <a:ext cx="960300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FrutigerNext LT Medium"/>
              </a:rPr>
              <a:t>Click to edit the outline text format</a:t>
            </a: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  <a:p>
            <a:pPr lvl="1" marL="457200" indent="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20760"/>
            <a:ext cx="960408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33520" y="1866600"/>
            <a:ext cx="96040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3"/>
          </p:nvPr>
        </p:nvSpPr>
        <p:spPr>
          <a:xfrm>
            <a:off x="533160" y="7286400"/>
            <a:ext cx="249084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4"/>
          </p:nvPr>
        </p:nvSpPr>
        <p:spPr>
          <a:xfrm>
            <a:off x="3646440" y="7286400"/>
            <a:ext cx="337824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5"/>
          </p:nvPr>
        </p:nvSpPr>
        <p:spPr>
          <a:xfrm>
            <a:off x="7647120" y="7286400"/>
            <a:ext cx="249048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871A-7291-4BB7-A424-D7715F2CB3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9920" y="2486160"/>
            <a:ext cx="90709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6"/>
          </p:nvPr>
        </p:nvSpPr>
        <p:spPr>
          <a:xfrm>
            <a:off x="533160" y="7286400"/>
            <a:ext cx="249084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7"/>
          </p:nvPr>
        </p:nvSpPr>
        <p:spPr>
          <a:xfrm>
            <a:off x="3646440" y="7286400"/>
            <a:ext cx="337824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8"/>
          </p:nvPr>
        </p:nvSpPr>
        <p:spPr>
          <a:xfrm>
            <a:off x="7647120" y="7286400"/>
            <a:ext cx="249048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762A-1F47-40DB-96C8-99C3A397E5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51200" y="3279600"/>
            <a:ext cx="43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September 11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Asian IBIS Summit, Beijing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9400" y="1768320"/>
            <a:ext cx="6973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FrutigerNext LT Medium"/>
              </a:rPr>
              <a:t>IBIS4.2 FOR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FrutigerNext LT Medium"/>
              </a:rPr>
              <a:t>DDR2 TIMING ANALYSI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11560" y="4576680"/>
            <a:ext cx="287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Guan T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guantao@huawe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Read Cycle Timing Calc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51200" y="1768320"/>
            <a:ext cx="5935680" cy="4838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398840" y="5945040"/>
            <a:ext cx="1224000" cy="611280"/>
          </a:xfrm>
          <a:prstGeom prst="rect">
            <a:avLst/>
          </a:prstGeom>
          <a:gradFill rotWithShape="0">
            <a:gsLst>
              <a:gs pos="0">
                <a:srgbClr val="990000">
                  <a:alpha val="86274"/>
                </a:srgbClr>
              </a:gs>
              <a:gs pos="100000">
                <a:srgbClr val="460000">
                  <a:alpha val="3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4960" y="320760"/>
            <a:ext cx="967932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Write Cycle Timing Analysis (fast)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9200" y="1515960"/>
            <a:ext cx="9145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 fast mode,</a:t>
            </a:r>
            <a:r>
              <a:rPr b="1" lang="en-US" sz="19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simulated eye diagram of write cycle is  as follow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valid window :1.426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distortion :0.074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39920" y="3279600"/>
            <a:ext cx="5815080" cy="35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Write Cycle Timing Analysis (slow)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00200" y="1552320"/>
            <a:ext cx="9028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low mode, the simulated eye diagram of write cycle is as follow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valid window:1.271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distortion: 0.229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311560" y="3208320"/>
            <a:ext cx="537984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Write Cycle Timing Calc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35200" y="1552680"/>
            <a:ext cx="6230880" cy="5324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867200" y="6413400"/>
            <a:ext cx="3060720" cy="432000"/>
          </a:xfrm>
          <a:prstGeom prst="rect">
            <a:avLst/>
          </a:prstGeom>
          <a:solidFill>
            <a:srgbClr val="00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Drawback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effic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thod of DDR2 timing analysis above is a time-consuming and manual procedure. Simulations are run on each net to generate eye diagrams, through which signal integrity and  timing characteristics of an individual net can be evalua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meaning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mulation is meaningless, when the margin is negativ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DR2 timing analysis is made under absolute worst-case conditions. Owing to the worst-case prediction of all parameters applied to a single net, the margin analysis method described above may predict a failure when in fact the actual design is soun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Deficiencie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of IBIS3.2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3.2 model has the following several deficiencies for timing analysis of DDR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BIS3.2 model is not programmable, so that it is difficult to implement a flexible simulation and process slew rate table automatically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BIS3.2 model is not flexible enough to accommodate new techniq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BIS3.2 model is a parameterized model, not able to process the simulated wavefo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IBIS4.2 Model Meets the Challenge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y Wolff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y L. Pratt. P.E and their collaborators solve these problems in IBIS4.2 model. IBIS4.2 is an extension of IBIS3.2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4.2/AMS multiplexer permits the simulator to select between an IBIS model with ODT and one without ODT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seamless switch of read cycle and write cycle simulatio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 running a section of VHDL code, the simulator is able to measure the slope of relevant signal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determines the corresponding value in the slew rate tabl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a good solution to problems we are facing no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IBIS 4.2 for Timing Analysi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200" y="1479600"/>
            <a:ext cx="97203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the IBIS4.2 model ,we can make the following measurements automaticall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overshoot area measu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setup and holdup timing measu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ew-dependent timing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455920" y="4000680"/>
            <a:ext cx="47530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One Solution of ODT Circui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87560" y="2560680"/>
            <a:ext cx="8008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VHDL-AMS Code for Multiplexer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305000" y="1913040"/>
            <a:ext cx="70167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technologies have brought challenges to IBIS mod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DR2 timing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d cycle timing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ite cycle timing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4.2 model meets the challe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lew Rate Table Calc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42840" y="1552680"/>
            <a:ext cx="815976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Output Results 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19200" y="1552680"/>
            <a:ext cx="72010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Advantage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5200" y="1696680"/>
            <a:ext cx="9675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BIS4.2 model is programmable, so that the model is flexible and appropriate to new technolog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rgin is properly measured on every edge in the method of timing analysis, which takes the influence of slew rate table into consider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cedure of timing analysis is automatic and prompt. The output results are reasonable and si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Requirements from System Vendor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BIS4.2 model is a good solution to the high rate bus of memory timing analysi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There is still few EDA vendors to fully support the IBIS4.2 mode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Due to no spice2AMS tool in place, the majority of  IC vendors do not have a schedule  to provide the IBIS4.2 mode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he results are consistent , when we use the same IBIS model on different platform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The IBIS model should be accurate enough to depict electrical characteristics of chip properl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Building the package model should be paid  more attention to as the bus rate  increase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velopment of IBIS needs our effort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hallenge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00200" y="1479240"/>
            <a:ext cx="953136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SI and timing problems emerge as the rate of  bus increases , these problems can be eliminated by new techniques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T (On Die Terminati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D (Off-chip Driv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of DDR2 model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model the ODT circu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use the slew rate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tup and holdup time are varying with the slope of the signal in DDR2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DDR2 Timing Analysis Method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oper method of a DDR2 timing analysis should contain the following  essential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king for a balance between simulation efficiency and waveform qual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rallel simulation and crosstalk can be processed by EDA platform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DA platform can process the PRBS (pseudo-random bit sequence) cod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ology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ing and transmitter/receiver buffer can be automatically analy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ttle and switch delay between standard load and practical load can be consider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uence of voltage and temperature can be included in the simulatio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DT circuit and slew rate table can be conside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Current simulation method is not good enough to support the features listed her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  <a:ea typeface=""/>
              </a:rPr>
              <a:t>Timing Relationships of DDR2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8480" y="1552680"/>
            <a:ext cx="874080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timing relationships in DDR2 timing analys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AND and CK/CK#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Q and DQS/DQS#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QS and CK/CK#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90840" y="3929040"/>
            <a:ext cx="4514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Data Valid Window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The SSTL_18 is intended for DDR2 interface applica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90840" y="2705040"/>
            <a:ext cx="64688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DDR2 Timing Analysis with IBIS 3.2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ing is an example of timing analysis of DQ and DQS. The ADDRESS/COMMAND timing analysis is simil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pology of DQ/DQS is point to point featur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dels of CONTROLLER and MEMORY are IBIS3.2 mode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87560" y="4179960"/>
            <a:ext cx="50198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Read Cycle Timing Analysis (fast)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200" y="1407600"/>
            <a:ext cx="936468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fast mode,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mulated eye diagram of read cycle is  as follo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valid window :1.255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distortion: 0.245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95560" y="3279600"/>
            <a:ext cx="5786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99840" y="320400"/>
            <a:ext cx="960444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Read Cycle Timing Analysis (slow)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9840" y="1479600"/>
            <a:ext cx="91724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low mode,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mulated eye diagram of read cycle is  as follo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valid window: 1.217n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distortion :0.283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166840" y="3208320"/>
            <a:ext cx="551016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02:18Z</dcterms:created>
  <dc:creator>Interbrand</dc:creator>
  <dc:description/>
  <dc:language>en-US</dc:language>
  <cp:lastModifiedBy>g63374</cp:lastModifiedBy>
  <dcterms:modified xsi:type="dcterms:W3CDTF">2007-08-13T03:52:04Z</dcterms:modified>
  <cp:revision>206</cp:revision>
  <dc:subject/>
  <dc:title>PowerPoint Presentation</dc:title>
</cp:coreProperties>
</file>