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8AB8-5285-4159-B31D-1AE50B41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29A-2181-4076-B055-BC6ABEBC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5E1-CF73-413D-8F75-3D94B4FD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4A0-F1D5-4FA5-A1E4-92901E8F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F5CA-72B0-4FC5-B80E-EA9C3BAB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318-86DA-4DFA-935C-7317B1EB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A36-33F7-4FB7-8542-6AE13F2E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C9D-3DD8-4205-8564-34CAE2B7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9482-9EE4-4EB8-8A57-F94C2D34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38E-A1C5-480A-A875-E65BB9B5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F508-8752-4FCF-9C69-113192DC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BE0-099E-44B6-95F3-79E27E50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32BE-AEE6-42ED-B4FD-1ACA039A7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9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0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9118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6960" y="317520"/>
            <a:ext cx="4124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SIAN IBIS SUMMIT (CH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44840" y="469800"/>
            <a:ext cx="281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96960" y="1612800"/>
            <a:ext cx="4124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SimSun"/>
              </a:rPr>
              <a:t>亚洲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IBIS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SimSun"/>
              </a:rPr>
              <a:t>技术研讨会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SimSun"/>
              </a:rPr>
              <a:t>中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9440" y="4911840"/>
            <a:ext cx="30272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414160" y="5322960"/>
            <a:ext cx="4680" cy="1218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95360" y="2290680"/>
            <a:ext cx="46213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9920" y="2670120"/>
            <a:ext cx="258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1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k Plaza Ho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ijing,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00680" y="3649680"/>
            <a:ext cx="19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200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SimSun"/>
                <a:ea typeface="SimSun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9 </a:t>
            </a:r>
            <a:r>
              <a:rPr b="1" lang="zh-CN" sz="1200" spc="-1" strike="noStrike">
                <a:solidFill>
                  <a:srgbClr val="000000"/>
                </a:solidFill>
                <a:latin typeface="SimSun"/>
                <a:ea typeface="SimSun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zh-CN" sz="1200" spc="-1" strike="noStrike">
                <a:solidFill>
                  <a:srgbClr val="000000"/>
                </a:solidFill>
                <a:latin typeface="SimSun"/>
                <a:ea typeface="SimSun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84840" y="3843360"/>
            <a:ext cx="19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北京丽亭华苑酒店          中国 北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627280" y="4475160"/>
          <a:ext cx="1017720" cy="87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4475160"/>
                    <a:ext cx="101772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749760" y="4545000"/>
            <a:ext cx="32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IA IBIS OPEN FORUM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www.eigroup.org/ibi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684600" y="5132520"/>
            <a:ext cx="1036800" cy="23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4905360" y="5167440"/>
          <a:ext cx="862200" cy="28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05360" y="5167440"/>
                    <a:ext cx="86220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991120" y="5234040"/>
          <a:ext cx="863640" cy="18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91120" y="5234040"/>
                    <a:ext cx="863640" cy="1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811840" y="5753160"/>
          <a:ext cx="1014480" cy="266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11840" y="5753160"/>
                    <a:ext cx="10144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694400" y="5784840"/>
          <a:ext cx="819000" cy="209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94400" y="5784840"/>
                    <a:ext cx="81900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765600" y="6194520"/>
          <a:ext cx="2065320" cy="398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765600" y="6194520"/>
                    <a:ext cx="206532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14"/>
          <a:stretch/>
        </p:blipFill>
        <p:spPr>
          <a:xfrm>
            <a:off x="3836880" y="5559480"/>
            <a:ext cx="501840" cy="47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2610000" y="6002280"/>
          <a:ext cx="966600" cy="731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10000" y="6002280"/>
                    <a:ext cx="9666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725560" y="6551640"/>
            <a:ext cx="785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66ff"/>
                </a:solidFill>
                <a:latin typeface="Verdana"/>
              </a:rPr>
              <a:t>Spons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114960" y="6297480"/>
          <a:ext cx="690480" cy="231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14960" y="6297480"/>
                    <a:ext cx="690480" cy="2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828880" y="5402160"/>
          <a:ext cx="547560" cy="547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828880" y="5402160"/>
                    <a:ext cx="54756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49118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1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reshments &amp; Sign In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00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icial Opening and Welcom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iang Zhong JIANG (Huawei Technologies, People’s Republic of Chin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ichael MIRMAK (Chair., EIA IBIS Open Forum, Intel Corporation, USA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30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g Algebra and Interconnec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 ROSS (Teraspeed Consulting Group, USA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50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IS-ATM Update: SerDes Modeling in IB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dd WESTERHOFF (Signal Integrity Software (SiSoft), USA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15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30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ial Link Analysis and PLL Mod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un Xing HUANG (Huawei Technologies, China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:00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Review of Existing Multi-Gbps Serial Channel Analys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s and the Evolution of the Proposed ATM Algorithmic Modeling Standar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an DODD*, Richard WARD** and Sanjeev GUPTA*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Agilent Technologies, USA and **Texas Instruments, U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1000" y="165240"/>
            <a:ext cx="8480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SIAN IBIS SUMMIT (CH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71760" y="762120"/>
            <a:ext cx="4124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SimSun"/>
              </a:rPr>
              <a:t>亚洲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IBIS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SimSun"/>
              </a:rPr>
              <a:t>技术研讨会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SimSun"/>
              </a:rPr>
              <a:t>中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49118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280"/>
            <a:ext cx="86868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verview of High-Speed Serial Bus Validation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pad MURANYI and Vladimir DMITRIEV-ZDO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ntor Graphics Corporation, U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: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CH - Hosted by Our Spo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:30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ng and Simulation for Multi-Gigabit Interconnec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un Lin ZHU, Wei Dong HU, and Song Rui 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ZTE Corporation, People’s Republic of Ch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:00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Deliver System Design Auto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o XU (Sigrity, People’s Republic of Ch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:30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4.2/AMS for DDR2 Timing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o GUAN (Huawei Technologies, People’s Republic of Ch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:00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 for IBIS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ce WANG*, Xin Jun ZHANG**, and Benny YAN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O Methodology, *USA, **People’s Republic of Ch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: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Algorithm Including Reactive L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ue Feng CHEN (Synopsys, People’s Republic of Ch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11430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49118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228600"/>
            <a:ext cx="861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:40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(Refresh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:55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 and Using ICM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u Bao MENG (Cadence Design Systems,  People’s Republic of Ch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:25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S-Parameters for High Performanc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o Long LI (Ansoft, People’s Republic of Ch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:55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Combining Buffer and Interconnec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MIRMAK (Intel Corporation, U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:15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Des Modeling: IBIS-AMI Evaluation 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d WESTERHOFF (Signal Integrity Software (SiSoft), U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:20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AMI Model Developers’ Too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ant SHAH (Cadence Design Systems, U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:25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ding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:30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IBIS SUMMIT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6:09:37Z</dcterms:created>
  <dc:creator>Bob Ross</dc:creator>
  <dc:description/>
  <dc:language>en-US</dc:language>
  <cp:lastModifiedBy>Michael Mirmak</cp:lastModifiedBy>
  <dcterms:modified xsi:type="dcterms:W3CDTF">2007-09-10T02:41:59Z</dcterms:modified>
  <cp:revision>146</cp:revision>
  <dc:subject/>
  <dc:title>Slide 1</dc:title>
</cp:coreProperties>
</file>