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46888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6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7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6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7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520" y="2541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6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7760" y="196524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6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7760" y="3831120"/>
            <a:ext cx="26481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2541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9920" y="383112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9920" y="1965240"/>
            <a:ext cx="40132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831120"/>
            <a:ext cx="822456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15346" r="0" b="81118"/>
          <a:stretch/>
        </p:blipFill>
        <p:spPr>
          <a:xfrm>
            <a:off x="0" y="1052640"/>
            <a:ext cx="9144000" cy="242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78000"/>
          </a:bodyPr>
          <a:p>
            <a:pPr marL="225360" indent="-225360">
              <a:lnSpc>
                <a:spcPct val="95000"/>
              </a:lnSpc>
              <a:spcBef>
                <a:spcPts val="187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6400" indent="-13716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49240" indent="-96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0274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2517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57200" y="657180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BAE205B-BC35-4315-93F2-3F5CD6CE1A86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6200" y="6638400"/>
            <a:ext cx="12834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DesignCon East 20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14720" y="6634080"/>
            <a:ext cx="28029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IBIS 4.1 Macromodel Library for Simulator-independent model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0" b="53339"/>
          <a:stretch/>
        </p:blipFill>
        <p:spPr>
          <a:xfrm>
            <a:off x="0" y="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7800" y="3581280"/>
            <a:ext cx="7799400" cy="1114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6010EE5-175F-4942-9A8D-6703D1FD03C7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14720" y="6634080"/>
            <a:ext cx="28029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Arial"/>
              </a:rPr>
              <a:t>IBIS 4.1 Macromodel Library for Simulator-independent model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6200" y="6638400"/>
            <a:ext cx="12834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DesignCon East 20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6992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89000" indent="-12384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-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1760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4876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BIS 4.1 Macromodel Library for Simulator Independent Modeling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pad Muranyi, Mike LaBonte, Todd Westerhoff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 Chitwood, Ian Dodd, Barry Katz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tt McMorrow, Bob Ross, Ken Willis</a:t>
            </a:r>
            <a:br>
              <a:rPr sz="2000"/>
            </a:br>
            <a:br>
              <a:rPr sz="4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96080" y="4114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203480" y="1935000"/>
            <a:ext cx="1401480" cy="1157040"/>
            <a:chOff x="1203480" y="1935000"/>
            <a:chExt cx="1401480" cy="1157040"/>
          </a:xfrm>
        </p:grpSpPr>
        <p:sp>
          <p:nvSpPr>
            <p:cNvPr id="177" name=""/>
            <p:cNvSpPr/>
            <p:nvPr/>
          </p:nvSpPr>
          <p:spPr>
            <a:xfrm>
              <a:off x="1203480" y="1935000"/>
              <a:ext cx="140148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.i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03480" y="2239200"/>
              <a:ext cx="1401480" cy="8528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203480" y="4859280"/>
            <a:ext cx="1401480" cy="1158480"/>
            <a:chOff x="1203480" y="4859280"/>
            <a:chExt cx="1401480" cy="1158480"/>
          </a:xfrm>
        </p:grpSpPr>
        <p:sp>
          <p:nvSpPr>
            <p:cNvPr id="180" name=""/>
            <p:cNvSpPr/>
            <p:nvPr/>
          </p:nvSpPr>
          <p:spPr>
            <a:xfrm>
              <a:off x="1203480" y="4859280"/>
              <a:ext cx="140148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ld_blks.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03480" y="5163840"/>
              <a:ext cx="1401480" cy="8539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352680" y="3182760"/>
            <a:ext cx="1828800" cy="12178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CT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3946680"/>
            <a:ext cx="1676520" cy="0"/>
          </a:xfrm>
          <a:prstGeom prst="line">
            <a:avLst/>
          </a:prstGeom>
          <a:ln w="284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54960" y="3548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62520" y="409716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97520" y="5029200"/>
            <a:ext cx="1737000" cy="11588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log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49400" y="1447920"/>
            <a:ext cx="0" cy="5057640"/>
          </a:xfrm>
          <a:prstGeom prst="line">
            <a:avLst/>
          </a:prstGeom>
          <a:ln w="1908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980400" y="3281400"/>
            <a:ext cx="1401480" cy="2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lists.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80400" y="3505320"/>
            <a:ext cx="1401480" cy="9903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iz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cromodels in Verilog-A simul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5909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590920" y="4191120"/>
            <a:ext cx="9144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90920" y="563868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3733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1203480" y="1935000"/>
            <a:ext cx="1401480" cy="1157040"/>
            <a:chOff x="1203480" y="1935000"/>
            <a:chExt cx="1401480" cy="1157040"/>
          </a:xfrm>
        </p:grpSpPr>
        <p:sp>
          <p:nvSpPr>
            <p:cNvPr id="196" name=""/>
            <p:cNvSpPr/>
            <p:nvPr/>
          </p:nvSpPr>
          <p:spPr>
            <a:xfrm>
              <a:off x="1203480" y="1935000"/>
              <a:ext cx="140148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.i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03480" y="2239200"/>
              <a:ext cx="1401480" cy="8528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143000" y="3946680"/>
            <a:ext cx="1676520" cy="0"/>
          </a:xfrm>
          <a:prstGeom prst="line">
            <a:avLst/>
          </a:prstGeom>
          <a:ln w="284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54960" y="3548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62520" y="409716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97520" y="5105520"/>
            <a:ext cx="1737000" cy="1158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HDL-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9400" y="1447920"/>
            <a:ext cx="0" cy="5057640"/>
          </a:xfrm>
          <a:prstGeom prst="line">
            <a:avLst/>
          </a:prstGeom>
          <a:ln w="1908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cromodels in VHDL-AMS simul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90920" y="571500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219320" y="5029200"/>
            <a:ext cx="1401480" cy="1214280"/>
            <a:chOff x="1219320" y="5029200"/>
            <a:chExt cx="1401480" cy="1214280"/>
          </a:xfrm>
        </p:grpSpPr>
        <p:sp>
          <p:nvSpPr>
            <p:cNvPr id="206" name=""/>
            <p:cNvSpPr/>
            <p:nvPr/>
          </p:nvSpPr>
          <p:spPr>
            <a:xfrm>
              <a:off x="1219320" y="5029200"/>
              <a:ext cx="1401480" cy="22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ld_blks.vh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19320" y="5253120"/>
              <a:ext cx="1401480" cy="99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352680" y="1982880"/>
            <a:ext cx="1828800" cy="1217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LIS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980400" y="1905120"/>
            <a:ext cx="1401480" cy="22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lists.v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980400" y="2128680"/>
            <a:ext cx="140148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2590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81480" y="2590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96080" y="31240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7696080" y="31240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203480" y="1935000"/>
            <a:ext cx="1401480" cy="1157040"/>
            <a:chOff x="1203480" y="1935000"/>
            <a:chExt cx="1401480" cy="1157040"/>
          </a:xfrm>
        </p:grpSpPr>
        <p:sp>
          <p:nvSpPr>
            <p:cNvPr id="216" name=""/>
            <p:cNvSpPr/>
            <p:nvPr/>
          </p:nvSpPr>
          <p:spPr>
            <a:xfrm>
              <a:off x="1203480" y="1935000"/>
              <a:ext cx="140148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rt.i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03480" y="2239200"/>
              <a:ext cx="1401480" cy="8528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203480" y="4859280"/>
            <a:ext cx="1401480" cy="1158480"/>
            <a:chOff x="1203480" y="4859280"/>
            <a:chExt cx="1401480" cy="1158480"/>
          </a:xfrm>
        </p:grpSpPr>
        <p:sp>
          <p:nvSpPr>
            <p:cNvPr id="219" name=""/>
            <p:cNvSpPr/>
            <p:nvPr/>
          </p:nvSpPr>
          <p:spPr>
            <a:xfrm>
              <a:off x="1203480" y="4859280"/>
              <a:ext cx="140148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ld_blks.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03480" y="5163840"/>
              <a:ext cx="1401480" cy="8539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352680" y="1982880"/>
            <a:ext cx="1828800" cy="12175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RA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3946680"/>
            <a:ext cx="1676520" cy="0"/>
          </a:xfrm>
          <a:prstGeom prst="line">
            <a:avLst/>
          </a:prstGeom>
          <a:ln w="284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54960" y="3548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62520" y="409716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797520" y="5029200"/>
            <a:ext cx="1737000" cy="11588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CE/I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49400" y="1447920"/>
            <a:ext cx="0" cy="5057640"/>
          </a:xfrm>
          <a:prstGeom prst="line">
            <a:avLst/>
          </a:prstGeom>
          <a:ln w="1908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980400" y="1905120"/>
            <a:ext cx="1401480" cy="22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lists.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80400" y="2128680"/>
            <a:ext cx="1401480" cy="9907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cromodels in SPICE/IBIS simul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2590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495680" y="320040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932280" y="4881600"/>
            <a:ext cx="1401840" cy="2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d_blks.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32280" y="5105520"/>
            <a:ext cx="1401840" cy="9903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5562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87280" y="5562720"/>
            <a:ext cx="6728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34120" y="56386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32480" y="3581280"/>
            <a:ext cx="1401840" cy="22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s.i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532480" y="3805200"/>
            <a:ext cx="1401840" cy="99072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181480" y="2590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00800" y="48006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rcRect l="0" t="18134" r="0" b="0"/>
          <a:stretch/>
        </p:blipFill>
        <p:spPr>
          <a:xfrm>
            <a:off x="1143000" y="2362320"/>
            <a:ext cx="7020000" cy="41288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ne 14, 2005: A Clear Strate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447920"/>
            <a:ext cx="7924680" cy="10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S models that can be translat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 SPICE implement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all to 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38480" y="1965240"/>
            <a:ext cx="46418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375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BIS/AMS macromodeling proposal presented at IBIS Summit, June 2005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375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ters sent out to major simulator vendors inviting them to participate in library defin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375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rking group form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pad still does most of the coding and testing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278160" cy="2459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orking Grou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7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l – Arpad Murany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dence Design Systems – Ken Willi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sco Systems – Mike LaBonte, Todd Westerhoff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ntor Graphics – Ian Dod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grity – Sam Chitwoo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Soft – Barry Katz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raspeed -  Scott McMorrow, Bob Ros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75000"/>
              </a:lnSpc>
              <a:spcBef>
                <a:spcPts val="162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Library - Basic El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55760" y="1965240"/>
          <a:ext cx="8224200" cy="3571920"/>
        </p:xfrm>
        <a:graphic>
          <a:graphicData uri="http://schemas.openxmlformats.org/drawingml/2006/table">
            <a:tbl>
              <a:tblPr/>
              <a:tblGrid>
                <a:gridCol w="2056320"/>
                <a:gridCol w="2055600"/>
                <a:gridCol w="2055960"/>
                <a:gridCol w="2056320"/>
              </a:tblGrid>
              <a:tr h="89280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ed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ge Controll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Controll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VC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CC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80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VC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CC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VC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624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CC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Library - Sour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52280" y="1981080"/>
          <a:ext cx="8686800" cy="2725920"/>
        </p:xfrm>
        <a:graphic>
          <a:graphicData uri="http://schemas.openxmlformats.org/drawingml/2006/table">
            <a:tbl>
              <a:tblPr/>
              <a:tblGrid>
                <a:gridCol w="1143000"/>
                <a:gridCol w="990720"/>
                <a:gridCol w="1600200"/>
                <a:gridCol w="1523880"/>
                <a:gridCol w="1676520"/>
                <a:gridCol w="1752480"/>
              </a:tblGrid>
              <a:tr h="94140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ge Contro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Contro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ge Controlled with 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Controlled with  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72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ge 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VCV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CCV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VCVS_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CCVS_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80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VC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CC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VCVS_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CCCS_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Library – Oper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80880" y="1981080"/>
          <a:ext cx="8458200" cy="3573720"/>
        </p:xfrm>
        <a:graphic>
          <a:graphicData uri="http://schemas.openxmlformats.org/drawingml/2006/table">
            <a:tbl>
              <a:tblPr/>
              <a:tblGrid>
                <a:gridCol w="2819520"/>
                <a:gridCol w="2743200"/>
                <a:gridCol w="2895480"/>
              </a:tblGrid>
              <a:tr h="89388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Controlled Current (with scal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ge Controlled Voltage (with scal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CCCS_S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VCVS_S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CCCS_M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VCVS_M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CCCS_D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VCVS_D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Library – Operators (Cont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455760" y="1965240"/>
          <a:ext cx="8224560" cy="3571920"/>
        </p:xfrm>
        <a:graphic>
          <a:graphicData uri="http://schemas.openxmlformats.org/drawingml/2006/table">
            <a:tbl>
              <a:tblPr/>
              <a:tblGrid>
                <a:gridCol w="2741400"/>
                <a:gridCol w="2667600"/>
                <a:gridCol w="2815560"/>
              </a:tblGrid>
              <a:tr h="89316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ge Controlled Current (with scal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Controlled Voltage (with scal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72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VCCS_S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CCVS_S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VCCS_M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CCVS_M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VCCS_D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CCVS_D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2249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85000"/>
          </a:bodyPr>
          <a:p>
            <a:pPr marL="245520" indent="-245520">
              <a:lnSpc>
                <a:spcPct val="75000"/>
              </a:lnSpc>
              <a:spcBef>
                <a:spcPts val="2001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ry – How did we get her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75000"/>
              </a:lnSpc>
              <a:spcBef>
                <a:spcPts val="2001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cromodeling concep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75000"/>
              </a:lnSpc>
              <a:spcBef>
                <a:spcPts val="2001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all to 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75000"/>
              </a:lnSpc>
              <a:spcBef>
                <a:spcPts val="2001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orking grou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75000"/>
              </a:lnSpc>
              <a:spcBef>
                <a:spcPts val="2001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building block libr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75000"/>
              </a:lnSpc>
              <a:spcBef>
                <a:spcPts val="2001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75000"/>
              </a:lnSpc>
              <a:spcBef>
                <a:spcPts val="2001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 rot="20713800">
            <a:off x="1599840" y="5105160"/>
            <a:ext cx="56386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Library – Active Devi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228600" y="2422440"/>
          <a:ext cx="8610480" cy="1122480"/>
        </p:xfrm>
        <a:graphic>
          <a:graphicData uri="http://schemas.openxmlformats.org/drawingml/2006/table">
            <a:tbl>
              <a:tblPr/>
              <a:tblGrid>
                <a:gridCol w="914400"/>
                <a:gridCol w="2432160"/>
                <a:gridCol w="2512800"/>
                <a:gridCol w="2751120"/>
              </a:tblGrid>
              <a:tr h="54288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 / Outpu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 On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 On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BUFFER_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BUFFER_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BUFFER_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228600" y="3733920"/>
          <a:ext cx="8610480" cy="1295280"/>
        </p:xfrm>
        <a:graphic>
          <a:graphicData uri="http://schemas.openxmlformats.org/drawingml/2006/table">
            <a:tbl>
              <a:tblPr/>
              <a:tblGrid>
                <a:gridCol w="990720"/>
                <a:gridCol w="2361960"/>
                <a:gridCol w="2362320"/>
                <a:gridCol w="2895480"/>
              </a:tblGrid>
              <a:tr h="63180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D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Sour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f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BUFFER_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BUFFER_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BUFFER_SE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 rot="20713800">
            <a:off x="1752120" y="1828440"/>
            <a:ext cx="56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Library – Other Mod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752480" y="2666880"/>
          <a:ext cx="5408640" cy="1784520"/>
        </p:xfrm>
        <a:graphic>
          <a:graphicData uri="http://schemas.openxmlformats.org/drawingml/2006/table">
            <a:tbl>
              <a:tblPr/>
              <a:tblGrid>
                <a:gridCol w="2741760"/>
                <a:gridCol w="2666880"/>
              </a:tblGrid>
              <a:tr h="89244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ctive Coup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ssion 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36360" bIns="3636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IS_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ple AMS Element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2819160"/>
            <a:ext cx="3429000" cy="181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2080" rIns="82080" tIns="41040" bIns="41040" anchor="ctr" anchorCtr="1">
            <a:normAutofit/>
          </a:bodyPr>
          <a:p>
            <a:pPr marL="289080" indent="0">
              <a:lnSpc>
                <a:spcPct val="95000"/>
              </a:lnSpc>
              <a:spcBef>
                <a:spcPts val="6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odule IBIS_R (p, n);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6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electrical p, n;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6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branch    (p, n) Out;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6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parameter real Rval  = 1.0;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6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parameter real Scale = 1.0;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6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6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analog begi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6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V(Out) &lt;+ Scale * Rval * I(Out);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6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6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190760" y="1711440"/>
            <a:ext cx="4647960" cy="476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2080" rIns="82080" tIns="41040" bIns="41040" anchor="ctr" anchorCtr="1">
            <a:normAutofit fontScale="99000"/>
          </a:bodyPr>
          <a:p>
            <a:pPr marL="285840" indent="0">
              <a:lnSpc>
                <a:spcPct val="75000"/>
              </a:lnSpc>
              <a:spcBef>
                <a:spcPts val="68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odule IBIS_K (p1, n1, p2, n2);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  output     p1, n1, p2, n2;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  electrical p1, n1, p2, n2;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  branch    (p1, n1) Out1;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  branch    (p2, n2) Out2;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  parameter real Lval_1 = 1.0;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  parameter real Lval_2 = 1.0;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  parameter real Kval   = 0.0;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  parameter real I0_1   = 0.0;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  parameter real I0_2   = 0.0;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  parameter real Scale  = 1.0;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5000"/>
              </a:lnSpc>
              <a:spcBef>
                <a:spcPts val="68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// This should be declared as "localparam" so that i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5000"/>
              </a:lnSpc>
              <a:spcBef>
                <a:spcPts val="68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// couldn't be changed from the outsid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5000"/>
              </a:lnSpc>
              <a:spcBef>
                <a:spcPts val="68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//localparam real M = Kval * sqrt(Lval_1 * Lval_2);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  parameter real M = Kval * sqrt(Lval_1 * Lval_2); 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5000"/>
              </a:lnSpc>
              <a:spcBef>
                <a:spcPts val="68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analog begin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    if (Scale * Lval_1 &gt; 0.0) begin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      I(Out1) &lt;+ (idt(V(Out1), I0_1*Scale*Lval_1) –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*(I(Out2)-I0_2)) / (Scale*Lval_1);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    end else begin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      V(Out1) &lt;+ 0.0;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    end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    if (Scale * Lval_2 &gt; 0.0) begin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      I(Out2) &lt;+ (idt(V(Out2), I0_2*Scale*Lval_2) –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*(I(Out1)-I0_1)) / (Scale*Lval_2);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    end else begin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      V(Out2) &lt;+ 0.0;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    end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  end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5000"/>
              </a:lnSpc>
              <a:spcBef>
                <a:spcPts val="68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100"/>
            </a:b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40840" y="2438280"/>
            <a:ext cx="206856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9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mple Re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469840" y="1309680"/>
            <a:ext cx="22957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9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ductive Coup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 fontScale="88000"/>
          </a:bodyPr>
          <a:p>
            <a:pPr marL="254160" indent="-254160">
              <a:lnSpc>
                <a:spcPct val="75000"/>
              </a:lnSpc>
              <a:spcBef>
                <a:spcPts val="125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ilog-A(MS) does not allow a string to be passed as a file name to the $table_model keyw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680" indent="-154800">
              <a:lnSpc>
                <a:spcPct val="7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instance of the building block would have to be duplicated with a hard coded file name, 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680" indent="-154800">
              <a:lnSpc>
                <a:spcPct val="7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could pass the data into the building block as parameters from the netlist when instantiating 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75000"/>
              </a:lnSpc>
              <a:spcBef>
                <a:spcPts val="125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ilog-A(MS) provides NO file parsing capabilities to read data from external fi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680" indent="-154800">
              <a:lnSpc>
                <a:spcPct val="7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ata will have to be extracted from the IBIS file manually or by a separate script (VHDL-AMS doesn’t have this limit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75000"/>
              </a:lnSpc>
              <a:spcBef>
                <a:spcPts val="125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ilog-A(MS) has very limited array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75000"/>
              </a:lnSpc>
              <a:spcBef>
                <a:spcPts val="125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HDL-AMS and Verilog-A(MS) do not allow expressions to be passed as parameters like (H)SP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eate more templates to find out what additional building blocks need to be writt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e need semiconductor vendor participation – using the library to model current par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62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nslator implementation for EDA companies without native Verilog-A(MS) / VHDL-AMS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s approach should help speed the adoption of AMS as a modeling language for signal integrity purpos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874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ull AMS models (as opposed to templates based on macromodels) will appear once all EDA vendors support AM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ry – How Did We Get Her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isn’t keeping up with the demands of new I/O technolog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CE use in SI analysis is increa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4.1 allows AMS models to be called from IBIS, but adoption has been s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85000"/>
              </a:lnSpc>
              <a:spcBef>
                <a:spcPts val="150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romodeling proposed at January 2005 summit by Donald Telian of Cadence as an alternative to full AMS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17604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al was for Berkeley SPICE exten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story – How Did We Get Her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95000"/>
              </a:lnSpc>
              <a:spcBef>
                <a:spcPts val="150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 group formed (Intel, Cisco, Teraspeed, SiSoft, Cadence) to explore macromodeling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50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romodeling in AMS proposed as a bridge to full AMS models, without requiring IBIS specification changes that would be required for SPICE exten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5000"/>
              </a:lnSpc>
              <a:spcBef>
                <a:spcPts val="150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-of-concept models built and presented at DAC 2005 IBIS Sum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 2005: First Attempts at Mixing Spice/A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0" t="9999" r="0" b="10367"/>
          <a:stretch/>
        </p:blipFill>
        <p:spPr>
          <a:xfrm>
            <a:off x="1752480" y="1447920"/>
            <a:ext cx="5334120" cy="4946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 rot="21389400">
            <a:off x="2671920" y="4567320"/>
            <a:ext cx="92844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pice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 rot="21474600">
            <a:off x="5497560" y="4343400"/>
            <a:ext cx="79848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MS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cromodel Concep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965240"/>
            <a:ext cx="82245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 anchorCtr="1">
            <a:normAutofit/>
          </a:bodyPr>
          <a:p>
            <a:pPr marL="289080" indent="-289080">
              <a:lnSpc>
                <a:spcPct val="75000"/>
              </a:lnSpc>
              <a:spcBef>
                <a:spcPts val="125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a library of AMS “elements” that can be instantiated and interconnected to create complex buffer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25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AMS elements after sources and elements found in popular SPICE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25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ress the reference definitions of element behavior using an AMS langua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25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sure elements can be implemented by substitution in SPICE engines without native AMS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25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ize AMS element library across all model provid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75000"/>
              </a:lnSpc>
              <a:spcBef>
                <a:spcPts val="1250"/>
              </a:spcBef>
              <a:buClr>
                <a:srgbClr val="33cccc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files reference netlists constructed from reference “templates”, which instantiate the AMS el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cromodel Hierarch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103640" y="1327320"/>
            <a:ext cx="4847400" cy="4647240"/>
            <a:chOff x="4103640" y="1327320"/>
            <a:chExt cx="4847400" cy="4647240"/>
          </a:xfrm>
        </p:grpSpPr>
        <p:cxnSp>
          <p:nvCxnSpPr>
            <p:cNvPr id="99" name="_s1192965"/>
            <p:cNvCxnSpPr>
              <a:stCxn id="100" idx="1"/>
              <a:endCxn id="101" idx="2"/>
            </p:cNvCxnSpPr>
            <p:nvPr/>
          </p:nvCxnSpPr>
          <p:spPr>
            <a:xfrm rot="10800000">
              <a:off x="7066080" y="4706640"/>
              <a:ext cx="269640" cy="845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1192966"/>
            <p:cNvCxnSpPr>
              <a:stCxn id="103" idx="1"/>
              <a:endCxn id="104" idx="2"/>
            </p:cNvCxnSpPr>
            <p:nvPr/>
          </p:nvCxnSpPr>
          <p:spPr>
            <a:xfrm rot="10800000">
              <a:off x="4911480" y="4706640"/>
              <a:ext cx="269640" cy="845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192967"/>
            <p:cNvCxnSpPr>
              <a:stCxn id="101" idx="0"/>
              <a:endCxn id="106" idx="2"/>
            </p:cNvCxnSpPr>
            <p:nvPr/>
          </p:nvCxnSpPr>
          <p:spPr>
            <a:xfrm flipV="1" rot="16200000">
              <a:off x="6315840" y="3111480"/>
              <a:ext cx="423000" cy="1077840"/>
            </a:xfrm>
            <a:prstGeom prst="bentConnector3">
              <a:avLst>
                <a:gd name="adj1" fmla="val 2700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192968"/>
            <p:cNvCxnSpPr>
              <a:stCxn id="104" idx="0"/>
              <a:endCxn id="106" idx="2"/>
            </p:cNvCxnSpPr>
            <p:nvPr/>
          </p:nvCxnSpPr>
          <p:spPr>
            <a:xfrm flipH="1" flipV="1" rot="5400000">
              <a:off x="5238720" y="3111840"/>
              <a:ext cx="423000" cy="1077840"/>
            </a:xfrm>
            <a:prstGeom prst="bentConnector3">
              <a:avLst>
                <a:gd name="adj1" fmla="val 2700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192969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7191000" y="1911600"/>
              <a:ext cx="423000" cy="942840"/>
            </a:xfrm>
            <a:prstGeom prst="bentConnector3">
              <a:avLst>
                <a:gd name="adj1" fmla="val 269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192970"/>
            <p:cNvCxnSpPr>
              <a:stCxn id="106" idx="0"/>
              <a:endCxn id="110" idx="2"/>
            </p:cNvCxnSpPr>
            <p:nvPr/>
          </p:nvCxnSpPr>
          <p:spPr>
            <a:xfrm flipH="1" flipV="1" rot="5400000">
              <a:off x="6248880" y="1911240"/>
              <a:ext cx="423000" cy="943560"/>
            </a:xfrm>
            <a:prstGeom prst="bentConnector3">
              <a:avLst>
                <a:gd name="adj1" fmla="val 269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0" name="_s1192971"/>
            <p:cNvSpPr/>
            <p:nvPr/>
          </p:nvSpPr>
          <p:spPr>
            <a:xfrm>
              <a:off x="6123600" y="132732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[External Circuit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[External Model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192972"/>
            <p:cNvSpPr/>
            <p:nvPr/>
          </p:nvSpPr>
          <p:spPr>
            <a:xfrm>
              <a:off x="5180760" y="259452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em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PRE_EMPH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192973"/>
            <p:cNvSpPr/>
            <p:nvPr/>
          </p:nvSpPr>
          <p:spPr>
            <a:xfrm>
              <a:off x="7066080" y="259452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em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DIFF_RCVR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192974"/>
            <p:cNvSpPr/>
            <p:nvPr/>
          </p:nvSpPr>
          <p:spPr>
            <a:xfrm>
              <a:off x="4103640" y="386208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MS Element</a:t>
              </a:r>
              <a:br>
                <a:rPr sz="14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VSOURC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192975"/>
            <p:cNvSpPr/>
            <p:nvPr/>
          </p:nvSpPr>
          <p:spPr>
            <a:xfrm>
              <a:off x="6258240" y="386208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MS Element</a:t>
              </a:r>
              <a:br>
                <a:rPr sz="1400"/>
              </a:b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BUFFER_I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192976"/>
            <p:cNvSpPr/>
            <p:nvPr/>
          </p:nvSpPr>
          <p:spPr>
            <a:xfrm>
              <a:off x="5180760" y="512964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eg. E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192977"/>
            <p:cNvSpPr/>
            <p:nvPr/>
          </p:nvSpPr>
          <p:spPr>
            <a:xfrm>
              <a:off x="7335360" y="5129640"/>
              <a:ext cx="1615680" cy="8449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El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eg. B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389240" y="2319480"/>
            <a:ext cx="7573680" cy="0"/>
          </a:xfrm>
          <a:prstGeom prst="line">
            <a:avLst/>
          </a:prstGeom>
          <a:ln cap="rnd" w="38160">
            <a:solidFill>
              <a:srgbClr val="b92b3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97160" y="3584520"/>
            <a:ext cx="7573680" cy="0"/>
          </a:xfrm>
          <a:prstGeom prst="line">
            <a:avLst/>
          </a:prstGeom>
          <a:ln cap="rnd" w="38160">
            <a:solidFill>
              <a:srgbClr val="b92b3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05080" y="4916520"/>
            <a:ext cx="7573680" cy="0"/>
          </a:xfrm>
          <a:prstGeom prst="line">
            <a:avLst/>
          </a:prstGeom>
          <a:ln cap="rnd" w="38160">
            <a:solidFill>
              <a:srgbClr val="b92b3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07320" y="141120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BIS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0000" y="2417760"/>
            <a:ext cx="337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External Circuit]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External Model]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cro model templ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05880" y="3724200"/>
            <a:ext cx="244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cro model templat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ll elements fro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on AMS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53400" y="5146560"/>
            <a:ext cx="3078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S Elements are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ing the analog only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f the *-AMS languages,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n be substituted with n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ICE elements in SPICE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necess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97680" y="343368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66440" y="3594240"/>
            <a:ext cx="35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52480" y="2286000"/>
            <a:ext cx="5257800" cy="3809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cromodel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136520" y="2433600"/>
            <a:ext cx="6711840" cy="1521000"/>
            <a:chOff x="1136520" y="2433600"/>
            <a:chExt cx="6711840" cy="1521000"/>
          </a:xfrm>
        </p:grpSpPr>
        <p:sp>
          <p:nvSpPr>
            <p:cNvPr id="124" name=""/>
            <p:cNvSpPr/>
            <p:nvPr/>
          </p:nvSpPr>
          <p:spPr>
            <a:xfrm>
              <a:off x="1904760" y="2795760"/>
              <a:ext cx="373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58760" y="3592440"/>
              <a:ext cx="352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2228400" y="3389400"/>
              <a:ext cx="412560" cy="406440"/>
              <a:chOff x="2228400" y="3389400"/>
              <a:chExt cx="412560" cy="406440"/>
            </a:xfrm>
          </p:grpSpPr>
          <p:sp>
            <p:nvSpPr>
              <p:cNvPr id="127" name=""/>
              <p:cNvSpPr/>
              <p:nvPr/>
            </p:nvSpPr>
            <p:spPr>
              <a:xfrm rot="5400000">
                <a:off x="2187360" y="3430440"/>
                <a:ext cx="406440" cy="324360"/>
              </a:xfrm>
              <a:prstGeom prst="triangle">
                <a:avLst>
                  <a:gd name="adj" fmla="val 50000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553120" y="3548160"/>
                <a:ext cx="87840" cy="87840"/>
              </a:xfrm>
              <a:prstGeom prst="ellipse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4576320" y="3429000"/>
              <a:ext cx="733680" cy="3164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cal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60560" y="3429000"/>
              <a:ext cx="664920" cy="3164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38680" y="2590920"/>
              <a:ext cx="838080" cy="5598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er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3679920" y="2433600"/>
              <a:ext cx="630720" cy="723960"/>
              <a:chOff x="3679920" y="2433600"/>
              <a:chExt cx="630720" cy="723960"/>
            </a:xfrm>
          </p:grpSpPr>
          <p:sp>
            <p:nvSpPr>
              <p:cNvPr id="133" name=""/>
              <p:cNvSpPr/>
              <p:nvPr/>
            </p:nvSpPr>
            <p:spPr>
              <a:xfrm rot="5400000">
                <a:off x="3663000" y="2509920"/>
                <a:ext cx="723960" cy="571320"/>
              </a:xfrm>
              <a:prstGeom prst="triangle">
                <a:avLst>
                  <a:gd name="adj" fmla="val 50000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679920" y="2640240"/>
                <a:ext cx="563040" cy="2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ai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3718080" y="3230640"/>
              <a:ext cx="618840" cy="723960"/>
              <a:chOff x="3718080" y="3230640"/>
              <a:chExt cx="618840" cy="723960"/>
            </a:xfrm>
          </p:grpSpPr>
          <p:sp>
            <p:nvSpPr>
              <p:cNvPr id="136" name=""/>
              <p:cNvSpPr/>
              <p:nvPr/>
            </p:nvSpPr>
            <p:spPr>
              <a:xfrm rot="5400000">
                <a:off x="3688920" y="3306600"/>
                <a:ext cx="723960" cy="571680"/>
              </a:xfrm>
              <a:prstGeom prst="triangle">
                <a:avLst>
                  <a:gd name="adj" fmla="val 50000"/>
                </a:avLst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718080" y="3454560"/>
                <a:ext cx="561240" cy="2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oos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1136520" y="2643120"/>
              <a:ext cx="457200" cy="3049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84360" y="2797200"/>
              <a:ext cx="380880" cy="790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480"/>
                  </a:moveTo>
                  <a:lnTo>
                    <a:pt x="24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86400" y="3048120"/>
              <a:ext cx="152280" cy="533160"/>
            </a:xfrm>
            <a:custGeom>
              <a:avLst/>
              <a:gdLst/>
              <a:ahLst/>
              <a:rect l="l" t="t" r="r" b="b"/>
              <a:pathLst>
                <a:path w="96" h="336">
                  <a:moveTo>
                    <a:pt x="0" y="336"/>
                  </a:moveTo>
                  <a:lnTo>
                    <a:pt x="0" y="0"/>
                  </a:lnTo>
                  <a:lnTo>
                    <a:pt x="9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76760" y="28195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91160" y="2643120"/>
              <a:ext cx="457200" cy="3049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X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955880" y="4776840"/>
            <a:ext cx="368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59120" y="5573880"/>
            <a:ext cx="35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228760" y="4570560"/>
            <a:ext cx="412560" cy="406080"/>
            <a:chOff x="2228760" y="4570560"/>
            <a:chExt cx="412560" cy="406080"/>
          </a:xfrm>
        </p:grpSpPr>
        <p:sp>
          <p:nvSpPr>
            <p:cNvPr id="146" name=""/>
            <p:cNvSpPr/>
            <p:nvPr/>
          </p:nvSpPr>
          <p:spPr>
            <a:xfrm rot="5400000">
              <a:off x="2188080" y="4611240"/>
              <a:ext cx="406080" cy="324720"/>
            </a:xfrm>
            <a:prstGeom prst="triangle">
              <a:avLst>
                <a:gd name="adj" fmla="val 50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53480" y="4729320"/>
              <a:ext cx="87840" cy="8784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576680" y="5410080"/>
            <a:ext cx="733680" cy="316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60560" y="5410080"/>
            <a:ext cx="664920" cy="316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4572000"/>
            <a:ext cx="838440" cy="559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e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680280" y="4414680"/>
            <a:ext cx="631440" cy="723960"/>
            <a:chOff x="3680280" y="4414680"/>
            <a:chExt cx="631440" cy="723960"/>
          </a:xfrm>
        </p:grpSpPr>
        <p:sp>
          <p:nvSpPr>
            <p:cNvPr id="152" name=""/>
            <p:cNvSpPr/>
            <p:nvPr/>
          </p:nvSpPr>
          <p:spPr>
            <a:xfrm rot="5400000">
              <a:off x="3663720" y="4490640"/>
              <a:ext cx="723960" cy="571680"/>
            </a:xfrm>
            <a:prstGeom prst="triangle">
              <a:avLst>
                <a:gd name="adj" fmla="val 50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80280" y="4621320"/>
              <a:ext cx="56304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718080" y="5211720"/>
            <a:ext cx="618120" cy="723960"/>
            <a:chOff x="3718080" y="5211720"/>
            <a:chExt cx="618120" cy="723960"/>
          </a:xfrm>
        </p:grpSpPr>
        <p:sp>
          <p:nvSpPr>
            <p:cNvPr id="155" name=""/>
            <p:cNvSpPr/>
            <p:nvPr/>
          </p:nvSpPr>
          <p:spPr>
            <a:xfrm rot="5400000">
              <a:off x="3688560" y="5288040"/>
              <a:ext cx="723960" cy="571320"/>
            </a:xfrm>
            <a:prstGeom prst="triangle">
              <a:avLst>
                <a:gd name="adj" fmla="val 50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18080" y="5435640"/>
              <a:ext cx="5612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o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486400" y="5029200"/>
            <a:ext cx="152280" cy="533520"/>
          </a:xfrm>
          <a:custGeom>
            <a:avLst/>
            <a:gdLst/>
            <a:ahLst/>
            <a:rect l="l" t="t" r="r" b="b"/>
            <a:pathLst>
              <a:path w="96" h="336">
                <a:moveTo>
                  <a:pt x="0" y="336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4624560"/>
            <a:ext cx="457200" cy="304560"/>
          </a:xfrm>
          <a:custGeom>
            <a:avLst/>
            <a:gdLst>
              <a:gd name="textAreaLeft" fmla="*/ 0 w 457200"/>
              <a:gd name="textAreaRight" fmla="*/ 457560 w 457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X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62000" y="3581280"/>
            <a:ext cx="0" cy="198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87840" y="1828800"/>
            <a:ext cx="3358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e-emphasis buffer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6840" y="1633680"/>
            <a:ext cx="116172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l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057400"/>
            <a:ext cx="0" cy="533520"/>
          </a:xfrm>
          <a:prstGeom prst="line">
            <a:avLst/>
          </a:prstGeom>
          <a:ln w="9360">
            <a:solidFill>
              <a:srgbClr val="004fe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4114800"/>
            <a:ext cx="104760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o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3809880"/>
            <a:ext cx="1523880" cy="609840"/>
          </a:xfrm>
          <a:prstGeom prst="line">
            <a:avLst/>
          </a:prstGeom>
          <a:ln w="9360">
            <a:solidFill>
              <a:srgbClr val="004fe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4419720"/>
            <a:ext cx="2438280" cy="152280"/>
          </a:xfrm>
          <a:prstGeom prst="line">
            <a:avLst/>
          </a:prstGeom>
          <a:ln w="9360">
            <a:solidFill>
              <a:srgbClr val="004fe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4419720"/>
            <a:ext cx="1523880" cy="1066680"/>
          </a:xfrm>
          <a:prstGeom prst="line">
            <a:avLst/>
          </a:prstGeom>
          <a:ln w="9360">
            <a:solidFill>
              <a:srgbClr val="004fe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2541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S Element Mapp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133720" y="1447920"/>
            <a:ext cx="4716360" cy="2679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046160" y="4267080"/>
            <a:ext cx="25214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ative AMS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90000" y="5410080"/>
            <a:ext cx="19512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PICE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5769000"/>
            <a:ext cx="7848720" cy="62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_io PUrefB PDrefB IoB InB En PCrefB GCref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file=‘mybuf.ibs' model=‘mybuf' +power=on buffer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3352680"/>
            <a:ext cx="1067040" cy="8384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648320"/>
            <a:ext cx="7848720" cy="62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IS_BUFFER_OUT ioB #(.ibis_file(“mybuf.ibs”), .ibis_model(“mybuff”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B, En, RcvB, IoB, PCrefB, PUrefB, PDrefB, GCrefB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5T22:59:28Z</dcterms:created>
  <dc:creator>Todd Westerhoff</dc:creator>
  <dc:description/>
  <cp:keywords/>
  <dc:language>en-US</dc:language>
  <cp:lastModifiedBy>Cisco Systems, Inc.</cp:lastModifiedBy>
  <cp:lastPrinted>1999-01-27T00:54:54Z</cp:lastPrinted>
  <dcterms:modified xsi:type="dcterms:W3CDTF">2005-09-18T23:58:31Z</dcterms:modified>
  <cp:revision>1267</cp:revision>
  <dc:subject/>
  <dc:title>Things in an an IBIS Mod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