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-2005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3665021-0F99-4329-B8F7-48C751F66434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sian IBIS Summit Update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East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cester, Massachuset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ptember 19,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urrent Pla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uesday, December 6,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ne day because of financial realit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henzhen, China near Hong Ko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rowne Plaza Hotel, Shenzhe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onsorship set, covers everyt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uawei Technologies, Cadence Design Systems, Mentor Graphics Corporation, SiSoft, Sigrity, Zuke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endor tables outside of meeting for vendor contac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rget up to 200 peo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efreshments and lunch includ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fficers and sponsors press conferenc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endor promotion and SI and IBIS list promo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ignups handled by (Bob Ross and Lance Wang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ncouraging Asian particip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ummit Schedu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:00 AM Setu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:15 AM Sign in and vendor t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:00 AM Program with brea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9:00–9:30 Special Introductions (XiangZhong Jiang, and Michael Michael and brief comments from noted government speaker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2 Noon Buffet lunch and vendor t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12-12:45 IBIS officers and sponsors meet with pres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:30 PM Program with brea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:30 PM End, final vendor tables and tear dow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ogram Being Plann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l Corportion, Michael Mirmak - Overview, introductory remarks and possible technical topi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dence Design System, Lance Wang and Zhagmin Zhong, “Using IBIS for SI Analysis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uawei Technologies – Probably on power delivery sy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ntor Graphics, Ian Dodd - Future measurement extensions in IBIS topic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grity, Raymond Chen – Technical topi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Soft, Barry Katz – Technical topi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TE Corporation (telecom company in Shenzhen) – Technical topi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on full day program with 9 or 10 presen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looking for informative, technical content rather than controversial issues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reased activity for registration and logistical det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5-09-14T00:39:10Z</dcterms:modified>
  <cp:revision>508</cp:revision>
  <dc:subject/>
  <dc:title>IBIS</dc:title>
</cp:coreProperties>
</file>