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02-2005 Teraspeed Consulting Group LLC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F01CC1E7-B678-402A-A6B7-2902DC5D9AAF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tracting On-Die Terminators</a:t>
            </a:r>
            <a:br>
              <a:rPr sz="3600"/>
            </a:b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18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Summi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Con East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cester, Massachuset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ptember 19, 200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EC Algorithm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2004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1244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5715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143000" y="838080"/>
            <a:ext cx="6934320" cy="518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828800" y="1371600"/>
            <a:ext cx="548640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828800" y="3200400"/>
            <a:ext cx="548640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05740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4800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314840" y="990720"/>
            <a:ext cx="152388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33520" y="5486400"/>
            <a:ext cx="12952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2819520"/>
            <a:ext cx="137160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09120" y="3200400"/>
            <a:ext cx="121932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3733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25146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5105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1371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066680" y="2590920"/>
            <a:ext cx="419112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257800" y="914040"/>
            <a:ext cx="28954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828800" y="1905120"/>
            <a:ext cx="34290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28800" y="3885840"/>
            <a:ext cx="34290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1143000"/>
            <a:ext cx="0" cy="358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57800" y="1371600"/>
            <a:ext cx="20574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00040"/>
            <a:ext cx="2057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1523880"/>
            <a:ext cx="609840" cy="28958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4267080"/>
            <a:ext cx="7621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1981080"/>
            <a:ext cx="838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25909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388620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19051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590920"/>
            <a:ext cx="990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562720" y="28195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1066680"/>
            <a:ext cx="22096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*Ip/(Ip+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1523880"/>
            <a:ext cx="7621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343400"/>
            <a:ext cx="213336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*Ig/(Ip+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5486040" y="411444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ODT Example (delta=0)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914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1295280"/>
          <a:ext cx="7848720" cy="380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7848720" cy="38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505320" y="2666880"/>
            <a:ext cx="2286000" cy="11430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2590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3352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20574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EC Observ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ulates ODT circuit for Vg and Vp chan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t I/O node, Thevenin 1.2 V shifts correctly, and source impedance = 50 </a:t>
            </a:r>
            <a:r>
              <a:rPr b="0" lang="en-US" sz="2000" spc="-1" strike="noStrike">
                <a:solidFill>
                  <a:srgbClr val="720016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p to Vg rail-to-rail impedance = 225 </a:t>
            </a:r>
            <a:r>
              <a:rPr b="0" lang="en-US" sz="2000" spc="-1" strike="noStrike">
                <a:solidFill>
                  <a:srgbClr val="720016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Diodes correctly anchored to Vg and Vp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s single resistor ODT subs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ullup” OD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ulldown” OD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ckup slides for a suggested computation detai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yp-min-max data alignment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cc relative [Power Clamp] calcul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pe anchoring and internal reference overrides n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nchor Shape to [Gnd Clamp]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32004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1244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5715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143000" y="838080"/>
            <a:ext cx="6934320" cy="518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828800" y="1371600"/>
            <a:ext cx="548640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828800" y="3200400"/>
            <a:ext cx="548640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668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905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876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315200" y="1219320"/>
            <a:ext cx="1447920" cy="1522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09120" y="5486400"/>
            <a:ext cx="12193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315200" y="2666880"/>
            <a:ext cx="1371600" cy="5335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09120" y="3200400"/>
            <a:ext cx="1219320" cy="6094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09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38880" y="23623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5105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13716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066680" y="2590920"/>
            <a:ext cx="419112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257800" y="914040"/>
            <a:ext cx="28954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828800" y="1676160"/>
            <a:ext cx="34290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4038480"/>
            <a:ext cx="34290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57800" y="1143000"/>
            <a:ext cx="0" cy="358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257800" y="1371240"/>
            <a:ext cx="20574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257800" y="3200400"/>
            <a:ext cx="20574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523880"/>
            <a:ext cx="609840" cy="28958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198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909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43600" y="2590920"/>
            <a:ext cx="990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562720" y="28195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562720" y="2209320"/>
            <a:ext cx="38088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16765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nchor Shape to [Power Clamp]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7" name="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14400" y="32004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1244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002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715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143000" y="838080"/>
            <a:ext cx="6934320" cy="518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828800" y="1371600"/>
            <a:ext cx="548640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1828800" y="3200400"/>
            <a:ext cx="548640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0200" y="19051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4876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315200" y="914400"/>
            <a:ext cx="1371600" cy="457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85440" y="5486400"/>
            <a:ext cx="11430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315200" y="2971440"/>
            <a:ext cx="1371600" cy="2286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533520" y="3200400"/>
            <a:ext cx="129528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3733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590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5105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1371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066680" y="2590920"/>
            <a:ext cx="419112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257800" y="914040"/>
            <a:ext cx="28954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1828800" y="2057040"/>
            <a:ext cx="342900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28800" y="3657600"/>
            <a:ext cx="34290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57800" y="1143000"/>
            <a:ext cx="0" cy="358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257800" y="1371240"/>
            <a:ext cx="2057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57800" y="3200400"/>
            <a:ext cx="20574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1523880"/>
            <a:ext cx="609840" cy="289584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198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25909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590920"/>
            <a:ext cx="990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562720" y="28195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638320" y="304812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57800" y="36576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al “50 </a:t>
            </a:r>
            <a:r>
              <a:rPr b="1" lang="en-US" sz="3600" spc="-1" strike="noStrike">
                <a:solidFill>
                  <a:srgbClr val="186ecc"/>
                </a:solidFill>
                <a:latin typeface="Symbol"/>
                <a:ea typeface="Symbol"/>
              </a:rPr>
              <a:t>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” ODT Choic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33520" y="1447920"/>
          <a:ext cx="3962160" cy="228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39621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4648320" y="1455840"/>
          <a:ext cx="3962160" cy="225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455840"/>
                    <a:ext cx="39621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533520" y="3886200"/>
          <a:ext cx="3944880" cy="2308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886200"/>
                    <a:ext cx="394488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4664160" y="3886200"/>
          <a:ext cx="3946320" cy="2309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64160" y="3886200"/>
                    <a:ext cx="394632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838080" y="1600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lip and Extend 52.8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60020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fault DEC  94.2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and 1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4038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40384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2286000"/>
            <a:ext cx="1143000" cy="533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724280"/>
            <a:ext cx="1143000" cy="533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2286000"/>
            <a:ext cx="1143000" cy="533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4724280"/>
            <a:ext cx="1143000" cy="533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tal I-V as [Gnd Clamp]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32004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1244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34320" y="5715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143000" y="838080"/>
            <a:ext cx="6934320" cy="518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668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52680" y="41911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2590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200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914400" y="5486400"/>
            <a:ext cx="914400" cy="8380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7314840" y="3200400"/>
            <a:ext cx="12193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814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315200" y="2666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4290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38880" y="1371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1066680" y="2590920"/>
            <a:ext cx="419112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257800" y="914040"/>
            <a:ext cx="28954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57800" y="1143000"/>
            <a:ext cx="0" cy="358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32004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62920" y="198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25909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2590920"/>
            <a:ext cx="990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409720" y="2743200"/>
            <a:ext cx="6858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314840" y="76212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Applic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I-V in [Gnd Clamp] table tracks Vg chan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legacy IBIS “clip” ran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Gnd Clamp]: -Vcc to Vcc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[Power Clamp]: Vcc to 2*Vcc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TL Input: 2.1 V ”diode” anchored to Vg per IB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rrent could have been anchored to Vp (defaul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anchors partially applic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343400" y="4572000"/>
            <a:ext cx="4343400" cy="847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 flipH="1" flipV="1">
            <a:off x="6019920" y="2286000"/>
            <a:ext cx="30456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5105160" y="297180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449568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19720" y="5029200"/>
            <a:ext cx="8380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876920" y="3124080"/>
            <a:ext cx="30456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62720" y="53341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394240" y="1066680"/>
            <a:ext cx="2598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50 </a:t>
            </a:r>
            <a:r>
              <a:rPr b="1" lang="en-US" sz="3600" spc="-1" strike="noStrike">
                <a:solidFill>
                  <a:srgbClr val="186ecc"/>
                </a:solidFill>
                <a:latin typeface="Symbol"/>
                <a:ea typeface="Symbol"/>
              </a:rPr>
              <a:t>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, 1.2 V Anchored to Vg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685800" y="1676520"/>
          <a:ext cx="7772400" cy="347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3581280" y="2971800"/>
            <a:ext cx="2210040" cy="9144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3962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76720" y="4648320"/>
            <a:ext cx="205740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66680" y="2819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3505320" y="5257800"/>
            <a:ext cx="2033640" cy="3571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5486400" y="5410080"/>
            <a:ext cx="76320" cy="763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257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55627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2 V   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tal I-V as [Power Clamp]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32004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1244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5715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143000" y="838080"/>
            <a:ext cx="6934320" cy="518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26668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52680" y="4038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15200" y="3200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315200" y="685440"/>
            <a:ext cx="1219320" cy="6858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09120" y="3200400"/>
            <a:ext cx="12193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15200" y="1523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280" y="5105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38880" y="2743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066680" y="2590920"/>
            <a:ext cx="419112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257800" y="914040"/>
            <a:ext cx="28954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1143000"/>
            <a:ext cx="0" cy="358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3200400"/>
            <a:ext cx="5410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2920" y="19810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57800" y="25909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2590920"/>
            <a:ext cx="990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409720" y="2743200"/>
            <a:ext cx="68580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914400" y="54864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ocess Motiv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ssues with “Clip and Extend” recommend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ack box” rules from experiences since 1992 (Zeelan with Quad format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ecompose model consistent with the internal architectur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xample: Output and clamps isolated by curvature changes (Nasef, October 1999 IBIS Summit)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xtrapolate for continuous slop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utputs above and on-die extractions here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Known SPICE MOSFET level slope discontinuity issues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trapolation recommended in IBIS Cookbo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50 </a:t>
            </a:r>
            <a:r>
              <a:rPr b="1" lang="en-US" sz="3600" spc="-1" strike="noStrike">
                <a:solidFill>
                  <a:srgbClr val="186ecc"/>
                </a:solidFill>
                <a:latin typeface="Symbol"/>
                <a:ea typeface="Symbol"/>
              </a:rPr>
              <a:t>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, -0.6 V Anchored to Vp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09480" y="1600200"/>
          <a:ext cx="7848720" cy="35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784872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429000" y="40384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5320" y="2895480"/>
            <a:ext cx="2286000" cy="99072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4572000"/>
            <a:ext cx="12956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95280" y="2743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3429000" y="5257800"/>
            <a:ext cx="2050920" cy="3571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86400" y="525780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8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56386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   0.6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Real “50 </a:t>
            </a:r>
            <a:r>
              <a:rPr b="1" lang="en-US" sz="3600" spc="-1" strike="noStrike">
                <a:solidFill>
                  <a:srgbClr val="186ecc"/>
                </a:solidFill>
                <a:latin typeface="Symbol"/>
                <a:ea typeface="Symbol"/>
              </a:rPr>
              <a:t>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” ODT Choic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457200" y="1371600"/>
          <a:ext cx="4038480" cy="23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403848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648320" y="1413000"/>
          <a:ext cx="4038480" cy="230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413000"/>
                    <a:ext cx="403848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" y="3979800"/>
          <a:ext cx="4038480" cy="2143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979800"/>
                    <a:ext cx="40384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4648320" y="3979800"/>
          <a:ext cx="4038480" cy="21430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3979800"/>
                    <a:ext cx="403848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762120" y="152388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lip and Extend 52.8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0" y="15238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fault DEC    94.2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and 1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411480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-V in 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2880" y="41148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-V in 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1080" y="2209680"/>
            <a:ext cx="1219320" cy="533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4800600"/>
            <a:ext cx="1219320" cy="4572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48520" y="2286000"/>
            <a:ext cx="1143000" cy="4572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2200" y="4800600"/>
            <a:ext cx="1219320" cy="4572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Shape between Vg and Vp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general Total I-V shape between Vg and Vp remains reasonable for Vg and Vp modul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C method applies for other reference shapes and other overrid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ch as linear resistor partitioned into quadratic components nex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Quadratic Clamp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near Thevenin terminator with “quadratic” resis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Gnd clamp] chosen with slope = 0 at Vp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se same Extrapolate and Calculate rul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14400" y="1009800"/>
          <a:ext cx="7315200" cy="32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09800"/>
                    <a:ext cx="731520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3581280" y="2209680"/>
            <a:ext cx="2210040" cy="91440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22096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62720" y="24382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8320" y="16765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nclus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ny choices exist to partition an I-V table into clamp tab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C algorithm based on ODT resistor deviation covers practical ca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verrides shown, based on additional knowledge (could be expanded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C favored over “Clip and Extend” for accuracy, robustness, and portabil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Backup – Suggested Calcul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both a Vg (Gnd) referenced Total I-V and a Vp (typ, min, max Vcc) referenced Total I-V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yp, Min, Max for each cas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From –Vcc to 2*Vcc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Same sample points aligned for typ, min, max data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Gnd Clamp] uses Vg referenced dat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Power Clamp] uses Vp referenced dat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(One Total I-V table could be calculated from the other over a larger sweep range to get aligned data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C – Extrapolate 0 to –Vcc, Calculate, do simple extrapolation above Vcc to 2*Vc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[Gnd Clamp] Calcul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14400" y="32004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91244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002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5638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cc (typ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143000" y="838080"/>
            <a:ext cx="6934320" cy="518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828800" y="1371600"/>
            <a:ext cx="548640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28800" y="3200400"/>
            <a:ext cx="548640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32004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 (Gnd_Rel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00200" y="17524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 (Gnd_Rel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7314840" y="990720"/>
            <a:ext cx="152388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33520" y="5486400"/>
            <a:ext cx="12952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09120" y="3200400"/>
            <a:ext cx="1219320" cy="45720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" y="3733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5105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238880" y="1371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066680" y="2590920"/>
            <a:ext cx="419112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257800" y="914040"/>
            <a:ext cx="289548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1828800" y="1905120"/>
            <a:ext cx="34290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828800" y="4952880"/>
            <a:ext cx="11430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1143000"/>
            <a:ext cx="0" cy="358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57800" y="1371600"/>
            <a:ext cx="20574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4267080"/>
            <a:ext cx="7621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315200" y="1981080"/>
            <a:ext cx="838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57800" y="25909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257800" y="19051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2590920"/>
            <a:ext cx="990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562720" y="28195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057400" y="1066680"/>
            <a:ext cx="22096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*Ip/(Ip+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267080" y="1523880"/>
            <a:ext cx="7621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67080" y="4572000"/>
            <a:ext cx="29718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 = Total – GC (a few points to extrapo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2514600" y="4952880"/>
            <a:ext cx="1752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[Power Clamp] Calcul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1828800" y="1371600"/>
            <a:ext cx="5486400" cy="411480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914400" y="32004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91208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59948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4197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cc (typ, min, 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1143000" y="838080"/>
            <a:ext cx="6934320" cy="518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1828800" y="1371600"/>
            <a:ext cx="548640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828800" y="3200400"/>
            <a:ext cx="548640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5486400" y="327672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 (Vcc_Rel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504600" y="48006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 (Vcc_Rel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990720"/>
            <a:ext cx="152388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5486400"/>
            <a:ext cx="12952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457200" y="2819520"/>
            <a:ext cx="137160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391520" y="3962520"/>
            <a:ext cx="1371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3808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7391520" y="5105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51560" y="1371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3962160" y="2590920"/>
            <a:ext cx="419076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066680" y="914040"/>
            <a:ext cx="289584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3885840" y="3885840"/>
            <a:ext cx="34290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62520" y="1143000"/>
            <a:ext cx="0" cy="358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1828800" y="137124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1828440" y="3200040"/>
            <a:ext cx="2057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7314480" y="4114800"/>
            <a:ext cx="7621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990720" y="1905120"/>
            <a:ext cx="83808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259092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62520" y="3962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286000" y="2590920"/>
            <a:ext cx="990720" cy="39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28195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733200" y="1066680"/>
            <a:ext cx="29718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GC = Total – PC (a few points to extrapo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514240" y="1447920"/>
            <a:ext cx="1219320" cy="75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1370880" y="4343400"/>
            <a:ext cx="213372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lta*Ig/(Ip+I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3505320" y="4114440"/>
            <a:ext cx="30456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omment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apolations below 0 V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Based on extrapolating a few calculated point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All data points at Total I-V voltag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apolate above Vcc (typ, min, max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The typ and min columns need entries or NA’s to Vcc (max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Extrapolate columns to 2*Vcc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040040" indent="-20772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Fill in remaining value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40040" indent="-20772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Optionally, one value at 2*Vcc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reating Clamp Tabl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al: Mimic physical device 3-terminal simul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Gnd Clamp Ref] Vg,  [Power Clamp Ref] Vp ancho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2" marL="1062720" indent="-21240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ESD or substrate “diodes”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2" marL="1062720" indent="-212400">
              <a:spcBef>
                <a:spcPts val="499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cc"/>
                </a:solidFill>
                <a:latin typeface="Gill Sans MT"/>
              </a:rPr>
              <a:t>On-Die Terminator (ODT) “resistance” structure</a:t>
            </a:r>
            <a:endParaRPr b="0" lang="en-US" sz="2000" spc="-1" strike="noStrike">
              <a:solidFill>
                <a:srgbClr val="186ecc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est currents thru Vp and Vg for rail analysi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/O node correct with Vg and Vp chang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fault algorithm covers most practical ca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ased on deviation from Thevenin resistor OD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ullup” and “pulldown” ODTs are subse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90840" indent="-265680"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DEC: Deviate  Extrapolate  Calculat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5410080"/>
            <a:ext cx="5486400" cy="609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Example: 50 </a:t>
            </a:r>
            <a:r>
              <a:rPr b="1" lang="en-US" sz="3600" spc="-1" strike="noStrike">
                <a:solidFill>
                  <a:srgbClr val="186ecc"/>
                </a:solidFill>
                <a:latin typeface="Symbol"/>
                <a:ea typeface="Symbol"/>
              </a:rPr>
              <a:t></a:t>
            </a: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, 1.2 V OD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1749600" cy="2895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28800" y="2743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42670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1676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 = 1.8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5257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 = 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32004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2 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80060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Total I-V curve with 0.6 V “stick” diodes anchored to each r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048120" y="1752480"/>
          <a:ext cx="5790960" cy="2587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752480"/>
                    <a:ext cx="579096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181480" y="2666880"/>
            <a:ext cx="1676520" cy="76212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819520"/>
            <a:ext cx="3049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962520"/>
            <a:ext cx="4572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1337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p and Exten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1749600" cy="2895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28800" y="2743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2670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676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 = 1.8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257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 = 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2004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2 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1280" y="4800600"/>
            <a:ext cx="46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Total I-V curve with 0.6 V “stick” diodes anchored to each r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8120" y="1752480"/>
          <a:ext cx="5790960" cy="2587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1752480"/>
                    <a:ext cx="5790960" cy="25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181480" y="2666880"/>
            <a:ext cx="1676520" cy="762120"/>
          </a:xfrm>
          <a:prstGeom prst="rect">
            <a:avLst/>
          </a:prstGeom>
          <a:noFill/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2819520"/>
            <a:ext cx="3049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3962520"/>
            <a:ext cx="4572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3124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572000" y="3657240"/>
            <a:ext cx="76320" cy="2286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648320" y="2971440"/>
            <a:ext cx="1676160" cy="68580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2971800"/>
            <a:ext cx="22100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467480" y="19810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324120" y="2438280"/>
            <a:ext cx="114300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2971800"/>
            <a:ext cx="28191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22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(V) Blocks and Simulation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16200000">
            <a:off x="3581280" y="4571640"/>
            <a:ext cx="2033640" cy="357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9480" y="2209680"/>
            <a:ext cx="1749600" cy="2895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27432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4267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676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 = 1.8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257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 = 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200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~1.2 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 rot="16200000">
            <a:off x="3582360" y="2437560"/>
            <a:ext cx="2031840" cy="357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828800" y="2286000"/>
            <a:ext cx="0" cy="2819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437920" y="38098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19810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.6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5146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505320"/>
            <a:ext cx="5335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2057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 ma, 22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886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, 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5791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 = 0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1143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 = 1.8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2004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~1.2 V or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5029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2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495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6002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004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11430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105520" y="373392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809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, 2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, 5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1676520"/>
            <a:ext cx="0" cy="4038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14479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, Open, less/equal 10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1752480"/>
            <a:ext cx="457200" cy="1676520"/>
          </a:xfrm>
          <a:prstGeom prst="rect">
            <a:avLst/>
          </a:prstGeom>
          <a:noFill/>
          <a:ln cap="rnd" w="572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962520"/>
            <a:ext cx="457200" cy="1676160"/>
          </a:xfrm>
          <a:prstGeom prst="rect">
            <a:avLst/>
          </a:prstGeom>
          <a:noFill/>
          <a:ln cap="rnd" w="572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320040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4120" y="54864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lip and Exten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791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sisto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Problems with Clip and Extend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ong circuit impacting IBIS 3.2 and beyo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C currents different (with, without I/O node circuit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C Thevenin impedances different and ope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Higher frequency effects from non-linear elemen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Driver at I/O node sees different impedan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l dependencies includ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lope discontinuities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pen 0 ma discontinuities with potential simulation ambiguities and failures (Error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npredictable performance even with valid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oid “Clip and Extend”, use DE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 wary of any truncation recommend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EC (from Resistors) Algorithm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aw box bounded by (Vg, Ig) and (Vp, Ip) and draw the zero current ax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aw the three lower-left to upper right diagonals, where the upper region is for the [Gnd Clamp], and the lower region is for the [Power Clamp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ill Sans MT"/>
              </a:rPr>
              <a:t>Devi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Proportionally allocate “Total I-V” delta deviation to [Gnd Clamp] and [Power Clamp] diagon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Extrapolat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[Gnd Clamp] data ABOVE V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Extrapolat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[Power Clamp] data BELOW V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cc99"/>
                </a:solidFill>
                <a:uFillTx/>
                <a:latin typeface="Gill Sans MT"/>
              </a:rPr>
              <a:t>Calculate</a:t>
            </a:r>
            <a:r>
              <a:rPr b="0" lang="en-US" sz="2400" spc="-1" strike="noStrike">
                <a:solidFill>
                  <a:srgbClr val="00cc99"/>
                </a:solidFill>
                <a:latin typeface="Gill Sans MT"/>
              </a:rPr>
              <a:t> [Gnd Clamp] data BELOW Vg (Total - P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cc99"/>
                </a:solidFill>
                <a:uFillTx/>
                <a:latin typeface="Gill Sans MT"/>
              </a:rPr>
              <a:t>Calculate</a:t>
            </a:r>
            <a:r>
              <a:rPr b="0" lang="en-US" sz="2400" spc="-1" strike="noStrike">
                <a:solidFill>
                  <a:srgbClr val="00cc99"/>
                </a:solidFill>
                <a:latin typeface="Gill Sans MT"/>
              </a:rPr>
              <a:t> [Power Clamp] data ABOVE Vp (Total - G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Backup slides for some computational detail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Diagonals and Resisto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1371600"/>
            <a:ext cx="5486400" cy="4114800"/>
          </a:xfrm>
          <a:prstGeom prst="rect">
            <a:avLst/>
          </a:prstGeom>
          <a:noFill/>
          <a:ln cap="rnd" w="284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3200400"/>
            <a:ext cx="73152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1244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 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7150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5715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143000" y="838080"/>
            <a:ext cx="6934320" cy="518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828800" y="1371600"/>
            <a:ext cx="548640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828800" y="3200400"/>
            <a:ext cx="548640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3429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Total I-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Gnd Clamp]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426708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[Power Clamp] Re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314840" y="838080"/>
            <a:ext cx="152388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3520" y="5486400"/>
            <a:ext cx="12952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315200" y="2666880"/>
            <a:ext cx="1371600" cy="53352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3520" y="3200400"/>
            <a:ext cx="129528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7339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62920" y="2286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Gill Sans MT"/>
              </a:rPr>
              <a:t>Calc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1055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1371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Extrapo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 Ross</cp:lastModifiedBy>
  <dcterms:modified xsi:type="dcterms:W3CDTF">2005-08-30T20:08:12Z</dcterms:modified>
  <cp:revision>588</cp:revision>
  <dc:subject/>
  <dc:title>IBIS</dc:title>
</cp:coreProperties>
</file>