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5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E730C65-0C57-4CC3-82C5-E44A85F85E5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3.2 Experience Modeling Fast, Two-tap Pre-emphasis Buff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East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cester, Massachuset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ptember 19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Unexpected Correlation Issu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143000"/>
          <a:ext cx="731520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3152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66680" y="52578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leading edge truncation and slope difference sk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nding levels near (non-symmetrical) SPIC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1828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BIS TX+, TX- same, out of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657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657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657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ested with C_comp (later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143000"/>
          <a:ext cx="731520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3152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14400" y="533412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Unexpected IBIS shift without response degra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ither a tool or tool setup issue, but could produce better (tool dependent)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657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657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pected C_comp Degrad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_comp in IBIS [Driver Schedule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 should add C_comp as top-level loa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ffer impedance reduces driving mode degrad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(Bad??) IBIS cho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 to 3 pF, 2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75 ps time constant or about 165 ps rise time degradation (less with pulldown impedan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ation rise time of less than 100 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tal rise time approximately sqrt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or 193 ns (or les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rther C_comp Investig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ensate using C_fixture with R_fix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lgorithm could use total specified loads (C-fixture, L_fixture, R_fixture, V_fixture, C_dut, L_dut, R_dut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r simplified with C_fixture (C_dut) added to C_comp – no change in mathematic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se same waveform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C_fixture to both MAIN and BOOST waveform tables (but keep C_comp=0.0 p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 only top-level C_co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ra MAIN, BOOST capacitive currents drive top-level C_co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imilar programmed approach, which still needed further tuning, Mirmak, 2004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vestigation with Another IBIS Tool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_comp=0.0 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etter delay correlation with SP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_comp=3.0 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_fixture=3.0 pF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Left shifted edges and some distor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romising approach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62520" y="1066680"/>
          <a:ext cx="464796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066680"/>
                    <a:ext cx="4647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62520" y="3733920"/>
          <a:ext cx="4647960" cy="2592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733920"/>
                    <a:ext cx="46479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572000" y="5410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_comp=3.0 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_comp=0.0 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ore C_comp Comme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y Top-Level C_co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imple, known receiving mode C_comp for I/O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voids inheritance of all Driver Schedule C_comps ques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Is it always there or under certain scheduled conditions?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voids estimating C_comps for scheduled buffer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C_comp iss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oltage dependent, frequency dependent (or effective reactanc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an be split among rail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Driving and receiving modes differences not support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_comp corners specified by magnitude rather than correlated with process, temperature, voltag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lus differential C_comp issu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 C_comp is an effective value, and refinement requires many IBIS add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solved (further checking) iss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asons for SPICE model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ossible tool setup and operation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_comp tool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_comp handling within [Driver Schedule] approach could be impro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3.2 model satisfied customer’s immediate ne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fortunately, target EDA tool(s) and operation remain a practical conside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he Project Constrai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miconductor vend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wo-tap pre-emphasis buffer with On-Die Terminator (ODT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annot be done in IBIS”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ncrypted HSPICE under 3-way NDA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stomer (required IBIS Version 3.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or specific IBIS tool (with no HSPICE acces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ool supports [Driver Schedule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nimal customer IBIS knowledg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iness issue (several final deliverabl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wo week delivery for four CML differential buffers within full 400+ pin ASIC model … after legal contract closure delay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ps, experiences and unexpected issues he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ther Related Discus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pad Muranyi, March and January 2005, April 2004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ither enhanced or reduced buffer switched i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r main and one-bit delay boos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ix individual edges and state machine for *_AMS solution with C_comp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zem Hegazy, LVDS Modeling, June, 2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ither enhanced or reduced buffer switched i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chael Mirmak, C_comp Issues, October and April, 200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actored out C_comp from V-T tables, but more work need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Cookbook [Driver Schedule] pre-emphasis method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ain and one-bit delay boos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lights of real issues, not the full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ject Facto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cess overvie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solate, test SPICE model from limited document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t up some SPICE extraction program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t up spread sheet calculation pages for processing all the buffer setup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solve unexpected situa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st the prototype IBIS buffer in the EDA too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fine and delive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ustomer goal was timely design explo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 time for “perfect” solution or extensive research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ompromises need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PICE Configuration, Differential Control and [Driver Schedule]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486400" y="3429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486400" y="16002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14800" y="34290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82880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6576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114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743200" y="182880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82880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228600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41148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6576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315200" y="22860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85800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495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1219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X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X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4267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verse 1-bit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219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put bit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029200"/>
            <a:ext cx="7391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river Schedul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Model_name Rise_on_dly Rise_off_dly Fall_on_dly Fall_off_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IN         0           NA           0           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ST        NA          0.47059ns    NA          0.47059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28600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114800" y="38862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76720" y="2286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2080" y="129528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ML Structure with IBIS Open_drain Models, Connected by [Diff Pin]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-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DT [Power Clamp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AIN [Pulldown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xtracted waveforms with ODT &amp; 50 </a:t>
            </a:r>
            <a:r>
              <a:rPr b="0" lang="en-US" sz="20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Pre-emphasis = 0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Driver Schedule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[Pulldown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caled waveform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OST [Pulldown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caled waveform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357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6520" y="3352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3352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343040" y="419076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2286000"/>
            <a:ext cx="2743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437920" y="4190760"/>
            <a:ext cx="17528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14240" y="2666880"/>
            <a:ext cx="2438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91120" y="449532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Unexpected SPICE Offset and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X+ and TX- Differenc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76720" y="990720"/>
          <a:ext cx="5105160" cy="27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990720"/>
                    <a:ext cx="51051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Power Clamp] ODT predicts no offset from 1.8 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ed top-level [Gnd Clamp] to compensate for offse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ome configurations go to 1.8 V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X+ and TX- different, but no reason to model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PICE code appeared symmetric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sed TX+ extractions as reasonable approxim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1066680"/>
          <a:ext cx="2895480" cy="15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066680"/>
                    <a:ext cx="289548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523880" y="160020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0666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1371240"/>
            <a:ext cx="12189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124080"/>
            <a:ext cx="58672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590920"/>
            <a:ext cx="38098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666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ODT 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447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X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X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X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447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X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PICE TX+ and I-V Tabl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gned SPICE typ-min-max I-V sweeps to get ODT as a [Power Clamp] and MAIN and BOOST [Pulldown] tables by subtra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DT: High-state MAIN only for [Power Clamp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DT+MAIN: Low-state MAIN for [Pulldown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DT+BOOST: Low-state BOOST for [Pulldown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(out of range) non-monotonic 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-level [Gnd Clamp] mismatch adjustment for actual “1.8 V” high side levels, when nee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ime Extraction from TX+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 1.8 V, no pre-emphasis captures MAIN plus ODT reference wavefor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t R_fixture=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or MAIN and BOOST Open_drain buf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Used ibischk4 to determine low end-point of swing (high is Vdd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Scaled the reference waveform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Keeps MAIN over about same voltage range 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Correlates MAIN, BOOST delays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C_comp=0 pF (more later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1566720"/>
          <a:ext cx="3809880" cy="21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66720"/>
                    <a:ext cx="38098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029200" y="3886200"/>
            <a:ext cx="3048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eference waveform for TX+ rising e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(Falling edge reference for TX+ not sh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257440" y="2819160"/>
            <a:ext cx="6858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5-09-11T23:50:09Z</dcterms:modified>
  <cp:revision>581</cp:revision>
  <dc:subject/>
  <dc:title>IBIS</dc:title>
</cp:coreProperties>
</file>