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3553-B137-470D-AF17-6C3DFC1D4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40E8-2D06-442E-BB2D-A6C5EEA8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B4A2-B0D2-435B-967C-E3980D3B4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D5A2-E81D-4494-83DC-C6C94BE59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EACE-6A40-4262-9918-8BFFEA231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587E-E745-40C0-851D-20FC9839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575A-73C3-4D5A-AEB7-8F90CA44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7709-BCD3-42B9-848D-328AB542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0044-81C7-4DFE-B005-377CD4F8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670572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115AD-2EB9-4597-B231-0954E684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7DB7-7CA3-4C42-8800-712336A4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2570-D9D6-40FB-9B6A-94730A87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8D80-6B31-42DD-892B-8C10AB01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CDDD-1555-4012-884D-C6E21F4B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1C9C-994C-4BB2-A45D-1BB15F39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7FA8-C78E-4968-81C3-39A29C948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8878-3C0E-4F12-AFD7-D19EB0A07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93DF-E3C4-4938-8C3A-B94FFC4C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6A41-1355-4DAF-A644-AFD6BF68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6F99-406F-477B-97D5-14141C75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670572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24A4-A62D-494B-A737-55095284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4D20-14F8-4E06-AD63-8F888743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E162-5099-4A8E-BF1F-4E86857E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FEDE-5B94-46CC-B153-80104A5C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51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 IBIS Summit at DesignCon E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A871-C288-4132-B17C-87815BEA5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05680" y="181080"/>
            <a:ext cx="1833480" cy="21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7920" y="774720"/>
            <a:ext cx="62485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20854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9369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3152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 flipH="1">
            <a:off x="228240" y="2590920"/>
            <a:ext cx="2730600" cy="3276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da.org/ibis/" TargetMode="External"/><Relationship Id="rId2" Type="http://schemas.openxmlformats.org/officeDocument/2006/relationships/hyperlink" Target="http://www.eigroup.org/ibis/" TargetMode="External"/><Relationship Id="rId3" Type="http://schemas.openxmlformats.org/officeDocument/2006/relationships/hyperlink" Target="http://www.eigroup.org/ibis/" TargetMode="External"/><Relationship Id="rId4" Type="http://schemas.openxmlformats.org/officeDocument/2006/relationships/hyperlink" Target="http://www.eigroup.org/ibis/" TargetMode="External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90920" y="6991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IBIS Chair’s Report</a:t>
            </a:r>
            <a:br>
              <a:rPr sz="4400"/>
            </a:b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and Roadmap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762000" y="2457360"/>
            <a:ext cx="39625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hael Mirm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l Cor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r, EIA IBIS Ope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67560" y="2603520"/>
            <a:ext cx="2222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9560" y="2746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44800" y="3936960"/>
            <a:ext cx="3962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 Su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Con East 200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tember 19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http://www.eda.org/ibi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  <a:hlinkClick r:id="rId3"/>
              </a:rPr>
              <a:t>www.eigroup.org</a:t>
            </a: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  <a:hlinkClick r:id="rId4"/>
              </a:rPr>
              <a:t>/ibi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8D54-31E3-4685-844D-64A6FDEF04D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5680" y="234360"/>
            <a:ext cx="8394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Thanks to Key Players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15640" y="819000"/>
            <a:ext cx="8445240" cy="53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parser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255200" y="1324080"/>
            <a:ext cx="3935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rv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Mentor Graph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c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E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anasonic (Matsushita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amt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iem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ignal Integrity Softw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ig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il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ilicon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Silvaco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Synops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eraspeed Consulting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Texas Instr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ilin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Zu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-2160" y="1362240"/>
            <a:ext cx="4205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c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g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Agilent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M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Ansoft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Aplac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Applied Simulation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Cadence Desig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Ci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lu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reen Streak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itachi ULSI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Huaw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Legend Design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LSI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80040" y="5910120"/>
            <a:ext cx="2932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* </a:t>
            </a: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non-member parser licens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F0FB-6C6D-4003-8936-830B88BB9E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76040" y="234360"/>
            <a:ext cx="7328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15640" y="920520"/>
            <a:ext cx="844524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85680" y="2471760"/>
            <a:ext cx="7204320" cy="336708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B765-2C0D-4A59-B3D7-19193B878B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73160" y="1155240"/>
            <a:ext cx="866592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al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Recent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-term Direction of IB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IS Tim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-term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to Key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18880" y="33228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Agend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E718-2BB3-4E66-B0A7-A6991F0243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43080" y="1143000"/>
            <a:ext cx="823896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IBIS Open Forum has 30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One new half-year membership under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M and IBIS Par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New written license agreements availab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All links to GPL removed for ICMCHK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ICMCHK1 public announcement anticipated shor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a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New group: IBIS Macromodeling Library Task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Income good, but still behind outlays by US$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18880" y="33228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Organizational Health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723960" y="5384880"/>
            <a:ext cx="7620120" cy="876240"/>
          </a:xfrm>
          <a:prstGeom prst="flowChartAlternateProcess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mbership is healt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ed strong sales of ICMCHK1 parser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2727-B99A-4B75-AE05-585261E49C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-360" y="1307880"/>
            <a:ext cx="8839080" cy="49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IS 3.2 reapproved by EIA Aug.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Now ANSI/EIA 656-A-1999 (R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M 1.1 approved by the Open Forum Jul.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Now in balloting for EIA standar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Unofficially passed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ballot closes Sept. 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IS 4.0 Cookbook released Sept.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irst revision since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overs IBIS 4.0 keywords,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Includes differential, pre-emphasis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218880" y="33228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Key Recent Event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4848-6437-4079-8679-EA190CFEE9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680" y="234360"/>
            <a:ext cx="6705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Short Term Direction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5640" y="1177920"/>
            <a:ext cx="8445240" cy="51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the next six month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ose current IBISCHK4 parser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lose BIRD95, BIRD97/98 and BIRD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Complete draft of IBIS 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What should it include?  See “Long Term Direc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Begin work on ICM 1.1 Coo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089F-BF51-4AF9-8D84-45F2C44EEA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 flipH="1">
            <a:off x="4775040" y="2476440"/>
            <a:ext cx="7920" cy="12891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8320" y="3913200"/>
            <a:ext cx="3589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57240" y="3913200"/>
            <a:ext cx="363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20840" y="391320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81200" y="391320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41560" y="3913200"/>
            <a:ext cx="361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3360" y="3913200"/>
            <a:ext cx="363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8320" y="4065480"/>
            <a:ext cx="10828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4’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81200" y="4065480"/>
            <a:ext cx="108576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1’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98320" y="3760920"/>
            <a:ext cx="1082880" cy="152280"/>
            <a:chOff x="598320" y="3760920"/>
            <a:chExt cx="1082880" cy="152280"/>
          </a:xfrm>
        </p:grpSpPr>
        <p:sp>
          <p:nvSpPr>
            <p:cNvPr id="108" name=""/>
            <p:cNvSpPr/>
            <p:nvPr/>
          </p:nvSpPr>
          <p:spPr>
            <a:xfrm>
              <a:off x="598320" y="376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598320" y="3817800"/>
              <a:ext cx="1082880" cy="90360"/>
              <a:chOff x="598320" y="3817800"/>
              <a:chExt cx="1082880" cy="90360"/>
            </a:xfrm>
          </p:grpSpPr>
          <p:sp>
            <p:nvSpPr>
              <p:cNvPr id="110" name=""/>
              <p:cNvSpPr/>
              <p:nvPr/>
            </p:nvSpPr>
            <p:spPr>
              <a:xfrm>
                <a:off x="598320" y="381780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814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6464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481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9313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0144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0980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811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646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34784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4310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5141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5976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6812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" name=""/>
          <p:cNvGrpSpPr/>
          <p:nvPr/>
        </p:nvGrpSpPr>
        <p:grpSpPr>
          <a:xfrm>
            <a:off x="1681200" y="3760920"/>
            <a:ext cx="1085760" cy="152280"/>
            <a:chOff x="1681200" y="3760920"/>
            <a:chExt cx="1085760" cy="152280"/>
          </a:xfrm>
        </p:grpSpPr>
        <p:sp>
          <p:nvSpPr>
            <p:cNvPr id="125" name=""/>
            <p:cNvSpPr/>
            <p:nvPr/>
          </p:nvSpPr>
          <p:spPr>
            <a:xfrm>
              <a:off x="1681200" y="376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681200" y="3817800"/>
              <a:ext cx="1085760" cy="90360"/>
              <a:chOff x="1681200" y="3817800"/>
              <a:chExt cx="1085760" cy="90360"/>
            </a:xfrm>
          </p:grpSpPr>
          <p:sp>
            <p:nvSpPr>
              <p:cNvPr id="127" name=""/>
              <p:cNvSpPr/>
              <p:nvPr/>
            </p:nvSpPr>
            <p:spPr>
              <a:xfrm>
                <a:off x="1681200" y="381780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7647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8478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9317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0149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09844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1823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2654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3493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4325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51604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5995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6830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7669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" name=""/>
          <p:cNvSpPr/>
          <p:nvPr/>
        </p:nvSpPr>
        <p:spPr>
          <a:xfrm>
            <a:off x="380880" y="360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60520" y="360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46280" y="360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66960" y="391320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7320" y="391320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87680" y="3913200"/>
            <a:ext cx="3621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49840" y="3913200"/>
            <a:ext cx="3632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u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13080" y="3913200"/>
            <a:ext cx="3589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3913200"/>
            <a:ext cx="363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66960" y="4065480"/>
            <a:ext cx="10828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2’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49840" y="4065480"/>
            <a:ext cx="108576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3’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66960" y="376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766960" y="3760920"/>
            <a:ext cx="1082880" cy="152280"/>
            <a:chOff x="2766960" y="3760920"/>
            <a:chExt cx="1082880" cy="152280"/>
          </a:xfrm>
        </p:grpSpPr>
        <p:sp>
          <p:nvSpPr>
            <p:cNvPr id="154" name=""/>
            <p:cNvSpPr/>
            <p:nvPr/>
          </p:nvSpPr>
          <p:spPr>
            <a:xfrm>
              <a:off x="2766960" y="376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766960" y="3817800"/>
              <a:ext cx="1082880" cy="90360"/>
              <a:chOff x="2766960" y="3817800"/>
              <a:chExt cx="1082880" cy="90360"/>
            </a:xfrm>
          </p:grpSpPr>
          <p:sp>
            <p:nvSpPr>
              <p:cNvPr id="156" name=""/>
              <p:cNvSpPr/>
              <p:nvPr/>
            </p:nvSpPr>
            <p:spPr>
              <a:xfrm>
                <a:off x="2766960" y="381780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8501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9332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0168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0999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1831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26664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3498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4333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5164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59964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6828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7663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84984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0" name=""/>
          <p:cNvGrpSpPr/>
          <p:nvPr/>
        </p:nvGrpSpPr>
        <p:grpSpPr>
          <a:xfrm>
            <a:off x="3849840" y="3760920"/>
            <a:ext cx="1085760" cy="152280"/>
            <a:chOff x="3849840" y="3760920"/>
            <a:chExt cx="1085760" cy="152280"/>
          </a:xfrm>
        </p:grpSpPr>
        <p:sp>
          <p:nvSpPr>
            <p:cNvPr id="171" name=""/>
            <p:cNvSpPr/>
            <p:nvPr/>
          </p:nvSpPr>
          <p:spPr>
            <a:xfrm>
              <a:off x="3849840" y="376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3849840" y="3817800"/>
              <a:ext cx="1085760" cy="90360"/>
              <a:chOff x="3849840" y="3817800"/>
              <a:chExt cx="1085760" cy="90360"/>
            </a:xfrm>
          </p:grpSpPr>
          <p:sp>
            <p:nvSpPr>
              <p:cNvPr id="173" name=""/>
              <p:cNvSpPr/>
              <p:nvPr/>
            </p:nvSpPr>
            <p:spPr>
              <a:xfrm>
                <a:off x="3849840" y="381780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9333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0165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1004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1835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2670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509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4341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5180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60116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68468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7682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85172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935600" y="3822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7" name=""/>
          <p:cNvSpPr/>
          <p:nvPr/>
        </p:nvSpPr>
        <p:spPr>
          <a:xfrm>
            <a:off x="3635280" y="360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20320" y="3608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8600" y="5649840"/>
            <a:ext cx="149040" cy="15264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77720" y="5925960"/>
            <a:ext cx="193680" cy="1526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9760" y="5367240"/>
            <a:ext cx="129960" cy="152640"/>
          </a:xfrm>
          <a:prstGeom prst="rect">
            <a:avLst/>
          </a:prstGeom>
          <a:solidFill>
            <a:srgbClr val="deece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1284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IBIS Timelin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3" name=""/>
          <p:cNvSpPr/>
          <p:nvPr/>
        </p:nvSpPr>
        <p:spPr>
          <a:xfrm>
            <a:off x="1054080" y="1046160"/>
            <a:ext cx="3998880" cy="1017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uly, 2002: IBIS 4.0 appro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ep., 2003: ICM 1.0 appro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an., 2004: IBIS 4.1 appro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15640" y="2206800"/>
            <a:ext cx="152640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ec 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55880" y="2320920"/>
            <a:ext cx="619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IS 4.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7160" y="558792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sign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8440" y="5318280"/>
            <a:ext cx="56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7680" y="5889600"/>
            <a:ext cx="130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signCon E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2280" y="4267080"/>
            <a:ext cx="193680" cy="1526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46800" y="2624040"/>
            <a:ext cx="669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IS 4.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2450880" y="3125520"/>
            <a:ext cx="12600" cy="655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57480" y="3071880"/>
            <a:ext cx="657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CM 1.</a:t>
            </a: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919160" y="3492000"/>
            <a:ext cx="0" cy="2797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413080" y="4270320"/>
            <a:ext cx="129960" cy="152280"/>
          </a:xfrm>
          <a:prstGeom prst="rect">
            <a:avLst/>
          </a:prstGeom>
          <a:solidFill>
            <a:srgbClr val="deece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614840" y="3057480"/>
            <a:ext cx="0" cy="619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43760" y="3067200"/>
            <a:ext cx="74592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CM Cookboo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6527880" y="3471840"/>
            <a:ext cx="0" cy="279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953400" y="2664000"/>
            <a:ext cx="669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IS 4.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7278840" y="30826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89600" y="4268880"/>
            <a:ext cx="193680" cy="152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39080" y="50245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1880" y="5013360"/>
            <a:ext cx="223920" cy="201600"/>
          </a:xfrm>
          <a:prstGeom prst="star5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81200" y="3765600"/>
            <a:ext cx="3240" cy="4935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94040" y="4262400"/>
            <a:ext cx="149040" cy="15228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68680" y="4248000"/>
            <a:ext cx="223920" cy="201600"/>
          </a:xfrm>
          <a:prstGeom prst="star5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97440" y="4627440"/>
            <a:ext cx="1017360" cy="3373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umm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35600" y="3911760"/>
            <a:ext cx="3585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94160" y="3911760"/>
            <a:ext cx="363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57760" y="391176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18120" y="391176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78480" y="3911760"/>
            <a:ext cx="3621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40640" y="3911760"/>
            <a:ext cx="363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35600" y="4064040"/>
            <a:ext cx="1082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4’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18120" y="4064040"/>
            <a:ext cx="1086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1’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4935600" y="3759120"/>
            <a:ext cx="1076400" cy="152280"/>
            <a:chOff x="4935600" y="3759120"/>
            <a:chExt cx="1076400" cy="152280"/>
          </a:xfrm>
        </p:grpSpPr>
        <p:sp>
          <p:nvSpPr>
            <p:cNvPr id="227" name=""/>
            <p:cNvSpPr/>
            <p:nvPr/>
          </p:nvSpPr>
          <p:spPr>
            <a:xfrm>
              <a:off x="4935600" y="3759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4935600" y="3816000"/>
              <a:ext cx="1076400" cy="90360"/>
              <a:chOff x="4935600" y="3816000"/>
              <a:chExt cx="1076400" cy="90360"/>
            </a:xfrm>
          </p:grpSpPr>
          <p:sp>
            <p:nvSpPr>
              <p:cNvPr id="229" name=""/>
              <p:cNvSpPr/>
              <p:nvPr/>
            </p:nvSpPr>
            <p:spPr>
              <a:xfrm>
                <a:off x="4935600" y="381600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01840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008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18400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2664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3492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43240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5148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59800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6804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7632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8460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9288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01200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3" name=""/>
          <p:cNvGrpSpPr/>
          <p:nvPr/>
        </p:nvGrpSpPr>
        <p:grpSpPr>
          <a:xfrm>
            <a:off x="6012000" y="3759120"/>
            <a:ext cx="1085760" cy="152280"/>
            <a:chOff x="6012000" y="3759120"/>
            <a:chExt cx="1085760" cy="152280"/>
          </a:xfrm>
        </p:grpSpPr>
        <p:sp>
          <p:nvSpPr>
            <p:cNvPr id="244" name=""/>
            <p:cNvSpPr/>
            <p:nvPr/>
          </p:nvSpPr>
          <p:spPr>
            <a:xfrm>
              <a:off x="6012000" y="3759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6012000" y="3816000"/>
              <a:ext cx="1085760" cy="90360"/>
              <a:chOff x="6012000" y="3816000"/>
              <a:chExt cx="1085760" cy="90360"/>
            </a:xfrm>
          </p:grpSpPr>
          <p:sp>
            <p:nvSpPr>
              <p:cNvPr id="246" name=""/>
              <p:cNvSpPr/>
              <p:nvPr/>
            </p:nvSpPr>
            <p:spPr>
              <a:xfrm>
                <a:off x="6012000" y="381600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09552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17868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26256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34572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4292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51312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59628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68016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76332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8468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93036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1388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9776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0" name=""/>
          <p:cNvSpPr/>
          <p:nvPr/>
        </p:nvSpPr>
        <p:spPr>
          <a:xfrm>
            <a:off x="5790960" y="3619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77080" y="3619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97760" y="3911760"/>
            <a:ext cx="3668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464600" y="391176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824960" y="3911760"/>
            <a:ext cx="361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97760" y="4064040"/>
            <a:ext cx="1089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2`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97760" y="37591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7097760" y="3759120"/>
            <a:ext cx="1082520" cy="152280"/>
            <a:chOff x="7097760" y="3759120"/>
            <a:chExt cx="1082520" cy="152280"/>
          </a:xfrm>
        </p:grpSpPr>
        <p:sp>
          <p:nvSpPr>
            <p:cNvPr id="268" name=""/>
            <p:cNvSpPr/>
            <p:nvPr/>
          </p:nvSpPr>
          <p:spPr>
            <a:xfrm>
              <a:off x="7097760" y="3759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7097760" y="3816000"/>
              <a:ext cx="1082520" cy="90360"/>
              <a:chOff x="7097760" y="3816000"/>
              <a:chExt cx="1082520" cy="90360"/>
            </a:xfrm>
          </p:grpSpPr>
          <p:sp>
            <p:nvSpPr>
              <p:cNvPr id="270" name=""/>
              <p:cNvSpPr/>
              <p:nvPr/>
            </p:nvSpPr>
            <p:spPr>
              <a:xfrm>
                <a:off x="7097760" y="381600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18092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26408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34760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43040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51392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5974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6802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76376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84692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9304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01324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09676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180280" y="38210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4" name=""/>
          <p:cNvSpPr/>
          <p:nvPr/>
        </p:nvSpPr>
        <p:spPr>
          <a:xfrm>
            <a:off x="7966080" y="3619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64480" y="4265640"/>
            <a:ext cx="129960" cy="152280"/>
          </a:xfrm>
          <a:prstGeom prst="rect">
            <a:avLst/>
          </a:prstGeom>
          <a:solidFill>
            <a:srgbClr val="deece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12000" y="3770280"/>
            <a:ext cx="2880" cy="4939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83360" y="4287960"/>
            <a:ext cx="149040" cy="15228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899480" y="4245120"/>
            <a:ext cx="223920" cy="201600"/>
          </a:xfrm>
          <a:prstGeom prst="star5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5760" y="4070520"/>
            <a:ext cx="796428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5797080" y="3093840"/>
            <a:ext cx="1800" cy="6714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510240" y="4946760"/>
            <a:ext cx="2091960" cy="131364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Regular summ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in Asia sta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in ’06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ooking likel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57320" y="2697120"/>
            <a:ext cx="615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CM 1.</a:t>
            </a: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32400" y="2622600"/>
            <a:ext cx="803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IS 4.</a:t>
            </a: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okboo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351240" y="3122640"/>
            <a:ext cx="745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CM 1.</a:t>
            </a: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4032360" y="3497400"/>
            <a:ext cx="0" cy="279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77960" y="4241880"/>
            <a:ext cx="228600" cy="190440"/>
          </a:xfrm>
          <a:prstGeom prst="pentag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6184800"/>
            <a:ext cx="228600" cy="190440"/>
          </a:xfrm>
          <a:prstGeom prst="pentag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68320" y="6181560"/>
            <a:ext cx="17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JEITA IBIS Con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02400" y="4229280"/>
            <a:ext cx="241200" cy="266400"/>
          </a:xfrm>
          <a:custGeom>
            <a:avLst/>
            <a:gdLst>
              <a:gd name="textAreaLeft" fmla="*/ 99360 w 241200"/>
              <a:gd name="textAreaRight" fmla="*/ 141840 w 241200"/>
              <a:gd name="textAreaTop" fmla="*/ 109800 h 266400"/>
              <a:gd name="textAreaBottom" fmla="*/ 156600 h 266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" y="4686480"/>
            <a:ext cx="241200" cy="266400"/>
          </a:xfrm>
          <a:custGeom>
            <a:avLst/>
            <a:gdLst>
              <a:gd name="textAreaLeft" fmla="*/ 99360 w 241200"/>
              <a:gd name="textAreaRight" fmla="*/ 141840 w 241200"/>
              <a:gd name="textAreaTop" fmla="*/ 109800 h 266400"/>
              <a:gd name="textAreaBottom" fmla="*/ 156600 h 266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35920" y="4695840"/>
            <a:ext cx="140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BIS Summit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75240" y="2631960"/>
            <a:ext cx="803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IS 3.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IA Affi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4367160" y="3047760"/>
            <a:ext cx="0" cy="6188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701E-C50E-42E3-B5AC-8C28CA5982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5680" y="234360"/>
            <a:ext cx="6705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Short Term Direction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600" y="958320"/>
            <a:ext cx="8445600" cy="52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Ds Under Consi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s Task Group is discuss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3300"/>
                </a:solidFill>
                <a:uFillTx/>
                <a:latin typeface="Arial"/>
              </a:rPr>
              <a:t>BIRD95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: Power Integrity Analysis Using IB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Adds table for current from source through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Adds RLGC values to describe buffer power-ground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3300"/>
                </a:solidFill>
                <a:uFillTx/>
                <a:latin typeface="Arial"/>
              </a:rPr>
              <a:t>BIRD97/98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: Gate Modulation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New parameters change I-V tables as supply voltages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xample: Power_coeff_typ = 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I-V table reduced by 8% for a 10% change in supply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BIRD98 is table-based; BIRD97 is equation-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3300"/>
                </a:solidFill>
                <a:uFillTx/>
                <a:latin typeface="Arial"/>
              </a:rPr>
              <a:t>BIRD100 (Draft)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: IBIS-ICM L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Arial"/>
              </a:rPr>
              <a:t>Not yet rele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Arial"/>
              </a:rPr>
              <a:t>Significant questions remain on native IBIS packag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965C-6996-4D2E-BB24-43F7FE988B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75680" y="234360"/>
            <a:ext cx="6705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Long Term Issues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16000" y="920520"/>
            <a:ext cx="822168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IS 4.1 Coo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IBIS community needs guidance on                  behavioral modeling with 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IBIS 4.1 keywords can be conf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This may not be feasible until IBIS 4.2/5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hould the next revision of IBIS inclu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Need power delivery (BIRD95, BIRD97/98)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Need ICM-IBIS links s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4.1 specification actually implies ICM without namin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User-defined measurements for [Ext. Circuit]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Many tools need these for SI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Macromodeling support through standard libr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jor changes will increase cost of a new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503C-78B0-42D3-93C0-EA38245AC9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75680" y="234360"/>
            <a:ext cx="6705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IBIS 4.2 vs. IBIS 5.0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15640" y="920520"/>
            <a:ext cx="861516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trends on IBIS 4.2, 5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IS 4.2 woul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Clean up” language to save parser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BIRD94, BIRD99 and bug fixe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IS 5.0 woul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Add BIRD95, BIRD97/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Add explicit support for ICM (Draft BIRD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upport [External Circuit] with [Model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Incorporate EMI support (BIRD74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Include user-defined measurements (“stretch goal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we need these features earlier than 5.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is plan suppor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210E-4308-40AB-A173-0064B04E7D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7T19:20:36Z</dcterms:created>
  <dc:creator>Michael Mirmak</dc:creator>
  <dc:description/>
  <dc:language>en-US</dc:language>
  <cp:lastModifiedBy>Michael Mirmak</cp:lastModifiedBy>
  <dcterms:modified xsi:type="dcterms:W3CDTF">2005-09-13T22:07:18Z</dcterms:modified>
  <cp:revision>334</cp:revision>
  <dc:subject>Update to JEITA</dc:subject>
  <dc:title>IBIS Status and Future Direction</dc:title>
</cp:coreProperties>
</file>