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87F8-D880-4CD4-8B6F-FBD7087ED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D0B2-001F-4FE6-8BE6-3285F474F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0827-CE4C-411A-AB3F-A902D8851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784E-9116-4CCC-9311-4D40BC5BD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AD3-AFA2-43BE-BC32-F54B19BC63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DA6-E27A-4DB9-9515-2934213AA5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448-B60A-4A1F-9886-12E2FAD567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70C-6EB5-48EF-A65F-C512CCF53E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D1B-8FBA-4B2C-91B2-A754094064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8D3-43AF-436B-AECB-6A2FD7B009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80E-1E0C-43DD-9DC9-A13DFA5447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F057-EAB6-438E-BE06-471C5FD4C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3C2-5CED-4D10-81D6-64987FCB1A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BDC-BD22-48EF-B025-009802FDAF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64F-4F6B-4464-BBAE-8ACEFC1D6A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98E-DD8C-4E00-8936-34479F3CB9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7E3-074D-4965-8D60-7912D50E58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CCF9-49C3-41CE-ACAB-FF79575F9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F9AC-DD8C-4651-9F37-31F706265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8683-C5DD-4085-83F4-12AA173AA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4BE9-646D-4CB0-BB44-548C9C4CA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5502-22AF-4AD3-A7D3-C7B0A8A2A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2D8F-451D-4672-92A1-6D01055A8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738A-9918-4099-AF15-1C68C3C26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096920" indent="-181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4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5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6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141360" y="6267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A419-175B-4CBC-BDED-826BDC342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20600" y="6297480"/>
            <a:ext cx="10335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D3A-4CF8-493A-800C-9C68D31FC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3200" y="318960"/>
            <a:ext cx="1811520" cy="69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63324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91584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4" marL="121140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5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6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7360" y="1806120"/>
            <a:ext cx="77724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Narrow"/>
              </a:rPr>
              <a:t>IBIS “Over Clocking” Case</a:t>
            </a:r>
            <a:endParaRPr b="0" lang="en-US" sz="4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8840" y="30729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Robert Haller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Eric Brock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rhaller@sisoft.com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Signal Integrity Software, Inc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978-461-0449 X 15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41840" y="4280040"/>
            <a:ext cx="3208320" cy="233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Arial Narrow"/>
              </a:rPr>
              <a:t>When Does “Over Clocking” Occur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VT curve time comparable to simulation data r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cessive Dead time in VT curv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arge variation between Slow and Fast VT Curv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Results in Unpredictable Simulator Behavi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.e. SP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thers 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Example VT Curv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T curve time small versus data rate (Final DC levels ~ 3.5n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 of 4 VT curves shown (Rise, Fall, VDD, Ground) ~ 1ns Delt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54120" y="2170080"/>
            <a:ext cx="6175440" cy="44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Example Simulation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mulation results 100 MHz (10ns Cycle time, 5 ns Data rat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54040" y="1841400"/>
            <a:ext cx="6367680" cy="462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Over Clocked Case – VT Befor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T curve time comparable to data ra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rge delta between beginning of Fast and end of Slow Process corners  ~.7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4" name="broken_vt_curves" descr=""/>
          <p:cNvPicPr/>
          <p:nvPr/>
        </p:nvPicPr>
        <p:blipFill>
          <a:blip r:embed="rId2"/>
          <a:stretch/>
        </p:blipFill>
        <p:spPr>
          <a:xfrm>
            <a:off x="1787400" y="2160720"/>
            <a:ext cx="5720040" cy="445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Over Clocked Case – Simulation Befor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spice versus IBIS Correl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mulation results 1.8 GHz ( 0.556 ns Data rat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hspice_ibis_correlation_default" descr=""/>
          <p:cNvPicPr/>
          <p:nvPr/>
        </p:nvPicPr>
        <p:blipFill>
          <a:blip r:embed="rId2"/>
          <a:stretch/>
        </p:blipFill>
        <p:spPr>
          <a:xfrm>
            <a:off x="1332000" y="2367000"/>
            <a:ext cx="6323040" cy="418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Over Clocked Case – VT After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T curve time Shift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duce delta between Fast and Slow Process corners (~ 450p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0" name="corrected_vt_curves" descr=""/>
          <p:cNvPicPr/>
          <p:nvPr/>
        </p:nvPicPr>
        <p:blipFill>
          <a:blip r:embed="rId2"/>
          <a:stretch/>
        </p:blipFill>
        <p:spPr>
          <a:xfrm>
            <a:off x="1366920" y="2200320"/>
            <a:ext cx="5838840" cy="45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Over Clocked Case – Simulation After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spice versus IBIS Correl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mulation results 1.8 GHz ( 0.556 ns Data rat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3" name="hspice_ibis_correlation_corrected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654960" cy="440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SiSoft Implementation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mplemented parameter (in .ibs fil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Soft uses “|Sisoft” parameters to augment IBIS capabiliti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|” character is a comment character for IBI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dustry tools will ignor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|SiSoft is Keyword in SiAuditor / Quantum SI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Soft parameter used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PICE2IBIS process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|SiSoft VT_offset  typ, min, max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ost FF to SS timing relationship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ment in .ibs file to document thi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16:46:21Z</dcterms:created>
  <dc:creator>Robert Haller</dc:creator>
  <dc:description/>
  <dc:language>en-US</dc:language>
  <cp:lastModifiedBy>Robert Haller</cp:lastModifiedBy>
  <dcterms:modified xsi:type="dcterms:W3CDTF">2005-09-14T17:40:09Z</dcterms:modified>
  <cp:revision>241</cp:revision>
  <dc:subject/>
  <dc:title>Pass Fail Crite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56878831</vt:r8>
  </property>
  <property fmtid="{D5CDD505-2E9C-101B-9397-08002B2CF9AE}" pid="3" name="_AuthorEmail">
    <vt:lpwstr>whayden@sisoft.com</vt:lpwstr>
  </property>
  <property fmtid="{D5CDD505-2E9C-101B-9397-08002B2CF9AE}" pid="4" name="_AuthorEmailDisplayName">
    <vt:lpwstr>Warren Hayden</vt:lpwstr>
  </property>
  <property fmtid="{D5CDD505-2E9C-101B-9397-08002B2CF9AE}" pid="5" name="_EmailSubject">
    <vt:lpwstr>template.ppt</vt:lpwstr>
  </property>
</Properties>
</file>