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Click to move the slide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320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320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255A-E402-4D80-98A8-EEA9D2A30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Self an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oft – EDA and consul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 - Software,Hardware (IC,PWB and LAB )  and PWB manufactu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’m will give my opinions on PASS/FAIL criteria for high speed digital interfaces and answer Greg’s 2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E3CC-A544-4F85-885F-792F09F8D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D175-6752-4CBC-96B7-BD81BF15F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C7E2-00F6-4483-9E8F-639F2772D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914D-2C46-41A2-B459-6457E079D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311-B865-4295-9485-3351FDBB77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1374-7BC3-4893-B0C8-91D65B331F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513-3018-478B-A78E-6805F59283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D0C-7A6B-448E-B8AA-BC75E0608D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81EB-DB4B-4736-AA80-F3B75E04E9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CAB-E47C-4538-805A-CAA9414D79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225A-04EA-442B-8188-DD9D121918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A5090-F488-4028-B0E9-747E0B978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1505-3BBF-4B85-92C1-272044616A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3E6-5D52-40DB-B032-489DCB750D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429-909D-4606-BFFC-4C2F744B92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7A2-2EE2-4921-A1BE-0C0653EEE6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430-DD67-4F5A-8EA2-0B770C5B9A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7F0F-CFCD-48BA-8F1C-4FAAD4D93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28F9-3280-4CCA-955A-B2480A236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6433-9CF6-4118-B6DC-49AEA3896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5413-2814-4F7E-8305-F507C7F03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6BF81-7DFE-4442-B014-5A8BAB24D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6BB3-9B00-4507-8D4E-D855662FB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767D-AFFB-401B-9D11-1FBEFE794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801720" indent="-1684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096920" indent="-181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4" marL="1378080" indent="-1666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5" marL="1378080" indent="-1666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6" marL="1378080" indent="-1666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141360" y="62672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9C16-269F-4D3E-B9B9-87786F11F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20600" y="6297480"/>
            <a:ext cx="10335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28D7-FA1C-42E6-B5E6-CF3DC1AE6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03200" y="318960"/>
            <a:ext cx="1811520" cy="695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63324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3" marL="915840" algn="ctr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4" marL="1211400" algn="ctr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5" marL="1211400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6" marL="1211400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BIS%20BrianA" descr=""/>
          <p:cNvPicPr/>
          <p:nvPr/>
        </p:nvPicPr>
        <p:blipFill>
          <a:blip r:embed="rId2"/>
          <a:stretch/>
        </p:blipFill>
        <p:spPr>
          <a:xfrm>
            <a:off x="2158920" y="912960"/>
            <a:ext cx="4640400" cy="3711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2911320"/>
            <a:ext cx="77724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IBIS PARSER BUG90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d-Hoc Presentation</a:t>
            </a:r>
            <a:endParaRPr b="0" lang="en-US" sz="40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55760" y="4554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Robert Haller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rhaller@sisoft.com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Narrow"/>
              </a:rPr>
              <a:t>Signal Integrity Software, Inc.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Narrow"/>
              </a:rPr>
              <a:t>978-461-0449 X 15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Arial Narrow"/>
              </a:rPr>
              <a:t>What is BUG90 About 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8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If an IBIS file has a Vmeas outside Vih/Vil no warning is issued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.e. Vmeas = 1.65V, Vinh = 1.6V, Vinl = 0.9V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In most cases this is representative of a flawed IBIS Fil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his parser check only applies to I/O'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The IBIS Quality Committee proposes that a new Parser warning message be created. The "Caution" would be created to add a class of checks to significantly enhance the present IBIS Parsers capability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he new checks would be enabled with a command line switch to minimize additional spurious warnings for traditional IBIS model users, but will aid the model creator, reviewer and  advanced users with enhanced automatic IBIS parser checking capability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One reason why the Vinl and Vinh enclose Vmeas check is a caution is because there are legitimate cases, but predominantly its a mistake if this is done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Arial Narrow"/>
              </a:rPr>
              <a:t>BUG90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8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Good New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8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ccepted and classified by IBIS open Forum !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ad New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8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s IBIS parser Funding adequate ?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5" name="bug0378" descr=""/>
          <p:cNvPicPr/>
          <p:nvPr/>
        </p:nvPicPr>
        <p:blipFill>
          <a:blip r:embed="rId2"/>
          <a:stretch/>
        </p:blipFill>
        <p:spPr>
          <a:xfrm>
            <a:off x="2220840" y="3386160"/>
            <a:ext cx="4146480" cy="310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Arial Narrow"/>
              </a:rPr>
              <a:t>What Do you think ?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8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ush one caution through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rioritized list of cautio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eprecate some warnings to cautio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dentify cautions (missing checks)  that should be warn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8" name="BD00028_" descr=""/>
          <p:cNvPicPr/>
          <p:nvPr/>
        </p:nvPicPr>
        <p:blipFill>
          <a:blip r:embed="rId2"/>
          <a:stretch/>
        </p:blipFill>
        <p:spPr>
          <a:xfrm>
            <a:off x="2906640" y="3381480"/>
            <a:ext cx="323388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Arial Narrow"/>
              </a:rPr>
              <a:t>Partial List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8000"/>
              </a:lnSpc>
              <a:spcBef>
                <a:spcPts val="3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[Comment Char] - Changing the comment character is not advised.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3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[Package] Parasitics must be reasonable -  Reasonable values are: L&lt;10nH, C&lt;20pF, R&lt;1 ohm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3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[Pin] RLC complete - RLC is optional on pins. If not defined either leave blank or use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3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[Diff Pin] Vdiff and Tskew complete and reasonable-Vdiff defined and should be non-zero and positive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3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[Model] C_comp is reasonable -  C_comp must be defined, positive and less than 20pF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3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[Model] C_comp is correct-C_comp must represent the TOTAL die capacitance as specified in data sheet 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3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[Model] Vinl and Vinh enclose Vmeas - For I/O buffers Vinl and Vinh values should be below and above,respectively,Vmeas .LEVEL 0  [Model Spec] Vinl+/Vinh+ greater than Vinl-/Vinh- -  Vinh+ is greater than Vinh-, and Vinl+ is greater than Vinl-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3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[Model Spec] Vinl+/- and Vinh+/- enclose Vmeas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3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[Model Spec] Pulse_time reasonable -  Pulse_time is less than the minimum rise time and fall time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3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[Model Spec] S_Overshoot subparam complete -All input and I/O buffers have S_overshoot_high and S_overshoot_low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3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I-V tables have correct typ/min/max order-Area calculation 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3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[Pullup] voltage sweep range is correct-The sweep for [Pullup] should be made between -vcc to  2*vcc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3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[Pulldown] voltage sweep range is correct-The sweep [Pulldown] should be made between -vcc to  2*vcc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3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[Power Clamp] voltage sweep range is correct -  The [Power Clamp] should turn on near supply voltage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3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[GND Clamp] voltage sweep range is correct-[GND Clamp] should turn on ~ one Diode drop below 0.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16:46:21Z</dcterms:created>
  <dc:creator>Robert Haller</dc:creator>
  <dc:description/>
  <dc:language>en-US</dc:language>
  <cp:lastModifiedBy>Robert Haller</cp:lastModifiedBy>
  <dcterms:modified xsi:type="dcterms:W3CDTF">2005-09-14T17:41:25Z</dcterms:modified>
  <cp:revision>233</cp:revision>
  <dc:subject/>
  <dc:title>Pass Fail Criter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56878831</vt:r8>
  </property>
  <property fmtid="{D5CDD505-2E9C-101B-9397-08002B2CF9AE}" pid="3" name="_AuthorEmail">
    <vt:lpwstr>whayden@sisoft.com</vt:lpwstr>
  </property>
  <property fmtid="{D5CDD505-2E9C-101B-9397-08002B2CF9AE}" pid="4" name="_AuthorEmailDisplayName">
    <vt:lpwstr>Warren Hayden</vt:lpwstr>
  </property>
  <property fmtid="{D5CDD505-2E9C-101B-9397-08002B2CF9AE}" pid="5" name="_EmailSubject">
    <vt:lpwstr>template.ppt</vt:lpwstr>
  </property>
</Properties>
</file>