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107D33-B410-4628-AE41-B30227526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BA8B26-0B9D-4FBE-8811-FAE5ABE9F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8D6A88-801C-4704-8B98-D4BE61895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9075BD-3623-402F-BCF8-5EA4CE880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DA6186-685B-4AC7-82DC-7F2937ACB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AC8C6E-C58A-4874-BFC1-563A21E30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199401-0F50-4F24-A26B-0F47C5A9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4E9A0E-09A0-404E-B738-D8296D6B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1E92F8-5C4E-4176-999E-A7025C2D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0A1C1D-7A31-4BE5-9B32-0F097FB0C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36DF07-27C7-4EE8-B4A6-2E8F9CF64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A2F27B-16B7-4B9E-8BD0-1B94D46DE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d5e9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8088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0" y="0"/>
                    </a:lnTo>
                    <a:lnTo>
                      <a:pt x="0" y="2976"/>
                    </a:lnTo>
                  </a:path>
                </a:pathLst>
              </a:custGeom>
              <a:solidFill>
                <a:srgbClr val="eaeaea"/>
              </a:solidFill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996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5268" y="2976"/>
                    </a:lnTo>
                    <a:lnTo>
                      <a:pt x="0" y="2976"/>
                    </a:lnTo>
                  </a:path>
                </a:pathLst>
              </a:custGeom>
              <a:solidFill>
                <a:srgbClr val="eaeaea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96" y="2784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eaeaea"/>
              </a:solidFill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eaeaea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0" y="0"/>
                    </a:lnTo>
                    <a:lnTo>
                      <a:pt x="0" y="720"/>
                    </a:lnTo>
                  </a:path>
                </a:pathLst>
              </a:custGeom>
              <a:solidFill>
                <a:srgbClr val="eaeaea"/>
              </a:solidFill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192" y="720"/>
                    </a:lnTo>
                    <a:lnTo>
                      <a:pt x="0" y="720"/>
                    </a:lnTo>
                  </a:path>
                </a:pathLst>
              </a:custGeom>
              <a:solidFill>
                <a:srgbClr val="eaeaea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" name="SigrityLogo2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7391520" y="6324480"/>
            <a:ext cx="1371600" cy="34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d5e9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solidFill>
                <a:srgbClr val="eaeaea"/>
              </a:solidFill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solidFill>
                <a:srgbClr val="eaeaea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solidFill>
                <a:srgbClr val="eaeaea"/>
              </a:solidFill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solidFill>
                <a:srgbClr val="eaeaea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eaeaea"/>
              </a:solidFill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eaeaea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3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14/9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4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5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C7AC3-7B51-408A-B45B-F48BE85645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d5e9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/Gnd Simulation Using IBIS Models and Pin Mapping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j Raghu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rity, In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BIS Summit Meeting, Sep. 13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d5e9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oltage Waveforms at One Receiver As the Number of Simultaneous Switched Drivers Varies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no decoupling caps us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820800" y="1649520"/>
          <a:ext cx="7891560" cy="45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0800" y="1649520"/>
                    <a:ext cx="7891560" cy="45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7" name=""/>
          <p:cNvSpPr/>
          <p:nvPr/>
        </p:nvSpPr>
        <p:spPr>
          <a:xfrm flipV="1">
            <a:off x="4792680" y="2776680"/>
            <a:ext cx="0" cy="652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5351400" y="2217600"/>
            <a:ext cx="473040" cy="23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962520" y="2252520"/>
            <a:ext cx="609480" cy="219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421080" y="2692440"/>
            <a:ext cx="1150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411800" y="3429000"/>
            <a:ext cx="20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deal Case: Trace in to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824440" y="2014560"/>
            <a:ext cx="13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8 Dri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792520" y="2098800"/>
            <a:ext cx="13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 Dri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436840" y="2641680"/>
            <a:ext cx="13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 Dr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d5e9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ffect of Decoupling Caps on Receiver Voltage with 8 Drivers Switching Simultaneous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863640" y="1636560"/>
          <a:ext cx="7858080" cy="466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3640" y="1636560"/>
                    <a:ext cx="7858080" cy="46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8" name=""/>
          <p:cNvSpPr/>
          <p:nvPr/>
        </p:nvSpPr>
        <p:spPr>
          <a:xfrm flipH="1">
            <a:off x="5181120" y="2049480"/>
            <a:ext cx="660600" cy="338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370320" y="2354400"/>
            <a:ext cx="693720" cy="338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H="1" flipV="1">
            <a:off x="4437000" y="2813040"/>
            <a:ext cx="744480" cy="59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 flipV="1">
            <a:off x="4284720" y="2760840"/>
            <a:ext cx="287280" cy="1320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089320" y="3162240"/>
            <a:ext cx="20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deal case: Trace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833280" y="4081320"/>
            <a:ext cx="19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 caps (060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lus 4 caps (080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2087640"/>
            <a:ext cx="207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 decoupling ca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069640" y="208764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 caps (080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070680" y="3741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978520" y="4437000"/>
            <a:ext cx="2297160" cy="1159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x Overshoot/Undersho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decoupling caps: 772 m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caps: 260 m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6 caps: 49 m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deal case: 39 m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d5e9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760320" y="57168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wer/Gnd Voltage Historical Peak Surface Plot with and Without Deca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1036800" y="1746360"/>
          <a:ext cx="6562440" cy="193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6800" y="1746360"/>
                    <a:ext cx="6562440" cy="19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1" name=""/>
          <p:cNvGraphicFramePr/>
          <p:nvPr/>
        </p:nvGraphicFramePr>
        <p:xfrm>
          <a:off x="1028880" y="3800520"/>
          <a:ext cx="6595920" cy="1968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28880" y="3800520"/>
                    <a:ext cx="6595920" cy="19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3" name=""/>
          <p:cNvSpPr/>
          <p:nvPr/>
        </p:nvSpPr>
        <p:spPr>
          <a:xfrm>
            <a:off x="7741440" y="2041560"/>
            <a:ext cx="6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786800" y="4024440"/>
            <a:ext cx="67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ith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069440" y="2612880"/>
            <a:ext cx="23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3.3 V 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Power supply 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171440" y="2292480"/>
            <a:ext cx="170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4.6 V at Cor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706400" y="2019240"/>
            <a:ext cx="182880" cy="289080"/>
          </a:xfrm>
          <a:prstGeom prst="line">
            <a:avLst/>
          </a:prstGeom>
          <a:ln w="1908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370160" y="4365720"/>
            <a:ext cx="170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3.4 V at Cor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 flipV="1">
            <a:off x="1476000" y="4182840"/>
            <a:ext cx="198360" cy="27468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 flipV="1">
            <a:off x="4006440" y="2506320"/>
            <a:ext cx="136440" cy="18252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d5e9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760320" y="464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wer/Gnd Voltage Historical Peak Color Intensity Plot with and Without Decap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2" name=""/>
          <p:cNvGraphicFramePr/>
          <p:nvPr/>
        </p:nvGraphicFramePr>
        <p:xfrm>
          <a:off x="968400" y="1766880"/>
          <a:ext cx="5715000" cy="21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8400" y="1766880"/>
                    <a:ext cx="571500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4" name=""/>
          <p:cNvGraphicFramePr/>
          <p:nvPr/>
        </p:nvGraphicFramePr>
        <p:xfrm>
          <a:off x="968400" y="4084560"/>
          <a:ext cx="5715000" cy="211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68400" y="4084560"/>
                    <a:ext cx="5715000" cy="21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6" name=""/>
          <p:cNvSpPr/>
          <p:nvPr/>
        </p:nvSpPr>
        <p:spPr>
          <a:xfrm>
            <a:off x="7107840" y="2362320"/>
            <a:ext cx="6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153200" y="4665600"/>
            <a:ext cx="67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ith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d5e9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ffect of Decoupling Caps on Edge Rad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838080" y="1790640"/>
          <a:ext cx="7954920" cy="385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790640"/>
                    <a:ext cx="7954920" cy="38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1" name=""/>
          <p:cNvSpPr/>
          <p:nvPr/>
        </p:nvSpPr>
        <p:spPr>
          <a:xfrm>
            <a:off x="2681280" y="2548080"/>
            <a:ext cx="600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681280" y="2540160"/>
            <a:ext cx="600120" cy="31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504800" y="2251080"/>
            <a:ext cx="177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 decoupling ca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5435280" y="2868480"/>
            <a:ext cx="576360" cy="560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5160960" y="2868480"/>
            <a:ext cx="851040" cy="560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12000" y="255600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6 decoupling ca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838080" y="5562720"/>
            <a:ext cx="7772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dge radiation was calculated corresponding to waveforms in the previous slides. The higher power-ground noise without decoupling caps leads to much higher edge radiation. This was measured at a horizontal distance of 3m and a vertical distance of 3m from the bo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d5e9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tuations where Pin Mapping Essent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power and ground pins in one I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than one power supply – say 3.3V and 2.5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arate power pins for Core and I/O parts of 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llup and power clamp may go to different power pins or pulldown and gnd clamp may go to different p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arate analog and digital ground p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d5e9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575320" y="3778200"/>
            <a:ext cx="2343240" cy="2273400"/>
          </a:xfrm>
          <a:prstGeom prst="rect">
            <a:avLst/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in Configuration ABT24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838080" y="1690560"/>
          <a:ext cx="3776760" cy="459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90560"/>
                    <a:ext cx="3776760" cy="459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4" name=""/>
          <p:cNvSpPr/>
          <p:nvPr/>
        </p:nvSpPr>
        <p:spPr>
          <a:xfrm>
            <a:off x="4879800" y="1763640"/>
            <a:ext cx="3597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VCC and GND pins. Probably all VCC connect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gether inside IC. Same for Gnd. If we are simulating drivers on this IC,we connect their VCC to all VCC pads of this package on the PCB. </a:t>
            </a:r>
            <a:r>
              <a:rPr b="1" i="1" lang="en-US" sz="1800" spc="-1" strike="noStrike">
                <a:solidFill>
                  <a:srgbClr val="ff3300"/>
                </a:solidFill>
                <a:latin typeface="Times New Roman"/>
              </a:rPr>
              <a:t>But this is an assum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rot="5400000">
            <a:off x="6625800" y="5249880"/>
            <a:ext cx="776160" cy="826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027920" y="3995640"/>
            <a:ext cx="0" cy="38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149880" y="3995640"/>
            <a:ext cx="87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149880" y="3995640"/>
            <a:ext cx="0" cy="167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027920" y="5122800"/>
            <a:ext cx="0" cy="36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6137280" y="5122800"/>
            <a:ext cx="890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086440" y="4183200"/>
            <a:ext cx="461880" cy="214200"/>
          </a:xfrm>
          <a:prstGeom prst="rect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113440" y="5575320"/>
            <a:ext cx="461880" cy="214200"/>
          </a:xfrm>
          <a:prstGeom prst="rect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918560" y="4172040"/>
            <a:ext cx="461880" cy="214200"/>
          </a:xfrm>
          <a:prstGeom prst="rect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945560" y="5564160"/>
            <a:ext cx="461880" cy="214200"/>
          </a:xfrm>
          <a:prstGeom prst="rect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5560920" y="4308480"/>
            <a:ext cx="58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5573880" y="5673600"/>
            <a:ext cx="58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039080" y="5122800"/>
            <a:ext cx="66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704000" y="4308480"/>
            <a:ext cx="0" cy="134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704000" y="4295880"/>
            <a:ext cx="2383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704000" y="5649840"/>
            <a:ext cx="238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5348160" y="5789520"/>
            <a:ext cx="0" cy="262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760280" y="604512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d on PC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rot="5400000">
            <a:off x="6649560" y="4157640"/>
            <a:ext cx="776160" cy="826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603480" y="438624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rvr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03480" y="545292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rv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321680" y="6051600"/>
            <a:ext cx="0" cy="236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362360" y="6045120"/>
            <a:ext cx="111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cuit p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537160" y="4048200"/>
            <a:ext cx="2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398920" y="5396040"/>
            <a:ext cx="5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489800" y="4014720"/>
            <a:ext cx="5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489800" y="5610240"/>
            <a:ext cx="5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d5e9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in Configuration for MPC95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3" name=""/>
          <p:cNvGraphicFramePr/>
          <p:nvPr/>
        </p:nvGraphicFramePr>
        <p:xfrm>
          <a:off x="4433760" y="1728720"/>
          <a:ext cx="4165560" cy="440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33760" y="1728720"/>
                    <a:ext cx="4165560" cy="44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5" name=""/>
          <p:cNvSpPr/>
          <p:nvPr/>
        </p:nvSpPr>
        <p:spPr>
          <a:xfrm>
            <a:off x="833400" y="1727280"/>
            <a:ext cx="352116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re are separate analog and digital G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d VCC pins. They are probably n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oined together inside the IC. So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CC for the buffers must come 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CCO and not VCCA. It is eve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sible that  different drivers get the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CC from different VCCO pins. Thi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formation needs to be given in 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in mapping in order to do POWER/G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mulat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882720" y="4570560"/>
            <a:ext cx="237960" cy="109440"/>
          </a:xfrm>
          <a:prstGeom prst="rect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821040" y="4397400"/>
            <a:ext cx="238320" cy="109440"/>
          </a:xfrm>
          <a:prstGeom prst="rect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rot="16200000">
            <a:off x="2548440" y="4113720"/>
            <a:ext cx="238320" cy="109800"/>
          </a:xfrm>
          <a:prstGeom prst="rect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rot="16200000">
            <a:off x="1848600" y="4114080"/>
            <a:ext cx="238320" cy="109440"/>
          </a:xfrm>
          <a:prstGeom prst="rect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rot="16200000">
            <a:off x="1386360" y="5961600"/>
            <a:ext cx="238320" cy="109800"/>
          </a:xfrm>
          <a:prstGeom prst="rect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821040" y="5322960"/>
            <a:ext cx="238320" cy="109440"/>
          </a:xfrm>
          <a:prstGeom prst="rect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120680" y="4287960"/>
            <a:ext cx="2700360" cy="1609560"/>
          </a:xfrm>
          <a:prstGeom prst="rect">
            <a:avLst/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rot="5400000">
            <a:off x="2347200" y="5122800"/>
            <a:ext cx="424080" cy="826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573280" y="4626000"/>
            <a:ext cx="0" cy="21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695600" y="4626000"/>
            <a:ext cx="9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695600" y="4626000"/>
            <a:ext cx="0" cy="61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573280" y="5240160"/>
            <a:ext cx="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1682640" y="5240160"/>
            <a:ext cx="890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584440" y="5240160"/>
            <a:ext cx="66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249720" y="4454640"/>
            <a:ext cx="0" cy="9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rot="5400000">
            <a:off x="2371680" y="4525920"/>
            <a:ext cx="424080" cy="827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49720" y="4454640"/>
            <a:ext cx="571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249720" y="5378400"/>
            <a:ext cx="571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1120320" y="4626000"/>
            <a:ext cx="57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1963800" y="4287600"/>
            <a:ext cx="0" cy="33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2671920" y="4287600"/>
            <a:ext cx="0" cy="33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416960" y="4013280"/>
            <a:ext cx="60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723400" y="4013280"/>
            <a:ext cx="60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756960" y="4506840"/>
            <a:ext cx="60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756960" y="5440320"/>
            <a:ext cx="60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810360" y="4700520"/>
            <a:ext cx="60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610640" y="5897520"/>
            <a:ext cx="60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197440" y="478152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vr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197440" y="537840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vr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d5e9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in Configuration for IDT71V3576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6" name=""/>
          <p:cNvGraphicFramePr/>
          <p:nvPr/>
        </p:nvGraphicFramePr>
        <p:xfrm>
          <a:off x="4133880" y="1616040"/>
          <a:ext cx="4638600" cy="458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33880" y="1616040"/>
                    <a:ext cx="4638600" cy="45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8" name=""/>
          <p:cNvSpPr/>
          <p:nvPr/>
        </p:nvSpPr>
        <p:spPr>
          <a:xfrm>
            <a:off x="809640" y="1689120"/>
            <a:ext cx="3533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arate VDD and VDDQ p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DDQ – I/O pin supp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DD – Core Logic supp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Pin Mapping given for this 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llup for drivers goes to VDD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wer clamp goes to V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d5e9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in configuration for CYPRESS W15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0" name=""/>
          <p:cNvGraphicFramePr/>
          <p:nvPr/>
        </p:nvGraphicFramePr>
        <p:xfrm>
          <a:off x="4646520" y="1641600"/>
          <a:ext cx="3963960" cy="468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6520" y="1641600"/>
                    <a:ext cx="3963960" cy="46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2" name=""/>
          <p:cNvSpPr/>
          <p:nvPr/>
        </p:nvSpPr>
        <p:spPr>
          <a:xfrm>
            <a:off x="838080" y="1852560"/>
            <a:ext cx="3808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VDDQ2 and VDDQ3 suppl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DQ2 = 2.5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DQ3 = 3.3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Pin Mapping given for this 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d5e9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vation – automated Power/Gnd si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of Power/Gnd simulation and effect of deca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 of package pin layou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pin mapping helps auto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ggestion for IBIS models to improve auto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d5e9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ample of Pin Mapping  (Cypress W150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760320" y="1609560"/>
            <a:ext cx="77724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[Pin]  signal_name          model_name           R_pin     L_pin     C_p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      VDDQ3                POWER                70.00m    8.00nH    1.40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600" spc="-1" strike="noStrike">
                <a:solidFill>
                  <a:srgbClr val="ff33cc"/>
                </a:solidFill>
                <a:latin typeface="Times New Roman"/>
              </a:rPr>
              <a:t>2      REF1/FS2             ioref1x                  80.00m    9.00nH    1.40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      GND                        GND                   65.00m    7.00nH    1.40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      VDDQ3                POWER                40.00m    6.00nH    1.40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     GND                        GND                   40.00m    3.50nH    0.85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ff33cc"/>
                </a:solidFill>
                <a:latin typeface="Times New Roman"/>
              </a:rPr>
              <a:t>29     48MHz/FS1            iofd48                  80.00m    7.00nH    1.40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0     VDDQ2                POWER                55.00m    4.50nH    1.40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[Pin Mapping]  pulldown_ref    pullup_ref      gnd_clamp_ref   power_clamp_re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                          NC                 PWRBUS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ff33cc"/>
                </a:solidFill>
                <a:latin typeface="Times New Roman"/>
              </a:rPr>
              <a:t>2                     GNDBUS1         PWRBUS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                     GNDBUS1           N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                          NC                 PWRBUS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                    GNDBUS2           N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ff33cc"/>
                </a:solidFill>
                <a:latin typeface="Times New Roman"/>
              </a:rPr>
              <a:t>29                    GNDBUS2         PWRBUS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0                         NC                 PWRBUS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d5e9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n Mapping section essential in IBIS Models to do power/gnd simu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/Gnd simulation is a zeroth order effect. Accuracy of IBIS model may be a secondary issue for many situ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pin mapping is available, a completely automated linkage of circuit models during board translation beocmes possible. This is true even for power/gnd analys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d5e9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mulation Assuming Ideal Power/Gnd Pla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86440" y="3429000"/>
            <a:ext cx="687240" cy="617400"/>
          </a:xfrm>
          <a:custGeom>
            <a:avLst/>
            <a:gdLst>
              <a:gd name="textAreaLeft" fmla="*/ 107280 w 687240"/>
              <a:gd name="textAreaRight" fmla="*/ 601560 w 687240"/>
              <a:gd name="textAreaTop" fmla="*/ 154440 h 617400"/>
              <a:gd name="textAreaBottom" fmla="*/ 463320 h 617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5400000">
            <a:off x="6838200" y="2240640"/>
            <a:ext cx="487440" cy="533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54800" y="2500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31120" y="2576520"/>
            <a:ext cx="716040" cy="7632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935680" y="2544840"/>
            <a:ext cx="716040" cy="7596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683400" y="25002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39080" y="2655720"/>
            <a:ext cx="0" cy="77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39080" y="2192400"/>
            <a:ext cx="0" cy="1872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63360" y="329256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294600" y="177624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V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86440" y="4761000"/>
            <a:ext cx="3592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re is no need to know which GND and VCC pins of package drivers and receivers are connected 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03480" y="2041560"/>
            <a:ext cx="3657600" cy="3216240"/>
            <a:chOff x="1203480" y="2041560"/>
            <a:chExt cx="3657600" cy="3216240"/>
          </a:xfrm>
        </p:grpSpPr>
        <p:sp>
          <p:nvSpPr>
            <p:cNvPr id="125" name=""/>
            <p:cNvSpPr/>
            <p:nvPr/>
          </p:nvSpPr>
          <p:spPr>
            <a:xfrm flipV="1">
              <a:off x="2784600" y="3133800"/>
              <a:ext cx="288720" cy="231840"/>
            </a:xfrm>
            <a:prstGeom prst="ellipse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781360" y="3181320"/>
              <a:ext cx="299880" cy="247680"/>
            </a:xfrm>
            <a:prstGeom prst="ellipse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03480" y="5121360"/>
              <a:ext cx="2636640" cy="13644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55960" y="4495680"/>
              <a:ext cx="928800" cy="762120"/>
            </a:xfrm>
            <a:custGeom>
              <a:avLst/>
              <a:gdLst/>
              <a:ahLst/>
              <a:rect l="l" t="t" r="r" b="b"/>
              <a:pathLst>
                <a:path w="585" h="480">
                  <a:moveTo>
                    <a:pt x="0" y="404"/>
                  </a:moveTo>
                  <a:lnTo>
                    <a:pt x="585" y="0"/>
                  </a:lnTo>
                  <a:lnTo>
                    <a:pt x="585" y="87"/>
                  </a:lnTo>
                  <a:lnTo>
                    <a:pt x="0" y="480"/>
                  </a:lnTo>
                </a:path>
              </a:pathLst>
            </a:custGeom>
            <a:solidFill>
              <a:srgbClr val="99c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279440" y="3579840"/>
              <a:ext cx="2637000" cy="13824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932280" y="2943360"/>
              <a:ext cx="928800" cy="774720"/>
            </a:xfrm>
            <a:custGeom>
              <a:avLst/>
              <a:gdLst/>
              <a:ahLst/>
              <a:rect l="l" t="t" r="r" b="b"/>
              <a:pathLst>
                <a:path w="585" h="480">
                  <a:moveTo>
                    <a:pt x="0" y="404"/>
                  </a:moveTo>
                  <a:lnTo>
                    <a:pt x="585" y="0"/>
                  </a:lnTo>
                  <a:lnTo>
                    <a:pt x="585" y="87"/>
                  </a:lnTo>
                  <a:lnTo>
                    <a:pt x="0" y="480"/>
                  </a:lnTo>
                </a:path>
              </a:pathLst>
            </a:custGeom>
            <a:solidFill>
              <a:srgbClr val="99c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930400" y="2637000"/>
              <a:ext cx="1296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925720" y="2087640"/>
              <a:ext cx="0" cy="27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2530440" y="2087640"/>
              <a:ext cx="4111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530440" y="2087640"/>
              <a:ext cx="0" cy="10825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1811160" y="2262240"/>
              <a:ext cx="2211480" cy="487440"/>
              <a:chOff x="1811160" y="2262240"/>
              <a:chExt cx="2211480" cy="487440"/>
            </a:xfrm>
          </p:grpSpPr>
          <p:sp>
            <p:nvSpPr>
              <p:cNvPr id="136" name=""/>
              <p:cNvSpPr/>
              <p:nvPr/>
            </p:nvSpPr>
            <p:spPr>
              <a:xfrm rot="5400000">
                <a:off x="2713680" y="2239200"/>
                <a:ext cx="487440" cy="533520"/>
              </a:xfrm>
              <a:prstGeom prst="triangle">
                <a:avLst>
                  <a:gd name="adj" fmla="val 50000"/>
                </a:avLst>
              </a:prstGeom>
              <a:solidFill>
                <a:srgbClr val="66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230640" y="2498760"/>
                <a:ext cx="152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306600" y="2575080"/>
                <a:ext cx="716040" cy="7596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811160" y="2543040"/>
                <a:ext cx="716040" cy="7632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558880" y="2498760"/>
                <a:ext cx="152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2944800" y="3728880"/>
              <a:ext cx="0" cy="1030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1278000" y="2943000"/>
              <a:ext cx="3581280" cy="639720"/>
              <a:chOff x="1278000" y="2943000"/>
              <a:chExt cx="3581280" cy="639720"/>
            </a:xfrm>
          </p:grpSpPr>
          <p:sp>
            <p:nvSpPr>
              <p:cNvPr id="143" name=""/>
              <p:cNvSpPr/>
              <p:nvPr/>
            </p:nvSpPr>
            <p:spPr>
              <a:xfrm flipV="1">
                <a:off x="1278000" y="2943000"/>
                <a:ext cx="939600" cy="63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>
                <a:off x="2217600" y="2955960"/>
                <a:ext cx="264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1204920" y="4460400"/>
              <a:ext cx="3581280" cy="639720"/>
              <a:chOff x="1204920" y="4460400"/>
              <a:chExt cx="3581280" cy="639720"/>
            </a:xfrm>
          </p:grpSpPr>
          <p:sp>
            <p:nvSpPr>
              <p:cNvPr id="146" name=""/>
              <p:cNvSpPr/>
              <p:nvPr/>
            </p:nvSpPr>
            <p:spPr>
              <a:xfrm flipV="1">
                <a:off x="1204920" y="4460400"/>
                <a:ext cx="939600" cy="63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>
                <a:off x="2144520" y="4473360"/>
                <a:ext cx="264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3152880" y="2932200"/>
              <a:ext cx="925920" cy="1975680"/>
              <a:chOff x="3152880" y="2932200"/>
              <a:chExt cx="925920" cy="1975680"/>
            </a:xfrm>
          </p:grpSpPr>
          <p:sp>
            <p:nvSpPr>
              <p:cNvPr id="149" name=""/>
              <p:cNvSpPr/>
              <p:nvPr/>
            </p:nvSpPr>
            <p:spPr>
              <a:xfrm>
                <a:off x="3221280" y="4448160"/>
                <a:ext cx="857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GN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152880" y="2932200"/>
                <a:ext cx="839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VC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1403640" y="216540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82280" y="204156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5601240" y="205092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65480" y="205416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d5e9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Domain Simulation with Power/Gnd Structure in P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055600" y="1800360"/>
            <a:ext cx="12600" cy="12207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322360" y="2845800"/>
            <a:ext cx="289080" cy="231480"/>
          </a:xfrm>
          <a:prstGeom prst="ellipse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5400000">
            <a:off x="2277000" y="1955160"/>
            <a:ext cx="487080" cy="53316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93960" y="22147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870280" y="2271600"/>
            <a:ext cx="749160" cy="9540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374840" y="2259000"/>
            <a:ext cx="716040" cy="7632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22560" y="22147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576840" y="2630520"/>
            <a:ext cx="2055960" cy="799920"/>
          </a:xfrm>
          <a:custGeom>
            <a:avLst/>
            <a:gdLst/>
            <a:ahLst/>
            <a:rect l="l" t="t" r="r" b="b"/>
            <a:pathLst>
              <a:path w="585" h="480">
                <a:moveTo>
                  <a:pt x="0" y="404"/>
                </a:moveTo>
                <a:lnTo>
                  <a:pt x="585" y="0"/>
                </a:lnTo>
                <a:lnTo>
                  <a:pt x="585" y="87"/>
                </a:lnTo>
                <a:lnTo>
                  <a:pt x="0" y="480"/>
                </a:lnTo>
              </a:path>
            </a:pathLst>
          </a:custGeom>
          <a:solidFill>
            <a:srgbClr val="99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901800" y="2630520"/>
            <a:ext cx="2014560" cy="66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903400" y="2630520"/>
            <a:ext cx="5700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319480" y="2894040"/>
            <a:ext cx="299880" cy="24768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468520" y="2349360"/>
            <a:ext cx="12600" cy="79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463840" y="1800360"/>
            <a:ext cx="0" cy="2746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2068560" y="1800360"/>
            <a:ext cx="4111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82920" y="3441600"/>
            <a:ext cx="0" cy="1030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691000" y="2644920"/>
            <a:ext cx="925920" cy="1975680"/>
            <a:chOff x="2691000" y="2644920"/>
            <a:chExt cx="925920" cy="1975680"/>
          </a:xfrm>
        </p:grpSpPr>
        <p:sp>
          <p:nvSpPr>
            <p:cNvPr id="172" name=""/>
            <p:cNvSpPr/>
            <p:nvPr/>
          </p:nvSpPr>
          <p:spPr>
            <a:xfrm>
              <a:off x="2759400" y="416088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91000" y="2644920"/>
              <a:ext cx="83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V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941760" y="187812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020400" y="17542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6636600" y="1959840"/>
            <a:ext cx="487440" cy="533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418080" y="1814400"/>
            <a:ext cx="12600" cy="12207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13560" y="2271600"/>
            <a:ext cx="715680" cy="7632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461280" y="22273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6675480" y="2854440"/>
            <a:ext cx="306360" cy="301680"/>
            <a:chOff x="6675480" y="2854440"/>
            <a:chExt cx="306360" cy="301680"/>
          </a:xfrm>
        </p:grpSpPr>
        <p:sp>
          <p:nvSpPr>
            <p:cNvPr id="181" name=""/>
            <p:cNvSpPr/>
            <p:nvPr/>
          </p:nvSpPr>
          <p:spPr>
            <a:xfrm>
              <a:off x="6675480" y="2854440"/>
              <a:ext cx="299880" cy="247680"/>
            </a:xfrm>
            <a:prstGeom prst="ellipse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681960" y="2908440"/>
              <a:ext cx="299880" cy="247680"/>
            </a:xfrm>
            <a:prstGeom prst="ellipse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6831000" y="2363760"/>
            <a:ext cx="12600" cy="79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26320" y="1814400"/>
            <a:ext cx="0" cy="2746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6431040" y="1814400"/>
            <a:ext cx="4111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6841800" y="3359160"/>
            <a:ext cx="3240" cy="1112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619440" y="2259000"/>
            <a:ext cx="209520" cy="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038480" y="5764320"/>
            <a:ext cx="1675080" cy="7596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397480" y="5460840"/>
            <a:ext cx="596520" cy="464760"/>
            <a:chOff x="5397480" y="5460840"/>
            <a:chExt cx="596520" cy="464760"/>
          </a:xfrm>
        </p:grpSpPr>
        <p:sp>
          <p:nvSpPr>
            <p:cNvPr id="190" name=""/>
            <p:cNvSpPr/>
            <p:nvPr/>
          </p:nvSpPr>
          <p:spPr>
            <a:xfrm>
              <a:off x="5397480" y="5534640"/>
              <a:ext cx="596520" cy="3909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465e75"/>
                </a:gs>
              </a:gsLst>
              <a:lin ang="5400000"/>
            </a:gra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397480" y="5460840"/>
              <a:ext cx="596520" cy="3909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465e75"/>
                </a:gs>
              </a:gsLst>
              <a:lin ang="5400000"/>
            </a:gra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619440" y="5460840"/>
            <a:ext cx="596520" cy="464760"/>
            <a:chOff x="3619440" y="5460840"/>
            <a:chExt cx="596520" cy="464760"/>
          </a:xfrm>
        </p:grpSpPr>
        <p:sp>
          <p:nvSpPr>
            <p:cNvPr id="193" name=""/>
            <p:cNvSpPr/>
            <p:nvPr/>
          </p:nvSpPr>
          <p:spPr>
            <a:xfrm>
              <a:off x="3619440" y="5534640"/>
              <a:ext cx="596520" cy="3909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465e75"/>
                </a:gs>
              </a:gsLst>
              <a:lin ang="5400000"/>
            </a:gra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619440" y="5460840"/>
              <a:ext cx="596520" cy="3909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465e75"/>
                </a:gs>
              </a:gsLst>
              <a:lin ang="5400000"/>
            </a:gra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 flipV="1">
            <a:off x="3827160" y="5473800"/>
            <a:ext cx="210960" cy="244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4" y="8765"/>
                </a:moveTo>
                <a:arcTo wR="10800" hR="10800" stAng="-10148218" swAng="10148218"/>
                <a:lnTo>
                  <a:pt x="10800" y="10800"/>
                </a:lnTo>
                <a:close/>
              </a:path>
              <a:path fill="none" w="21600" h="21600">
                <a:moveTo>
                  <a:pt x="194" y="8765"/>
                </a:moveTo>
                <a:arcTo wR="10800" hR="10800" stAng="-10148218" swAng="10148218"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06480" y="3292560"/>
            <a:ext cx="5688000" cy="1378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871560" y="4147920"/>
            <a:ext cx="7721640" cy="847440"/>
            <a:chOff x="871560" y="4147920"/>
            <a:chExt cx="7721640" cy="847440"/>
          </a:xfrm>
        </p:grpSpPr>
        <p:sp>
          <p:nvSpPr>
            <p:cNvPr id="198" name=""/>
            <p:cNvSpPr/>
            <p:nvPr/>
          </p:nvSpPr>
          <p:spPr>
            <a:xfrm>
              <a:off x="879480" y="4859280"/>
              <a:ext cx="5689800" cy="13608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577200" y="4157640"/>
              <a:ext cx="2016000" cy="837720"/>
            </a:xfrm>
            <a:custGeom>
              <a:avLst/>
              <a:gdLst/>
              <a:ahLst/>
              <a:rect l="l" t="t" r="r" b="b"/>
              <a:pathLst>
                <a:path w="585" h="480">
                  <a:moveTo>
                    <a:pt x="0" y="404"/>
                  </a:moveTo>
                  <a:lnTo>
                    <a:pt x="585" y="0"/>
                  </a:lnTo>
                  <a:lnTo>
                    <a:pt x="585" y="87"/>
                  </a:lnTo>
                  <a:lnTo>
                    <a:pt x="0" y="480"/>
                  </a:lnTo>
                </a:path>
              </a:pathLst>
            </a:custGeom>
            <a:solidFill>
              <a:srgbClr val="99c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871560" y="4147920"/>
              <a:ext cx="2038320" cy="71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2884320" y="4149720"/>
              <a:ext cx="570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5553000" y="2309760"/>
            <a:ext cx="312840" cy="3408480"/>
            <a:chOff x="5553000" y="2309760"/>
            <a:chExt cx="312840" cy="3408480"/>
          </a:xfrm>
        </p:grpSpPr>
        <p:sp>
          <p:nvSpPr>
            <p:cNvPr id="203" name=""/>
            <p:cNvSpPr/>
            <p:nvPr/>
          </p:nvSpPr>
          <p:spPr>
            <a:xfrm>
              <a:off x="5608800" y="4506840"/>
              <a:ext cx="209520" cy="1224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50000">
                  <a:srgbClr val="465e75"/>
                </a:gs>
                <a:gs pos="100000">
                  <a:srgbClr val="99ccff"/>
                </a:gs>
              </a:gsLst>
              <a:lin ang="5400000"/>
            </a:gra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559480" y="2927520"/>
              <a:ext cx="299880" cy="247320"/>
            </a:xfrm>
            <a:prstGeom prst="ellipse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607000" y="5595840"/>
              <a:ext cx="209520" cy="1224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50000">
                  <a:srgbClr val="465e75"/>
                </a:gs>
                <a:gs pos="100000">
                  <a:srgbClr val="99ccff"/>
                </a:gs>
              </a:gsLst>
              <a:lin ang="5400000"/>
            </a:gra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553000" y="4321080"/>
              <a:ext cx="300240" cy="247680"/>
            </a:xfrm>
            <a:prstGeom prst="ellipse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565600" y="4375080"/>
              <a:ext cx="300240" cy="243000"/>
            </a:xfrm>
            <a:prstGeom prst="ellipse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565600" y="2981160"/>
              <a:ext cx="300240" cy="247680"/>
            </a:xfrm>
            <a:prstGeom prst="ellipse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607000" y="4995720"/>
              <a:ext cx="209520" cy="69696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465e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607000" y="4483080"/>
              <a:ext cx="209520" cy="1224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50000">
                  <a:srgbClr val="465e75"/>
                </a:gs>
                <a:gs pos="100000">
                  <a:srgbClr val="99ccff"/>
                </a:gs>
              </a:gsLst>
              <a:lin ang="5400000"/>
            </a:gra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608800" y="3441600"/>
              <a:ext cx="207720" cy="112716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465e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608800" y="3100320"/>
              <a:ext cx="209520" cy="1224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50000">
                  <a:srgbClr val="465e75"/>
                </a:gs>
                <a:gs pos="100000">
                  <a:srgbClr val="99ccff"/>
                </a:gs>
              </a:gsLst>
              <a:lin ang="5400000"/>
            </a:gra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07000" y="2309760"/>
              <a:ext cx="209520" cy="8650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465e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5430960" y="1978200"/>
            <a:ext cx="563400" cy="439200"/>
            <a:chOff x="5430960" y="1978200"/>
            <a:chExt cx="563400" cy="439200"/>
          </a:xfrm>
        </p:grpSpPr>
        <p:sp>
          <p:nvSpPr>
            <p:cNvPr id="215" name=""/>
            <p:cNvSpPr/>
            <p:nvPr/>
          </p:nvSpPr>
          <p:spPr>
            <a:xfrm>
              <a:off x="5430960" y="2047680"/>
              <a:ext cx="563400" cy="36972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465e75"/>
                </a:gs>
              </a:gsLst>
              <a:lin ang="5400000"/>
            </a:gra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430960" y="1978200"/>
              <a:ext cx="563400" cy="36972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465e75"/>
                </a:gs>
              </a:gsLst>
              <a:lin ang="5400000"/>
            </a:gra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3763800" y="2297160"/>
            <a:ext cx="312840" cy="3408480"/>
            <a:chOff x="3763800" y="2297160"/>
            <a:chExt cx="312840" cy="3408480"/>
          </a:xfrm>
        </p:grpSpPr>
        <p:sp>
          <p:nvSpPr>
            <p:cNvPr id="218" name=""/>
            <p:cNvSpPr/>
            <p:nvPr/>
          </p:nvSpPr>
          <p:spPr>
            <a:xfrm>
              <a:off x="3819600" y="4494240"/>
              <a:ext cx="209520" cy="1224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50000">
                  <a:srgbClr val="465e75"/>
                </a:gs>
                <a:gs pos="100000">
                  <a:srgbClr val="99ccff"/>
                </a:gs>
              </a:gsLst>
              <a:lin ang="5400000"/>
            </a:gra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770280" y="2914920"/>
              <a:ext cx="299880" cy="247320"/>
            </a:xfrm>
            <a:prstGeom prst="ellipse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17800" y="5583240"/>
              <a:ext cx="209520" cy="1224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50000">
                  <a:srgbClr val="465e75"/>
                </a:gs>
                <a:gs pos="100000">
                  <a:srgbClr val="99ccff"/>
                </a:gs>
              </a:gsLst>
              <a:lin ang="5400000"/>
            </a:gra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763800" y="4308480"/>
              <a:ext cx="300240" cy="247680"/>
            </a:xfrm>
            <a:prstGeom prst="ellipse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776400" y="4362480"/>
              <a:ext cx="300240" cy="243000"/>
            </a:xfrm>
            <a:prstGeom prst="ellipse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776400" y="2968560"/>
              <a:ext cx="300240" cy="247680"/>
            </a:xfrm>
            <a:prstGeom prst="ellipse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817800" y="4983120"/>
              <a:ext cx="209520" cy="69696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465e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817800" y="4470480"/>
              <a:ext cx="209520" cy="1224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50000">
                  <a:srgbClr val="465e75"/>
                </a:gs>
                <a:gs pos="100000">
                  <a:srgbClr val="99ccff"/>
                </a:gs>
              </a:gsLst>
              <a:lin ang="5400000"/>
            </a:gra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19600" y="3429000"/>
              <a:ext cx="207720" cy="112716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465e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9600" y="3087720"/>
              <a:ext cx="209520" cy="1224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50000">
                  <a:srgbClr val="465e75"/>
                </a:gs>
                <a:gs pos="100000">
                  <a:srgbClr val="99ccff"/>
                </a:gs>
              </a:gsLst>
              <a:lin ang="5400000"/>
            </a:gra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17800" y="2297160"/>
              <a:ext cx="209520" cy="8650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465e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3619440" y="2038320"/>
            <a:ext cx="596520" cy="464760"/>
            <a:chOff x="3619440" y="2038320"/>
            <a:chExt cx="596520" cy="464760"/>
          </a:xfrm>
        </p:grpSpPr>
        <p:sp>
          <p:nvSpPr>
            <p:cNvPr id="230" name=""/>
            <p:cNvSpPr/>
            <p:nvPr/>
          </p:nvSpPr>
          <p:spPr>
            <a:xfrm>
              <a:off x="3619440" y="2112120"/>
              <a:ext cx="596520" cy="3909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465e75"/>
                </a:gs>
              </a:gsLst>
              <a:lin ang="5400000"/>
            </a:gra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19440" y="2038320"/>
              <a:ext cx="596520" cy="3909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465e75"/>
                </a:gs>
              </a:gsLst>
              <a:lin ang="5400000"/>
            </a:gra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d5e9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fference between Conventional SI Solution and Solution that takes Power/Gnd Fluctuations into Accou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38080" y="1657440"/>
            <a:ext cx="7772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ntional SI does </a:t>
            </a:r>
            <a:r>
              <a:rPr b="1" i="1" lang="en-US" sz="2400" spc="-1" strike="noStrike">
                <a:solidFill>
                  <a:srgbClr val="ff33cc"/>
                </a:solidFill>
                <a:latin typeface="Times New Roman"/>
              </a:rPr>
              <a:t>circuit + transmission line + pin RL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33cc"/>
                </a:solidFill>
                <a:latin typeface="Times New Roman"/>
              </a:rPr>
              <a:t>simul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suming ideal ground and power pl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ance SI/PI solution does a combined </a:t>
            </a:r>
            <a:r>
              <a:rPr b="1" i="1" lang="en-US" sz="2400" spc="-1" strike="noStrike">
                <a:solidFill>
                  <a:srgbClr val="ff33cc"/>
                </a:solidFill>
                <a:latin typeface="Times New Roman"/>
              </a:rPr>
              <a:t>circuit + transmission line + (pin RLC) + nonideal ground and power plane simul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take car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ower ground noise i.e. SSN or Delta-I or ground bou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Effects of vias and return path discontinuity can be mode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Effect of decoupling caps can be consid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Edge radiation from boards due to SSN can be calcu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d5e9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se of IBIS Models in PWR/GND Analy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087640" y="5856120"/>
            <a:ext cx="70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For this pin mapping (absent in most IBIS files) is imperative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186228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 conventional SI simulation, directly simulating IBIS models eliminates the process of making models separately. Same can be true of PWR/GND analysis or Power Integ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646520" y="4437000"/>
            <a:ext cx="4349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 Sigrity, we do a combined circuit/transmission line/power/gnd simulation with IBIS models in time domain. This can be directly done from layout, especially if IBIS models are availa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200320" y="2917800"/>
            <a:ext cx="44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pproaches to model pwr/g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3876480" y="3441600"/>
            <a:ext cx="541080" cy="3542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209600" y="3441600"/>
            <a:ext cx="2667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parately model pwr/gnd (maybe in frequency domain) and later do time domain simulation. Less automated, smaller structures and difficult to interface to lay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646520" y="3441600"/>
            <a:ext cx="1527120" cy="1017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d5e9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838080" y="34308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turn Path Discontinuities and Simultaneous Switching Output (SS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1295280" y="2286000"/>
            <a:ext cx="4160520" cy="585720"/>
            <a:chOff x="1295280" y="2286000"/>
            <a:chExt cx="4160520" cy="585720"/>
          </a:xfrm>
        </p:grpSpPr>
        <p:grpSp>
          <p:nvGrpSpPr>
            <p:cNvPr id="244" name=""/>
            <p:cNvGrpSpPr/>
            <p:nvPr/>
          </p:nvGrpSpPr>
          <p:grpSpPr>
            <a:xfrm>
              <a:off x="1295280" y="2286000"/>
              <a:ext cx="4160520" cy="585720"/>
              <a:chOff x="1295280" y="2286000"/>
              <a:chExt cx="4160520" cy="585720"/>
            </a:xfrm>
          </p:grpSpPr>
          <p:sp>
            <p:nvSpPr>
              <p:cNvPr id="245" name=""/>
              <p:cNvSpPr/>
              <p:nvPr/>
            </p:nvSpPr>
            <p:spPr>
              <a:xfrm>
                <a:off x="1614960" y="2514600"/>
                <a:ext cx="3840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614960" y="2788920"/>
                <a:ext cx="3840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V="1">
                <a:off x="1798200" y="2331360"/>
                <a:ext cx="0" cy="18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798200" y="2331360"/>
                <a:ext cx="137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935360" y="2286000"/>
                <a:ext cx="136800" cy="137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072520" y="2331360"/>
                <a:ext cx="137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209680" y="2286000"/>
                <a:ext cx="182880" cy="91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392560" y="2331360"/>
                <a:ext cx="182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575440" y="2331360"/>
                <a:ext cx="141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992760" y="2331360"/>
                <a:ext cx="137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130280" y="2286000"/>
                <a:ext cx="182880" cy="91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313160" y="2331360"/>
                <a:ext cx="136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450320" y="233136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5090400" y="2377080"/>
                <a:ext cx="0" cy="13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319000" y="2377440"/>
                <a:ext cx="0" cy="41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227560" y="2286000"/>
                <a:ext cx="0" cy="18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181840" y="2331360"/>
                <a:ext cx="0" cy="9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227560" y="2377440"/>
                <a:ext cx="91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5090400" y="2377440"/>
                <a:ext cx="91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295280" y="2368440"/>
                <a:ext cx="274320" cy="503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3992760" y="2579400"/>
              <a:ext cx="45720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power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vi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295280" y="3429000"/>
            <a:ext cx="4160520" cy="685800"/>
            <a:chOff x="1295280" y="3429000"/>
            <a:chExt cx="4160520" cy="685800"/>
          </a:xfrm>
        </p:grpSpPr>
        <p:sp>
          <p:nvSpPr>
            <p:cNvPr id="267" name=""/>
            <p:cNvSpPr/>
            <p:nvPr/>
          </p:nvSpPr>
          <p:spPr>
            <a:xfrm>
              <a:off x="1614960" y="3657600"/>
              <a:ext cx="3840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614960" y="3931920"/>
              <a:ext cx="3840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1798200" y="3474360"/>
              <a:ext cx="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798200" y="3474360"/>
              <a:ext cx="137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35360" y="3429000"/>
              <a:ext cx="136800" cy="136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072520" y="3474360"/>
              <a:ext cx="137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209680" y="3429000"/>
              <a:ext cx="182880" cy="9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392560" y="3474360"/>
              <a:ext cx="18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575440" y="4114800"/>
              <a:ext cx="1417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992760" y="3474360"/>
              <a:ext cx="137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130280" y="3429000"/>
              <a:ext cx="182880" cy="9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313160" y="3474360"/>
              <a:ext cx="13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450320" y="347436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5090400" y="3520440"/>
              <a:ext cx="0" cy="13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319000" y="3520440"/>
              <a:ext cx="0" cy="41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227560" y="3429000"/>
              <a:ext cx="0" cy="18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181840" y="3474360"/>
              <a:ext cx="0" cy="9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27560" y="3520440"/>
              <a:ext cx="9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5090400" y="3520440"/>
              <a:ext cx="9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295280" y="3511440"/>
              <a:ext cx="274320" cy="50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575440" y="3474360"/>
              <a:ext cx="0" cy="64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992760" y="3474360"/>
              <a:ext cx="0" cy="64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1295280" y="4876920"/>
            <a:ext cx="4160520" cy="777600"/>
            <a:chOff x="1295280" y="4876920"/>
            <a:chExt cx="4160520" cy="777600"/>
          </a:xfrm>
        </p:grpSpPr>
        <p:grpSp>
          <p:nvGrpSpPr>
            <p:cNvPr id="290" name=""/>
            <p:cNvGrpSpPr/>
            <p:nvPr/>
          </p:nvGrpSpPr>
          <p:grpSpPr>
            <a:xfrm>
              <a:off x="1295280" y="4876920"/>
              <a:ext cx="4160520" cy="686160"/>
              <a:chOff x="1295280" y="4876920"/>
              <a:chExt cx="4160520" cy="686160"/>
            </a:xfrm>
          </p:grpSpPr>
          <p:sp>
            <p:nvSpPr>
              <p:cNvPr id="291" name=""/>
              <p:cNvSpPr/>
              <p:nvPr/>
            </p:nvSpPr>
            <p:spPr>
              <a:xfrm>
                <a:off x="1614960" y="5105520"/>
                <a:ext cx="3840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614960" y="5380200"/>
                <a:ext cx="3840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V="1">
                <a:off x="1798200" y="4922280"/>
                <a:ext cx="0" cy="18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798200" y="4922280"/>
                <a:ext cx="137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935360" y="4876920"/>
                <a:ext cx="136800" cy="137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072520" y="4922280"/>
                <a:ext cx="137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209680" y="4876920"/>
                <a:ext cx="182880" cy="91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392560" y="4922280"/>
                <a:ext cx="182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575440" y="5563080"/>
                <a:ext cx="141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992760" y="4922280"/>
                <a:ext cx="137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130280" y="4876920"/>
                <a:ext cx="182880" cy="91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313160" y="4922280"/>
                <a:ext cx="136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450320" y="4922280"/>
                <a:ext cx="0" cy="45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V="1">
                <a:off x="5090400" y="4968000"/>
                <a:ext cx="0" cy="13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319000" y="4968360"/>
                <a:ext cx="0" cy="41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227560" y="4876920"/>
                <a:ext cx="0" cy="18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181840" y="4922280"/>
                <a:ext cx="0" cy="9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227560" y="4968360"/>
                <a:ext cx="91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5090400" y="4968360"/>
                <a:ext cx="91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295280" y="4959360"/>
                <a:ext cx="274320" cy="503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575440" y="4922280"/>
                <a:ext cx="0" cy="64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992760" y="4922280"/>
                <a:ext cx="0" cy="64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3" name=""/>
            <p:cNvSpPr/>
            <p:nvPr/>
          </p:nvSpPr>
          <p:spPr>
            <a:xfrm>
              <a:off x="2621160" y="5608800"/>
              <a:ext cx="1417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666880" y="5654520"/>
              <a:ext cx="1417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529720" y="5517360"/>
              <a:ext cx="1417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484000" y="5471640"/>
              <a:ext cx="1417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d5e9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ffects of Signal Return Path Discontinuity – Layer Geome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62120" y="2895480"/>
            <a:ext cx="7772400" cy="76320"/>
          </a:xfrm>
          <a:prstGeom prst="rect">
            <a:avLst/>
          </a:prstGeom>
          <a:solidFill>
            <a:srgbClr val="99cc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62120" y="4267080"/>
            <a:ext cx="7772400" cy="76320"/>
          </a:xfrm>
          <a:prstGeom prst="rect">
            <a:avLst/>
          </a:prstGeom>
          <a:solidFill>
            <a:srgbClr val="99cc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3352680"/>
            <a:ext cx="7772400" cy="0"/>
          </a:xfrm>
          <a:prstGeom prst="line">
            <a:avLst/>
          </a:prstGeom>
          <a:ln w="93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62120" y="3809880"/>
            <a:ext cx="7772400" cy="0"/>
          </a:xfrm>
          <a:prstGeom prst="line">
            <a:avLst/>
          </a:prstGeom>
          <a:ln w="93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157480" y="2419200"/>
            <a:ext cx="1722240" cy="11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741840" y="4822920"/>
            <a:ext cx="1787400" cy="10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384880" y="2419200"/>
            <a:ext cx="1704960" cy="108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657600" y="2895480"/>
            <a:ext cx="3049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657600" y="4267080"/>
            <a:ext cx="3049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295960" y="2895480"/>
            <a:ext cx="3049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295960" y="4267080"/>
            <a:ext cx="3049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741840" y="2532240"/>
            <a:ext cx="137880" cy="2286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384880" y="2530440"/>
            <a:ext cx="144360" cy="2287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529240" y="4908600"/>
            <a:ext cx="3017880" cy="0"/>
          </a:xfrm>
          <a:prstGeom prst="line">
            <a:avLst/>
          </a:prstGeom>
          <a:ln w="93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50960" y="4911840"/>
            <a:ext cx="2967120" cy="0"/>
          </a:xfrm>
          <a:prstGeom prst="line">
            <a:avLst/>
          </a:prstGeom>
          <a:ln w="93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091280" y="2463840"/>
            <a:ext cx="1417680" cy="0"/>
          </a:xfrm>
          <a:prstGeom prst="line">
            <a:avLst/>
          </a:prstGeom>
          <a:ln w="93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68240" y="2486160"/>
            <a:ext cx="1417680" cy="0"/>
          </a:xfrm>
          <a:prstGeom prst="line">
            <a:avLst/>
          </a:prstGeom>
          <a:ln w="9360">
            <a:solidFill>
              <a:srgbClr val="99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4120" y="2290680"/>
            <a:ext cx="27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57120" y="2752560"/>
            <a:ext cx="3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84120" y="3168720"/>
            <a:ext cx="27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4120" y="3633840"/>
            <a:ext cx="27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61800" y="411804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84120" y="4738680"/>
            <a:ext cx="27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165400" y="2108160"/>
            <a:ext cx="0" cy="3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091280" y="2127240"/>
            <a:ext cx="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644120" y="173196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532560" y="16938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182680" y="2630520"/>
            <a:ext cx="0" cy="15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110360" y="2630520"/>
            <a:ext cx="0" cy="15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770280" y="5094360"/>
            <a:ext cx="0" cy="2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48240" y="5075280"/>
            <a:ext cx="0" cy="2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770280" y="5224320"/>
            <a:ext cx="1697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2206800" y="2706840"/>
            <a:ext cx="152856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529240" y="2671920"/>
            <a:ext cx="160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691400" y="2500200"/>
            <a:ext cx="106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691400" y="4443480"/>
            <a:ext cx="106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691400" y="3429000"/>
            <a:ext cx="106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00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689960" y="303516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00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691400" y="3884760"/>
            <a:ext cx="106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00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21800" y="2762280"/>
            <a:ext cx="63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 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255200" y="5241960"/>
            <a:ext cx="63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 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088680" y="2763720"/>
            <a:ext cx="63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 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4320" y="5548320"/>
            <a:ext cx="6260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ce width = 200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; Trace thickness=35.6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; Trace separation = 4 m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ies matching resistance= 55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rivers and Receivers are IBIS models from part 74LVC125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479920" y="338616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092400" y="336852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741840" y="4822920"/>
            <a:ext cx="137880" cy="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96040" y="4826160"/>
            <a:ext cx="137880" cy="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735360" y="2532240"/>
            <a:ext cx="138240" cy="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84880" y="2532240"/>
            <a:ext cx="137880" cy="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d5e9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p and Bottom Layers  of the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1347840" y="3981600"/>
          <a:ext cx="4619520" cy="21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7840" y="3981600"/>
                    <a:ext cx="4619520" cy="21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0" name=""/>
          <p:cNvGraphicFramePr/>
          <p:nvPr/>
        </p:nvGraphicFramePr>
        <p:xfrm>
          <a:off x="1343160" y="1795320"/>
          <a:ext cx="4586040" cy="207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43160" y="1795320"/>
                    <a:ext cx="4586040" cy="20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" name=""/>
          <p:cNvSpPr/>
          <p:nvPr/>
        </p:nvSpPr>
        <p:spPr>
          <a:xfrm>
            <a:off x="1959120" y="2201760"/>
            <a:ext cx="0" cy="168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044880" y="2205000"/>
            <a:ext cx="0" cy="168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127400" y="2224080"/>
            <a:ext cx="0" cy="168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224320" y="2224080"/>
            <a:ext cx="0" cy="168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962000" y="4387680"/>
            <a:ext cx="0" cy="168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25800" y="4387680"/>
            <a:ext cx="0" cy="168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222800" y="4389480"/>
            <a:ext cx="0" cy="168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361120" y="4390920"/>
            <a:ext cx="0" cy="168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380960" y="1886040"/>
            <a:ext cx="1305000" cy="30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rv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lum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572000" y="1857240"/>
            <a:ext cx="1328760" cy="30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cvr  Colum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970360" y="1870200"/>
            <a:ext cx="1304640" cy="30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V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lum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679400" y="4011480"/>
            <a:ext cx="3807000" cy="30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ecoupling capacitor colum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224320" y="4533840"/>
            <a:ext cx="243000" cy="8589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5411880" y="1604880"/>
            <a:ext cx="1698480" cy="2928960"/>
          </a:xfrm>
          <a:prstGeom prst="line">
            <a:avLst/>
          </a:prstGeom>
          <a:ln w="19080">
            <a:solidFill>
              <a:srgbClr val="b2b2b2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394240" y="5316480"/>
            <a:ext cx="1754280" cy="1063800"/>
          </a:xfrm>
          <a:prstGeom prst="line">
            <a:avLst/>
          </a:prstGeom>
          <a:ln w="19080">
            <a:solidFill>
              <a:srgbClr val="b2b2b2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056440" y="3429000"/>
            <a:ext cx="1087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805 C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=1.0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=0.95n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=20m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189920" y="1622520"/>
            <a:ext cx="88920" cy="88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189920" y="1893960"/>
            <a:ext cx="88920" cy="8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189920" y="2165400"/>
            <a:ext cx="88920" cy="88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189920" y="2436840"/>
            <a:ext cx="88920" cy="8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189920" y="2708280"/>
            <a:ext cx="88920" cy="88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189920" y="2979720"/>
            <a:ext cx="88920" cy="8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189920" y="3251160"/>
            <a:ext cx="88920" cy="88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189920" y="3522600"/>
            <a:ext cx="88920" cy="8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189920" y="4336920"/>
            <a:ext cx="88920" cy="88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89920" y="4608360"/>
            <a:ext cx="88920" cy="8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189920" y="4879800"/>
            <a:ext cx="88920" cy="88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189920" y="5151600"/>
            <a:ext cx="88920" cy="88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189920" y="5423040"/>
            <a:ext cx="88920" cy="88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189920" y="5694480"/>
            <a:ext cx="88920" cy="8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189920" y="5965920"/>
            <a:ext cx="88920" cy="88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189920" y="6237360"/>
            <a:ext cx="88920" cy="8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189920" y="3794040"/>
            <a:ext cx="88920" cy="88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189920" y="4065480"/>
            <a:ext cx="88920" cy="8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7277040" y="1660680"/>
            <a:ext cx="411120" cy="280800"/>
            <a:chOff x="7277040" y="1660680"/>
            <a:chExt cx="411120" cy="280800"/>
          </a:xfrm>
        </p:grpSpPr>
        <p:sp>
          <p:nvSpPr>
            <p:cNvPr id="407" name=""/>
            <p:cNvSpPr/>
            <p:nvPr/>
          </p:nvSpPr>
          <p:spPr>
            <a:xfrm>
              <a:off x="7277040" y="166068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277040" y="194148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427880" y="1753920"/>
              <a:ext cx="26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427880" y="1866600"/>
              <a:ext cx="26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520040" y="1660680"/>
              <a:ext cx="0" cy="9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520040" y="1866600"/>
              <a:ext cx="0" cy="7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7261200" y="2205000"/>
            <a:ext cx="411120" cy="281160"/>
            <a:chOff x="7261200" y="2205000"/>
            <a:chExt cx="411120" cy="281160"/>
          </a:xfrm>
        </p:grpSpPr>
        <p:sp>
          <p:nvSpPr>
            <p:cNvPr id="414" name=""/>
            <p:cNvSpPr/>
            <p:nvPr/>
          </p:nvSpPr>
          <p:spPr>
            <a:xfrm>
              <a:off x="7261200" y="220500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261200" y="248616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412040" y="2298600"/>
              <a:ext cx="26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412040" y="2411280"/>
              <a:ext cx="26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504200" y="2205000"/>
              <a:ext cx="0" cy="9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504200" y="2411280"/>
              <a:ext cx="0" cy="7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7299360" y="2746440"/>
            <a:ext cx="411120" cy="280800"/>
            <a:chOff x="7299360" y="2746440"/>
            <a:chExt cx="411120" cy="280800"/>
          </a:xfrm>
        </p:grpSpPr>
        <p:sp>
          <p:nvSpPr>
            <p:cNvPr id="421" name=""/>
            <p:cNvSpPr/>
            <p:nvPr/>
          </p:nvSpPr>
          <p:spPr>
            <a:xfrm>
              <a:off x="7299360" y="274644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299360" y="302724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450200" y="2839680"/>
              <a:ext cx="26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450200" y="2952360"/>
              <a:ext cx="26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542360" y="2746440"/>
              <a:ext cx="0" cy="9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542360" y="2952360"/>
              <a:ext cx="0" cy="7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7297560" y="3279600"/>
            <a:ext cx="411120" cy="281160"/>
            <a:chOff x="7297560" y="3279600"/>
            <a:chExt cx="411120" cy="281160"/>
          </a:xfrm>
        </p:grpSpPr>
        <p:sp>
          <p:nvSpPr>
            <p:cNvPr id="428" name=""/>
            <p:cNvSpPr/>
            <p:nvPr/>
          </p:nvSpPr>
          <p:spPr>
            <a:xfrm>
              <a:off x="7297560" y="327960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297560" y="356076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448400" y="3373200"/>
              <a:ext cx="26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448400" y="3485880"/>
              <a:ext cx="26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540560" y="3279600"/>
              <a:ext cx="0" cy="9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540560" y="3485880"/>
              <a:ext cx="0" cy="7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7299360" y="3848040"/>
            <a:ext cx="411120" cy="281160"/>
            <a:chOff x="7299360" y="3848040"/>
            <a:chExt cx="411120" cy="281160"/>
          </a:xfrm>
        </p:grpSpPr>
        <p:sp>
          <p:nvSpPr>
            <p:cNvPr id="435" name=""/>
            <p:cNvSpPr/>
            <p:nvPr/>
          </p:nvSpPr>
          <p:spPr>
            <a:xfrm>
              <a:off x="7299360" y="384804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299360" y="412920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450200" y="3941640"/>
              <a:ext cx="26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450200" y="4054320"/>
              <a:ext cx="26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542360" y="3848040"/>
              <a:ext cx="0" cy="9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542360" y="4054320"/>
              <a:ext cx="0" cy="7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7297560" y="4387680"/>
            <a:ext cx="411120" cy="281160"/>
            <a:chOff x="7297560" y="4387680"/>
            <a:chExt cx="411120" cy="281160"/>
          </a:xfrm>
        </p:grpSpPr>
        <p:sp>
          <p:nvSpPr>
            <p:cNvPr id="442" name=""/>
            <p:cNvSpPr/>
            <p:nvPr/>
          </p:nvSpPr>
          <p:spPr>
            <a:xfrm>
              <a:off x="7297560" y="438768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297560" y="466884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48400" y="4481280"/>
              <a:ext cx="26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448400" y="4593960"/>
              <a:ext cx="26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540560" y="4387680"/>
              <a:ext cx="0" cy="9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540560" y="4593960"/>
              <a:ext cx="0" cy="7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7299360" y="4929120"/>
            <a:ext cx="411120" cy="281160"/>
            <a:chOff x="7299360" y="4929120"/>
            <a:chExt cx="411120" cy="281160"/>
          </a:xfrm>
        </p:grpSpPr>
        <p:sp>
          <p:nvSpPr>
            <p:cNvPr id="449" name=""/>
            <p:cNvSpPr/>
            <p:nvPr/>
          </p:nvSpPr>
          <p:spPr>
            <a:xfrm>
              <a:off x="7299360" y="492912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299360" y="521028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450200" y="5022720"/>
              <a:ext cx="26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450200" y="5135400"/>
              <a:ext cx="26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42360" y="4929120"/>
              <a:ext cx="0" cy="9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542360" y="5135400"/>
              <a:ext cx="0" cy="7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7299360" y="5470560"/>
            <a:ext cx="411120" cy="280800"/>
            <a:chOff x="7299360" y="5470560"/>
            <a:chExt cx="411120" cy="280800"/>
          </a:xfrm>
        </p:grpSpPr>
        <p:sp>
          <p:nvSpPr>
            <p:cNvPr id="456" name=""/>
            <p:cNvSpPr/>
            <p:nvPr/>
          </p:nvSpPr>
          <p:spPr>
            <a:xfrm>
              <a:off x="7299360" y="547056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299360" y="575136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450200" y="5563800"/>
              <a:ext cx="26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450200" y="5676480"/>
              <a:ext cx="26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542360" y="5470560"/>
              <a:ext cx="0" cy="9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42360" y="5676480"/>
              <a:ext cx="0" cy="7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7299360" y="6012000"/>
            <a:ext cx="411120" cy="280800"/>
            <a:chOff x="7299360" y="6012000"/>
            <a:chExt cx="411120" cy="280800"/>
          </a:xfrm>
        </p:grpSpPr>
        <p:sp>
          <p:nvSpPr>
            <p:cNvPr id="463" name=""/>
            <p:cNvSpPr/>
            <p:nvPr/>
          </p:nvSpPr>
          <p:spPr>
            <a:xfrm>
              <a:off x="7299360" y="601200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299360" y="629280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450200" y="6105240"/>
              <a:ext cx="26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450200" y="6217920"/>
              <a:ext cx="26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542360" y="6012000"/>
              <a:ext cx="0" cy="9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542360" y="6217920"/>
              <a:ext cx="0" cy="7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7818480" y="1604880"/>
            <a:ext cx="88920" cy="2033640"/>
          </a:xfrm>
          <a:custGeom>
            <a:avLst/>
            <a:gdLst>
              <a:gd name="textAreaLeft" fmla="*/ 0 w 88920"/>
              <a:gd name="textAreaRight" fmla="*/ 32040 w 88920"/>
              <a:gd name="textAreaTop" fmla="*/ 52920 h 2033640"/>
              <a:gd name="textAreaBottom" fmla="*/ 1980720 h 203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802640" y="4351320"/>
            <a:ext cx="88920" cy="2033640"/>
          </a:xfrm>
          <a:custGeom>
            <a:avLst/>
            <a:gdLst>
              <a:gd name="textAreaLeft" fmla="*/ 0 w 88920"/>
              <a:gd name="textAreaRight" fmla="*/ 32040 w 88920"/>
              <a:gd name="textAreaTop" fmla="*/ 52920 h 2033640"/>
              <a:gd name="textAreaBottom" fmla="*/ 1980720 h 203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832880" y="1487520"/>
            <a:ext cx="1087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603 C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=0.1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=0.8n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=50m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834320" y="4898880"/>
            <a:ext cx="1087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603 C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=0.1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=0.8n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=50m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7800840" y="3695760"/>
            <a:ext cx="27936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6T21:20:10Z</dcterms:created>
  <dc:creator>raghu</dc:creator>
  <dc:description/>
  <dc:language>en-US</dc:language>
  <cp:lastModifiedBy>bobr</cp:lastModifiedBy>
  <cp:lastPrinted>2001-09-09T19:47:20Z</cp:lastPrinted>
  <dcterms:modified xsi:type="dcterms:W3CDTF">2001-09-09T19:49:13Z</dcterms:modified>
  <cp:revision>42</cp:revision>
  <dc:subject/>
  <dc:title>Simultaneous Switching Noise with Vias and Decoupling capacitors</dc:title>
</cp:coreProperties>
</file>