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7C2-0B36-4DB5-A250-A21922F2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A38-727D-4242-AA11-09F3D020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0B1-DE17-407A-BB5C-9878B4C1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AB5-E2B1-4595-8C0D-7FC5FFF7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9BB6-D46C-4EA8-959B-873E5279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0182-75C3-4C12-B76D-A6078E08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6908-3123-448F-9BDB-6B940D01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EE7B-E54F-4B53-A324-E1DA7CCE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12AF-8EF6-4F0B-958A-BD7739AC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5489-9A80-4766-B0A1-81F0D87D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2C35-BB6E-4DED-8F64-BF0C633F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575-9ED3-4DB0-A074-2B041E04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39F9-9276-4DB4-9EB3-DCED554F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2FE9-B364-452E-8046-CABD0FC9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3BDD-D3B8-4CF2-82F3-EE204647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6CDF-2C16-447B-BDF8-18D72928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BF2B-15B1-4BC1-822E-09067869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40B-8720-44EC-A787-DB5DBED6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149-C80A-4CBF-8758-54A98F09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808-58A4-44FB-ACE0-C47FFCE5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D49-5436-4CF4-BB4F-9DC20611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F84-B1EA-4305-A705-4E980A5C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318-5AB3-4133-A8D1-882C8301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33D-2242-45E9-8CBF-96991937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IBIS Summit – Jun ‘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13B1-51F6-4FD1-A9CA-4E298EB4653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2F45-5657-42C8-8737-2812646D6E3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DD9B-3408-44C4-AAFE-46CE41EA518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gress and Issues in IBIS-X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tephen Peters,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l Corp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Stat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ision made to simplify path into IB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anges to IBIS template have been set aside for no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hortly after IBIS Ver. 4.0 is approved, expect to see a BIRD adding the [Define “class name”] keyword &amp; concep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mittee focusing exclusively now on macro language reference manual (IBIS-M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 of primitive elements agreed upon, including transmission line el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ough of the ML spec has been written to start review of 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d on current progress, expect spec end of Jan ‘0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E31-4D33-49BA-A282-B0FA0FA3DD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are we n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chnical Milestone tracking l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yntax rules             -- some work, documentation in flu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imitive elements   -- agreed on set, but need the oper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etlist syntax           -- d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uilt in behavioral elements  -- not yet discussed/documen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gramming constructs       -- discussed and documen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clarations                          -- documented, but need mo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ypes                             -- documented, pretty soli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trix format                        -- discussed, not completely documen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SSUES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column selection (how to be done), needs to be put into LRM</a:t>
            </a:r>
            <a:endParaRPr b="0" i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table interpolation types needs to be documented.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51D-DCCB-481D-A993-26B467424F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[Define “class name”] keywo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yntax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3366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fine “class_name”] “type name” (&lt;optional port list&gt;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IBIS-ML Construc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End “class name”] “type name’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Define] keyword can be used in IBIS file itself – or – [Defines] are collected into 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ibrary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ce an object is defined, it is customized as show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Begin “class name”] “object name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name”_type  “type name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 optional data specific to this instanc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End “class name”]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ject customization takes place in the IBIS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EBA-EC1D-461E-AB4A-76E19AC2C1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5T23:57:15Z</dcterms:created>
  <dc:creator>sjpeters</dc:creator>
  <dc:description/>
  <dc:language>en-US</dc:language>
  <cp:lastModifiedBy>bobr</cp:lastModifiedBy>
  <dcterms:modified xsi:type="dcterms:W3CDTF">2001-09-09T19:38:22Z</dcterms:modified>
  <cp:revision>38</cp:revision>
  <dc:subject/>
  <dc:title>IBIS Futures Group  Update on IBIS-X</dc:title>
</cp:coreProperties>
</file>