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DEEB-C2BB-4689-AB70-4EAE3253B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C16-3ED4-4AC9-86A8-BBE7815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254-0D4B-4D02-B6B0-BF389AF9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F2D-3F06-49D6-9C2F-F763AE6E5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E2CB-AEDE-4682-99E5-6C5226A8A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C570-CDD9-45E0-B71B-FEB5A16B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EC52-0BB4-4E90-B9F6-5DF8A5EA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7236-E333-49B1-9035-914E5447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884E-2F14-4FB8-AA59-EECC0D11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5788-D580-4805-AF83-60831D3F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1C0E-C087-4953-A58A-941E499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51D-AB7B-4866-8EEF-F7613EDD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BBB5-E0F9-4045-803F-3C879D8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39D2-2739-4CB5-BADD-E0B82CC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05F0-FBC3-41E0-85D6-54DE100D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80DA-0B07-46B8-BAB1-51BEB5E6E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77D-34AA-4F08-8F86-C69CDE0F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FAD9-0E54-4014-ABDB-18E25E1E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7427-BD4D-4C3B-8141-3B697283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C08-51D7-4DE4-9EF1-1EF2912C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B85C-4F19-4A78-BCC6-47F633B8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FAF6-7966-4330-81CB-BCABC6C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C73-0277-4874-8A09-E3C7B91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65C9-428F-4047-8D48-576FF074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IBIS Summit – Jun ‘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E29F-8AF6-49DD-8CEB-F456E1165E6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EAC8-C822-4E27-B166-202EE2FA7863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EA4C-9AB1-4DDF-8741-47B0732168C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gress and Update on the Connector Specific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tephen Peters,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tel Corp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CM Specification Prog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 review – keyword and sub-parameter conformance to IBIS conven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eview of header information complet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bout ¾ the way thru connector description itself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Various keywords eliminated, others chang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gress on matrix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dded “G” matrix, most likely will add support for freq dependent simulation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oth existing IBIS RLGC matrix and ‘S-parameter’ (touchstone format) data are being considere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ith current progress, look for spec end of Jan, 0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veat: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 significant technical issues w/remaining item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046-F735-4AE0-9D47-B8551E516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(Significantly) Change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conduction (G) matri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ded “even_mode”, “odd_mode”, “quiescent” model_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larifies and adds conditions under which model data is extracted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nt to [Path Description] type format for section descripti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k and EndFork replace Cn_stu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ral keyword changes relating to pin &lt;-&gt; matrix “row order” mapping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3537-6B62-44D0-A055-17E92C06AB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arison of Matrix Data Ty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-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atural’ for freq domain simula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miliar to RF/connector folk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irectly measurable (build model from measured data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an directly extrapolate loss factors between frequenci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9906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LGC Matri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atural’ for time domain simulato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amiliar to SI engineer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ot directly measurable (build models from field solver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oes not directly contain freq losses, there are questions about extrapolati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5A6-E978-4889-9614-E1D6AA3B0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5T23:57:15Z</dcterms:created>
  <dc:creator>sjpeters</dc:creator>
  <dc:description/>
  <dc:language>en-US</dc:language>
  <cp:lastModifiedBy>bobr</cp:lastModifiedBy>
  <dcterms:modified xsi:type="dcterms:W3CDTF">2001-09-09T19:37:44Z</dcterms:modified>
  <cp:revision>37</cp:revision>
  <dc:subject/>
  <dc:title>IBIS Futures Group  Update on IBIS-X</dc:title>
</cp:coreProperties>
</file>