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990360" y="-360"/>
            <a:ext cx="8001000" cy="353412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990360" y="-360"/>
            <a:ext cx="8001000" cy="353412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cc"/>
              </a:solidFill>
              <a:latin typeface="Times New Roman"/>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6435720"/>
            <a:ext cx="9142560" cy="226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561"/>
              </a:spcBef>
              <a:tabLst>
                <a:tab algn="l" pos="0"/>
                <a:tab algn="ctr" pos="4570560"/>
                <a:tab algn="l" pos="4572000"/>
                <a:tab algn="l" pos="5486400"/>
                <a:tab algn="l" pos="6400800"/>
                <a:tab algn="l" pos="7315200"/>
                <a:tab algn="l" pos="8229600"/>
                <a:tab algn="l" pos="9144000"/>
                <a:tab algn="l" pos="10058400"/>
              </a:tabLst>
            </a:pPr>
            <a:r>
              <a:rPr b="1" lang="en-US" sz="900" spc="-1" strike="noStrike">
                <a:solidFill>
                  <a:srgbClr val="0033cc"/>
                </a:solidFill>
                <a:latin typeface="Arial"/>
              </a:rPr>
              <a:t>	</a:t>
            </a:r>
            <a:r>
              <a:rPr b="1" lang="en-US" sz="900" spc="-1" strike="noStrike">
                <a:solidFill>
                  <a:srgbClr val="0033cc"/>
                </a:solidFill>
                <a:latin typeface="Arial"/>
              </a:rPr>
              <a:t>page </a:t>
            </a:r>
            <a:fld id="{6DDA1D64-4248-402D-AA60-ED3025D25098}" type="slidenum">
              <a:rPr b="1" lang="en-US" sz="900" spc="-1" strike="noStrike">
                <a:solidFill>
                  <a:srgbClr val="0033cc"/>
                </a:solidFill>
                <a:latin typeface="Arial"/>
              </a:rPr>
              <a:t>&lt;number&gt;</a:t>
            </a:fld>
            <a:endParaRPr b="0" lang="en-US" sz="900" spc="-1" strike="noStrike">
              <a:solidFill>
                <a:srgbClr val="000000"/>
              </a:solidFill>
              <a:latin typeface="Times New Roman"/>
            </a:endParaRPr>
          </a:p>
        </p:txBody>
      </p:sp>
      <p:pic>
        <p:nvPicPr>
          <p:cNvPr id="1" name="dpg_text_treatment" descr=""/>
          <p:cNvPicPr/>
          <p:nvPr/>
        </p:nvPicPr>
        <p:blipFill>
          <a:blip r:embed="rId2"/>
          <a:stretch/>
        </p:blipFill>
        <p:spPr>
          <a:xfrm>
            <a:off x="6432480" y="6384960"/>
            <a:ext cx="2590920" cy="377640"/>
          </a:xfrm>
          <a:prstGeom prst="rect">
            <a:avLst/>
          </a:prstGeom>
          <a:ln w="0">
            <a:noFill/>
          </a:ln>
        </p:spPr>
      </p:pic>
      <p:grpSp>
        <p:nvGrpSpPr>
          <p:cNvPr id="2" name=""/>
          <p:cNvGrpSpPr/>
          <p:nvPr/>
        </p:nvGrpSpPr>
        <p:grpSpPr>
          <a:xfrm>
            <a:off x="1219320" y="228600"/>
            <a:ext cx="7848360" cy="533520"/>
            <a:chOff x="1219320" y="228600"/>
            <a:chExt cx="7848360" cy="533520"/>
          </a:xfrm>
        </p:grpSpPr>
        <p:sp>
          <p:nvSpPr>
            <p:cNvPr id="3" name=""/>
            <p:cNvSpPr/>
            <p:nvPr/>
          </p:nvSpPr>
          <p:spPr>
            <a:xfrm>
              <a:off x="8991720" y="304920"/>
              <a:ext cx="0" cy="457200"/>
            </a:xfrm>
            <a:prstGeom prst="line">
              <a:avLst/>
            </a:prstGeom>
            <a:ln w="38160">
              <a:solidFill>
                <a:srgbClr val="ffbe3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8915400" y="228600"/>
              <a:ext cx="152280" cy="152280"/>
            </a:xfrm>
            <a:prstGeom prst="ellipse">
              <a:avLst/>
            </a:prstGeom>
            <a:solidFill>
              <a:srgbClr val="ffbe3a"/>
            </a:solidFill>
            <a:ln w="9360">
              <a:solidFill>
                <a:srgbClr val="ffbe3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1219320" y="762120"/>
              <a:ext cx="7772400" cy="0"/>
            </a:xfrm>
            <a:prstGeom prst="line">
              <a:avLst/>
            </a:prstGeom>
            <a:ln w="38160">
              <a:solidFill>
                <a:srgbClr val="ffbe3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 name=""/>
          <p:cNvGrpSpPr/>
          <p:nvPr/>
        </p:nvGrpSpPr>
        <p:grpSpPr>
          <a:xfrm>
            <a:off x="0" y="0"/>
            <a:ext cx="1066680" cy="6858000"/>
            <a:chOff x="0" y="0"/>
            <a:chExt cx="1066680" cy="6858000"/>
          </a:xfrm>
        </p:grpSpPr>
        <p:sp>
          <p:nvSpPr>
            <p:cNvPr id="7" name=""/>
            <p:cNvSpPr/>
            <p:nvPr/>
          </p:nvSpPr>
          <p:spPr>
            <a:xfrm>
              <a:off x="0" y="0"/>
              <a:ext cx="990720" cy="6858000"/>
            </a:xfrm>
            <a:prstGeom prst="rect">
              <a:avLst/>
            </a:prstGeom>
            <a:gradFill rotWithShape="0">
              <a:gsLst>
                <a:gs pos="0">
                  <a:srgbClr val="fefefe"/>
                </a:gs>
                <a:gs pos="100000">
                  <a:srgbClr val="00279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
            <p:cNvGrpSpPr/>
            <p:nvPr/>
          </p:nvGrpSpPr>
          <p:grpSpPr>
            <a:xfrm>
              <a:off x="163440" y="6337440"/>
              <a:ext cx="663120" cy="350640"/>
              <a:chOff x="163440" y="6337440"/>
              <a:chExt cx="663120" cy="350640"/>
            </a:xfrm>
          </p:grpSpPr>
          <p:grpSp>
            <p:nvGrpSpPr>
              <p:cNvPr id="9" name=""/>
              <p:cNvGrpSpPr/>
              <p:nvPr/>
            </p:nvGrpSpPr>
            <p:grpSpPr>
              <a:xfrm>
                <a:off x="163440" y="6337440"/>
                <a:ext cx="553320" cy="350640"/>
                <a:chOff x="163440" y="6337440"/>
                <a:chExt cx="553320" cy="350640"/>
              </a:xfrm>
            </p:grpSpPr>
            <p:sp>
              <p:nvSpPr>
                <p:cNvPr id="10" name=""/>
                <p:cNvSpPr/>
                <p:nvPr/>
              </p:nvSpPr>
              <p:spPr>
                <a:xfrm>
                  <a:off x="164520" y="6337440"/>
                  <a:ext cx="42480" cy="45720"/>
                </a:xfrm>
                <a:prstGeom prst="rect">
                  <a:avLst/>
                </a:pr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1" name=""/>
                <p:cNvSpPr/>
                <p:nvPr/>
              </p:nvSpPr>
              <p:spPr>
                <a:xfrm>
                  <a:off x="163440" y="6406920"/>
                  <a:ext cx="43920" cy="191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401040" y="6337440"/>
                  <a:ext cx="315720" cy="350640"/>
                </a:xfrm>
                <a:custGeom>
                  <a:avLst/>
                  <a:gdLst/>
                  <a:ahLst/>
                  <a:rect l="l" t="t" r="r" b="b"/>
                  <a:pathLst>
                    <a:path w="2989" h="3082">
                      <a:moveTo>
                        <a:pt x="1349" y="1974"/>
                      </a:moveTo>
                      <a:lnTo>
                        <a:pt x="2104" y="1974"/>
                      </a:lnTo>
                      <a:lnTo>
                        <a:pt x="2096" y="1890"/>
                      </a:lnTo>
                      <a:lnTo>
                        <a:pt x="2071" y="1814"/>
                      </a:lnTo>
                      <a:lnTo>
                        <a:pt x="1990" y="1705"/>
                      </a:lnTo>
                      <a:lnTo>
                        <a:pt x="1877" y="1629"/>
                      </a:lnTo>
                      <a:lnTo>
                        <a:pt x="1738" y="1613"/>
                      </a:lnTo>
                      <a:lnTo>
                        <a:pt x="1584" y="1637"/>
                      </a:lnTo>
                      <a:lnTo>
                        <a:pt x="1470" y="1713"/>
                      </a:lnTo>
                      <a:lnTo>
                        <a:pt x="1389" y="1831"/>
                      </a:lnTo>
                      <a:lnTo>
                        <a:pt x="1349" y="1974"/>
                      </a:lnTo>
                      <a:lnTo>
                        <a:pt x="1349" y="2310"/>
                      </a:lnTo>
                      <a:lnTo>
                        <a:pt x="1380" y="2444"/>
                      </a:lnTo>
                      <a:lnTo>
                        <a:pt x="1454" y="2579"/>
                      </a:lnTo>
                      <a:lnTo>
                        <a:pt x="1568" y="2671"/>
                      </a:lnTo>
                      <a:lnTo>
                        <a:pt x="1648" y="2704"/>
                      </a:lnTo>
                      <a:lnTo>
                        <a:pt x="1738" y="2713"/>
                      </a:lnTo>
                      <a:lnTo>
                        <a:pt x="1852" y="2696"/>
                      </a:lnTo>
                      <a:lnTo>
                        <a:pt x="1949" y="2654"/>
                      </a:lnTo>
                      <a:lnTo>
                        <a:pt x="2022" y="2587"/>
                      </a:lnTo>
                      <a:lnTo>
                        <a:pt x="2071" y="2502"/>
                      </a:lnTo>
                      <a:lnTo>
                        <a:pt x="2493" y="2502"/>
                      </a:lnTo>
                      <a:lnTo>
                        <a:pt x="2453" y="2620"/>
                      </a:lnTo>
                      <a:lnTo>
                        <a:pt x="2396" y="2730"/>
                      </a:lnTo>
                      <a:lnTo>
                        <a:pt x="2315" y="2830"/>
                      </a:lnTo>
                      <a:lnTo>
                        <a:pt x="2225" y="2914"/>
                      </a:lnTo>
                      <a:lnTo>
                        <a:pt x="2112" y="2990"/>
                      </a:lnTo>
                      <a:lnTo>
                        <a:pt x="1998" y="3040"/>
                      </a:lnTo>
                      <a:lnTo>
                        <a:pt x="1868" y="3065"/>
                      </a:lnTo>
                      <a:lnTo>
                        <a:pt x="1738" y="3082"/>
                      </a:lnTo>
                      <a:lnTo>
                        <a:pt x="1600" y="3065"/>
                      </a:lnTo>
                      <a:lnTo>
                        <a:pt x="1462" y="3032"/>
                      </a:lnTo>
                      <a:lnTo>
                        <a:pt x="1332" y="2965"/>
                      </a:lnTo>
                      <a:lnTo>
                        <a:pt x="1210" y="2881"/>
                      </a:lnTo>
                      <a:lnTo>
                        <a:pt x="1104" y="2771"/>
                      </a:lnTo>
                      <a:lnTo>
                        <a:pt x="1016" y="2645"/>
                      </a:lnTo>
                      <a:lnTo>
                        <a:pt x="950" y="2494"/>
                      </a:lnTo>
                      <a:lnTo>
                        <a:pt x="910" y="2327"/>
                      </a:lnTo>
                      <a:lnTo>
                        <a:pt x="674" y="2334"/>
                      </a:lnTo>
                      <a:lnTo>
                        <a:pt x="504" y="2310"/>
                      </a:lnTo>
                      <a:lnTo>
                        <a:pt x="431" y="2285"/>
                      </a:lnTo>
                      <a:lnTo>
                        <a:pt x="374" y="2242"/>
                      </a:lnTo>
                      <a:lnTo>
                        <a:pt x="325" y="2184"/>
                      </a:lnTo>
                      <a:lnTo>
                        <a:pt x="292" y="2108"/>
                      </a:lnTo>
                      <a:lnTo>
                        <a:pt x="268" y="2007"/>
                      </a:lnTo>
                      <a:lnTo>
                        <a:pt x="261" y="1890"/>
                      </a:lnTo>
                      <a:lnTo>
                        <a:pt x="261" y="940"/>
                      </a:lnTo>
                      <a:lnTo>
                        <a:pt x="0" y="940"/>
                      </a:lnTo>
                      <a:lnTo>
                        <a:pt x="0" y="605"/>
                      </a:lnTo>
                      <a:lnTo>
                        <a:pt x="276" y="605"/>
                      </a:lnTo>
                      <a:lnTo>
                        <a:pt x="276" y="0"/>
                      </a:lnTo>
                      <a:lnTo>
                        <a:pt x="674" y="0"/>
                      </a:lnTo>
                      <a:lnTo>
                        <a:pt x="674" y="605"/>
                      </a:lnTo>
                      <a:lnTo>
                        <a:pt x="991" y="605"/>
                      </a:lnTo>
                      <a:lnTo>
                        <a:pt x="991" y="940"/>
                      </a:lnTo>
                      <a:lnTo>
                        <a:pt x="682" y="940"/>
                      </a:lnTo>
                      <a:lnTo>
                        <a:pt x="682" y="1756"/>
                      </a:lnTo>
                      <a:lnTo>
                        <a:pt x="699" y="1865"/>
                      </a:lnTo>
                      <a:lnTo>
                        <a:pt x="731" y="1931"/>
                      </a:lnTo>
                      <a:lnTo>
                        <a:pt x="797" y="1965"/>
                      </a:lnTo>
                      <a:lnTo>
                        <a:pt x="902" y="1982"/>
                      </a:lnTo>
                      <a:lnTo>
                        <a:pt x="918" y="1982"/>
                      </a:lnTo>
                      <a:lnTo>
                        <a:pt x="950" y="1831"/>
                      </a:lnTo>
                      <a:lnTo>
                        <a:pt x="1007" y="1696"/>
                      </a:lnTo>
                      <a:lnTo>
                        <a:pt x="1089" y="1579"/>
                      </a:lnTo>
                      <a:lnTo>
                        <a:pt x="1186" y="1470"/>
                      </a:lnTo>
                      <a:lnTo>
                        <a:pt x="1300" y="1385"/>
                      </a:lnTo>
                      <a:lnTo>
                        <a:pt x="1429" y="1319"/>
                      </a:lnTo>
                      <a:lnTo>
                        <a:pt x="1576" y="1276"/>
                      </a:lnTo>
                      <a:lnTo>
                        <a:pt x="1738" y="1259"/>
                      </a:lnTo>
                      <a:lnTo>
                        <a:pt x="1893" y="1276"/>
                      </a:lnTo>
                      <a:lnTo>
                        <a:pt x="2030" y="1319"/>
                      </a:lnTo>
                      <a:lnTo>
                        <a:pt x="2161" y="1394"/>
                      </a:lnTo>
                      <a:lnTo>
                        <a:pt x="2274" y="1486"/>
                      </a:lnTo>
                      <a:lnTo>
                        <a:pt x="2372" y="1604"/>
                      </a:lnTo>
                      <a:lnTo>
                        <a:pt x="2453" y="1739"/>
                      </a:lnTo>
                      <a:lnTo>
                        <a:pt x="2501" y="1890"/>
                      </a:lnTo>
                      <a:lnTo>
                        <a:pt x="2534" y="2050"/>
                      </a:lnTo>
                      <a:lnTo>
                        <a:pt x="2566" y="2050"/>
                      </a:lnTo>
                      <a:lnTo>
                        <a:pt x="2566" y="0"/>
                      </a:lnTo>
                      <a:lnTo>
                        <a:pt x="2989" y="0"/>
                      </a:lnTo>
                      <a:lnTo>
                        <a:pt x="2989" y="2310"/>
                      </a:lnTo>
                      <a:lnTo>
                        <a:pt x="1349" y="2310"/>
                      </a:lnTo>
                      <a:lnTo>
                        <a:pt x="1349" y="19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239040" y="6402240"/>
                  <a:ext cx="153720" cy="196560"/>
                </a:xfrm>
                <a:custGeom>
                  <a:avLst/>
                  <a:gdLst/>
                  <a:ahLst/>
                  <a:rect l="l" t="t" r="r" b="b"/>
                  <a:pathLst>
                    <a:path w="1463" h="1739">
                      <a:moveTo>
                        <a:pt x="463" y="571"/>
                      </a:moveTo>
                      <a:lnTo>
                        <a:pt x="512" y="495"/>
                      </a:lnTo>
                      <a:lnTo>
                        <a:pt x="577" y="445"/>
                      </a:lnTo>
                      <a:lnTo>
                        <a:pt x="651" y="411"/>
                      </a:lnTo>
                      <a:lnTo>
                        <a:pt x="739" y="403"/>
                      </a:lnTo>
                      <a:lnTo>
                        <a:pt x="870" y="428"/>
                      </a:lnTo>
                      <a:lnTo>
                        <a:pt x="967" y="495"/>
                      </a:lnTo>
                      <a:lnTo>
                        <a:pt x="1015" y="613"/>
                      </a:lnTo>
                      <a:lnTo>
                        <a:pt x="1032" y="688"/>
                      </a:lnTo>
                      <a:lnTo>
                        <a:pt x="1040" y="773"/>
                      </a:lnTo>
                      <a:lnTo>
                        <a:pt x="1040" y="1739"/>
                      </a:lnTo>
                      <a:lnTo>
                        <a:pt x="1463" y="1739"/>
                      </a:lnTo>
                      <a:lnTo>
                        <a:pt x="1463" y="688"/>
                      </a:lnTo>
                      <a:lnTo>
                        <a:pt x="1454" y="529"/>
                      </a:lnTo>
                      <a:lnTo>
                        <a:pt x="1430" y="394"/>
                      </a:lnTo>
                      <a:lnTo>
                        <a:pt x="1365" y="243"/>
                      </a:lnTo>
                      <a:lnTo>
                        <a:pt x="1316" y="176"/>
                      </a:lnTo>
                      <a:lnTo>
                        <a:pt x="1251" y="117"/>
                      </a:lnTo>
                      <a:lnTo>
                        <a:pt x="1178" y="75"/>
                      </a:lnTo>
                      <a:lnTo>
                        <a:pt x="1089" y="34"/>
                      </a:lnTo>
                      <a:lnTo>
                        <a:pt x="886" y="0"/>
                      </a:lnTo>
                      <a:lnTo>
                        <a:pt x="707" y="25"/>
                      </a:lnTo>
                      <a:lnTo>
                        <a:pt x="577" y="92"/>
                      </a:lnTo>
                      <a:lnTo>
                        <a:pt x="496" y="185"/>
                      </a:lnTo>
                      <a:lnTo>
                        <a:pt x="430" y="285"/>
                      </a:lnTo>
                      <a:lnTo>
                        <a:pt x="422" y="285"/>
                      </a:lnTo>
                      <a:lnTo>
                        <a:pt x="430" y="34"/>
                      </a:lnTo>
                      <a:lnTo>
                        <a:pt x="0" y="34"/>
                      </a:lnTo>
                      <a:lnTo>
                        <a:pt x="0" y="1739"/>
                      </a:lnTo>
                      <a:lnTo>
                        <a:pt x="422" y="1739"/>
                      </a:lnTo>
                      <a:lnTo>
                        <a:pt x="422" y="814"/>
                      </a:lnTo>
                      <a:lnTo>
                        <a:pt x="430" y="680"/>
                      </a:lnTo>
                      <a:lnTo>
                        <a:pt x="463" y="5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 name=""/>
              <p:cNvSpPr/>
              <p:nvPr/>
            </p:nvSpPr>
            <p:spPr>
              <a:xfrm>
                <a:off x="732960" y="6477120"/>
                <a:ext cx="9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en-US" sz="1000" spc="-1" strike="noStrike">
                    <a:solidFill>
                      <a:srgbClr val="ffffff"/>
                    </a:solidFill>
                    <a:latin typeface="Arial"/>
                  </a:rPr>
                  <a:t>®</a:t>
                </a:r>
                <a:endParaRPr b="0" lang="en-US" sz="1000" spc="-1" strike="noStrike">
                  <a:solidFill>
                    <a:srgbClr val="000000"/>
                  </a:solidFill>
                  <a:latin typeface="Times New Roman"/>
                </a:endParaRPr>
              </a:p>
            </p:txBody>
          </p:sp>
        </p:grpSp>
        <p:grpSp>
          <p:nvGrpSpPr>
            <p:cNvPr id="15" name=""/>
            <p:cNvGrpSpPr/>
            <p:nvPr/>
          </p:nvGrpSpPr>
          <p:grpSpPr>
            <a:xfrm>
              <a:off x="27360" y="914400"/>
              <a:ext cx="939240" cy="760680"/>
              <a:chOff x="27360" y="914400"/>
              <a:chExt cx="939240" cy="760680"/>
            </a:xfrm>
          </p:grpSpPr>
          <p:sp>
            <p:nvSpPr>
              <p:cNvPr id="16" name=""/>
              <p:cNvSpPr/>
              <p:nvPr/>
            </p:nvSpPr>
            <p:spPr>
              <a:xfrm flipH="1" rot="8916600">
                <a:off x="38520" y="1162440"/>
                <a:ext cx="918360" cy="294840"/>
              </a:xfrm>
              <a:custGeom>
                <a:avLst/>
                <a:gdLst/>
                <a:ahLst/>
                <a:rect l="l" t="t" r="r" b="b"/>
                <a:pathLst>
                  <a:path stroke="0" w="21600" h="21600">
                    <a:moveTo>
                      <a:pt x="21596" y="11102"/>
                    </a:moveTo>
                    <a:arcTo wR="10800" hR="10800" stAng="96163" swAng="10671432"/>
                    <a:lnTo>
                      <a:pt x="10800" y="10800"/>
                    </a:lnTo>
                    <a:close/>
                  </a:path>
                  <a:path fill="none" w="21600" h="21600">
                    <a:moveTo>
                      <a:pt x="21596" y="11102"/>
                    </a:moveTo>
                    <a:arcTo wR="10800" hR="10800" stAng="96163" swAng="10671432"/>
                  </a:path>
                </a:pathLst>
              </a:custGeom>
              <a:noFill/>
              <a:ln w="28440">
                <a:solidFill>
                  <a:srgbClr val="4c3d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 name=""/>
              <p:cNvGrpSpPr/>
              <p:nvPr/>
            </p:nvGrpSpPr>
            <p:grpSpPr>
              <a:xfrm>
                <a:off x="222120" y="1089000"/>
                <a:ext cx="566640" cy="428760"/>
                <a:chOff x="222120" y="1089000"/>
                <a:chExt cx="566640" cy="428760"/>
              </a:xfrm>
            </p:grpSpPr>
            <p:sp>
              <p:nvSpPr>
                <p:cNvPr id="18" name=""/>
                <p:cNvSpPr txBox="1"/>
                <p:nvPr/>
              </p:nvSpPr>
              <p:spPr>
                <a:xfrm>
                  <a:off x="553680" y="1089000"/>
                  <a:ext cx="2350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eaeaea"/>
                          </a:gs>
                          <a:gs pos="100000">
                            <a:srgbClr val="cbcbcb"/>
                          </a:gs>
                        </a:gsLst>
                        <a:lin ang="13500000"/>
                      </a:gradFill>
                      <a:latin typeface="Times New Roman"/>
                    </a:rPr>
                    <a:t>I</a:t>
                  </a:r>
                  <a:endParaRPr b="0" lang="en-US" sz="2400" spc="1" strike="noStrike">
                    <a:ln w="9360">
                      <a:solidFill>
                        <a:srgbClr val="000000"/>
                      </a:solidFill>
                      <a:miter/>
                    </a:ln>
                    <a:gradFill rotWithShape="0">
                      <a:gsLst>
                        <a:gs pos="0">
                          <a:srgbClr val="eaeaea"/>
                        </a:gs>
                        <a:gs pos="100000">
                          <a:srgbClr val="cbcbcb"/>
                        </a:gs>
                      </a:gsLst>
                      <a:lin ang="13500000"/>
                    </a:gradFill>
                    <a:latin typeface="Times New Roman"/>
                    <a:ea typeface="Times New Roman"/>
                  </a:endParaRPr>
                </a:p>
              </p:txBody>
            </p:sp>
            <p:sp>
              <p:nvSpPr>
                <p:cNvPr id="19" name=""/>
                <p:cNvSpPr txBox="1"/>
                <p:nvPr/>
              </p:nvSpPr>
              <p:spPr>
                <a:xfrm>
                  <a:off x="222120" y="1089000"/>
                  <a:ext cx="2836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eaeaea"/>
                          </a:gs>
                          <a:gs pos="100000">
                            <a:srgbClr val="cbcbcb"/>
                          </a:gs>
                        </a:gsLst>
                        <a:lin ang="13500000"/>
                      </a:gradFill>
                      <a:latin typeface="Times New Roman"/>
                    </a:rPr>
                    <a:t>S</a:t>
                  </a:r>
                  <a:endParaRPr b="0" lang="en-US" sz="2400" spc="1" strike="noStrike">
                    <a:ln w="9360">
                      <a:solidFill>
                        <a:srgbClr val="000000"/>
                      </a:solidFill>
                      <a:miter/>
                    </a:ln>
                    <a:gradFill rotWithShape="0">
                      <a:gsLst>
                        <a:gs pos="0">
                          <a:srgbClr val="eaeaea"/>
                        </a:gs>
                        <a:gs pos="100000">
                          <a:srgbClr val="cbcbcb"/>
                        </a:gs>
                      </a:gsLst>
                      <a:lin ang="13500000"/>
                    </a:gradFill>
                    <a:latin typeface="Times New Roman"/>
                    <a:ea typeface="Times New Roman"/>
                  </a:endParaRPr>
                </a:p>
              </p:txBody>
            </p:sp>
          </p:grpSp>
          <p:sp>
            <p:nvSpPr>
              <p:cNvPr id="20" name=""/>
              <p:cNvSpPr/>
              <p:nvPr/>
            </p:nvSpPr>
            <p:spPr>
              <a:xfrm flipH="1" rot="8916600">
                <a:off x="36360" y="1161360"/>
                <a:ext cx="919080" cy="293760"/>
              </a:xfrm>
              <a:custGeom>
                <a:avLst/>
                <a:gdLst/>
                <a:ahLst/>
                <a:rect l="l" t="t" r="r" b="b"/>
                <a:pathLst>
                  <a:path stroke="0" w="21600" h="21600">
                    <a:moveTo>
                      <a:pt x="2" y="10985"/>
                    </a:moveTo>
                    <a:arcTo wR="10800" hR="10800" stAng="10741070" swAng="11125369"/>
                    <a:lnTo>
                      <a:pt x="10800" y="10800"/>
                    </a:lnTo>
                    <a:close/>
                  </a:path>
                  <a:path fill="none" w="21600" h="21600">
                    <a:moveTo>
                      <a:pt x="2" y="10985"/>
                    </a:moveTo>
                    <a:arcTo wR="10800" hR="10800" stAng="10741070" swAng="11125369"/>
                  </a:path>
                </a:pathLst>
              </a:custGeom>
              <a:noFill/>
              <a:ln w="28440">
                <a:solidFill>
                  <a:srgbClr val="4c3d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txBox="1"/>
              <p:nvPr/>
            </p:nvSpPr>
            <p:spPr>
              <a:xfrm>
                <a:off x="800280" y="914400"/>
                <a:ext cx="137880" cy="13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gradFill rotWithShape="0">
                      <a:gsLst>
                        <a:gs pos="0">
                          <a:srgbClr val="000000"/>
                        </a:gs>
                        <a:gs pos="50000">
                          <a:srgbClr val="581ddb"/>
                        </a:gs>
                        <a:gs pos="100000">
                          <a:srgbClr val="000000"/>
                        </a:gs>
                      </a:gsLst>
                      <a:lin ang="13500000"/>
                    </a:gradFill>
                    <a:effectLst>
                      <a:outerShdw dist="40186" dir="1096358" blurRad="0" rotWithShape="0">
                        <a:srgbClr val="9999ff"/>
                      </a:outerShdw>
                    </a:effectLst>
                    <a:latin typeface="Times New Roman"/>
                  </a:rPr>
                  <a:t>e</a:t>
                </a:r>
                <a:endParaRPr b="1" lang="en-US" sz="2400" spc="1" strike="noStrike">
                  <a:ln w="12600">
                    <a:solidFill>
                      <a:srgbClr val="3333cc"/>
                    </a:solidFill>
                    <a:miter/>
                  </a:ln>
                  <a:gradFill rotWithShape="0">
                    <a:gsLst>
                      <a:gs pos="0">
                        <a:srgbClr val="000000"/>
                      </a:gs>
                      <a:gs pos="50000">
                        <a:srgbClr val="581ddb"/>
                      </a:gs>
                      <a:gs pos="100000">
                        <a:srgbClr val="000000"/>
                      </a:gs>
                    </a:gsLst>
                    <a:lin ang="13500000"/>
                  </a:gradFill>
                  <a:effectLst>
                    <a:outerShdw dist="40186" dir="1096358" blurRad="0" rotWithShape="0">
                      <a:srgbClr val="9999ff"/>
                    </a:outerShdw>
                  </a:effectLst>
                  <a:latin typeface="Times New Roman"/>
                  <a:ea typeface="Times New Roman"/>
                </a:endParaRPr>
              </a:p>
            </p:txBody>
          </p:sp>
        </p:grpSp>
        <p:sp>
          <p:nvSpPr>
            <p:cNvPr id="22" name=""/>
            <p:cNvSpPr/>
            <p:nvPr/>
          </p:nvSpPr>
          <p:spPr>
            <a:xfrm>
              <a:off x="914400" y="0"/>
              <a:ext cx="152280" cy="838080"/>
            </a:xfrm>
            <a:prstGeom prst="rect">
              <a:avLst/>
            </a:prstGeom>
            <a:solidFill>
              <a:srgbClr val="00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
          <p:cNvSpPr/>
          <p:nvPr/>
        </p:nvSpPr>
        <p:spPr>
          <a:xfrm>
            <a:off x="990720" y="6299280"/>
            <a:ext cx="344016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29/200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ttp://www-fmec.fm.intel.com/si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brands and names are the property of their respective owners</a:t>
            </a:r>
            <a:endParaRPr b="0" lang="en-US" sz="800" spc="-1" strike="noStrike">
              <a:solidFill>
                <a:srgbClr val="000000"/>
              </a:solidFill>
              <a:latin typeface="Times New Roman"/>
            </a:endParaRPr>
          </a:p>
        </p:txBody>
      </p:sp>
      <p:sp>
        <p:nvSpPr>
          <p:cNvPr id="24"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Click to edit the title text format</a:t>
            </a:r>
            <a:endParaRPr b="1" lang="en-US" sz="2200" spc="-1" strike="noStrike">
              <a:solidFill>
                <a:srgbClr val="3333cc"/>
              </a:solidFill>
              <a:latin typeface="Times New Roman"/>
            </a:endParaRPr>
          </a:p>
        </p:txBody>
      </p:sp>
      <p:sp>
        <p:nvSpPr>
          <p:cNvPr id="2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dpg_text_treatment" descr=""/>
          <p:cNvPicPr/>
          <p:nvPr/>
        </p:nvPicPr>
        <p:blipFill>
          <a:blip r:embed="rId2"/>
          <a:stretch/>
        </p:blipFill>
        <p:spPr>
          <a:xfrm>
            <a:off x="6432480" y="6384960"/>
            <a:ext cx="2590920" cy="377640"/>
          </a:xfrm>
          <a:prstGeom prst="rect">
            <a:avLst/>
          </a:prstGeom>
          <a:ln w="0">
            <a:noFill/>
          </a:ln>
        </p:spPr>
      </p:pic>
      <p:grpSp>
        <p:nvGrpSpPr>
          <p:cNvPr id="63" name=""/>
          <p:cNvGrpSpPr/>
          <p:nvPr/>
        </p:nvGrpSpPr>
        <p:grpSpPr>
          <a:xfrm>
            <a:off x="1523520" y="2438280"/>
            <a:ext cx="7315560" cy="609840"/>
            <a:chOff x="1523520" y="2438280"/>
            <a:chExt cx="7315560" cy="609840"/>
          </a:xfrm>
        </p:grpSpPr>
        <p:sp>
          <p:nvSpPr>
            <p:cNvPr id="64" name=""/>
            <p:cNvSpPr/>
            <p:nvPr/>
          </p:nvSpPr>
          <p:spPr>
            <a:xfrm>
              <a:off x="8763120" y="2514600"/>
              <a:ext cx="0" cy="533520"/>
            </a:xfrm>
            <a:prstGeom prst="line">
              <a:avLst/>
            </a:prstGeom>
            <a:ln w="38160">
              <a:solidFill>
                <a:srgbClr val="ffbe3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686800" y="2438280"/>
              <a:ext cx="152280" cy="152640"/>
            </a:xfrm>
            <a:prstGeom prst="ellipse">
              <a:avLst/>
            </a:prstGeom>
            <a:solidFill>
              <a:srgbClr val="ffbe3a"/>
            </a:solidFill>
            <a:ln w="9360">
              <a:solidFill>
                <a:srgbClr val="ffbe3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1523520" y="3048120"/>
              <a:ext cx="7239240" cy="0"/>
            </a:xfrm>
            <a:prstGeom prst="line">
              <a:avLst/>
            </a:prstGeom>
            <a:ln w="38160">
              <a:solidFill>
                <a:srgbClr val="ffbe3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 name=""/>
          <p:cNvGrpSpPr/>
          <p:nvPr/>
        </p:nvGrpSpPr>
        <p:grpSpPr>
          <a:xfrm>
            <a:off x="0" y="0"/>
            <a:ext cx="1066680" cy="6858000"/>
            <a:chOff x="0" y="0"/>
            <a:chExt cx="1066680" cy="6858000"/>
          </a:xfrm>
        </p:grpSpPr>
        <p:sp>
          <p:nvSpPr>
            <p:cNvPr id="68" name=""/>
            <p:cNvSpPr/>
            <p:nvPr/>
          </p:nvSpPr>
          <p:spPr>
            <a:xfrm>
              <a:off x="0" y="0"/>
              <a:ext cx="990720" cy="6858000"/>
            </a:xfrm>
            <a:prstGeom prst="rect">
              <a:avLst/>
            </a:prstGeom>
            <a:gradFill rotWithShape="0">
              <a:gsLst>
                <a:gs pos="0">
                  <a:srgbClr val="fefefe"/>
                </a:gs>
                <a:gs pos="100000">
                  <a:srgbClr val="00279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163440" y="6337440"/>
              <a:ext cx="663120" cy="350640"/>
              <a:chOff x="163440" y="6337440"/>
              <a:chExt cx="663120" cy="350640"/>
            </a:xfrm>
          </p:grpSpPr>
          <p:grpSp>
            <p:nvGrpSpPr>
              <p:cNvPr id="70" name=""/>
              <p:cNvGrpSpPr/>
              <p:nvPr/>
            </p:nvGrpSpPr>
            <p:grpSpPr>
              <a:xfrm>
                <a:off x="163440" y="6337440"/>
                <a:ext cx="553320" cy="350640"/>
                <a:chOff x="163440" y="6337440"/>
                <a:chExt cx="553320" cy="350640"/>
              </a:xfrm>
            </p:grpSpPr>
            <p:sp>
              <p:nvSpPr>
                <p:cNvPr id="71" name=""/>
                <p:cNvSpPr/>
                <p:nvPr/>
              </p:nvSpPr>
              <p:spPr>
                <a:xfrm>
                  <a:off x="164520" y="6337440"/>
                  <a:ext cx="42480" cy="45720"/>
                </a:xfrm>
                <a:prstGeom prst="rect">
                  <a:avLst/>
                </a:pr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2" name=""/>
                <p:cNvSpPr/>
                <p:nvPr/>
              </p:nvSpPr>
              <p:spPr>
                <a:xfrm>
                  <a:off x="163440" y="6406920"/>
                  <a:ext cx="43920" cy="191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01040" y="6337440"/>
                  <a:ext cx="315720" cy="350640"/>
                </a:xfrm>
                <a:custGeom>
                  <a:avLst/>
                  <a:gdLst/>
                  <a:ahLst/>
                  <a:rect l="l" t="t" r="r" b="b"/>
                  <a:pathLst>
                    <a:path w="2989" h="3082">
                      <a:moveTo>
                        <a:pt x="1349" y="1974"/>
                      </a:moveTo>
                      <a:lnTo>
                        <a:pt x="2104" y="1974"/>
                      </a:lnTo>
                      <a:lnTo>
                        <a:pt x="2096" y="1890"/>
                      </a:lnTo>
                      <a:lnTo>
                        <a:pt x="2071" y="1814"/>
                      </a:lnTo>
                      <a:lnTo>
                        <a:pt x="1990" y="1705"/>
                      </a:lnTo>
                      <a:lnTo>
                        <a:pt x="1877" y="1629"/>
                      </a:lnTo>
                      <a:lnTo>
                        <a:pt x="1738" y="1613"/>
                      </a:lnTo>
                      <a:lnTo>
                        <a:pt x="1584" y="1637"/>
                      </a:lnTo>
                      <a:lnTo>
                        <a:pt x="1470" y="1713"/>
                      </a:lnTo>
                      <a:lnTo>
                        <a:pt x="1389" y="1831"/>
                      </a:lnTo>
                      <a:lnTo>
                        <a:pt x="1349" y="1974"/>
                      </a:lnTo>
                      <a:lnTo>
                        <a:pt x="1349" y="2310"/>
                      </a:lnTo>
                      <a:lnTo>
                        <a:pt x="1380" y="2444"/>
                      </a:lnTo>
                      <a:lnTo>
                        <a:pt x="1454" y="2579"/>
                      </a:lnTo>
                      <a:lnTo>
                        <a:pt x="1568" y="2671"/>
                      </a:lnTo>
                      <a:lnTo>
                        <a:pt x="1648" y="2704"/>
                      </a:lnTo>
                      <a:lnTo>
                        <a:pt x="1738" y="2713"/>
                      </a:lnTo>
                      <a:lnTo>
                        <a:pt x="1852" y="2696"/>
                      </a:lnTo>
                      <a:lnTo>
                        <a:pt x="1949" y="2654"/>
                      </a:lnTo>
                      <a:lnTo>
                        <a:pt x="2022" y="2587"/>
                      </a:lnTo>
                      <a:lnTo>
                        <a:pt x="2071" y="2502"/>
                      </a:lnTo>
                      <a:lnTo>
                        <a:pt x="2493" y="2502"/>
                      </a:lnTo>
                      <a:lnTo>
                        <a:pt x="2453" y="2620"/>
                      </a:lnTo>
                      <a:lnTo>
                        <a:pt x="2396" y="2730"/>
                      </a:lnTo>
                      <a:lnTo>
                        <a:pt x="2315" y="2830"/>
                      </a:lnTo>
                      <a:lnTo>
                        <a:pt x="2225" y="2914"/>
                      </a:lnTo>
                      <a:lnTo>
                        <a:pt x="2112" y="2990"/>
                      </a:lnTo>
                      <a:lnTo>
                        <a:pt x="1998" y="3040"/>
                      </a:lnTo>
                      <a:lnTo>
                        <a:pt x="1868" y="3065"/>
                      </a:lnTo>
                      <a:lnTo>
                        <a:pt x="1738" y="3082"/>
                      </a:lnTo>
                      <a:lnTo>
                        <a:pt x="1600" y="3065"/>
                      </a:lnTo>
                      <a:lnTo>
                        <a:pt x="1462" y="3032"/>
                      </a:lnTo>
                      <a:lnTo>
                        <a:pt x="1332" y="2965"/>
                      </a:lnTo>
                      <a:lnTo>
                        <a:pt x="1210" y="2881"/>
                      </a:lnTo>
                      <a:lnTo>
                        <a:pt x="1104" y="2771"/>
                      </a:lnTo>
                      <a:lnTo>
                        <a:pt x="1016" y="2645"/>
                      </a:lnTo>
                      <a:lnTo>
                        <a:pt x="950" y="2494"/>
                      </a:lnTo>
                      <a:lnTo>
                        <a:pt x="910" y="2327"/>
                      </a:lnTo>
                      <a:lnTo>
                        <a:pt x="674" y="2334"/>
                      </a:lnTo>
                      <a:lnTo>
                        <a:pt x="504" y="2310"/>
                      </a:lnTo>
                      <a:lnTo>
                        <a:pt x="431" y="2285"/>
                      </a:lnTo>
                      <a:lnTo>
                        <a:pt x="374" y="2242"/>
                      </a:lnTo>
                      <a:lnTo>
                        <a:pt x="325" y="2184"/>
                      </a:lnTo>
                      <a:lnTo>
                        <a:pt x="292" y="2108"/>
                      </a:lnTo>
                      <a:lnTo>
                        <a:pt x="268" y="2007"/>
                      </a:lnTo>
                      <a:lnTo>
                        <a:pt x="261" y="1890"/>
                      </a:lnTo>
                      <a:lnTo>
                        <a:pt x="261" y="940"/>
                      </a:lnTo>
                      <a:lnTo>
                        <a:pt x="0" y="940"/>
                      </a:lnTo>
                      <a:lnTo>
                        <a:pt x="0" y="605"/>
                      </a:lnTo>
                      <a:lnTo>
                        <a:pt x="276" y="605"/>
                      </a:lnTo>
                      <a:lnTo>
                        <a:pt x="276" y="0"/>
                      </a:lnTo>
                      <a:lnTo>
                        <a:pt x="674" y="0"/>
                      </a:lnTo>
                      <a:lnTo>
                        <a:pt x="674" y="605"/>
                      </a:lnTo>
                      <a:lnTo>
                        <a:pt x="991" y="605"/>
                      </a:lnTo>
                      <a:lnTo>
                        <a:pt x="991" y="940"/>
                      </a:lnTo>
                      <a:lnTo>
                        <a:pt x="682" y="940"/>
                      </a:lnTo>
                      <a:lnTo>
                        <a:pt x="682" y="1756"/>
                      </a:lnTo>
                      <a:lnTo>
                        <a:pt x="699" y="1865"/>
                      </a:lnTo>
                      <a:lnTo>
                        <a:pt x="731" y="1931"/>
                      </a:lnTo>
                      <a:lnTo>
                        <a:pt x="797" y="1965"/>
                      </a:lnTo>
                      <a:lnTo>
                        <a:pt x="902" y="1982"/>
                      </a:lnTo>
                      <a:lnTo>
                        <a:pt x="918" y="1982"/>
                      </a:lnTo>
                      <a:lnTo>
                        <a:pt x="950" y="1831"/>
                      </a:lnTo>
                      <a:lnTo>
                        <a:pt x="1007" y="1696"/>
                      </a:lnTo>
                      <a:lnTo>
                        <a:pt x="1089" y="1579"/>
                      </a:lnTo>
                      <a:lnTo>
                        <a:pt x="1186" y="1470"/>
                      </a:lnTo>
                      <a:lnTo>
                        <a:pt x="1300" y="1385"/>
                      </a:lnTo>
                      <a:lnTo>
                        <a:pt x="1429" y="1319"/>
                      </a:lnTo>
                      <a:lnTo>
                        <a:pt x="1576" y="1276"/>
                      </a:lnTo>
                      <a:lnTo>
                        <a:pt x="1738" y="1259"/>
                      </a:lnTo>
                      <a:lnTo>
                        <a:pt x="1893" y="1276"/>
                      </a:lnTo>
                      <a:lnTo>
                        <a:pt x="2030" y="1319"/>
                      </a:lnTo>
                      <a:lnTo>
                        <a:pt x="2161" y="1394"/>
                      </a:lnTo>
                      <a:lnTo>
                        <a:pt x="2274" y="1486"/>
                      </a:lnTo>
                      <a:lnTo>
                        <a:pt x="2372" y="1604"/>
                      </a:lnTo>
                      <a:lnTo>
                        <a:pt x="2453" y="1739"/>
                      </a:lnTo>
                      <a:lnTo>
                        <a:pt x="2501" y="1890"/>
                      </a:lnTo>
                      <a:lnTo>
                        <a:pt x="2534" y="2050"/>
                      </a:lnTo>
                      <a:lnTo>
                        <a:pt x="2566" y="2050"/>
                      </a:lnTo>
                      <a:lnTo>
                        <a:pt x="2566" y="0"/>
                      </a:lnTo>
                      <a:lnTo>
                        <a:pt x="2989" y="0"/>
                      </a:lnTo>
                      <a:lnTo>
                        <a:pt x="2989" y="2310"/>
                      </a:lnTo>
                      <a:lnTo>
                        <a:pt x="1349" y="2310"/>
                      </a:lnTo>
                      <a:lnTo>
                        <a:pt x="1349" y="19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39040" y="6402240"/>
                  <a:ext cx="153720" cy="196560"/>
                </a:xfrm>
                <a:custGeom>
                  <a:avLst/>
                  <a:gdLst/>
                  <a:ahLst/>
                  <a:rect l="l" t="t" r="r" b="b"/>
                  <a:pathLst>
                    <a:path w="1463" h="1739">
                      <a:moveTo>
                        <a:pt x="463" y="571"/>
                      </a:moveTo>
                      <a:lnTo>
                        <a:pt x="512" y="495"/>
                      </a:lnTo>
                      <a:lnTo>
                        <a:pt x="577" y="445"/>
                      </a:lnTo>
                      <a:lnTo>
                        <a:pt x="651" y="411"/>
                      </a:lnTo>
                      <a:lnTo>
                        <a:pt x="739" y="403"/>
                      </a:lnTo>
                      <a:lnTo>
                        <a:pt x="870" y="428"/>
                      </a:lnTo>
                      <a:lnTo>
                        <a:pt x="967" y="495"/>
                      </a:lnTo>
                      <a:lnTo>
                        <a:pt x="1015" y="613"/>
                      </a:lnTo>
                      <a:lnTo>
                        <a:pt x="1032" y="688"/>
                      </a:lnTo>
                      <a:lnTo>
                        <a:pt x="1040" y="773"/>
                      </a:lnTo>
                      <a:lnTo>
                        <a:pt x="1040" y="1739"/>
                      </a:lnTo>
                      <a:lnTo>
                        <a:pt x="1463" y="1739"/>
                      </a:lnTo>
                      <a:lnTo>
                        <a:pt x="1463" y="688"/>
                      </a:lnTo>
                      <a:lnTo>
                        <a:pt x="1454" y="529"/>
                      </a:lnTo>
                      <a:lnTo>
                        <a:pt x="1430" y="394"/>
                      </a:lnTo>
                      <a:lnTo>
                        <a:pt x="1365" y="243"/>
                      </a:lnTo>
                      <a:lnTo>
                        <a:pt x="1316" y="176"/>
                      </a:lnTo>
                      <a:lnTo>
                        <a:pt x="1251" y="117"/>
                      </a:lnTo>
                      <a:lnTo>
                        <a:pt x="1178" y="75"/>
                      </a:lnTo>
                      <a:lnTo>
                        <a:pt x="1089" y="34"/>
                      </a:lnTo>
                      <a:lnTo>
                        <a:pt x="886" y="0"/>
                      </a:lnTo>
                      <a:lnTo>
                        <a:pt x="707" y="25"/>
                      </a:lnTo>
                      <a:lnTo>
                        <a:pt x="577" y="92"/>
                      </a:lnTo>
                      <a:lnTo>
                        <a:pt x="496" y="185"/>
                      </a:lnTo>
                      <a:lnTo>
                        <a:pt x="430" y="285"/>
                      </a:lnTo>
                      <a:lnTo>
                        <a:pt x="422" y="285"/>
                      </a:lnTo>
                      <a:lnTo>
                        <a:pt x="430" y="34"/>
                      </a:lnTo>
                      <a:lnTo>
                        <a:pt x="0" y="34"/>
                      </a:lnTo>
                      <a:lnTo>
                        <a:pt x="0" y="1739"/>
                      </a:lnTo>
                      <a:lnTo>
                        <a:pt x="422" y="1739"/>
                      </a:lnTo>
                      <a:lnTo>
                        <a:pt x="422" y="814"/>
                      </a:lnTo>
                      <a:lnTo>
                        <a:pt x="430" y="680"/>
                      </a:lnTo>
                      <a:lnTo>
                        <a:pt x="463" y="5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 name=""/>
              <p:cNvSpPr/>
              <p:nvPr/>
            </p:nvSpPr>
            <p:spPr>
              <a:xfrm>
                <a:off x="732960" y="6477120"/>
                <a:ext cx="93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1" lang="en-US" sz="1000" spc="-1" strike="noStrike">
                    <a:solidFill>
                      <a:srgbClr val="ffffff"/>
                    </a:solidFill>
                    <a:latin typeface="Arial"/>
                  </a:rPr>
                  <a:t>®</a:t>
                </a:r>
                <a:endParaRPr b="0" lang="en-US" sz="1000" spc="-1" strike="noStrike">
                  <a:solidFill>
                    <a:srgbClr val="000000"/>
                  </a:solidFill>
                  <a:latin typeface="Times New Roman"/>
                </a:endParaRPr>
              </a:p>
            </p:txBody>
          </p:sp>
        </p:grpSp>
        <p:grpSp>
          <p:nvGrpSpPr>
            <p:cNvPr id="76" name=""/>
            <p:cNvGrpSpPr/>
            <p:nvPr/>
          </p:nvGrpSpPr>
          <p:grpSpPr>
            <a:xfrm>
              <a:off x="27360" y="914400"/>
              <a:ext cx="939240" cy="760680"/>
              <a:chOff x="27360" y="914400"/>
              <a:chExt cx="939240" cy="760680"/>
            </a:xfrm>
          </p:grpSpPr>
          <p:sp>
            <p:nvSpPr>
              <p:cNvPr id="77" name=""/>
              <p:cNvSpPr/>
              <p:nvPr/>
            </p:nvSpPr>
            <p:spPr>
              <a:xfrm flipH="1" rot="8916600">
                <a:off x="38520" y="1162440"/>
                <a:ext cx="918360" cy="294840"/>
              </a:xfrm>
              <a:custGeom>
                <a:avLst/>
                <a:gdLst/>
                <a:ahLst/>
                <a:rect l="l" t="t" r="r" b="b"/>
                <a:pathLst>
                  <a:path stroke="0" w="21600" h="21600">
                    <a:moveTo>
                      <a:pt x="21596" y="11102"/>
                    </a:moveTo>
                    <a:arcTo wR="10800" hR="10800" stAng="96163" swAng="10671432"/>
                    <a:lnTo>
                      <a:pt x="10800" y="10800"/>
                    </a:lnTo>
                    <a:close/>
                  </a:path>
                  <a:path fill="none" w="21600" h="21600">
                    <a:moveTo>
                      <a:pt x="21596" y="11102"/>
                    </a:moveTo>
                    <a:arcTo wR="10800" hR="10800" stAng="96163" swAng="10671432"/>
                  </a:path>
                </a:pathLst>
              </a:custGeom>
              <a:noFill/>
              <a:ln w="28440">
                <a:solidFill>
                  <a:srgbClr val="4c3d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 name=""/>
              <p:cNvGrpSpPr/>
              <p:nvPr/>
            </p:nvGrpSpPr>
            <p:grpSpPr>
              <a:xfrm>
                <a:off x="222120" y="1089000"/>
                <a:ext cx="566640" cy="428760"/>
                <a:chOff x="222120" y="1089000"/>
                <a:chExt cx="566640" cy="428760"/>
              </a:xfrm>
            </p:grpSpPr>
            <p:sp>
              <p:nvSpPr>
                <p:cNvPr id="79" name=""/>
                <p:cNvSpPr txBox="1"/>
                <p:nvPr/>
              </p:nvSpPr>
              <p:spPr>
                <a:xfrm>
                  <a:off x="553680" y="1089000"/>
                  <a:ext cx="2350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eaeaea"/>
                          </a:gs>
                          <a:gs pos="100000">
                            <a:srgbClr val="cbcbcb"/>
                          </a:gs>
                        </a:gsLst>
                        <a:lin ang="13500000"/>
                      </a:gradFill>
                      <a:latin typeface="Times New Roman"/>
                    </a:rPr>
                    <a:t>I</a:t>
                  </a:r>
                  <a:endParaRPr b="0" lang="en-US" sz="2400" spc="1" strike="noStrike">
                    <a:ln w="9360">
                      <a:solidFill>
                        <a:srgbClr val="000000"/>
                      </a:solidFill>
                      <a:miter/>
                    </a:ln>
                    <a:gradFill rotWithShape="0">
                      <a:gsLst>
                        <a:gs pos="0">
                          <a:srgbClr val="eaeaea"/>
                        </a:gs>
                        <a:gs pos="100000">
                          <a:srgbClr val="cbcbcb"/>
                        </a:gs>
                      </a:gsLst>
                      <a:lin ang="13500000"/>
                    </a:gradFill>
                    <a:latin typeface="Times New Roman"/>
                    <a:ea typeface="Times New Roman"/>
                  </a:endParaRPr>
                </a:p>
              </p:txBody>
            </p:sp>
            <p:sp>
              <p:nvSpPr>
                <p:cNvPr id="80" name=""/>
                <p:cNvSpPr txBox="1"/>
                <p:nvPr/>
              </p:nvSpPr>
              <p:spPr>
                <a:xfrm>
                  <a:off x="222120" y="1089000"/>
                  <a:ext cx="28368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eaeaea"/>
                          </a:gs>
                          <a:gs pos="100000">
                            <a:srgbClr val="cbcbcb"/>
                          </a:gs>
                        </a:gsLst>
                        <a:lin ang="13500000"/>
                      </a:gradFill>
                      <a:latin typeface="Times New Roman"/>
                    </a:rPr>
                    <a:t>S</a:t>
                  </a:r>
                  <a:endParaRPr b="0" lang="en-US" sz="2400" spc="1" strike="noStrike">
                    <a:ln w="9360">
                      <a:solidFill>
                        <a:srgbClr val="000000"/>
                      </a:solidFill>
                      <a:miter/>
                    </a:ln>
                    <a:gradFill rotWithShape="0">
                      <a:gsLst>
                        <a:gs pos="0">
                          <a:srgbClr val="eaeaea"/>
                        </a:gs>
                        <a:gs pos="100000">
                          <a:srgbClr val="cbcbcb"/>
                        </a:gs>
                      </a:gsLst>
                      <a:lin ang="13500000"/>
                    </a:gradFill>
                    <a:latin typeface="Times New Roman"/>
                    <a:ea typeface="Times New Roman"/>
                  </a:endParaRPr>
                </a:p>
              </p:txBody>
            </p:sp>
          </p:grpSp>
          <p:sp>
            <p:nvSpPr>
              <p:cNvPr id="81" name=""/>
              <p:cNvSpPr/>
              <p:nvPr/>
            </p:nvSpPr>
            <p:spPr>
              <a:xfrm flipH="1" rot="8916600">
                <a:off x="36360" y="1161360"/>
                <a:ext cx="919080" cy="293760"/>
              </a:xfrm>
              <a:custGeom>
                <a:avLst/>
                <a:gdLst/>
                <a:ahLst/>
                <a:rect l="l" t="t" r="r" b="b"/>
                <a:pathLst>
                  <a:path stroke="0" w="21600" h="21600">
                    <a:moveTo>
                      <a:pt x="2" y="10985"/>
                    </a:moveTo>
                    <a:arcTo wR="10800" hR="10800" stAng="10741070" swAng="11125369"/>
                    <a:lnTo>
                      <a:pt x="10800" y="10800"/>
                    </a:lnTo>
                    <a:close/>
                  </a:path>
                  <a:path fill="none" w="21600" h="21600">
                    <a:moveTo>
                      <a:pt x="2" y="10985"/>
                    </a:moveTo>
                    <a:arcTo wR="10800" hR="10800" stAng="10741070" swAng="11125369"/>
                  </a:path>
                </a:pathLst>
              </a:custGeom>
              <a:noFill/>
              <a:ln w="28440">
                <a:solidFill>
                  <a:srgbClr val="4c3d9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txBox="1"/>
              <p:nvPr/>
            </p:nvSpPr>
            <p:spPr>
              <a:xfrm>
                <a:off x="800280" y="914400"/>
                <a:ext cx="137880" cy="13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cc"/>
                      </a:solidFill>
                      <a:miter/>
                    </a:ln>
                    <a:gradFill rotWithShape="0">
                      <a:gsLst>
                        <a:gs pos="0">
                          <a:srgbClr val="000000"/>
                        </a:gs>
                        <a:gs pos="50000">
                          <a:srgbClr val="581ddb"/>
                        </a:gs>
                        <a:gs pos="100000">
                          <a:srgbClr val="000000"/>
                        </a:gs>
                      </a:gsLst>
                      <a:lin ang="13500000"/>
                    </a:gradFill>
                    <a:effectLst>
                      <a:outerShdw dist="40186" dir="1096358" blurRad="0" rotWithShape="0">
                        <a:srgbClr val="9999ff"/>
                      </a:outerShdw>
                    </a:effectLst>
                    <a:latin typeface="Times New Roman"/>
                  </a:rPr>
                  <a:t>e</a:t>
                </a:r>
                <a:endParaRPr b="1" lang="en-US" sz="2400" spc="1" strike="noStrike">
                  <a:ln w="12600">
                    <a:solidFill>
                      <a:srgbClr val="3333cc"/>
                    </a:solidFill>
                    <a:miter/>
                  </a:ln>
                  <a:gradFill rotWithShape="0">
                    <a:gsLst>
                      <a:gs pos="0">
                        <a:srgbClr val="000000"/>
                      </a:gs>
                      <a:gs pos="50000">
                        <a:srgbClr val="581ddb"/>
                      </a:gs>
                      <a:gs pos="100000">
                        <a:srgbClr val="000000"/>
                      </a:gs>
                    </a:gsLst>
                    <a:lin ang="13500000"/>
                  </a:gradFill>
                  <a:effectLst>
                    <a:outerShdw dist="40186" dir="1096358" blurRad="0" rotWithShape="0">
                      <a:srgbClr val="9999ff"/>
                    </a:outerShdw>
                  </a:effectLst>
                  <a:latin typeface="Times New Roman"/>
                  <a:ea typeface="Times New Roman"/>
                </a:endParaRPr>
              </a:p>
            </p:txBody>
          </p:sp>
        </p:grpSp>
        <p:sp>
          <p:nvSpPr>
            <p:cNvPr id="83" name=""/>
            <p:cNvSpPr/>
            <p:nvPr/>
          </p:nvSpPr>
          <p:spPr>
            <a:xfrm>
              <a:off x="914400" y="0"/>
              <a:ext cx="152280" cy="838080"/>
            </a:xfrm>
            <a:prstGeom prst="rect">
              <a:avLst/>
            </a:prstGeom>
            <a:solidFill>
              <a:srgbClr val="0099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 name=""/>
          <p:cNvSpPr/>
          <p:nvPr/>
        </p:nvSpPr>
        <p:spPr>
          <a:xfrm>
            <a:off x="990720" y="6400800"/>
            <a:ext cx="23619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tp://www-fmec.fm.intel.com/sie</a:t>
            </a:r>
            <a:endParaRPr b="0" lang="en-US" sz="1200" spc="-1" strike="noStrike">
              <a:solidFill>
                <a:srgbClr val="000000"/>
              </a:solidFill>
              <a:latin typeface="Times New Roman"/>
            </a:endParaRPr>
          </a:p>
        </p:txBody>
      </p:sp>
      <p:sp>
        <p:nvSpPr>
          <p:cNvPr id="85" name="PlaceHolder 1"/>
          <p:cNvSpPr>
            <a:spLocks noGrp="1"/>
          </p:cNvSpPr>
          <p:nvPr>
            <p:ph type="title"/>
          </p:nvPr>
        </p:nvSpPr>
        <p:spPr>
          <a:xfrm>
            <a:off x="1752120" y="1218960"/>
            <a:ext cx="6629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33cc"/>
                </a:solidFill>
                <a:latin typeface="Times New Roman"/>
              </a:rPr>
              <a:t>Click to edit the title text format</a:t>
            </a:r>
            <a:endParaRPr b="1" lang="en-US" sz="3500" spc="-1" strike="noStrike">
              <a:solidFill>
                <a:srgbClr val="3333cc"/>
              </a:solidFill>
              <a:latin typeface="Times New Roman"/>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120" y="1218960"/>
            <a:ext cx="6629400" cy="1447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33cc"/>
                </a:solidFill>
                <a:latin typeface="Times New Roman"/>
              </a:rPr>
              <a:t>Correlation study for DDR style terminations with IBIS models</a:t>
            </a:r>
            <a:endParaRPr b="1" lang="en-US" sz="3500" spc="-1" strike="noStrike">
              <a:solidFill>
                <a:srgbClr val="3333cc"/>
              </a:solidFill>
              <a:latin typeface="Times New Roman"/>
            </a:endParaRPr>
          </a:p>
        </p:txBody>
      </p:sp>
      <p:sp>
        <p:nvSpPr>
          <p:cNvPr id="124" name="PlaceHolder 2"/>
          <p:cNvSpPr>
            <a:spLocks noGrp="1"/>
          </p:cNvSpPr>
          <p:nvPr>
            <p:ph type="subTitle"/>
          </p:nvPr>
        </p:nvSpPr>
        <p:spPr>
          <a:xfrm>
            <a:off x="2286000" y="3733920"/>
            <a:ext cx="5486400" cy="196344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pad Muranyi</a:t>
            </a:r>
            <a:endParaRPr b="0" lang="en-US" sz="20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pad.muranyi@intel.com</a:t>
            </a:r>
            <a:endParaRPr b="0" lang="en-US" sz="1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gnal Integrity Engineering</a:t>
            </a:r>
            <a:endParaRPr b="0" lang="en-US" sz="20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ptember 13, 200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960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HSPICE B-element - V_fixt = Vcc/3 and 2Vcc/3, R_fixt = 50 </a:t>
            </a:r>
            <a:r>
              <a:rPr b="1" lang="en-US" sz="2200" spc="-1" strike="noStrike">
                <a:solidFill>
                  <a:srgbClr val="3333cc"/>
                </a:solidFill>
                <a:latin typeface="Symbol"/>
                <a:ea typeface="Symbol"/>
              </a:rPr>
              <a:t></a:t>
            </a:r>
            <a:endParaRPr b="1" lang="en-US" sz="2200" spc="-1" strike="noStrike">
              <a:solidFill>
                <a:srgbClr val="3333cc"/>
              </a:solidFill>
              <a:latin typeface="Times New Roman"/>
            </a:endParaRPr>
          </a:p>
        </p:txBody>
      </p:sp>
      <p:pic>
        <p:nvPicPr>
          <p:cNvPr id="170" name="" descr=""/>
          <p:cNvPicPr/>
          <p:nvPr/>
        </p:nvPicPr>
        <p:blipFill>
          <a:blip r:embed="rId1"/>
          <a:srcRect l="15387" t="8716" r="6155" b="11621"/>
          <a:stretch/>
        </p:blipFill>
        <p:spPr>
          <a:xfrm>
            <a:off x="1647720" y="912960"/>
            <a:ext cx="6581880" cy="4719600"/>
          </a:xfrm>
          <a:prstGeom prst="rect">
            <a:avLst/>
          </a:prstGeom>
          <a:ln w="25560">
            <a:solidFill>
              <a:srgbClr val="000000"/>
            </a:solidFill>
            <a:miter/>
          </a:ln>
        </p:spPr>
      </p:pic>
      <p:sp>
        <p:nvSpPr>
          <p:cNvPr id="171" name=""/>
          <p:cNvSpPr/>
          <p:nvPr/>
        </p:nvSpPr>
        <p:spPr>
          <a:xfrm>
            <a:off x="561600" y="3125880"/>
            <a:ext cx="2015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a:t>
            </a:r>
            <a:endParaRPr b="0" lang="en-US" sz="2000" spc="-1" strike="noStrike">
              <a:solidFill>
                <a:srgbClr val="000000"/>
              </a:solidFill>
              <a:latin typeface="Times New Roman"/>
            </a:endParaRPr>
          </a:p>
        </p:txBody>
      </p:sp>
      <p:sp>
        <p:nvSpPr>
          <p:cNvPr id="172" name=""/>
          <p:cNvSpPr/>
          <p:nvPr/>
        </p:nvSpPr>
        <p:spPr>
          <a:xfrm>
            <a:off x="405360" y="4792680"/>
            <a:ext cx="217260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GND</a:t>
            </a:r>
            <a:endParaRPr b="0" lang="en-US" sz="2000" spc="-1" strike="noStrike">
              <a:solidFill>
                <a:srgbClr val="000000"/>
              </a:solidFill>
              <a:latin typeface="Times New Roman"/>
            </a:endParaRPr>
          </a:p>
        </p:txBody>
      </p:sp>
      <p:sp>
        <p:nvSpPr>
          <p:cNvPr id="173" name=""/>
          <p:cNvSpPr/>
          <p:nvPr/>
        </p:nvSpPr>
        <p:spPr>
          <a:xfrm>
            <a:off x="364320" y="4151160"/>
            <a:ext cx="2213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2</a:t>
            </a:r>
            <a:endParaRPr b="0" lang="en-US" sz="2000" spc="-1" strike="noStrike">
              <a:solidFill>
                <a:srgbClr val="000000"/>
              </a:solidFill>
              <a:latin typeface="Times New Roman"/>
            </a:endParaRPr>
          </a:p>
        </p:txBody>
      </p:sp>
      <p:sp>
        <p:nvSpPr>
          <p:cNvPr id="174" name=""/>
          <p:cNvSpPr/>
          <p:nvPr/>
        </p:nvSpPr>
        <p:spPr>
          <a:xfrm>
            <a:off x="988920" y="5761080"/>
            <a:ext cx="815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b: try V_fixture values between Vtt and the rail voltag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Conclusions</a:t>
            </a:r>
            <a:endParaRPr b="1" lang="en-US" sz="2200" spc="-1" strike="noStrike">
              <a:solidFill>
                <a:srgbClr val="3333cc"/>
              </a:solidFill>
              <a:latin typeface="Times New Roman"/>
            </a:endParaRPr>
          </a:p>
        </p:txBody>
      </p:sp>
      <p:sp>
        <p:nvSpPr>
          <p:cNvPr id="176" name=""/>
          <p:cNvSpPr/>
          <p:nvPr/>
        </p:nvSpPr>
        <p:spPr>
          <a:xfrm>
            <a:off x="1935000" y="1498680"/>
            <a:ext cx="6113520" cy="23454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SPICE’s B-element will give correct results if the waveforms for the IBIS models are made with V_fixture that is the same as Vtt of the bus that the buffer will drive.</a:t>
            </a:r>
            <a:endParaRPr b="0" lang="en-US" sz="16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oretically the waveforms should always match, regardless of what V_fixture is in the model, and not have this dependency.</a:t>
            </a:r>
            <a:endParaRPr b="0" lang="en-US" sz="16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urther study is required to run the same tests in other tools to see whether this is an HSPICE phenomena or a general IBIS probl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Purpose of this study</a:t>
            </a:r>
            <a:endParaRPr b="1" lang="en-US" sz="2200" spc="-1" strike="noStrike">
              <a:solidFill>
                <a:srgbClr val="3333cc"/>
              </a:solidFill>
              <a:latin typeface="Times New Roman"/>
            </a:endParaRPr>
          </a:p>
        </p:txBody>
      </p:sp>
      <p:sp>
        <p:nvSpPr>
          <p:cNvPr id="126" name=""/>
          <p:cNvSpPr/>
          <p:nvPr/>
        </p:nvSpPr>
        <p:spPr>
          <a:xfrm>
            <a:off x="1596960" y="1332000"/>
            <a:ext cx="6788160" cy="444456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study was done to find out what the response of IBIS models is when the buffer is terminated to the middle of the voltage swing (as it is done in DDR buses) instead of one of the rails.</a:t>
            </a:r>
            <a:endParaRPr b="0" lang="en-US" sz="16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ditionally the V_fixture parameters of IBIS models use Vcc and GND in attempt to obtain waveforms for the on/off characteristics of the pullup and pulldown structures.</a:t>
            </a:r>
            <a:endParaRPr b="0" lang="en-US" sz="16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question is, how are IBIS models going to behave if models made with such waveforms are used in a circuit where the termination voltage is not one of the rails, but a voltage half way between, as it is done in DDR buses.</a:t>
            </a:r>
            <a:endParaRPr b="0" lang="en-US" sz="16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31840" indent="-2318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is presentation shows the results obtained using HSPICE’s B-element.  The plan is to try out as many other IBIS simulators as possible with the same IBIS model so that a decision could be made regarding what the best method is for making IBIS models for DDR buffers, and/or whether a change in the IBIS specification or simulation tool algorithms is necessar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HSPICE B-element - V_fixt = rail voltages, R_fixt = 50 </a:t>
            </a:r>
            <a:r>
              <a:rPr b="1" lang="en-US" sz="2200" spc="-1" strike="noStrike">
                <a:solidFill>
                  <a:srgbClr val="3333cc"/>
                </a:solidFill>
                <a:latin typeface="Symbol"/>
                <a:ea typeface="Symbol"/>
              </a:rPr>
              <a:t></a:t>
            </a:r>
            <a:endParaRPr b="1" lang="en-US" sz="2200" spc="-1" strike="noStrike">
              <a:solidFill>
                <a:srgbClr val="3333cc"/>
              </a:solidFill>
              <a:latin typeface="Times New Roman"/>
            </a:endParaRPr>
          </a:p>
        </p:txBody>
      </p:sp>
      <p:pic>
        <p:nvPicPr>
          <p:cNvPr id="128" name="" descr=""/>
          <p:cNvPicPr/>
          <p:nvPr/>
        </p:nvPicPr>
        <p:blipFill>
          <a:blip r:embed="rId1"/>
          <a:srcRect l="15386" t="9686" r="6838" b="12108"/>
          <a:stretch/>
        </p:blipFill>
        <p:spPr>
          <a:xfrm>
            <a:off x="1663560" y="912960"/>
            <a:ext cx="6654960" cy="4724280"/>
          </a:xfrm>
          <a:prstGeom prst="rect">
            <a:avLst/>
          </a:prstGeom>
          <a:ln w="25560">
            <a:solidFill>
              <a:srgbClr val="000000"/>
            </a:solidFill>
            <a:miter/>
          </a:ln>
        </p:spPr>
      </p:pic>
      <p:sp>
        <p:nvSpPr>
          <p:cNvPr id="129" name=""/>
          <p:cNvSpPr/>
          <p:nvPr/>
        </p:nvSpPr>
        <p:spPr>
          <a:xfrm>
            <a:off x="561600" y="1440000"/>
            <a:ext cx="2015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a:t>
            </a:r>
            <a:endParaRPr b="0" lang="en-US" sz="2000" spc="-1" strike="noStrike">
              <a:solidFill>
                <a:srgbClr val="000000"/>
              </a:solidFill>
              <a:latin typeface="Times New Roman"/>
            </a:endParaRPr>
          </a:p>
        </p:txBody>
      </p:sp>
      <p:sp>
        <p:nvSpPr>
          <p:cNvPr id="130" name=""/>
          <p:cNvSpPr/>
          <p:nvPr/>
        </p:nvSpPr>
        <p:spPr>
          <a:xfrm>
            <a:off x="405360" y="3220920"/>
            <a:ext cx="217260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GND</a:t>
            </a:r>
            <a:endParaRPr b="0" lang="en-US" sz="2000" spc="-1" strike="noStrike">
              <a:solidFill>
                <a:srgbClr val="000000"/>
              </a:solidFill>
              <a:latin typeface="Times New Roman"/>
            </a:endParaRPr>
          </a:p>
        </p:txBody>
      </p:sp>
      <p:sp>
        <p:nvSpPr>
          <p:cNvPr id="131" name=""/>
          <p:cNvSpPr/>
          <p:nvPr/>
        </p:nvSpPr>
        <p:spPr>
          <a:xfrm>
            <a:off x="364320" y="2208240"/>
            <a:ext cx="2213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2</a:t>
            </a:r>
            <a:endParaRPr b="0" lang="en-US" sz="2000" spc="-1" strike="noStrike">
              <a:solidFill>
                <a:srgbClr val="000000"/>
              </a:solidFill>
              <a:latin typeface="Times New Roman"/>
            </a:endParaRPr>
          </a:p>
        </p:txBody>
      </p:sp>
      <p:sp>
        <p:nvSpPr>
          <p:cNvPr id="132" name=""/>
          <p:cNvSpPr/>
          <p:nvPr/>
        </p:nvSpPr>
        <p:spPr>
          <a:xfrm>
            <a:off x="988920" y="5761080"/>
            <a:ext cx="815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pad’s first te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HSPICE B-element - V_fixt = rail voltages, R_fixt = 50 </a:t>
            </a:r>
            <a:r>
              <a:rPr b="1" lang="en-US" sz="2200" spc="-1" strike="noStrike">
                <a:solidFill>
                  <a:srgbClr val="3333cc"/>
                </a:solidFill>
                <a:latin typeface="Symbol"/>
                <a:ea typeface="Symbol"/>
              </a:rPr>
              <a:t></a:t>
            </a:r>
            <a:endParaRPr b="1" lang="en-US" sz="2200" spc="-1" strike="noStrike">
              <a:solidFill>
                <a:srgbClr val="3333cc"/>
              </a:solidFill>
              <a:latin typeface="Times New Roman"/>
            </a:endParaRPr>
          </a:p>
        </p:txBody>
      </p:sp>
      <p:pic>
        <p:nvPicPr>
          <p:cNvPr id="134" name="" descr=""/>
          <p:cNvPicPr/>
          <p:nvPr/>
        </p:nvPicPr>
        <p:blipFill>
          <a:blip r:embed="rId1"/>
          <a:srcRect l="15386" t="9686" r="6838" b="12108"/>
          <a:stretch/>
        </p:blipFill>
        <p:spPr>
          <a:xfrm>
            <a:off x="1663560" y="912960"/>
            <a:ext cx="6654960" cy="4725720"/>
          </a:xfrm>
          <a:prstGeom prst="rect">
            <a:avLst/>
          </a:prstGeom>
          <a:ln w="25560">
            <a:solidFill>
              <a:srgbClr val="000000"/>
            </a:solidFill>
            <a:miter/>
          </a:ln>
        </p:spPr>
      </p:pic>
      <p:sp>
        <p:nvSpPr>
          <p:cNvPr id="135" name=""/>
          <p:cNvSpPr/>
          <p:nvPr/>
        </p:nvSpPr>
        <p:spPr>
          <a:xfrm>
            <a:off x="561600" y="3125880"/>
            <a:ext cx="2015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a:t>
            </a:r>
            <a:endParaRPr b="0" lang="en-US" sz="2000" spc="-1" strike="noStrike">
              <a:solidFill>
                <a:srgbClr val="000000"/>
              </a:solidFill>
              <a:latin typeface="Times New Roman"/>
            </a:endParaRPr>
          </a:p>
        </p:txBody>
      </p:sp>
      <p:sp>
        <p:nvSpPr>
          <p:cNvPr id="136" name=""/>
          <p:cNvSpPr/>
          <p:nvPr/>
        </p:nvSpPr>
        <p:spPr>
          <a:xfrm>
            <a:off x="405360" y="4792680"/>
            <a:ext cx="217260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GND</a:t>
            </a:r>
            <a:endParaRPr b="0" lang="en-US" sz="2000" spc="-1" strike="noStrike">
              <a:solidFill>
                <a:srgbClr val="000000"/>
              </a:solidFill>
              <a:latin typeface="Times New Roman"/>
            </a:endParaRPr>
          </a:p>
        </p:txBody>
      </p:sp>
      <p:sp>
        <p:nvSpPr>
          <p:cNvPr id="137" name=""/>
          <p:cNvSpPr/>
          <p:nvPr/>
        </p:nvSpPr>
        <p:spPr>
          <a:xfrm>
            <a:off x="364320" y="4151160"/>
            <a:ext cx="2213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2</a:t>
            </a:r>
            <a:endParaRPr b="0" lang="en-US" sz="2000" spc="-1" strike="noStrike">
              <a:solidFill>
                <a:srgbClr val="000000"/>
              </a:solidFill>
              <a:latin typeface="Times New Roman"/>
            </a:endParaRPr>
          </a:p>
        </p:txBody>
      </p:sp>
      <p:sp>
        <p:nvSpPr>
          <p:cNvPr id="138" name=""/>
          <p:cNvSpPr/>
          <p:nvPr/>
        </p:nvSpPr>
        <p:spPr>
          <a:xfrm>
            <a:off x="988920" y="5761080"/>
            <a:ext cx="815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pad’s first te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HSPICE B-element - V_fixt = Vcc/2, R_fixt = 50 </a:t>
            </a:r>
            <a:r>
              <a:rPr b="1" lang="en-US" sz="2200" spc="-1" strike="noStrike">
                <a:solidFill>
                  <a:srgbClr val="3333cc"/>
                </a:solidFill>
                <a:latin typeface="Symbol"/>
                <a:ea typeface="Symbol"/>
              </a:rPr>
              <a:t></a:t>
            </a:r>
            <a:endParaRPr b="1" lang="en-US" sz="2200" spc="-1" strike="noStrike">
              <a:solidFill>
                <a:srgbClr val="3333cc"/>
              </a:solidFill>
              <a:latin typeface="Times New Roman"/>
            </a:endParaRPr>
          </a:p>
        </p:txBody>
      </p:sp>
      <p:pic>
        <p:nvPicPr>
          <p:cNvPr id="140" name="" descr=""/>
          <p:cNvPicPr/>
          <p:nvPr/>
        </p:nvPicPr>
        <p:blipFill>
          <a:blip r:embed="rId1"/>
          <a:srcRect l="15386" t="9686" r="6838" b="12108"/>
          <a:stretch/>
        </p:blipFill>
        <p:spPr>
          <a:xfrm>
            <a:off x="1663560" y="912960"/>
            <a:ext cx="6654960" cy="4725720"/>
          </a:xfrm>
          <a:prstGeom prst="rect">
            <a:avLst/>
          </a:prstGeom>
          <a:ln w="25560">
            <a:solidFill>
              <a:srgbClr val="000000"/>
            </a:solidFill>
            <a:miter/>
          </a:ln>
        </p:spPr>
      </p:pic>
      <p:sp>
        <p:nvSpPr>
          <p:cNvPr id="141" name=""/>
          <p:cNvSpPr/>
          <p:nvPr/>
        </p:nvSpPr>
        <p:spPr>
          <a:xfrm>
            <a:off x="561600" y="1430280"/>
            <a:ext cx="2015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a:t>
            </a:r>
            <a:endParaRPr b="0" lang="en-US" sz="2000" spc="-1" strike="noStrike">
              <a:solidFill>
                <a:srgbClr val="000000"/>
              </a:solidFill>
              <a:latin typeface="Times New Roman"/>
            </a:endParaRPr>
          </a:p>
        </p:txBody>
      </p:sp>
      <p:sp>
        <p:nvSpPr>
          <p:cNvPr id="142" name=""/>
          <p:cNvSpPr/>
          <p:nvPr/>
        </p:nvSpPr>
        <p:spPr>
          <a:xfrm>
            <a:off x="405360" y="3211560"/>
            <a:ext cx="217260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GND</a:t>
            </a:r>
            <a:endParaRPr b="0" lang="en-US" sz="2000" spc="-1" strike="noStrike">
              <a:solidFill>
                <a:srgbClr val="000000"/>
              </a:solidFill>
              <a:latin typeface="Times New Roman"/>
            </a:endParaRPr>
          </a:p>
        </p:txBody>
      </p:sp>
      <p:sp>
        <p:nvSpPr>
          <p:cNvPr id="143" name=""/>
          <p:cNvSpPr/>
          <p:nvPr/>
        </p:nvSpPr>
        <p:spPr>
          <a:xfrm>
            <a:off x="364320" y="2198520"/>
            <a:ext cx="2213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2</a:t>
            </a:r>
            <a:endParaRPr b="0" lang="en-US" sz="2000" spc="-1" strike="noStrike">
              <a:solidFill>
                <a:srgbClr val="000000"/>
              </a:solidFill>
              <a:latin typeface="Times New Roman"/>
            </a:endParaRPr>
          </a:p>
        </p:txBody>
      </p:sp>
      <p:sp>
        <p:nvSpPr>
          <p:cNvPr id="144" name=""/>
          <p:cNvSpPr/>
          <p:nvPr/>
        </p:nvSpPr>
        <p:spPr>
          <a:xfrm>
            <a:off x="988920" y="5761080"/>
            <a:ext cx="815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pad’s first te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HSPICE B-element - V_fixt = Vcc/2, R_fixt = 50 </a:t>
            </a:r>
            <a:r>
              <a:rPr b="1" lang="en-US" sz="2200" spc="-1" strike="noStrike">
                <a:solidFill>
                  <a:srgbClr val="3333cc"/>
                </a:solidFill>
                <a:latin typeface="Symbol"/>
                <a:ea typeface="Symbol"/>
              </a:rPr>
              <a:t></a:t>
            </a:r>
            <a:endParaRPr b="1" lang="en-US" sz="2200" spc="-1" strike="noStrike">
              <a:solidFill>
                <a:srgbClr val="3333cc"/>
              </a:solidFill>
              <a:latin typeface="Times New Roman"/>
            </a:endParaRPr>
          </a:p>
        </p:txBody>
      </p:sp>
      <p:pic>
        <p:nvPicPr>
          <p:cNvPr id="146" name="" descr=""/>
          <p:cNvPicPr/>
          <p:nvPr/>
        </p:nvPicPr>
        <p:blipFill>
          <a:blip r:embed="rId1"/>
          <a:srcRect l="15386" t="9686" r="6838" b="12108"/>
          <a:stretch/>
        </p:blipFill>
        <p:spPr>
          <a:xfrm>
            <a:off x="1663560" y="912960"/>
            <a:ext cx="6654960" cy="4725720"/>
          </a:xfrm>
          <a:prstGeom prst="rect">
            <a:avLst/>
          </a:prstGeom>
          <a:ln w="25560">
            <a:solidFill>
              <a:srgbClr val="000000"/>
            </a:solidFill>
            <a:miter/>
          </a:ln>
        </p:spPr>
      </p:pic>
      <p:sp>
        <p:nvSpPr>
          <p:cNvPr id="147" name=""/>
          <p:cNvSpPr/>
          <p:nvPr/>
        </p:nvSpPr>
        <p:spPr>
          <a:xfrm>
            <a:off x="561600" y="3125880"/>
            <a:ext cx="2015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a:t>
            </a:r>
            <a:endParaRPr b="0" lang="en-US" sz="2000" spc="-1" strike="noStrike">
              <a:solidFill>
                <a:srgbClr val="000000"/>
              </a:solidFill>
              <a:latin typeface="Times New Roman"/>
            </a:endParaRPr>
          </a:p>
        </p:txBody>
      </p:sp>
      <p:sp>
        <p:nvSpPr>
          <p:cNvPr id="148" name=""/>
          <p:cNvSpPr/>
          <p:nvPr/>
        </p:nvSpPr>
        <p:spPr>
          <a:xfrm>
            <a:off x="405360" y="4792680"/>
            <a:ext cx="217260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GND</a:t>
            </a:r>
            <a:endParaRPr b="0" lang="en-US" sz="2000" spc="-1" strike="noStrike">
              <a:solidFill>
                <a:srgbClr val="000000"/>
              </a:solidFill>
              <a:latin typeface="Times New Roman"/>
            </a:endParaRPr>
          </a:p>
        </p:txBody>
      </p:sp>
      <p:sp>
        <p:nvSpPr>
          <p:cNvPr id="149" name=""/>
          <p:cNvSpPr/>
          <p:nvPr/>
        </p:nvSpPr>
        <p:spPr>
          <a:xfrm>
            <a:off x="364320" y="4151160"/>
            <a:ext cx="2213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2</a:t>
            </a:r>
            <a:endParaRPr b="0" lang="en-US" sz="2000" spc="-1" strike="noStrike">
              <a:solidFill>
                <a:srgbClr val="000000"/>
              </a:solidFill>
              <a:latin typeface="Times New Roman"/>
            </a:endParaRPr>
          </a:p>
        </p:txBody>
      </p:sp>
      <p:sp>
        <p:nvSpPr>
          <p:cNvPr id="150" name=""/>
          <p:cNvSpPr/>
          <p:nvPr/>
        </p:nvSpPr>
        <p:spPr>
          <a:xfrm>
            <a:off x="988920" y="5761080"/>
            <a:ext cx="815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pad’s first tes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HSPICE B-element - V_fixt = rail voltages, R_fixt = 80 </a:t>
            </a:r>
            <a:r>
              <a:rPr b="1" lang="en-US" sz="2200" spc="-1" strike="noStrike">
                <a:solidFill>
                  <a:srgbClr val="3333cc"/>
                </a:solidFill>
                <a:latin typeface="Symbol"/>
                <a:ea typeface="Symbol"/>
              </a:rPr>
              <a:t></a:t>
            </a:r>
            <a:endParaRPr b="1" lang="en-US" sz="2200" spc="-1" strike="noStrike">
              <a:solidFill>
                <a:srgbClr val="3333cc"/>
              </a:solidFill>
              <a:latin typeface="Times New Roman"/>
            </a:endParaRPr>
          </a:p>
        </p:txBody>
      </p:sp>
      <p:pic>
        <p:nvPicPr>
          <p:cNvPr id="152" name="" descr=""/>
          <p:cNvPicPr/>
          <p:nvPr/>
        </p:nvPicPr>
        <p:blipFill>
          <a:blip r:embed="rId1"/>
          <a:srcRect l="15387" t="8716" r="6155" b="11621"/>
          <a:stretch/>
        </p:blipFill>
        <p:spPr>
          <a:xfrm>
            <a:off x="1700280" y="912960"/>
            <a:ext cx="6581880" cy="4719600"/>
          </a:xfrm>
          <a:prstGeom prst="rect">
            <a:avLst/>
          </a:prstGeom>
          <a:ln w="25560">
            <a:solidFill>
              <a:srgbClr val="000000"/>
            </a:solidFill>
            <a:miter/>
          </a:ln>
        </p:spPr>
      </p:pic>
      <p:sp>
        <p:nvSpPr>
          <p:cNvPr id="153" name=""/>
          <p:cNvSpPr/>
          <p:nvPr/>
        </p:nvSpPr>
        <p:spPr>
          <a:xfrm>
            <a:off x="561600" y="1486080"/>
            <a:ext cx="2015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a:t>
            </a:r>
            <a:endParaRPr b="0" lang="en-US" sz="2000" spc="-1" strike="noStrike">
              <a:solidFill>
                <a:srgbClr val="000000"/>
              </a:solidFill>
              <a:latin typeface="Times New Roman"/>
            </a:endParaRPr>
          </a:p>
        </p:txBody>
      </p:sp>
      <p:sp>
        <p:nvSpPr>
          <p:cNvPr id="154" name=""/>
          <p:cNvSpPr/>
          <p:nvPr/>
        </p:nvSpPr>
        <p:spPr>
          <a:xfrm>
            <a:off x="405360" y="2743200"/>
            <a:ext cx="217260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GND</a:t>
            </a:r>
            <a:endParaRPr b="0" lang="en-US" sz="2000" spc="-1" strike="noStrike">
              <a:solidFill>
                <a:srgbClr val="000000"/>
              </a:solidFill>
              <a:latin typeface="Times New Roman"/>
            </a:endParaRPr>
          </a:p>
        </p:txBody>
      </p:sp>
      <p:sp>
        <p:nvSpPr>
          <p:cNvPr id="155" name=""/>
          <p:cNvSpPr/>
          <p:nvPr/>
        </p:nvSpPr>
        <p:spPr>
          <a:xfrm>
            <a:off x="364320" y="2048040"/>
            <a:ext cx="2213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2</a:t>
            </a:r>
            <a:endParaRPr b="0" lang="en-US" sz="2000" spc="-1" strike="noStrike">
              <a:solidFill>
                <a:srgbClr val="000000"/>
              </a:solidFill>
              <a:latin typeface="Times New Roman"/>
            </a:endParaRPr>
          </a:p>
        </p:txBody>
      </p:sp>
      <p:sp>
        <p:nvSpPr>
          <p:cNvPr id="156" name=""/>
          <p:cNvSpPr/>
          <p:nvPr/>
        </p:nvSpPr>
        <p:spPr>
          <a:xfrm>
            <a:off x="988920" y="5761080"/>
            <a:ext cx="815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ott: cover the signal’s voltage span around Vtt with the V-t curv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3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HSPICE B-element - V_fixt = rail voltages, R_fixt = 80 </a:t>
            </a:r>
            <a:r>
              <a:rPr b="1" lang="en-US" sz="2200" spc="-1" strike="noStrike">
                <a:solidFill>
                  <a:srgbClr val="3333cc"/>
                </a:solidFill>
                <a:latin typeface="Symbol"/>
                <a:ea typeface="Symbol"/>
              </a:rPr>
              <a:t></a:t>
            </a:r>
            <a:endParaRPr b="1" lang="en-US" sz="2200" spc="-1" strike="noStrike">
              <a:solidFill>
                <a:srgbClr val="3333cc"/>
              </a:solidFill>
              <a:latin typeface="Times New Roman"/>
            </a:endParaRPr>
          </a:p>
        </p:txBody>
      </p:sp>
      <p:pic>
        <p:nvPicPr>
          <p:cNvPr id="158" name="" descr=""/>
          <p:cNvPicPr/>
          <p:nvPr/>
        </p:nvPicPr>
        <p:blipFill>
          <a:blip r:embed="rId1"/>
          <a:srcRect l="15387" t="8716" r="6155" b="11621"/>
          <a:stretch/>
        </p:blipFill>
        <p:spPr>
          <a:xfrm>
            <a:off x="1700280" y="912960"/>
            <a:ext cx="6581880" cy="4719600"/>
          </a:xfrm>
          <a:prstGeom prst="rect">
            <a:avLst/>
          </a:prstGeom>
          <a:ln w="25560">
            <a:solidFill>
              <a:srgbClr val="000000"/>
            </a:solidFill>
            <a:miter/>
          </a:ln>
        </p:spPr>
      </p:pic>
      <p:sp>
        <p:nvSpPr>
          <p:cNvPr id="159" name=""/>
          <p:cNvSpPr/>
          <p:nvPr/>
        </p:nvSpPr>
        <p:spPr>
          <a:xfrm>
            <a:off x="561600" y="3728880"/>
            <a:ext cx="2015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a:t>
            </a:r>
            <a:endParaRPr b="0" lang="en-US" sz="2000" spc="-1" strike="noStrike">
              <a:solidFill>
                <a:srgbClr val="000000"/>
              </a:solidFill>
              <a:latin typeface="Times New Roman"/>
            </a:endParaRPr>
          </a:p>
        </p:txBody>
      </p:sp>
      <p:sp>
        <p:nvSpPr>
          <p:cNvPr id="160" name=""/>
          <p:cNvSpPr/>
          <p:nvPr/>
        </p:nvSpPr>
        <p:spPr>
          <a:xfrm>
            <a:off x="405360" y="4792680"/>
            <a:ext cx="217260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GND</a:t>
            </a:r>
            <a:endParaRPr b="0" lang="en-US" sz="2000" spc="-1" strike="noStrike">
              <a:solidFill>
                <a:srgbClr val="000000"/>
              </a:solidFill>
              <a:latin typeface="Times New Roman"/>
            </a:endParaRPr>
          </a:p>
        </p:txBody>
      </p:sp>
      <p:sp>
        <p:nvSpPr>
          <p:cNvPr id="161" name=""/>
          <p:cNvSpPr/>
          <p:nvPr/>
        </p:nvSpPr>
        <p:spPr>
          <a:xfrm>
            <a:off x="364320" y="4341960"/>
            <a:ext cx="2213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2</a:t>
            </a:r>
            <a:endParaRPr b="0" lang="en-US" sz="2000" spc="-1" strike="noStrike">
              <a:solidFill>
                <a:srgbClr val="000000"/>
              </a:solidFill>
              <a:latin typeface="Times New Roman"/>
            </a:endParaRPr>
          </a:p>
        </p:txBody>
      </p:sp>
      <p:sp>
        <p:nvSpPr>
          <p:cNvPr id="162" name=""/>
          <p:cNvSpPr/>
          <p:nvPr/>
        </p:nvSpPr>
        <p:spPr>
          <a:xfrm>
            <a:off x="988920" y="5761080"/>
            <a:ext cx="815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ott: cover the signal’s voltage span around Vtt with the V-t curv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88560" y="-360"/>
            <a:ext cx="8001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Times New Roman"/>
              </a:rPr>
              <a:t>HSPICE B-element - V_fixt = Vcc/3 and 2Vcc/3, R_fixt = 50 </a:t>
            </a:r>
            <a:r>
              <a:rPr b="1" lang="en-US" sz="2200" spc="-1" strike="noStrike">
                <a:solidFill>
                  <a:srgbClr val="3333cc"/>
                </a:solidFill>
                <a:latin typeface="Symbol"/>
                <a:ea typeface="Symbol"/>
              </a:rPr>
              <a:t></a:t>
            </a:r>
            <a:endParaRPr b="1" lang="en-US" sz="2200" spc="-1" strike="noStrike">
              <a:solidFill>
                <a:srgbClr val="3333cc"/>
              </a:solidFill>
              <a:latin typeface="Times New Roman"/>
            </a:endParaRPr>
          </a:p>
        </p:txBody>
      </p:sp>
      <p:pic>
        <p:nvPicPr>
          <p:cNvPr id="164" name="" descr=""/>
          <p:cNvPicPr/>
          <p:nvPr/>
        </p:nvPicPr>
        <p:blipFill>
          <a:blip r:embed="rId1"/>
          <a:srcRect l="15387" t="8716" r="6155" b="11621"/>
          <a:stretch/>
        </p:blipFill>
        <p:spPr>
          <a:xfrm>
            <a:off x="1698480" y="912960"/>
            <a:ext cx="6581880" cy="4719600"/>
          </a:xfrm>
          <a:prstGeom prst="rect">
            <a:avLst/>
          </a:prstGeom>
          <a:ln w="25560">
            <a:solidFill>
              <a:srgbClr val="000000"/>
            </a:solidFill>
            <a:miter/>
          </a:ln>
        </p:spPr>
      </p:pic>
      <p:sp>
        <p:nvSpPr>
          <p:cNvPr id="165" name=""/>
          <p:cNvSpPr/>
          <p:nvPr/>
        </p:nvSpPr>
        <p:spPr>
          <a:xfrm>
            <a:off x="561600" y="1486080"/>
            <a:ext cx="2015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a:t>
            </a:r>
            <a:endParaRPr b="0" lang="en-US" sz="2000" spc="-1" strike="noStrike">
              <a:solidFill>
                <a:srgbClr val="000000"/>
              </a:solidFill>
              <a:latin typeface="Times New Roman"/>
            </a:endParaRPr>
          </a:p>
        </p:txBody>
      </p:sp>
      <p:sp>
        <p:nvSpPr>
          <p:cNvPr id="166" name=""/>
          <p:cNvSpPr/>
          <p:nvPr/>
        </p:nvSpPr>
        <p:spPr>
          <a:xfrm>
            <a:off x="405360" y="3235320"/>
            <a:ext cx="217260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GND</a:t>
            </a:r>
            <a:endParaRPr b="0" lang="en-US" sz="2000" spc="-1" strike="noStrike">
              <a:solidFill>
                <a:srgbClr val="000000"/>
              </a:solidFill>
              <a:latin typeface="Times New Roman"/>
            </a:endParaRPr>
          </a:p>
        </p:txBody>
      </p:sp>
      <p:sp>
        <p:nvSpPr>
          <p:cNvPr id="167" name=""/>
          <p:cNvSpPr/>
          <p:nvPr/>
        </p:nvSpPr>
        <p:spPr>
          <a:xfrm>
            <a:off x="364320" y="2222640"/>
            <a:ext cx="2213640" cy="39888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riving R to Vcc/2</a:t>
            </a:r>
            <a:endParaRPr b="0" lang="en-US" sz="2000" spc="-1" strike="noStrike">
              <a:solidFill>
                <a:srgbClr val="000000"/>
              </a:solidFill>
              <a:latin typeface="Times New Roman"/>
            </a:endParaRPr>
          </a:p>
        </p:txBody>
      </p:sp>
      <p:sp>
        <p:nvSpPr>
          <p:cNvPr id="168" name=""/>
          <p:cNvSpPr/>
          <p:nvPr/>
        </p:nvSpPr>
        <p:spPr>
          <a:xfrm>
            <a:off x="988920" y="5761080"/>
            <a:ext cx="8155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b: try V_fixture values between Vtt and the rail voltag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5T22:58:13Z</dcterms:created>
  <dc:creator>Arpad Muranyi</dc:creator>
  <dc:description/>
  <dc:language>en-US</dc:language>
  <cp:lastModifiedBy>bobr</cp:lastModifiedBy>
  <cp:lastPrinted>2001-09-14T18:57:53Z</cp:lastPrinted>
  <dcterms:modified xsi:type="dcterms:W3CDTF">2001-09-14T19:49:01Z</dcterms:modified>
  <cp:revision>671</cp:revision>
  <dc:subject/>
  <dc:title>PowerPoint Presentation</dc:title>
</cp:coreProperties>
</file>