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0DCC-0C50-4D80-A60E-7743617C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C116-338D-4DC5-8CA6-81278ADA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6B5-1604-486B-BB90-06916EA1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B8B2-A0D8-4BD7-9240-19279D60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C72D-2AA4-4646-ACDC-0FAE418B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E1B6-110B-4D51-B2DC-F214A179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991-3906-49F3-BDFB-D2CEA14C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F8BD-EDE7-4FC4-829F-2B288527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4947-5353-4E00-B65A-1D01C0D0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8763-E1D3-48A2-B350-5ED4BD80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283-328F-48BF-9B60-B59B3B3C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B14C-AA33-41BC-BBCF-AA86A0B2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8D14-1500-4080-8F69-C1B87E857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IS-X Model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nne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ence Design System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green@cadenc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IS-X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or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or R1 (n1  GND) R = 10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or r2 (12 13) R = (10k * (1+ (Temperature-273)*0.00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or a1 (VCC v1) R = (123 * v.v1 / Vc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or a2 (na GND) I = TABLE [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eries MOSF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(v.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or a3 (nc, nd) V = TABLE [Table_x](i.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IS-X “Behavioral”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Maker prov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prov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list (such as FPG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e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IS 3.2 Pin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PIN]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l_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_name      R_pin   L_pin   C_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c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ND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1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2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fixed I/O Top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s can be overrid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gs can be omitted (Input/Outp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nothing can be ad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Mod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BIS 3.2 “Circuit”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defined top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”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s and 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”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, Vectors, and Data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Mod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BIS-X “Behavioral”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maker defines top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”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s and 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”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, Vectors, and Data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a Simpl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Define Model] my_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 Using a pre-defined model based on IBIS 3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 This defines the power/gnd/pad/pin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inherit model_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 Add a voltage-dependent cap between output pin and V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tor c_top1 (pad vcc) C = [C_top] (V.p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 Add a temperature-dependent pullup re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istor R_up (pad vcc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= [R_pull] (Temperat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End Define Mode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odel] buffer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 a name to use in the pin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_type my_dri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 which model_type uses th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 followed by all the data required for my_driver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_comp    3pF  2pF  4p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upply Voltage]  3.3v  3.0v  3.6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C_to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1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  3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R_pul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 1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5 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End Mode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odel] buffe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 a name to use in the pin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_type my_dri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 which model to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 a second buffer, same type, new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_comp    12p 6p 20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upply Voltage]  3.3v  3.0v  3.6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C_to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1.5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4.0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R_pul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5 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End Mode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IS-X “Behavioral”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al model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components that model effects (such as v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values (such as C_co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s and equations for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, Temperatur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IS-X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ag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age-controlled voltag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age-controlled current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lines (including coup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Cadence Design Systems</cp:lastModifiedBy>
  <dcterms:modified xsi:type="dcterms:W3CDTF">2001-09-06T23:37:27Z</dcterms:modified>
  <cp:revision>14</cp:revision>
  <dc:subject/>
  <dc:title>No Slide Title</dc:title>
</cp:coreProperties>
</file>