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45E364B-1739-47D6-B47A-0D1B5E8C4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0240" y="4403880"/>
            <a:ext cx="5122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4F16-5ED3-45B1-AFE6-393DD7D75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2804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778C-A6B1-4B10-BB81-117E56279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AC6B-0B22-4346-A1B1-C57674391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7030-FA89-4EA8-A972-BC58555D0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5320" y="509400"/>
            <a:ext cx="83664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1C16-8698-4C0D-BB37-EFBECA69F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284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02804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284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824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0680" y="136368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824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0680" y="4028040"/>
            <a:ext cx="264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5F4C-AE6F-4BEB-8D1F-94FEABC27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CDE0-35EA-4642-86CE-27DCC6AE4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F078-FAD5-4AED-98C4-2401BFBBF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5320" y="509400"/>
            <a:ext cx="836640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6D4D-1FBB-4CC4-B1AC-CE81C3D6B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3404-3E8E-48CE-8001-A95E4BA28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02804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B94B-8386-4442-A793-B14568404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5320" y="471600"/>
            <a:ext cx="8366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363680"/>
            <a:ext cx="40158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28040"/>
            <a:ext cx="82296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4BCB-6232-40CC-8EB3-46CD8E2AD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76320" y="85680"/>
            <a:ext cx="63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9951-7C95-4563-8122-DE3306386269}" type="slidenum"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152280"/>
            <a:ext cx="8610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52280"/>
            <a:ext cx="0" cy="6705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52280"/>
            <a:ext cx="19810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NC STATE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UNIVERSITY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logo_sm" descr=""/>
          <p:cNvPicPr/>
          <p:nvPr/>
        </p:nvPicPr>
        <p:blipFill>
          <a:blip r:embed="rId1"/>
          <a:stretch/>
        </p:blipFill>
        <p:spPr>
          <a:xfrm>
            <a:off x="6224760" y="4336920"/>
            <a:ext cx="2228760" cy="2278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2280" y="62485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5760" y="220680"/>
            <a:ext cx="803916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roposal for Developing S2IBISv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ncsu2" descr=""/>
          <p:cNvPicPr/>
          <p:nvPr/>
        </p:nvPicPr>
        <p:blipFill>
          <a:blip r:embed="rId2"/>
          <a:stretch/>
        </p:blipFill>
        <p:spPr>
          <a:xfrm>
            <a:off x="3143160" y="3833640"/>
            <a:ext cx="2855880" cy="44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39720" y="2301840"/>
            <a:ext cx="59929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aul Franz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ichael Ste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9120" y="5484960"/>
            <a:ext cx="361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33"/>
                </a:solidFill>
                <a:latin typeface="Verdana"/>
                <a:ea typeface="Arial"/>
              </a:rPr>
              <a:t>Automated Design Tools for Integrated Mixed Signal Microsystems (NeoCAD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2480" y="338040"/>
            <a:ext cx="83664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ope of S2IBIS3 Pro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6600" y="2162160"/>
            <a:ext cx="83660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S Platform Independe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1360" y="991800"/>
            <a:ext cx="878688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te a user-friendly IBISv3.2 compliant SPICE-to-IBIS translator runs on multiple OS platforms and be easily up-gradable to meet the requirements of future IBIS standar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2971800"/>
            <a:ext cx="8658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ould support LINUX, AIX, HP, Windows 2000 among other platforms using a single Makefi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(Code will be developed in the gnu environment.  The same makefile can be used on 26 known operating systems with no code changes.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We will use C++, for coding and JAVA for graphic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uld be portabl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(Though it is mentioned that LEX/YACC should be avoided, We will use FLEX/BISON and achieve portability through GNU environment and Cygwin in MS Windows.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oks to other SPICE Engin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esting S2IBIS3 on BerkeleySPICE2G.6, SPICE3 and HSP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ould have hooks to SPICE2G.6, SPICE3 and commercial SPICE simulators through configuration fi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se of SpiTranGUI (JAVA based freeware from Cadence) and possible incorporation into S2IBIS3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phical viewer to plot VI and VT tables 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(We plan to do it in JAVA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ser Integration for automatic validation of the output IBIS 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ject Manager for file and library maintenan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 Require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lexibility to extrapolate VI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lexibility to define the sweep range for VI tab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tification of clamp problem in S2IBIS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ption of Ramping up Vdd (rather than single step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lementation of .OPTIONS feature supported by SPICE compatible simulators for non-convergence issu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bug through GUI contr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[Iterate] feature in S2IBIS2 to be carried o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r selectable Voltage step, Time step, Sweep speed sup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r selectable number of data points, decimal accura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oice of choosing between the TYP, MIN and MAX instead of all process corn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rrection algorithm to avoid double counting for buffers with on-die termin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checking VT curves against VI curve-load line intersection and subsequent corre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uardbanding feature for VI and VT curv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elligent pin list to avoid repetition of equivalent mod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DME File with Contents of the package and Installation instruct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r guide with Contents, Algorithms and Tutori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de explanation with Flow chart of the projec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98560" y="614520"/>
            <a:ext cx="3673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CSU Goa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30240" y="1792440"/>
            <a:ext cx="80773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NU Public Licen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++ (Platform Independent using GNU, Cygwi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ass Structure to support Digital and Analog Macromodeling -IBIS is a subset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pplicable to Board level modeling and modeling of segments of Mixed Signal Chip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gramming Technolog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3280" y="1598760"/>
            <a:ext cx="7972200" cy="4956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81240" y="1620720"/>
            <a:ext cx="12600" cy="4888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29680" y="18255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2IBIS 2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160" y="18432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2IBIS 3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080" y="2346480"/>
            <a:ext cx="7961400" cy="23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9560" y="2720880"/>
            <a:ext cx="355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Graph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iginally not port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 Data Structu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X/YACC Input/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92840" y="2560680"/>
            <a:ext cx="3573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raphics in JA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rtable through GNU environment(Cygwin in MSWindow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++ Clas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X/YACC Input/Outpu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earch Agend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pport for IBIS-X (IBIS-X + 1?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vide SSN macromodel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vestigate 3-D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st accuracy against full-fidelity simulations and measure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ARPA Program “NeoCad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gram Objec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Program Approa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Support for IBIS Commun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Detailed Technical Approa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Future Planning Suppor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imeline and Feedba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ainst Sp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ainst Measur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ustrial Collaborato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3880" y="669960"/>
            <a:ext cx="7464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0200" y="1359000"/>
            <a:ext cx="83487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-year DARPA eff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ll fidelity mode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gital macromodel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rong Industrial Empha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liver Spice2Ibis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vestigate issues for IBIS-X (+1?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6520" y="452520"/>
            <a:ext cx="83660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ip Macromode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1" name="ibm_chip" descr=""/>
          <p:cNvPicPr/>
          <p:nvPr/>
        </p:nvPicPr>
        <p:blipFill>
          <a:blip r:embed="rId1"/>
          <a:stretch/>
        </p:blipFill>
        <p:spPr>
          <a:xfrm>
            <a:off x="1170000" y="1147680"/>
            <a:ext cx="2441520" cy="1839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629160" y="1131840"/>
            <a:ext cx="1100160" cy="162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91000" y="2957400"/>
            <a:ext cx="981000" cy="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1216080"/>
            <a:ext cx="3454560" cy="177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73880" y="118440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IS INTERF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13440" y="1512720"/>
            <a:ext cx="2849400" cy="1270080"/>
            <a:chOff x="5113440" y="1512720"/>
            <a:chExt cx="2849400" cy="1270080"/>
          </a:xfrm>
        </p:grpSpPr>
        <p:sp>
          <p:nvSpPr>
            <p:cNvPr id="197" name=""/>
            <p:cNvSpPr/>
            <p:nvPr/>
          </p:nvSpPr>
          <p:spPr>
            <a:xfrm>
              <a:off x="5113440" y="1512720"/>
              <a:ext cx="2849400" cy="12700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35640" y="1856880"/>
              <a:ext cx="235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BEHAVIORAL MODEL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406520" y="3911760"/>
            <a:ext cx="2506680" cy="1963440"/>
            <a:chOff x="1406520" y="3911760"/>
            <a:chExt cx="2506680" cy="1963440"/>
          </a:xfrm>
        </p:grpSpPr>
        <p:sp>
          <p:nvSpPr>
            <p:cNvPr id="200" name=""/>
            <p:cNvSpPr/>
            <p:nvPr/>
          </p:nvSpPr>
          <p:spPr>
            <a:xfrm>
              <a:off x="1406520" y="3911760"/>
              <a:ext cx="2506680" cy="1963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43040" y="4025880"/>
              <a:ext cx="21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BIS INTERFAC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674720" y="4470120"/>
              <a:ext cx="1917720" cy="1245960"/>
              <a:chOff x="1674720" y="4470120"/>
              <a:chExt cx="1917720" cy="1245960"/>
            </a:xfrm>
          </p:grpSpPr>
          <p:sp>
            <p:nvSpPr>
              <p:cNvPr id="203" name=""/>
              <p:cNvSpPr/>
              <p:nvPr/>
            </p:nvSpPr>
            <p:spPr>
              <a:xfrm>
                <a:off x="1674720" y="4470120"/>
                <a:ext cx="1917720" cy="124596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ffffcc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73000" y="4777920"/>
                <a:ext cx="1667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BEHAVIORAL MODEL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6170760" y="3622680"/>
            <a:ext cx="1697040" cy="2762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37080" y="4133880"/>
            <a:ext cx="149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IRCUI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94040" y="5111640"/>
            <a:ext cx="2386080" cy="1317600"/>
            <a:chOff x="3794040" y="5111640"/>
            <a:chExt cx="2386080" cy="1317600"/>
          </a:xfrm>
        </p:grpSpPr>
        <p:sp>
          <p:nvSpPr>
            <p:cNvPr id="208" name=""/>
            <p:cNvSpPr/>
            <p:nvPr/>
          </p:nvSpPr>
          <p:spPr>
            <a:xfrm>
              <a:off x="3794040" y="5111640"/>
              <a:ext cx="2386080" cy="13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19040" y="5188320"/>
              <a:ext cx="202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BIS INTERFAC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049280" y="5486400"/>
              <a:ext cx="1825200" cy="836280"/>
              <a:chOff x="4049280" y="5486400"/>
              <a:chExt cx="1825200" cy="836280"/>
            </a:xfrm>
          </p:grpSpPr>
          <p:sp>
            <p:nvSpPr>
              <p:cNvPr id="211" name=""/>
              <p:cNvSpPr/>
              <p:nvPr/>
            </p:nvSpPr>
            <p:spPr>
              <a:xfrm>
                <a:off x="4049280" y="5486400"/>
                <a:ext cx="1825200" cy="8362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ffffcc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41440" y="5691960"/>
                <a:ext cx="1589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BEHAVIORAL MODEL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3929040" y="3629160"/>
            <a:ext cx="2225520" cy="1533240"/>
            <a:chOff x="3929040" y="3629160"/>
            <a:chExt cx="2225520" cy="1533240"/>
          </a:xfrm>
        </p:grpSpPr>
        <p:sp>
          <p:nvSpPr>
            <p:cNvPr id="214" name=""/>
            <p:cNvSpPr/>
            <p:nvPr/>
          </p:nvSpPr>
          <p:spPr>
            <a:xfrm>
              <a:off x="3929040" y="3629160"/>
              <a:ext cx="2225520" cy="1533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38920" y="3718440"/>
              <a:ext cx="188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BIS INTERFAC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167000" y="4065120"/>
              <a:ext cx="1702440" cy="973080"/>
              <a:chOff x="4167000" y="4065120"/>
              <a:chExt cx="1702440" cy="973080"/>
            </a:xfrm>
          </p:grpSpPr>
          <p:sp>
            <p:nvSpPr>
              <p:cNvPr id="217" name=""/>
              <p:cNvSpPr/>
              <p:nvPr/>
            </p:nvSpPr>
            <p:spPr>
              <a:xfrm>
                <a:off x="4167000" y="4065120"/>
                <a:ext cx="1702440" cy="9730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ffffcc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52680" y="4305240"/>
                <a:ext cx="148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BEHAVIORAL MODEL</a:t>
                </a:r>
                <a:endParaRPr b="0" lang="en-US" sz="16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203480" y="342900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l Chip Mod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152800" y="652320"/>
            <a:ext cx="5238720" cy="3956040"/>
            <a:chOff x="2152800" y="652320"/>
            <a:chExt cx="5238720" cy="3956040"/>
          </a:xfrm>
        </p:grpSpPr>
        <p:sp>
          <p:nvSpPr>
            <p:cNvPr id="221" name=""/>
            <p:cNvSpPr/>
            <p:nvPr/>
          </p:nvSpPr>
          <p:spPr>
            <a:xfrm>
              <a:off x="2152800" y="652320"/>
              <a:ext cx="5238720" cy="39560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222" name="tmp" descr=""/>
            <p:cNvPicPr/>
            <p:nvPr/>
          </p:nvPicPr>
          <p:blipFill>
            <a:blip r:embed="rId1"/>
            <a:stretch/>
          </p:blipFill>
          <p:spPr>
            <a:xfrm>
              <a:off x="2555640" y="1101600"/>
              <a:ext cx="1905840" cy="141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tmp" descr=""/>
            <p:cNvPicPr/>
            <p:nvPr/>
          </p:nvPicPr>
          <p:blipFill>
            <a:blip r:embed="rId2"/>
            <a:stretch/>
          </p:blipFill>
          <p:spPr>
            <a:xfrm>
              <a:off x="5164560" y="1099800"/>
              <a:ext cx="190584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tmp" descr=""/>
            <p:cNvPicPr/>
            <p:nvPr/>
          </p:nvPicPr>
          <p:blipFill>
            <a:blip r:embed="rId3"/>
            <a:stretch/>
          </p:blipFill>
          <p:spPr>
            <a:xfrm>
              <a:off x="2511720" y="2890800"/>
              <a:ext cx="1905840" cy="14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tmp" descr=""/>
            <p:cNvPicPr/>
            <p:nvPr/>
          </p:nvPicPr>
          <p:blipFill>
            <a:blip r:embed="rId4"/>
            <a:stretch/>
          </p:blipFill>
          <p:spPr>
            <a:xfrm>
              <a:off x="5160600" y="2880000"/>
              <a:ext cx="190584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471200" y="135180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71200" y="1683720"/>
              <a:ext cx="696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57880" y="202680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30880" y="347472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6200" y="311940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40960" y="4164840"/>
              <a:ext cx="7048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74800" y="231804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7280" y="3843360"/>
              <a:ext cx="70524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4520" y="2498760"/>
              <a:ext cx="0" cy="359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59440" y="2534400"/>
              <a:ext cx="0" cy="3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3000" y="2531520"/>
              <a:ext cx="0" cy="3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0960" y="2522160"/>
              <a:ext cx="0" cy="3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03720" y="2535480"/>
              <a:ext cx="0" cy="359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85480" y="2530440"/>
              <a:ext cx="0" cy="3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327320" y="87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36240" y="57240"/>
            <a:ext cx="3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C’S On a PC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58600" y="4584600"/>
            <a:ext cx="5411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del u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pacitance Extract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Inductance Extract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mission Lines </a:t>
            </a:r>
            <a:r>
              <a:rPr b="0" lang="en-US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ll-Wave (full EM Modeling) </a:t>
            </a:r>
            <a:r>
              <a:rPr b="0" lang="en-US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backplane" descr=""/>
          <p:cNvPicPr/>
          <p:nvPr/>
        </p:nvPicPr>
        <p:blipFill>
          <a:blip r:embed="rId1"/>
          <a:stretch/>
        </p:blipFill>
        <p:spPr>
          <a:xfrm>
            <a:off x="1379520" y="1235160"/>
            <a:ext cx="63849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layout" descr=""/>
          <p:cNvPicPr/>
          <p:nvPr/>
        </p:nvPicPr>
        <p:blipFill>
          <a:blip r:embed="rId1"/>
          <a:stretch/>
        </p:blipFill>
        <p:spPr>
          <a:xfrm>
            <a:off x="1611360" y="538200"/>
            <a:ext cx="632304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oard Level Mode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19200" y="2063880"/>
            <a:ext cx="638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velopment of a Digital Macromodeling technology to enable ICs to be incorporated in a PCB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gnal Integrity should be taken care of as wel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pture of SSN and Substrate noi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63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MM Grou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alog, RF and Mixed Mod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rong industry connections and suppor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rge base of Federal F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ud of previous contributions to IBIS Commun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5320" y="509400"/>
            <a:ext cx="836640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ARPA project … Big Pi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1257480"/>
            <a:ext cx="7978680" cy="52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Implementation of advanced modeling and simulation abstractions, fast linear and nonlinear solvers, full-wave EM modeling for on-chip parasitics and integrated RF/microwave circuit design and modeling, digital and analog behavioral modeling, optoelectronic modeling and electrothermal modeling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Plans and Tea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DIGITAL BEHAVIORAL MODELING AND SSN MACROMODELING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aul Franz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GLOBAL ENVIRONMENT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ichael Steer, PI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  <a:ea typeface="Times New Roman"/>
              </a:rPr>
              <a:t>PARASITIC EXTRACTION AND FULL WAVE MODELING OF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ERCONNECT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ndreas Cangellaris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niversity of Illinois Urban Champaig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PTOELECTRONIC MODELING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ark Neifeld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Impact: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 mixed-signal modeling capability that incorporates full-wave (EM) modeling of on-chip interconnects linked into a robust global simulation environment that provides a universal simulation environment for modeling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Development of physical device models and optoelectronic device models linked into global simulation environment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8360" y="2895480"/>
            <a:ext cx="1438560" cy="18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C STAT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UNIVERSITY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25920" y="3214800"/>
            <a:ext cx="1461960" cy="21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C STATE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UNIVERSITY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arizona" descr=""/>
          <p:cNvPicPr/>
          <p:nvPr/>
        </p:nvPicPr>
        <p:blipFill>
          <a:blip r:embed="rId1"/>
          <a:stretch/>
        </p:blipFill>
        <p:spPr>
          <a:xfrm>
            <a:off x="3038400" y="4648320"/>
            <a:ext cx="2219400" cy="28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743280" y="4006800"/>
          <a:ext cx="392040" cy="3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3280" y="4006800"/>
                    <a:ext cx="39204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7520" y="433440"/>
            <a:ext cx="3000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I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092240"/>
            <a:ext cx="429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que Featur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ffcc"/>
                </a:solidFill>
                <a:latin typeface="Arial"/>
                <a:ea typeface="Times New Roman"/>
              </a:rPr>
              <a:t>Nonlinear devices models based on state variables: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47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  <a:ea typeface="Times New Roman"/>
              </a:rPr>
              <a:t>This provides great flexibility for the design of new models. All of the analyses are state-variable-based, including a time marching analysis (different integration methods available) and a unique wavelet transient analysis.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47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  <a:ea typeface="Times New Roman"/>
              </a:rPr>
              <a:t>The state variables can be chosen to achieve robust numerical characteristics.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47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Arial"/>
                <a:ea typeface="Times New Roman"/>
              </a:rPr>
              <a:t>The calculation of derivatives are free of truncation errors at a small multiple of the run time required to evaluate the original function with little additional memory required. (ADOLC)</a:t>
            </a:r>
            <a:endParaRPr b="0" lang="en-US" sz="19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70680" y="246240"/>
            <a:ext cx="2844720" cy="2395440"/>
            <a:chOff x="6070680" y="246240"/>
            <a:chExt cx="2844720" cy="2395440"/>
          </a:xfrm>
        </p:grpSpPr>
        <p:sp>
          <p:nvSpPr>
            <p:cNvPr id="107" name=""/>
            <p:cNvSpPr/>
            <p:nvPr/>
          </p:nvSpPr>
          <p:spPr>
            <a:xfrm>
              <a:off x="6070680" y="252360"/>
              <a:ext cx="28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 Black"/>
                </a:rPr>
                <a:t>CONVENTIONAL DIODE MODEL</a:t>
              </a: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8520" y="2286000"/>
              <a:ext cx="26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33"/>
                  </a:solidFill>
                  <a:latin typeface="Arial"/>
                </a:rPr>
                <a:t>STRONG NONLINEARITY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1440" y="246240"/>
              <a:ext cx="2755800" cy="23954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6396120" y="631800"/>
            <a:ext cx="2249280" cy="1643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96120" y="631800"/>
                      <a:ext cx="2249280" cy="16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7599240" y="666720"/>
              <a:ext cx="3240" cy="147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593040" y="1933200"/>
              <a:ext cx="2036520" cy="3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8000" y="817560"/>
              <a:ext cx="2008440" cy="1119240"/>
            </a:xfrm>
            <a:custGeom>
              <a:avLst/>
              <a:gdLst/>
              <a:ahLst/>
              <a:rect l="l" t="t" r="r" b="b"/>
              <a:pathLst>
                <a:path w="900" h="544">
                  <a:moveTo>
                    <a:pt x="900" y="0"/>
                  </a:moveTo>
                  <a:cubicBezTo>
                    <a:pt x="899" y="34"/>
                    <a:pt x="895" y="150"/>
                    <a:pt x="892" y="206"/>
                  </a:cubicBezTo>
                  <a:cubicBezTo>
                    <a:pt x="889" y="262"/>
                    <a:pt x="886" y="302"/>
                    <a:pt x="882" y="336"/>
                  </a:cubicBezTo>
                  <a:cubicBezTo>
                    <a:pt x="878" y="370"/>
                    <a:pt x="873" y="388"/>
                    <a:pt x="870" y="408"/>
                  </a:cubicBezTo>
                  <a:cubicBezTo>
                    <a:pt x="867" y="428"/>
                    <a:pt x="865" y="442"/>
                    <a:pt x="862" y="454"/>
                  </a:cubicBezTo>
                  <a:cubicBezTo>
                    <a:pt x="859" y="466"/>
                    <a:pt x="857" y="474"/>
                    <a:pt x="854" y="482"/>
                  </a:cubicBezTo>
                  <a:cubicBezTo>
                    <a:pt x="851" y="490"/>
                    <a:pt x="848" y="498"/>
                    <a:pt x="844" y="504"/>
                  </a:cubicBezTo>
                  <a:cubicBezTo>
                    <a:pt x="840" y="510"/>
                    <a:pt x="836" y="514"/>
                    <a:pt x="832" y="519"/>
                  </a:cubicBezTo>
                  <a:cubicBezTo>
                    <a:pt x="828" y="524"/>
                    <a:pt x="822" y="531"/>
                    <a:pt x="819" y="533"/>
                  </a:cubicBezTo>
                  <a:cubicBezTo>
                    <a:pt x="816" y="535"/>
                    <a:pt x="833" y="532"/>
                    <a:pt x="813" y="534"/>
                  </a:cubicBezTo>
                  <a:cubicBezTo>
                    <a:pt x="793" y="536"/>
                    <a:pt x="834" y="542"/>
                    <a:pt x="699" y="543"/>
                  </a:cubicBezTo>
                  <a:cubicBezTo>
                    <a:pt x="564" y="544"/>
                    <a:pt x="146" y="542"/>
                    <a:pt x="0" y="542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64600" y="1957320"/>
              <a:ext cx="214200" cy="255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75680" y="17319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27800" y="708120"/>
              <a:ext cx="189000" cy="3222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64800" y="50328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459400" y="2987640"/>
            <a:ext cx="3441600" cy="3245040"/>
            <a:chOff x="5459400" y="2987640"/>
            <a:chExt cx="3441600" cy="3245040"/>
          </a:xfrm>
        </p:grpSpPr>
        <p:sp>
          <p:nvSpPr>
            <p:cNvPr id="120" name=""/>
            <p:cNvSpPr/>
            <p:nvPr/>
          </p:nvSpPr>
          <p:spPr>
            <a:xfrm>
              <a:off x="6727320" y="3138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cc3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81400" y="3990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5516640" y="3146400"/>
            <a:ext cx="2340000" cy="1663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16640" y="3146400"/>
                      <a:ext cx="234000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6303960" y="3176640"/>
              <a:ext cx="4680" cy="148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1480" y="3916080"/>
              <a:ext cx="2095200" cy="3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3840" y="3187800"/>
              <a:ext cx="2111400" cy="1490400"/>
            </a:xfrm>
            <a:custGeom>
              <a:avLst/>
              <a:gdLst/>
              <a:ahLst/>
              <a:rect l="l" t="t" r="r" b="b"/>
              <a:pathLst>
                <a:path w="946" h="724">
                  <a:moveTo>
                    <a:pt x="946" y="0"/>
                  </a:moveTo>
                  <a:cubicBezTo>
                    <a:pt x="914" y="2"/>
                    <a:pt x="883" y="4"/>
                    <a:pt x="840" y="6"/>
                  </a:cubicBezTo>
                  <a:cubicBezTo>
                    <a:pt x="797" y="8"/>
                    <a:pt x="729" y="10"/>
                    <a:pt x="690" y="12"/>
                  </a:cubicBezTo>
                  <a:cubicBezTo>
                    <a:pt x="651" y="14"/>
                    <a:pt x="629" y="16"/>
                    <a:pt x="604" y="20"/>
                  </a:cubicBezTo>
                  <a:cubicBezTo>
                    <a:pt x="579" y="24"/>
                    <a:pt x="558" y="27"/>
                    <a:pt x="538" y="34"/>
                  </a:cubicBezTo>
                  <a:cubicBezTo>
                    <a:pt x="518" y="41"/>
                    <a:pt x="508" y="38"/>
                    <a:pt x="484" y="64"/>
                  </a:cubicBezTo>
                  <a:cubicBezTo>
                    <a:pt x="460" y="90"/>
                    <a:pt x="475" y="78"/>
                    <a:pt x="394" y="188"/>
                  </a:cubicBezTo>
                  <a:cubicBezTo>
                    <a:pt x="313" y="298"/>
                    <a:pt x="82" y="612"/>
                    <a:pt x="0" y="724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6408720" y="4238640"/>
            <a:ext cx="2287440" cy="1643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8720" y="4238640"/>
                      <a:ext cx="2287440" cy="16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7200720" y="4280040"/>
              <a:ext cx="5040" cy="1485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0960" y="5546880"/>
              <a:ext cx="2060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22920" y="4422960"/>
              <a:ext cx="2030400" cy="1123920"/>
            </a:xfrm>
            <a:custGeom>
              <a:avLst/>
              <a:gdLst/>
              <a:ahLst/>
              <a:rect l="l" t="t" r="r" b="b"/>
              <a:pathLst>
                <a:path w="910" h="546">
                  <a:moveTo>
                    <a:pt x="910" y="0"/>
                  </a:moveTo>
                  <a:cubicBezTo>
                    <a:pt x="834" y="92"/>
                    <a:pt x="758" y="184"/>
                    <a:pt x="700" y="254"/>
                  </a:cubicBezTo>
                  <a:cubicBezTo>
                    <a:pt x="642" y="324"/>
                    <a:pt x="596" y="375"/>
                    <a:pt x="560" y="418"/>
                  </a:cubicBezTo>
                  <a:cubicBezTo>
                    <a:pt x="524" y="461"/>
                    <a:pt x="499" y="494"/>
                    <a:pt x="482" y="514"/>
                  </a:cubicBezTo>
                  <a:cubicBezTo>
                    <a:pt x="465" y="534"/>
                    <a:pt x="475" y="533"/>
                    <a:pt x="458" y="538"/>
                  </a:cubicBezTo>
                  <a:cubicBezTo>
                    <a:pt x="441" y="543"/>
                    <a:pt x="454" y="543"/>
                    <a:pt x="378" y="544"/>
                  </a:cubicBezTo>
                  <a:cubicBezTo>
                    <a:pt x="302" y="545"/>
                    <a:pt x="151" y="545"/>
                    <a:pt x="0" y="546"/>
                  </a:cubicBezTo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2400" y="49705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5440" y="3181320"/>
              <a:ext cx="5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 Black"/>
                </a:rPr>
                <a:t>NEW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7960" y="4352760"/>
              <a:ext cx="523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 Black"/>
                </a:rPr>
                <a:t>NEW</a:t>
              </a:r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18320" y="5888160"/>
              <a:ext cx="28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33"/>
                  </a:solidFill>
                  <a:latin typeface="Arial"/>
                </a:rPr>
                <a:t>MODERATE NONLINEARITY</a:t>
              </a:r>
              <a:endParaRPr b="0" lang="en-US" sz="1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46840" y="4842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59400" y="3008160"/>
              <a:ext cx="3441600" cy="3224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4040" y="409248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13840" y="36990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4760" y="29876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6516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70400" y="162000"/>
            <a:ext cx="0" cy="6696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496800"/>
            <a:ext cx="81662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asitic and Interconnect Model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ibm_chip" descr=""/>
          <p:cNvPicPr/>
          <p:nvPr/>
        </p:nvPicPr>
        <p:blipFill>
          <a:blip r:embed="rId1"/>
          <a:stretch/>
        </p:blipFill>
        <p:spPr>
          <a:xfrm>
            <a:off x="5292720" y="1260360"/>
            <a:ext cx="3851280" cy="4435560"/>
          </a:xfrm>
          <a:prstGeom prst="rect">
            <a:avLst/>
          </a:prstGeom>
          <a:ln w="0">
            <a:noFill/>
          </a:ln>
        </p:spPr>
      </p:pic>
      <p:pic>
        <p:nvPicPr>
          <p:cNvPr id="145" name="tmp" descr=""/>
          <p:cNvPicPr/>
          <p:nvPr/>
        </p:nvPicPr>
        <p:blipFill>
          <a:blip r:embed="rId2"/>
          <a:stretch/>
        </p:blipFill>
        <p:spPr>
          <a:xfrm>
            <a:off x="1760400" y="2433600"/>
            <a:ext cx="2479680" cy="165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98800" y="1266840"/>
            <a:ext cx="2271600" cy="1666800"/>
          </a:xfrm>
          <a:custGeom>
            <a:avLst/>
            <a:gdLst/>
            <a:ahLst/>
            <a:rect l="l" t="t" r="r" b="b"/>
            <a:pathLst>
              <a:path w="1398" h="873">
                <a:moveTo>
                  <a:pt x="1398" y="0"/>
                </a:moveTo>
                <a:cubicBezTo>
                  <a:pt x="1218" y="223"/>
                  <a:pt x="1038" y="447"/>
                  <a:pt x="805" y="593"/>
                </a:cubicBezTo>
                <a:cubicBezTo>
                  <a:pt x="572" y="739"/>
                  <a:pt x="134" y="826"/>
                  <a:pt x="0" y="87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67200" y="3360600"/>
            <a:ext cx="2217600" cy="2341800"/>
          </a:xfrm>
          <a:custGeom>
            <a:avLst/>
            <a:gdLst/>
            <a:ahLst/>
            <a:rect l="l" t="t" r="r" b="b"/>
            <a:pathLst>
              <a:path w="1423" h="1805">
                <a:moveTo>
                  <a:pt x="1423" y="1805"/>
                </a:moveTo>
                <a:cubicBezTo>
                  <a:pt x="1400" y="1717"/>
                  <a:pt x="1360" y="1461"/>
                  <a:pt x="1287" y="1279"/>
                </a:cubicBezTo>
                <a:cubicBezTo>
                  <a:pt x="1214" y="1097"/>
                  <a:pt x="1196" y="925"/>
                  <a:pt x="982" y="712"/>
                </a:cubicBezTo>
                <a:cubicBezTo>
                  <a:pt x="768" y="499"/>
                  <a:pt x="205" y="148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3000" y="4341960"/>
            <a:ext cx="5411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del u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pacitance Extract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+ Inductance Extraction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ansmission Lines 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ll-Wave (full EM Modeling) </a:t>
            </a:r>
            <a:r>
              <a:rPr b="0" lang="en-US" sz="3200" spc="-1" strike="noStrike">
                <a:solidFill>
                  <a:srgbClr val="ffff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9360" y="117324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mic Sans MS"/>
              </a:rPr>
              <a:t>Mixed Signal Chip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mic Sans MS"/>
              </a:rPr>
              <a:t>And Syste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2720" y="457200"/>
            <a:ext cx="53006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chnical Approa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2760" y="1231920"/>
            <a:ext cx="855648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  <a:ea typeface="Times New Roman"/>
              </a:rPr>
              <a:t>PARASITIC EXTRACTION AND FULL WAVE MODELING OF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pproach and Issue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ull-wave interconnect parasitic extrac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Global surface impedance models capturing frequency-dependent field penetration inside conductors of arbitrary cross section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Closed-form Green’s functions for the rapid calculation of interactions between electric charges and currents in multi-layered, lossy dielectrics. Planar, layered dielectrics need not be discretized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daptive integral method (AIM)-based solvers, for the rapid iterative solution of interconnections in multi-layered substrates.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ique Feature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ccurate capture of  the broadband nature of the electromagnetic interactions, and thus account for all frequency dependencies in the interconnect medium that impact signal distortion, noise generation and coupling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25320" y="509760"/>
            <a:ext cx="836640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chnical Approac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206360"/>
            <a:ext cx="8556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ON-CHIP DIGITAL BEHAVIORAL MODELING AND SSN MACROMODEL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pproach and Issu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acromodeling tool for automatic accurate reduced-order SSN modeling of on-chip digital structures from full circuit description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que Featu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 macromodel production tool (similar to Spice2IBIS); Complete SSN macromodel conversion too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5320" y="723960"/>
            <a:ext cx="83664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tracts of Requirements of S2IBIS3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ssued by IBIS sub-committee</a:t>
            </a: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ccff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3038040"/>
            <a:ext cx="853452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Scope of the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General Requirement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Specific Requirement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Arial"/>
              </a:rPr>
              <a:t>Documentation 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Acceptance Criteri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0:05:05Z</dcterms:created>
  <dc:creator>Michael Steer</dc:creator>
  <dc:description/>
  <dc:language>en-US</dc:language>
  <cp:lastModifiedBy>Paul D. Franzon</cp:lastModifiedBy>
  <cp:lastPrinted>2001-09-07T17:02:20Z</cp:lastPrinted>
  <dcterms:modified xsi:type="dcterms:W3CDTF">2001-09-12T01:27:36Z</dcterms:modified>
  <cp:revision>25</cp:revision>
  <dc:subject/>
  <dc:title>Advanced Modeling of Mixed-Signal Systems</dc:title>
</cp:coreProperties>
</file>