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429-7FD5-42CC-A8E2-27DDD1E5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4CA-5FC7-4FB1-AA09-9FC872CB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D2A-3641-4FDD-B692-822C0E22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6F6-C9FC-49CF-AE8E-1171C327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FB6-D5B3-4AD7-B1E7-4C5D8BE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46B-D163-4133-9252-C0EABE4C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5DD-0AAD-481C-9314-1B4BFF1A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D57-E6AC-4B72-AA60-D22CA6F8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461-C7D6-4306-BAB6-36A3428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A63-D6D6-42D3-AB8E-EB14F26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D5C-CCE6-4D43-8A3B-3115DDAB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97F-F6C8-4345-B75B-318F3C0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C54E-697E-4952-AEAF-7415C4B38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wath Matrix Expan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cester,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4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nd of Generated 500 Column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wath - Note Similariti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1600200"/>
          <a:ext cx="66294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629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luding Comments 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th Expansion is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done by index manipulation without changing the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triangle matrix similarities explo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 number of columns is best to locate the center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can be Ex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ow and column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ce model net list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wath - A Section of a Connector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provided in Spic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buffer analysis for critical set of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or coupling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or SLM, M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field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Swath around nets of interest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 Specification represents Swaths in  a matrix format similar to IBIS Version 3.2 package model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wath Example - Lines Show Coupling Pattern between Pi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fferent swaths and the final Swath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66680" y="2514600"/>
          <a:ext cx="701064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70106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xample of Two Different Centered Swath Matric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27200" y="1676520"/>
          <a:ext cx="581328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1676520"/>
                    <a:ext cx="5813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nother Approach: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wath Expan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Larger Swath from Smaller Sw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 of interest may be outside of Swath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reate full connect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onnector family from single sw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Regular Left, Center and Right Patterns Sufficient for Modeling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and Right sides map as in Sw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-most column topology represents the most complete coupling topology and is “repe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xample of How Left, Center &amp; Right Hand Pattern can Expand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95240" y="1676520"/>
          <a:ext cx="8348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676520"/>
                    <a:ext cx="8348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otes for Numerical Example that Follow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Row by 3 Column Sw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apacitance Matrix Portion Sh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capacitive coupling direct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triangle banded matrix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th Center Column 2 is Rep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&amp; Right Hand Patterns are Rep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apacitance Matrix for Original 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4 Row, 3 Column Swath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14520" y="1676520"/>
          <a:ext cx="60372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76520"/>
                    <a:ext cx="6037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enerated 4 Column Swath - Note Same Columns 2 &amp; 3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1676520"/>
          <a:ext cx="64008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400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0-09-07T18:36:22Z</cp:lastPrinted>
  <dcterms:modified xsi:type="dcterms:W3CDTF">2000-09-07T22:43:43Z</dcterms:modified>
  <cp:revision>150</cp:revision>
  <dc:subject/>
  <dc:title>IBIS ACCURACY</dc:title>
</cp:coreProperties>
</file>