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431-1E2C-44DB-94E2-4AE7B324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F3A-5D15-4912-A271-C6843524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593-953B-4C82-A941-34F248A9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AC8-0C34-4DF0-A2F2-BE8AA55D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265-6D6D-470D-939E-052B6FC2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069-FAA2-430A-9066-0219C40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D7E-F5C5-46F2-8390-D19216A7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4E1-B7E2-4E7B-9C5D-A9A1B3AD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42F-5430-4E2D-A44E-E1C039C4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F3A-B90A-4439-87BA-2087E601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B0B-347B-45DA-B8BA-B1D87291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68C-EF39-4BC1-9C8E-D632B73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799C-993D-4AA8-8017-F27896121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in Transi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cester,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4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Today - Present IBIS &amp; Future Directio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nd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of IBIS at 3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 Specification and Roun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th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Future and Roun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 Language, HTML, Code Based Modeling, Escape H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and Unschedule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Serves Industry Wel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ormat of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known, semiconductor vendor support, EDA vendor Support, commercial model developers, free &amp; commercial tools, variety of ways to generate IBIS files, education do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accurate for mos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investigation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undance of models, expertise and support of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es intellectual property, text format easily trans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active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gest Problem - Fixe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Serves Us Well &amp; Will Continue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New Direction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into Connector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s connector vendors for board level simulatio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configu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, coupled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Version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echnical and informational/specification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-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ro language for configu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le with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matic evolution of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y be actual implementation of IBIS 4.0 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r</cp:lastModifiedBy>
  <cp:lastPrinted>2000-09-07T22:47:07Z</cp:lastPrinted>
  <dcterms:modified xsi:type="dcterms:W3CDTF">2000-09-07T22:47:25Z</dcterms:modified>
  <cp:revision>137</cp:revision>
  <dc:subject/>
  <dc:title>IBIS ACCURACY</dc:title>
</cp:coreProperties>
</file>