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8485-471D-45F9-B091-D49E47E73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3003-4B34-4B3C-98A5-A36951596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B97D-A6EB-4A6B-90E5-39686D86E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BE17-D964-4FF6-84EF-B123021E8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EA63-F8BD-4BB5-B84D-69B1000AF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C5CA-8BF7-4078-8D12-FCA2BE8CA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3DBF-D252-4363-BB52-71C57A170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5FC6-F015-4BC1-A370-0294CBB0C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3A45-E07D-4B56-BE15-D57A81949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93C5-4EA9-40B9-A152-924A525E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9CFF-1B24-4DC0-9098-0468116B9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432D-90C4-48E0-AC76-A638EEC4E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5E2C5-3077-4210-A3E2-9C2C3D25D6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04920" y="457200"/>
            <a:ext cx="1809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IBIS .IC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990720"/>
            <a:ext cx="61722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438280" y="1066680"/>
            <a:ext cx="617220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914400"/>
            <a:ext cx="617220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438280" y="228600"/>
            <a:ext cx="61344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ub-Committee Participants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"/>
          <p:cNvSpPr/>
          <p:nvPr/>
        </p:nvSpPr>
        <p:spPr>
          <a:xfrm>
            <a:off x="4649400" y="1290600"/>
            <a:ext cx="26992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mulation Vend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o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d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Lynx / P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nove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to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nector Compan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P / Ty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g / F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l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dy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 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 rot="18707400">
            <a:off x="328320" y="2642760"/>
            <a:ext cx="4092840" cy="93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Connector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8" name=""/>
          <p:cNvSpPr txBox="1"/>
          <p:nvPr/>
        </p:nvSpPr>
        <p:spPr>
          <a:xfrm rot="19380600">
            <a:off x="2247480" y="3924360"/>
            <a:ext cx="1828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Connector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" name=""/>
          <p:cNvSpPr txBox="1"/>
          <p:nvPr/>
        </p:nvSpPr>
        <p:spPr>
          <a:xfrm rot="20416800">
            <a:off x="2999880" y="5043240"/>
            <a:ext cx="12956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Connector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045880" y="1676520"/>
            <a:ext cx="6619320" cy="32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Our go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rporate changes requested a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DAC 2000 IBIS mee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syntax is not amb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 syntax descriptions, grammar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ase the specification for vo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near DAC 2000 Christmas time fra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38280" y="990720"/>
            <a:ext cx="61722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38280" y="1066680"/>
            <a:ext cx="617220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38280" y="914400"/>
            <a:ext cx="617220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514600" y="228600"/>
            <a:ext cx="60199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at has the editing committee been up to?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990720" y="2666880"/>
            <a:ext cx="1039680" cy="11383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304920" y="457200"/>
            <a:ext cx="1809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IBIS .IC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4495680"/>
            <a:ext cx="137160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3321720" y="4436640"/>
            <a:ext cx="1281600" cy="575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438280" y="990720"/>
            <a:ext cx="61722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38280" y="1066680"/>
            <a:ext cx="617220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8280" y="914400"/>
            <a:ext cx="617220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514600" y="228600"/>
            <a:ext cx="60199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at has the editing committee been up to?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04920" y="457200"/>
            <a:ext cx="1809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IBIS .IC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4" name=""/>
          <p:cNvSpPr/>
          <p:nvPr/>
        </p:nvSpPr>
        <p:spPr>
          <a:xfrm>
            <a:off x="2438280" y="1168560"/>
            <a:ext cx="6248520" cy="361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What has been done so fa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nges requested at the DAC 2000  IBIS meeting have been add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ral areas of ambiguous syntax were  identified and have been clarifi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ral pages of documentation have been added to improve description of keywords and synta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verted the specification to Word format   and formatted it using fixed point fonts so that it can be output as .doc, .txt, and .pdf formats…ALSO INCLUDE TABLE OF CONT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2133720" y="2209680"/>
            <a:ext cx="331560" cy="4874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2133720" y="1523880"/>
            <a:ext cx="331560" cy="487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2057400" y="2895480"/>
          <a:ext cx="331920" cy="487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57400" y="2895480"/>
                    <a:ext cx="33192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2133720" y="3581280"/>
            <a:ext cx="33156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62120" y="1492200"/>
            <a:ext cx="784836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nywhere a “Begin” is named so must be the corresponding end statement.  Before , it was optional.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dded usage rule for “NC” locations in the [Begin_Cn_Phy_Map], [End_Cn_Phy_Map] section.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hange all references to case in-sensitive references to “case sensitive”.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e words “could,would,should” were change to “shall,must” as appropriate.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dded a paragraph to the swath section that also “covers” vertical swath by referencing the horizontal swath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hanged the specification to supports both lumped and distributed models.  Previously only distributed models were supported.   For example: [Begin_Cn_Section] references to inductance, capacitance, resistance these can now be either lumped or distributed.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hanged  “per-unit-length’ references; now allows using the same matrix multiple times in series with a single reference.  Matrix uses now have multipliers in  Cn_Section and Cn_Stub.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04920" y="457200"/>
            <a:ext cx="1809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IBIS .IC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2438280" y="228600"/>
            <a:ext cx="6172200" cy="838080"/>
            <a:chOff x="2438280" y="228600"/>
            <a:chExt cx="6172200" cy="838080"/>
          </a:xfrm>
        </p:grpSpPr>
        <p:sp>
          <p:nvSpPr>
            <p:cNvPr id="73" name=""/>
            <p:cNvSpPr/>
            <p:nvPr/>
          </p:nvSpPr>
          <p:spPr>
            <a:xfrm>
              <a:off x="2438280" y="990720"/>
              <a:ext cx="61722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438280" y="1066680"/>
              <a:ext cx="6172200" cy="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8280" y="914400"/>
              <a:ext cx="6172200" cy="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 txBox="1"/>
            <p:nvPr/>
          </p:nvSpPr>
          <p:spPr>
            <a:xfrm>
              <a:off x="2514600" y="228600"/>
              <a:ext cx="601992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What has the editing committee been up to?</a:t>
              </a:r>
              <a:endPara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914400" y="1552680"/>
            <a:ext cx="746748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mproved swath descriptions by adding a section titled “Application of Swath Matrices”.   Also r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emoved Cn_Z which is no longer required as we added a suggested  algorithim for converting  to a full banded matrix.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hanged the usage of Cn_Section and Cn_Stub to refer to these as sub-parameters and expanded their descriptions.  Also added section multipliers.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hanged the usage of the following from keywords to sub-parameters: Diagonal_matrix, Banded_matrix, Sparse_matrix and added a missing definition for the sub-parameter Full_matrix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hanged Cn_Section and Cn_Stub to be keywords following  the same form as used by matrix keywords like Banded_matrix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nverted master document to “WORD” and added a “table of contents” and a “document map”.  Fixed width fonts were used so the document can now be output in .txt, .doc, or .pd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04920" y="457200"/>
            <a:ext cx="1809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IBIS .IC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2438280" y="228600"/>
            <a:ext cx="6172200" cy="838080"/>
            <a:chOff x="2438280" y="228600"/>
            <a:chExt cx="6172200" cy="838080"/>
          </a:xfrm>
        </p:grpSpPr>
        <p:sp>
          <p:nvSpPr>
            <p:cNvPr id="80" name=""/>
            <p:cNvSpPr/>
            <p:nvPr/>
          </p:nvSpPr>
          <p:spPr>
            <a:xfrm>
              <a:off x="2438280" y="990720"/>
              <a:ext cx="61722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438280" y="1066680"/>
              <a:ext cx="6172200" cy="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438280" y="914400"/>
              <a:ext cx="6172200" cy="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 txBox="1"/>
            <p:nvPr/>
          </p:nvSpPr>
          <p:spPr>
            <a:xfrm>
              <a:off x="2514600" y="228600"/>
              <a:ext cx="601992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What has the editing committee been up to?</a:t>
              </a:r>
              <a:endPara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143000" y="1676520"/>
            <a:ext cx="762012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lso improved descriptions and cleaned up wording for: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e capacitance matrix descriptio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e frequency dependent loss note to specify only that this is not supported at this time.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e coupled mated-model derivation note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Under [Redistribution] and also under [Begin Cn Model Description], and for any other keyword where this exists, the Usage Rule "Text may contain up to 4 lines" was changed to "It is recommended that a maximum of 4 lines be used"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04920" y="457200"/>
            <a:ext cx="1809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IBIS .IC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2438280" y="228600"/>
            <a:ext cx="6172200" cy="838080"/>
            <a:chOff x="2438280" y="228600"/>
            <a:chExt cx="6172200" cy="838080"/>
          </a:xfrm>
        </p:grpSpPr>
        <p:sp>
          <p:nvSpPr>
            <p:cNvPr id="87" name=""/>
            <p:cNvSpPr/>
            <p:nvPr/>
          </p:nvSpPr>
          <p:spPr>
            <a:xfrm>
              <a:off x="2438280" y="990720"/>
              <a:ext cx="61722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438280" y="1066680"/>
              <a:ext cx="6172200" cy="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438280" y="914400"/>
              <a:ext cx="6172200" cy="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 txBox="1"/>
            <p:nvPr/>
          </p:nvSpPr>
          <p:spPr>
            <a:xfrm>
              <a:off x="2514600" y="228600"/>
              <a:ext cx="601992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What has the editing committee been up to?</a:t>
              </a:r>
              <a:endPara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438280" y="990720"/>
            <a:ext cx="61722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438280" y="1066680"/>
            <a:ext cx="617220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438280" y="914400"/>
            <a:ext cx="617220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438280" y="228600"/>
            <a:ext cx="28958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at's Next?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304920" y="1828800"/>
            <a:ext cx="1407960" cy="1763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304920" y="457200"/>
            <a:ext cx="1809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IBIS .IC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1308240"/>
            <a:ext cx="6324840" cy="45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ff"/>
                </a:solidFill>
                <a:uFillTx/>
                <a:latin typeface="Tahoma"/>
              </a:rPr>
              <a:t>Editing Committee Short Term Goal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onsider changing “automap” connector creation to use “more common language constructs” such as “for” and “next”.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Final editing of text for swath keyword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Release the final document back to the IBIS open forum.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ff"/>
                </a:solidFill>
                <a:uFillTx/>
                <a:latin typeface="Tahoma"/>
              </a:rPr>
              <a:t>IBIS open forum Short Term Goal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Vote to adopt the version 1.0 “ICM” specification before the new year.</a:t>
            </a:r>
            <a:br>
              <a:rPr sz="1200"/>
            </a:b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Ask for funds to create the golden parser to be used for syntax checking connector models. Initiate parser development.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Update the examples to support the final syntax and keyword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Additional accuracy confirmation of .icm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ompare to SPICE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ompare to IBIS Package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onsider a project to convert IBIS connector models “.ICM” to SPICE form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Kellee Crisafulli</cp:lastModifiedBy>
  <cp:lastPrinted>2000-09-13T00:11:45Z</cp:lastPrinted>
  <dcterms:modified xsi:type="dcterms:W3CDTF">2000-09-13T00:12:40Z</dcterms:modified>
  <cp:revision>124</cp:revision>
  <dc:subject/>
  <dc:title>No Slide Title</dc:title>
</cp:coreProperties>
</file>