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14.wmf" ContentType="image/x-wmf"/>
  <Override PartName="/ppt/media/image6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662004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828440" y="4933080"/>
            <a:ext cx="662004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2072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828440" y="493308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20720" y="493308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66920" y="412704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5400" y="412704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828440" y="493308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66920" y="493308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5400" y="493308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828440" y="4127040"/>
            <a:ext cx="662004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662004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323028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20720" y="4127040"/>
            <a:ext cx="323028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28440" y="3098880"/>
            <a:ext cx="662004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0720" y="4127040"/>
            <a:ext cx="323028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440" y="493308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828440" y="4127040"/>
            <a:ext cx="662004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323028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2072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20720" y="493308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2072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828440" y="4933080"/>
            <a:ext cx="662004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662004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828440" y="4933080"/>
            <a:ext cx="662004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2072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828440" y="493308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20720" y="493308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066920" y="412704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05400" y="412704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828440" y="493308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066920" y="493308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05400" y="493308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662004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323028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20720" y="4127040"/>
            <a:ext cx="323028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28440" y="3098880"/>
            <a:ext cx="662004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0720" y="4127040"/>
            <a:ext cx="323028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828440" y="493308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323028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72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20720" y="493308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072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933080"/>
            <a:ext cx="662004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93880" y="1019160"/>
            <a:ext cx="0" cy="538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33320" y="457200"/>
            <a:ext cx="5981760" cy="19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1680" y="5867280"/>
            <a:ext cx="401400" cy="201600"/>
          </a:xfrm>
          <a:custGeom>
            <a:avLst/>
            <a:gdLst/>
            <a:ahLst/>
            <a:rect l="l" t="t" r="r" b="b"/>
            <a:pathLst>
              <a:path w="253" h="127">
                <a:moveTo>
                  <a:pt x="0" y="126"/>
                </a:moveTo>
                <a:lnTo>
                  <a:pt x="0" y="0"/>
                </a:lnTo>
                <a:lnTo>
                  <a:pt x="252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77720" y="593424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826A-A38A-4BD9-AE40-037550965D2B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705720" y="63828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60440" y="644400"/>
            <a:ext cx="446040" cy="4557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0640" y="644400"/>
            <a:ext cx="3427200" cy="3747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602136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1713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49440" indent="-1731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"/>
          <p:cNvSpPr/>
          <p:nvPr/>
        </p:nvSpPr>
        <p:spPr>
          <a:xfrm>
            <a:off x="6993000" y="37980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BIS &amp; SI @ 3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7696080" y="685800"/>
          <a:ext cx="971640" cy="984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685800"/>
                    <a:ext cx="9716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33320" y="457200"/>
            <a:ext cx="5981760" cy="19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98560" y="1092240"/>
            <a:ext cx="0" cy="530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63828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0440" y="644400"/>
            <a:ext cx="446040" cy="4557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90640" y="644400"/>
            <a:ext cx="3427200" cy="3747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90720" y="1066680"/>
          <a:ext cx="1955520" cy="1981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066680"/>
                    <a:ext cx="19555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6280" algn="ctr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22860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228600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228600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9000" y="1142640"/>
            <a:ext cx="5029200" cy="5257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Appendix: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IBIS &amp; SI @ 3Com</a:t>
            </a:r>
            <a:br>
              <a:rPr sz="4200"/>
            </a:br>
            <a:br>
              <a:rPr sz="42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oy Leventhal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1600"/>
            </a:br>
            <a:br>
              <a:rPr sz="16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3Com Carrier R&amp;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847-797-215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leventh@3com.com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ERNATIONAL CADENCE USER GROUP CONFEREN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ptember 10-13, 2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an Jose, California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828800"/>
            <a:ext cx="365616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ain idea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Carrier Standard is built around the following main idea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t minimum requiremen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t up other parameters as optional, or, “add-on”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oup related IBIS parameters into “threads”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 tables, notes, white space, etc., as appropriat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ain where to get help and additional inform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ain methods for generating dat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ain methods for generating and checking an IBIS fi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ist some common mistakes and how to correct the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ain verification methods and how to apply approval levels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inimum requirement grouping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0160" y="22096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eneral (header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BIS Version, File Name, File Rev, Date, Source, Copyright, Manufactur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nent, Voltage Range, Temperature Ran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ackage and pi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ckage, Pin (incl. Rpkg-Cpkg-Lpkg), Rac, Cac, Rgnd, Rpower, Diff Pi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del V-I behaviora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del, Model_type, Polarity, Vinl, Vinh, </a:t>
            </a:r>
            <a:r>
              <a:rPr b="0" lang="en-US" sz="1800" spc="-1" strike="noStrike">
                <a:solidFill>
                  <a:srgbClr val="fc0128"/>
                </a:solidFill>
                <a:latin typeface="Arial Narrow"/>
              </a:rPr>
              <a:t>Vol, Voh,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Ccomp, Vref, Vmeas, Rref, Cref, </a:t>
            </a:r>
            <a:r>
              <a:rPr b="0" lang="en-US" sz="1800" spc="-1" strike="noStrike">
                <a:solidFill>
                  <a:srgbClr val="fc0128"/>
                </a:solidFill>
                <a:latin typeface="Arial Narrow"/>
              </a:rPr>
              <a:t>Technology,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Pullup, Pulldown, POWER Clamp, GND Clamp, Model Selecto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del V-T behaviora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mp, dV/dt_r, dV/dt_f, Rload, Driver Schedu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dd-ons for above grouping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0160" y="22096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eneral (header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ent Char, Notes, Disclaim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_location, Timing_loc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ackage and pi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pin-Cpin-Lpin, Signal_name, Package Model (incl. sub) Pin Mapping (incl. sub) vdiff &amp; tdelay, Number of Sections, Series Pin Mappings, Series Switch Groups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del V-I behaviora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nable, Pullup/Pulldown/Power Clamp/GND Clamp Reference, Model Spec, GND &amp; POWER Pulse Table, TTgnd, TTpow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del V-T behaviora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ising Waveform, Falling Waveform, R-L-C_fixture, R-L-C_dut, V_fix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able example 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905120" y="2438280"/>
          <a:ext cx="630396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63039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Note exampl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71480" y="3333600"/>
          <a:ext cx="7320240" cy="232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1480" y="3333600"/>
                    <a:ext cx="732024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724280" y="1828800"/>
            <a:ext cx="846360" cy="8557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Getting help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971800" y="1981080"/>
          <a:ext cx="391644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39164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Generating data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905120" y="2514600"/>
          <a:ext cx="6197400" cy="25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514600"/>
                    <a:ext cx="6197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Generating a fil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8120" y="2133720"/>
          <a:ext cx="3889080" cy="39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133720"/>
                    <a:ext cx="388908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ore help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5720" y="2438280"/>
          <a:ext cx="654228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2438280"/>
                    <a:ext cx="65422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Dealing with common mistak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590920" y="2057400"/>
          <a:ext cx="489744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057400"/>
                    <a:ext cx="48974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602136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cknowledgemen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2437920"/>
            <a:ext cx="2439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s presentation draws on documents prepared by the IBIS Committe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62520" y="2666880"/>
          <a:ext cx="411480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666880"/>
                    <a:ext cx="41148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pproval level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71600" y="2209680"/>
          <a:ext cx="7315200" cy="38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731520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Model Cre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Updating Proces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35000" y="2438280"/>
          <a:ext cx="245124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5000" y="2438280"/>
                    <a:ext cx="24512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eps the model creator/updater through the making of a mode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ains the purpose, scope, definitions, responsibilities, applicable documents and procedure to foll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chnical detail is contained in the Carrier standard and an “IBIS syntax guide”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586872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model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ification proces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eps the model tester through the verifying of a mode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xplains purpose, scope, definitions, responsibilities, applicable documents and procedure to follo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xplains the 4 levels of model approval/verific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fers to the Carrier standard and an “IBIS syntax guide”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460520" y="2438280"/>
          <a:ext cx="340056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2438280"/>
                    <a:ext cx="34005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1371600"/>
            <a:ext cx="60973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IBIS model syntax guide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19320" y="2133720"/>
          <a:ext cx="4190760" cy="42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3720"/>
                    <a:ext cx="419076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943240" y="2057040"/>
            <a:ext cx="2970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 believe that separating out and explaining the formatting rules for an IBIS file is less confusing than intermixing them with measurement techniques, required Vs optional, etc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ain idea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syntax guide is built around the following main ide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ollow the threads, or groupings, of the standar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t up parallel tables of properties to the tables in the standar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arse out syntax and formatting rules into these tabl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ollow each set of properties with related examples and not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able exampl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32160" y="2438280"/>
          <a:ext cx="519084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2160" y="2438280"/>
                    <a:ext cx="51908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Note exampl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933560" y="3135240"/>
          <a:ext cx="6188040" cy="256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3560" y="3135240"/>
                    <a:ext cx="61880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724280" y="1828800"/>
            <a:ext cx="846360" cy="8557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Example exampl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793880" y="2955960"/>
          <a:ext cx="6467400" cy="29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3880" y="2955960"/>
                    <a:ext cx="64674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Other ISO &amp; IBIS document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143000" y="2411280"/>
          <a:ext cx="3809880" cy="378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11280"/>
                    <a:ext cx="3809880" cy="37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409720" y="2437920"/>
            <a:ext cx="35038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arrier new component approval proces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imulation model procurement proces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imulation request for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arrier quality manua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arrier systems systems manua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art 4: design contro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59436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ing an IBIS model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gnal integrity simul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0160" y="22860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ow to use the IBIS mode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introduces you to what it is, how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o use it in a simulation and what optional properties might be necessary for adequate accurac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ignal integrity - 10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is a tutorial on transmission lines, termination, design techniques, etc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ignal integrity - board design &amp; simulation techniqu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is a further technical discussion of SI and EMI and design techniqu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ogic family signal integrity comparison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compares the SI behavior of different IC technolog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odeling semiconductor component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looks at the different models, IBIS, SPICE, Scattering Parameter, 2-Port, etc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5120" y="3504960"/>
            <a:ext cx="62481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SO 9000 supporting documents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plus “How To” document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352680" y="4724280"/>
            <a:ext cx="5096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ome documents are available on: http://www.eda.org/pub/ibis/training/3com-docs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9880" y="2286000"/>
          <a:ext cx="47628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86000"/>
                    <a:ext cx="4762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371600" y="4724280"/>
          <a:ext cx="152388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724280"/>
                    <a:ext cx="152388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080040" y="5151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Summing up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3581280" cy="38498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81120" y="1904760"/>
            <a:ext cx="3581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167760" indent="-1677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roup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related items (ex. pins, package, etc.) together and separate them from other group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-1677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parat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data measurement, syntax, format, required/not required, etc., into different se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-1677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la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syntax, format and file example for a particular keyword together physical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-1677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technical writing tips: white space, notes, tables, </a:t>
            </a:r>
            <a:r>
              <a:rPr b="0" lang="en-US" sz="1800" spc="-1" strike="noStrike">
                <a:solidFill>
                  <a:srgbClr val="fc0128"/>
                </a:solidFill>
                <a:latin typeface="Arial Narrow"/>
              </a:rPr>
              <a:t>highlighting,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hypertext, etc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52120" y="3733560"/>
            <a:ext cx="662004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ookman Old Style"/>
              </a:rPr>
              <a:t>[End]</a:t>
            </a:r>
            <a:endParaRPr b="0" lang="en-US" sz="9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reating an IBIS model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0160" y="19807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rtin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the need for an IBIS model is signaled b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New component request for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imulation model request for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. The latter spells out any add-on parameters the requestor wan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ke or bu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decisions on obtaining a model are described by the 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imulation model procurement proc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kin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 model is described by the 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imulation model creation and updating proc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rifyin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 model’s accuracy, from any source, is described by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imulation model verification proc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perti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of an IBIS model and its minimum requirements are in the 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Carrier Systems IBIS model standar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yntax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of an IBIS model file is in the 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IBIS model syntax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1294920"/>
            <a:ext cx="5716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model request form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86400" y="2437920"/>
            <a:ext cx="319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ndicate a preference for model type (usually an IBIS model) and any special parameters (such as individualized pin parasitics, programmable drivers, etc.) you think will be needed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824" t="15073" r="5354" b="9171"/>
          <a:stretch/>
        </p:blipFill>
        <p:spPr>
          <a:xfrm>
            <a:off x="1219320" y="1981080"/>
            <a:ext cx="4190760" cy="3962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71600" y="1981080"/>
            <a:ext cx="3657600" cy="4038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0160" y="1371240"/>
            <a:ext cx="72403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3739" t="15335" r="9257" b="12072"/>
          <a:stretch/>
        </p:blipFill>
        <p:spPr>
          <a:xfrm>
            <a:off x="1295280" y="2286000"/>
            <a:ext cx="3810240" cy="3581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86040" y="213336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deas includ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inimum requireme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dd-ons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rification level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otnotes with a brief explanation of the parameters lis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2286000"/>
            <a:ext cx="3657600" cy="3200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1371240"/>
            <a:ext cx="73152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38320" y="2437920"/>
            <a:ext cx="3046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rcuit/Product Design Engineer will see a very simplified list of IBIS model properties </a:t>
            </a: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[Keywords]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job of the Signal Integrity Engineer to understand IBIS in depth and see that the model meets requirement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7308" t="14912" r="14540" b="13558"/>
          <a:stretch/>
        </p:blipFill>
        <p:spPr>
          <a:xfrm>
            <a:off x="1371600" y="20574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371600" y="1905120"/>
            <a:ext cx="3962520" cy="426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371240"/>
            <a:ext cx="60973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component request form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03360" y="2514600"/>
            <a:ext cx="35816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64160" indent="-164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orm helps communicate between Design, Signal Integrity and Component Engineering (C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64160" indent="-164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 deals directly with the suppliers and can inform them of our IBIS Model Standard and follow through on negotiated purchase spec for IBIS model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64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4932" t="10238" r="17431" b="12279"/>
          <a:stretch/>
        </p:blipFill>
        <p:spPr>
          <a:xfrm>
            <a:off x="1219320" y="2133720"/>
            <a:ext cx="3809880" cy="4038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43000" y="2057400"/>
            <a:ext cx="3733920" cy="426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1371600"/>
            <a:ext cx="609732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ier System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IS model standard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57440" y="2590560"/>
            <a:ext cx="34275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tains 3Com’s IBIS model requirements plus information on getting help, generating data, creating models, correcting mistakes, and verifying model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ference is made to the current IBIS Committee standard (which is used extensively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2130" t="17309" r="4254" b="7694"/>
          <a:stretch/>
        </p:blipFill>
        <p:spPr>
          <a:xfrm>
            <a:off x="1143000" y="2590920"/>
            <a:ext cx="3809880" cy="3376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43000" y="2514600"/>
            <a:ext cx="3733920" cy="3733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4T05:24:29Z</dcterms:created>
  <dc:creator>Cadence Design Systems Inc</dc:creator>
  <dc:description/>
  <dc:language>en-US</dc:language>
  <cp:lastModifiedBy>Roy Gilbert Leventhal</cp:lastModifiedBy>
  <cp:lastPrinted>2000-07-13T15:09:32Z</cp:lastPrinted>
  <dcterms:modified xsi:type="dcterms:W3CDTF">2000-08-01T14:00:49Z</dcterms:modified>
  <cp:revision>202</cp:revision>
  <dc:subject/>
  <dc:title>Cadence Presentation  Guidelines Document</dc:title>
</cp:coreProperties>
</file>