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73152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0160" y="4507920"/>
            <a:ext cx="73152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18840" y="243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0160" y="450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18840" y="450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43360" y="24379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16560" y="24379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0160" y="45079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43360" y="45079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16560" y="45079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0160" y="24379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35697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18840" y="2437920"/>
            <a:ext cx="35697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370160" y="1371600"/>
            <a:ext cx="7315200" cy="21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8840" y="2437920"/>
            <a:ext cx="35697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0160" y="450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0160" y="24379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35697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8840" y="243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18840" y="450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8840" y="243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0160" y="4507920"/>
            <a:ext cx="73152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73152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370160" y="4507920"/>
            <a:ext cx="73152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18840" y="243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0160" y="450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18840" y="450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843360" y="24379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16560" y="24379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370160" y="45079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843360" y="45079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16560" y="4507920"/>
            <a:ext cx="235512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35697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18840" y="2437920"/>
            <a:ext cx="35697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370160" y="1371600"/>
            <a:ext cx="7315200" cy="21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18840" y="2437920"/>
            <a:ext cx="35697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0160" y="450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35697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18840" y="243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18840" y="450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18840" y="2437920"/>
            <a:ext cx="356976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0160" y="4507920"/>
            <a:ext cx="7315200" cy="189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60440" y="457200"/>
            <a:ext cx="8226360" cy="5943600"/>
            <a:chOff x="460440" y="457200"/>
            <a:chExt cx="8226360" cy="5943600"/>
          </a:xfrm>
        </p:grpSpPr>
        <p:sp>
          <p:nvSpPr>
            <p:cNvPr id="1" name=""/>
            <p:cNvSpPr/>
            <p:nvPr/>
          </p:nvSpPr>
          <p:spPr>
            <a:xfrm>
              <a:off x="893880" y="1019160"/>
              <a:ext cx="0" cy="5381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3320" y="457200"/>
              <a:ext cx="5981760" cy="19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71680" y="5867280"/>
              <a:ext cx="401400" cy="201600"/>
            </a:xfrm>
            <a:custGeom>
              <a:avLst/>
              <a:gdLst/>
              <a:ahLst/>
              <a:rect l="l" t="t" r="r" b="b"/>
              <a:pathLst>
                <a:path w="253" h="127">
                  <a:moveTo>
                    <a:pt x="0" y="126"/>
                  </a:moveTo>
                  <a:lnTo>
                    <a:pt x="0" y="0"/>
                  </a:lnTo>
                  <a:lnTo>
                    <a:pt x="252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77720" y="5934240"/>
              <a:ext cx="505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0A04F60F-2D85-4123-9BAF-2F0DA63EC33D}" type="slidenum">
                <a:rPr b="1" lang="en-US" sz="1000" spc="-1" strike="noStrike">
                  <a:solidFill>
                    <a:srgbClr val="000000"/>
                  </a:solidFill>
                  <a:latin typeface="Arial Narrow"/>
                </a:rPr>
                <a:t>&lt;number&gt;</a:t>
              </a:fld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705720" y="638280"/>
              <a:ext cx="19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60440" y="644400"/>
              <a:ext cx="446040" cy="4557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90640" y="644400"/>
              <a:ext cx="3427200" cy="3747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370160" y="24379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7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085760" indent="-171360">
              <a:spcBef>
                <a:spcPts val="7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549440" indent="-173160">
              <a:spcBef>
                <a:spcPts val="7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25146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25146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2514600" indent="-228600">
              <a:spcBef>
                <a:spcPts val="751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"/>
          <p:cNvSpPr/>
          <p:nvPr/>
        </p:nvSpPr>
        <p:spPr>
          <a:xfrm>
            <a:off x="458280" y="6400440"/>
            <a:ext cx="226116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IBIS Futures - Sep 2000 IBIS Summ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" descr=""/>
          <p:cNvPicPr/>
          <p:nvPr/>
        </p:nvPicPr>
        <p:blipFill>
          <a:blip r:embed="rId2"/>
          <a:stretch/>
        </p:blipFill>
        <p:spPr>
          <a:xfrm>
            <a:off x="7620120" y="5791320"/>
            <a:ext cx="1077840" cy="92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460440" y="457200"/>
            <a:ext cx="8226360" cy="5943600"/>
            <a:chOff x="460440" y="457200"/>
            <a:chExt cx="8226360" cy="5943600"/>
          </a:xfrm>
        </p:grpSpPr>
        <p:sp>
          <p:nvSpPr>
            <p:cNvPr id="49" name=""/>
            <p:cNvSpPr/>
            <p:nvPr/>
          </p:nvSpPr>
          <p:spPr>
            <a:xfrm>
              <a:off x="733320" y="457200"/>
              <a:ext cx="5981760" cy="19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898560" y="1092240"/>
              <a:ext cx="0" cy="5308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705720" y="638280"/>
              <a:ext cx="1981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" name="Cadence%20Logo%20Web%20Red%20Title" descr=""/>
            <p:cNvPicPr/>
            <p:nvPr/>
          </p:nvPicPr>
          <p:blipFill>
            <a:blip r:embed="rId2"/>
            <a:stretch/>
          </p:blipFill>
          <p:spPr>
            <a:xfrm>
              <a:off x="4313160" y="1731960"/>
              <a:ext cx="2421000" cy="61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460440" y="644400"/>
              <a:ext cx="446040" cy="4557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90640" y="644400"/>
              <a:ext cx="3427200" cy="3747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1848600" y="6127560"/>
            <a:ext cx="2846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adence Design Systems, In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28440" y="3098880"/>
            <a:ext cx="6620040" cy="9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IBIS Futures Subcommittee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tel: Arpad Muranyi, Stephen Peter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novEDA: Al Davis, John Angulo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entor Graphics: Bob Ros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adence: Mike LaBont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BM: Mike Cohe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exas Instruments: Stephen Nola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General Themes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rmat consistenc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odal circuit description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asic circuit elements, plus tables, equations, triggers, advanced t-lin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paration of circuit topology and dat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ataset correlation beyond min/typ/max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xisting IBIS files still work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Top Level Format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0160" y="205704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ight discussion only, so far. Nothing in writing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orrow from Connector Specific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68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Same header section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68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[Model]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68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[End Model]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orrow from XM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68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[Model name=“gt5623yf” type=“I/O”]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ackward compatibility: parser mode or translator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Separation of Circuit Topology and Data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320" y="2437920"/>
            <a:ext cx="3049560" cy="3124440"/>
          </a:xfrm>
          <a:prstGeom prst="rect">
            <a:avLst/>
          </a:prstGeom>
          <a:noFill/>
          <a:ln w="9360">
            <a:solidFill>
              <a:srgbClr val="33cccc"/>
            </a:solidFill>
            <a:miter/>
          </a:ln>
        </p:spPr>
        <p:txBody>
          <a:bodyPr tIns="91440" bIns="91440" anchor="t" anchorCtr="1">
            <a:normAutofit/>
          </a:bodyPr>
          <a:p>
            <a:pPr marL="171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[Model] switchout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Model_type Terminator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Enable  Active-Low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|   variable         typ        min       max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C_comp            0pF        NA        NA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[Temperature Range]   25 100    0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[Voltage Range] 5.0        4.75     5.25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[Rac]                 1k           NA      NA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[Cac]                 0.5          NA      NA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266720" y="2437920"/>
            <a:ext cx="4419720" cy="3124440"/>
          </a:xfrm>
          <a:prstGeom prst="rect">
            <a:avLst/>
          </a:prstGeom>
          <a:noFill/>
          <a:ln w="9360">
            <a:solidFill>
              <a:srgbClr val="33cccc"/>
            </a:solidFill>
            <a:miter/>
          </a:ln>
        </p:spPr>
        <p:txBody>
          <a:bodyPr tIns="91440" bIns="91440" anchor="t" anchorCtr="1">
            <a:normAutofit/>
          </a:bodyPr>
          <a:p>
            <a:pPr marL="171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[Define Model] Terminator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.inherit model_base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.node t1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resistor Rac (pin t1)     R = [Rac] || short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capacitor Cac (t1 gnd) C = [Cac] || open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resistor Rpwr (pin power_clamp_ref) R = [Rpower] || open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resistor Rgnd (pin gnd_clamp_ref) R = [Rgnd] || open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</a:rPr>
              <a:t>[End Define Model]</a:t>
            </a:r>
            <a:endParaRPr b="0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"/>
          <p:cNvSpPr/>
          <p:nvPr/>
        </p:nvSpPr>
        <p:spPr>
          <a:xfrm>
            <a:off x="3354840" y="2285640"/>
            <a:ext cx="586080" cy="34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08960" y="2285640"/>
            <a:ext cx="1666800" cy="34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ircuit Top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Nodal Interconnect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terconnect that lies outside of buffers, but how far out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68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Die to package only?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68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Including package parasitics?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68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Same scope as EBD?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ittle discussion so fa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y or may not use macro language form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requency-dependent RLGC transmission lines are possibl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0160" y="1371600"/>
            <a:ext cx="7315200" cy="4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 Narrow"/>
              </a:rPr>
              <a:t>Macro Language</a:t>
            </a:r>
            <a:endParaRPr b="1" lang="en-US" sz="3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70160" y="2437920"/>
            <a:ext cx="731520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anguage used inside [Define Model] section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ost discussed topi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171360" indent="-1713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ebate over how much new simulator development should be requir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68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Dependent sources controlled by any circuit nodes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68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Full equations vs. simple arithmetic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1" marL="628560" indent="-171360">
              <a:spcBef>
                <a:spcPts val="689"/>
              </a:spcBef>
              <a:buClr>
                <a:srgbClr val="0000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General purpose charge and flux elements (SPICE B element)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01T20:20:44Z</dcterms:created>
  <dc:creator>Mike LaBonte</dc:creator>
  <dc:description/>
  <dc:language>en-US</dc:language>
  <cp:lastModifiedBy>Mike LaBonte</cp:lastModifiedBy>
  <cp:lastPrinted>1998-09-24T04:09:08Z</cp:lastPrinted>
  <dcterms:modified xsi:type="dcterms:W3CDTF">2000-09-06T15:18:05Z</dcterms:modified>
  <cp:revision>10</cp:revision>
  <dc:subject/>
  <dc:title>IBIS Futures Subcommittee</dc:title>
</cp:coreProperties>
</file>