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AA5-3146-4164-9FE5-9B5357D3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8D8-2D5C-4A93-A278-4A0C63C5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539-6C7D-4040-9E68-10C37049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741-F607-41DC-B872-160F17FC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708-8E9F-4C10-A75D-CAECF46E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F81-08A9-457B-8716-81FAA9D3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7C8-FB2A-47C3-A68A-EC98B744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71E-1DA8-4AC9-9DF4-55E4CA20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121-605B-41A9-A0A6-720765D8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8CC-823E-45CA-9B3B-61226855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7C4-BC38-4417-96FA-CA532D06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FFB-2EB8-4B2B-92F1-D00C1F6D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280" y="6419880"/>
            <a:ext cx="1831680" cy="2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ember ‘00 IBIS Sum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l Hobbs, Intel Cor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A6F3-F591-47EC-A785-95AC6D6A2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9240" y="5397480"/>
            <a:ext cx="1079640" cy="14605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247680" y="57240"/>
            <a:ext cx="663480" cy="787320"/>
            <a:chOff x="247680" y="57240"/>
            <a:chExt cx="663480" cy="787320"/>
          </a:xfrm>
        </p:grpSpPr>
        <p:sp>
          <p:nvSpPr>
            <p:cNvPr id="7" name=""/>
            <p:cNvSpPr/>
            <p:nvPr/>
          </p:nvSpPr>
          <p:spPr>
            <a:xfrm>
              <a:off x="314280" y="136440"/>
              <a:ext cx="530280" cy="628560"/>
            </a:xfrm>
            <a:custGeom>
              <a:avLst/>
              <a:gdLst/>
              <a:ahLst/>
              <a:rect l="l" t="t" r="r" b="b"/>
              <a:pathLst>
                <a:path w="334" h="396">
                  <a:moveTo>
                    <a:pt x="166" y="0"/>
                  </a:moveTo>
                  <a:lnTo>
                    <a:pt x="0" y="197"/>
                  </a:lnTo>
                  <a:lnTo>
                    <a:pt x="166" y="395"/>
                  </a:lnTo>
                  <a:lnTo>
                    <a:pt x="333" y="197"/>
                  </a:lnTo>
                  <a:lnTo>
                    <a:pt x="166" y="0"/>
                  </a:lnTo>
                </a:path>
              </a:pathLst>
            </a:custGeom>
            <a:solidFill>
              <a:srgbClr val="4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247680" y="57240"/>
              <a:ext cx="663480" cy="787320"/>
              <a:chOff x="247680" y="57240"/>
              <a:chExt cx="663480" cy="787320"/>
            </a:xfrm>
          </p:grpSpPr>
          <p:sp>
            <p:nvSpPr>
              <p:cNvPr id="9" name=""/>
              <p:cNvSpPr/>
              <p:nvPr/>
            </p:nvSpPr>
            <p:spPr>
              <a:xfrm>
                <a:off x="579600" y="57240"/>
                <a:ext cx="331560" cy="393480"/>
              </a:xfrm>
              <a:custGeom>
                <a:avLst/>
                <a:gdLst/>
                <a:ahLst/>
                <a:rect l="l" t="t" r="r" b="b"/>
                <a:pathLst>
                  <a:path w="209" h="248">
                    <a:moveTo>
                      <a:pt x="0" y="49"/>
                    </a:moveTo>
                    <a:lnTo>
                      <a:pt x="0" y="0"/>
                    </a:lnTo>
                    <a:lnTo>
                      <a:pt x="208" y="247"/>
                    </a:lnTo>
                    <a:lnTo>
                      <a:pt x="166" y="247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47680" y="57240"/>
                <a:ext cx="331920" cy="393480"/>
              </a:xfrm>
              <a:custGeom>
                <a:avLst/>
                <a:gdLst/>
                <a:ahLst/>
                <a:rect l="l" t="t" r="r" b="b"/>
                <a:pathLst>
                  <a:path w="209" h="248">
                    <a:moveTo>
                      <a:pt x="208" y="0"/>
                    </a:moveTo>
                    <a:lnTo>
                      <a:pt x="208" y="49"/>
                    </a:lnTo>
                    <a:lnTo>
                      <a:pt x="41" y="247"/>
                    </a:lnTo>
                    <a:lnTo>
                      <a:pt x="0" y="247"/>
                    </a:lnTo>
                    <a:lnTo>
                      <a:pt x="208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79600" y="450720"/>
                <a:ext cx="331560" cy="393840"/>
              </a:xfrm>
              <a:custGeom>
                <a:avLst/>
                <a:gdLst/>
                <a:ahLst/>
                <a:rect l="l" t="t" r="r" b="b"/>
                <a:pathLst>
                  <a:path w="209" h="248">
                    <a:moveTo>
                      <a:pt x="166" y="0"/>
                    </a:moveTo>
                    <a:lnTo>
                      <a:pt x="208" y="0"/>
                    </a:lnTo>
                    <a:lnTo>
                      <a:pt x="0" y="247"/>
                    </a:lnTo>
                    <a:lnTo>
                      <a:pt x="0" y="197"/>
                    </a:lnTo>
                    <a:lnTo>
                      <a:pt x="166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7680" y="450720"/>
                <a:ext cx="331920" cy="393840"/>
              </a:xfrm>
              <a:custGeom>
                <a:avLst/>
                <a:gdLst/>
                <a:ahLst/>
                <a:rect l="l" t="t" r="r" b="b"/>
                <a:pathLst>
                  <a:path w="209" h="248">
                    <a:moveTo>
                      <a:pt x="41" y="0"/>
                    </a:moveTo>
                    <a:lnTo>
                      <a:pt x="208" y="197"/>
                    </a:lnTo>
                    <a:lnTo>
                      <a:pt x="208" y="247"/>
                    </a:ln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" name="egg1" descr=""/>
          <p:cNvPicPr/>
          <p:nvPr/>
        </p:nvPicPr>
        <p:blipFill>
          <a:blip r:embed="rId3"/>
          <a:stretch/>
        </p:blipFill>
        <p:spPr>
          <a:xfrm>
            <a:off x="8467560" y="6180120"/>
            <a:ext cx="40500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An Escape Hatch for Leading Edge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Hob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139320"/>
            <a:ext cx="777240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760" y="1006200"/>
            <a:ext cx="839304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 Hatch” is needed to meet emerging 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I offers flexibility, while protecting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able to draw on work done on IEEE14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e consider API. If desir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requirements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available existing technology for adap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iz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and Standard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180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The Value of IB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434960"/>
            <a:ext cx="8510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IS broke the model availability logj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 to IBIS, many semiconductor vendors reluctant to offer I/O models. IBIS addressed many of their conc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IS protects IP through behavior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IS model creation tools are available, easing model 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able accuracy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s run quickly, enabling full board simulation, Monte Carlo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IS is strongly supported by EDA and electronics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IS continues to advance to meet emerging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2080" y="0"/>
            <a:ext cx="770868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But,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8600" y="687240"/>
            <a:ext cx="858708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IS trails the leading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s and techniques must continually be invented to keep up with leading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is not slowing down. New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 speeds: 200, 400, 800, …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easing operating volta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easing margins: millivolts and picoseconds ma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P loading, MP traffic, complex packages and layout top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technologies and buses: spread spectrum, PCI-X, DDR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le effects continue to increase in prominence: Ground return path, ISI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takes continue to 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 delays due to resonance, recalls due to power delivery -&gt;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$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circuits must be modeled at different levels of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scape hatch for leading edge requirement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0320" y="352440"/>
            <a:ext cx="75708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xample: Recent Modeling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04880" y="3890520"/>
            <a:ext cx="7580160" cy="13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delay analysis encompasses complete path from input of output buffer to output of input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r and Receiver modeled at transistor level, with 3D 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cessitated working with specific vendors, requiring customers to use only those vendors for this part of their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mpatible with I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357280" y="1619280"/>
            <a:ext cx="409680" cy="333360"/>
          </a:xfrm>
          <a:prstGeom prst="triangle">
            <a:avLst>
              <a:gd name="adj" fmla="val 4998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6005520" y="1619280"/>
            <a:ext cx="409680" cy="333360"/>
          </a:xfrm>
          <a:prstGeom prst="triangle">
            <a:avLst>
              <a:gd name="adj" fmla="val 4998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397160" y="1793880"/>
            <a:ext cx="9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67000" y="1658880"/>
            <a:ext cx="2198880" cy="275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traces, inter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97120" y="179388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67320" y="179856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99360" y="179388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068560" y="1090440"/>
            <a:ext cx="907920" cy="1463760"/>
            <a:chOff x="2068560" y="1090440"/>
            <a:chExt cx="907920" cy="1463760"/>
          </a:xfrm>
        </p:grpSpPr>
        <p:sp>
          <p:nvSpPr>
            <p:cNvPr id="66" name=""/>
            <p:cNvSpPr/>
            <p:nvPr/>
          </p:nvSpPr>
          <p:spPr>
            <a:xfrm>
              <a:off x="2068560" y="1096920"/>
              <a:ext cx="900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6480" y="1090440"/>
              <a:ext cx="0" cy="145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100240" y="2554200"/>
              <a:ext cx="868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834160" y="1062000"/>
            <a:ext cx="909360" cy="1463760"/>
            <a:chOff x="5834160" y="1062000"/>
            <a:chExt cx="909360" cy="1463760"/>
          </a:xfrm>
        </p:grpSpPr>
        <p:sp>
          <p:nvSpPr>
            <p:cNvPr id="70" name=""/>
            <p:cNvSpPr/>
            <p:nvPr/>
          </p:nvSpPr>
          <p:spPr>
            <a:xfrm flipH="1">
              <a:off x="5843160" y="1068480"/>
              <a:ext cx="900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34160" y="1062000"/>
              <a:ext cx="0" cy="145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43520" y="2525760"/>
              <a:ext cx="868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066400" y="2155680"/>
            <a:ext cx="71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22360" y="2155680"/>
            <a:ext cx="90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16360" y="2811600"/>
            <a:ext cx="1271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I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94240" y="3205080"/>
            <a:ext cx="1815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an of this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41880" y="2641320"/>
            <a:ext cx="925560" cy="339840"/>
            <a:chOff x="5141880" y="2641320"/>
            <a:chExt cx="925560" cy="339840"/>
          </a:xfrm>
        </p:grpSpPr>
        <p:sp>
          <p:nvSpPr>
            <p:cNvPr id="78" name=""/>
            <p:cNvSpPr/>
            <p:nvPr/>
          </p:nvSpPr>
          <p:spPr>
            <a:xfrm>
              <a:off x="5141880" y="2981160"/>
              <a:ext cx="91764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6067440" y="2641320"/>
              <a:ext cx="0" cy="32076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24120" y="2641320"/>
            <a:ext cx="927000" cy="339840"/>
            <a:chOff x="2724120" y="2641320"/>
            <a:chExt cx="927000" cy="339840"/>
          </a:xfrm>
        </p:grpSpPr>
        <p:sp>
          <p:nvSpPr>
            <p:cNvPr id="81" name=""/>
            <p:cNvSpPr/>
            <p:nvPr/>
          </p:nvSpPr>
          <p:spPr>
            <a:xfrm flipH="1">
              <a:off x="2733840" y="2981160"/>
              <a:ext cx="91728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724120" y="2641320"/>
              <a:ext cx="0" cy="32076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460840" y="3025440"/>
            <a:ext cx="1508400" cy="340200"/>
            <a:chOff x="5460840" y="3025440"/>
            <a:chExt cx="1508400" cy="340200"/>
          </a:xfrm>
        </p:grpSpPr>
        <p:sp>
          <p:nvSpPr>
            <p:cNvPr id="84" name=""/>
            <p:cNvSpPr/>
            <p:nvPr/>
          </p:nvSpPr>
          <p:spPr>
            <a:xfrm>
              <a:off x="5460840" y="3365640"/>
              <a:ext cx="149544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969240" y="3025440"/>
              <a:ext cx="0" cy="320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998720" y="3025440"/>
            <a:ext cx="1509120" cy="340200"/>
            <a:chOff x="1998720" y="3025440"/>
            <a:chExt cx="1509120" cy="340200"/>
          </a:xfrm>
        </p:grpSpPr>
        <p:sp>
          <p:nvSpPr>
            <p:cNvPr id="87" name=""/>
            <p:cNvSpPr/>
            <p:nvPr/>
          </p:nvSpPr>
          <p:spPr>
            <a:xfrm flipH="1">
              <a:off x="2012760" y="3365640"/>
              <a:ext cx="149508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998720" y="3025440"/>
              <a:ext cx="0" cy="320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6280" y="-360"/>
            <a:ext cx="778356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Why AP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360" y="685800"/>
            <a:ext cx="8510760" cy="42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ed: A way for customers to use emerging modeling techniques without being locked into specific simulators. IBIS is always playing catch-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“escape hatch” should meet the following crite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flexible enough to support unforeseen modeling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vendor 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 IBIS simulators to meet leading edge needs quick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C-procedural interface can meet these needs, and provide support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tions with arbitrary math 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-based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ed full transistor level models compiled with simulation kernel: SPICE or proprietary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D modeling of specific I/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input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compensation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412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XMI: External/Executable Model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8200" y="1295280"/>
            <a:ext cx="864072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arbitrary models to interoperate with IBIS sim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model portability between compliant simulators, though they might be platform-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model inter-operability. I.e., “X-models” from different vendors can coexist in same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IP. E.g., encrypted C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840" y="245880"/>
            <a:ext cx="7623000" cy="61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Possible Parallel: O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3880" y="975960"/>
            <a:ext cx="853128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parallel from the logic domain: “Open Model Interface,”  IEEE 14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offer hints at how to implement X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d logical issues that have analogies in the analog wor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, parameter exchange, instantiation issues, pinlists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-way passing of simulation stimulus and results between simulator and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or multiple models, model libraries, independent simulation ker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ing selected internal model structure visible to parent simulator and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I would likely be simp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or timestep only, not events and c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r state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er variables of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1440" y="-360"/>
            <a:ext cx="76662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A Quick Look at O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0720" y="4420800"/>
            <a:ext cx="8769240" cy="14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s interface to parent simulator through a Model Manager, which controls and supports an arbitrary number of model instances. Multiple Model Managers allow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 between the Model Manager and its Models is priv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81200" y="820800"/>
            <a:ext cx="78152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38240"/>
            <a:ext cx="778356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OMI,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7800" y="4374720"/>
            <a:ext cx="726120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odel can be packaged separately or as part of a model libr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odel supplier may provide a model and a model manager as a single executable, as separate components, or as a collection of linkabl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561024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D6 Engineering Computing</dc:creator>
  <dc:description/>
  <dc:language>en-US</dc:language>
  <cp:lastModifiedBy>MD6 Engineering Computing</cp:lastModifiedBy>
  <cp:lastPrinted>2000-09-11T20:32:25Z</cp:lastPrinted>
  <dcterms:modified xsi:type="dcterms:W3CDTF">2000-09-11T20:32:30Z</dcterms:modified>
  <cp:revision>68</cp:revision>
  <dc:subject/>
  <dc:title>No Slide Title</dc:title>
</cp:coreProperties>
</file>