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812664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640" y="3604680"/>
            <a:ext cx="812664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12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2640" y="3604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7120" y="3604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0160" y="1228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040" y="1228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2640" y="3604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0160" y="3604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040" y="3604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2640" y="1228680"/>
            <a:ext cx="812664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812664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396576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120" y="1228680"/>
            <a:ext cx="396576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99520"/>
            <a:ext cx="909000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120" y="1228680"/>
            <a:ext cx="396576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640" y="3604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2640" y="1228680"/>
            <a:ext cx="812664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396576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12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7120" y="3604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12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2640" y="3604680"/>
            <a:ext cx="812664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812664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640" y="3604680"/>
            <a:ext cx="812664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712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2640" y="3604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7120" y="3604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0160" y="1228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08040" y="1228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640" y="3604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0160" y="3604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08040" y="3604680"/>
            <a:ext cx="261648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812664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396576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120" y="1228680"/>
            <a:ext cx="396576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299520"/>
            <a:ext cx="909000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120" y="1228680"/>
            <a:ext cx="396576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640" y="3604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396576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12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7120" y="3604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264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120" y="1228680"/>
            <a:ext cx="396576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2640" y="3604680"/>
            <a:ext cx="8126640" cy="21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2640" y="1228680"/>
            <a:ext cx="812664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lnSpc>
                <a:spcPct val="85000"/>
              </a:lnSpc>
              <a:spcBef>
                <a:spcPts val="1749"/>
              </a:spcBef>
              <a:buClr>
                <a:srgbClr val="fdde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lnSpc>
                <a:spcPct val="85000"/>
              </a:lnSpc>
              <a:spcBef>
                <a:spcPts val="1749"/>
              </a:spcBef>
              <a:buClr>
                <a:srgbClr val="fdde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lnSpc>
                <a:spcPct val="8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lnSpc>
                <a:spcPct val="8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7480" y="6485040"/>
            <a:ext cx="3365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itle  - Rev. # - Date 199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40360" y="6486480"/>
            <a:ext cx="87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0A13B80-2A1C-4647-ABA5-CC65F2B4B1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79360"/>
            <a:ext cx="9144000" cy="0"/>
          </a:xfrm>
          <a:prstGeom prst="line">
            <a:avLst/>
          </a:prstGeom>
          <a:ln w="28440">
            <a:solidFill>
              <a:srgbClr val="a1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40400"/>
            <a:ext cx="6859440" cy="0"/>
          </a:xfrm>
          <a:prstGeom prst="line">
            <a:avLst/>
          </a:prstGeom>
          <a:ln w="28440">
            <a:solidFill>
              <a:srgbClr val="a1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661240" y="6429240"/>
            <a:ext cx="482760" cy="0"/>
          </a:xfrm>
          <a:prstGeom prst="line">
            <a:avLst/>
          </a:prstGeom>
          <a:ln w="28440">
            <a:solidFill>
              <a:srgbClr val="a1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966000" y="6124680"/>
            <a:ext cx="1600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6966000" y="6124680"/>
            <a:ext cx="160020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268800"/>
            <a:ext cx="7772400" cy="120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79360"/>
            <a:ext cx="9144000" cy="0"/>
          </a:xfrm>
          <a:prstGeom prst="line">
            <a:avLst/>
          </a:prstGeom>
          <a:ln w="28440">
            <a:solidFill>
              <a:srgbClr val="a1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83320"/>
            <a:ext cx="9144000" cy="0"/>
          </a:xfrm>
          <a:prstGeom prst="line">
            <a:avLst/>
          </a:prstGeom>
          <a:ln w="28440">
            <a:solidFill>
              <a:srgbClr val="a1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1365120"/>
            <a:ext cx="41148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16040" y="1285920"/>
            <a:ext cx="4114800" cy="1384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1250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dde4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fdde4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268800"/>
            <a:ext cx="7772400" cy="120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BIS Accuracy Specification Overview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150640" y="4751280"/>
            <a:ext cx="4846680" cy="66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BIS Summit Meeting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ctober 14, 1999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4244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BIS Accuracy Spec.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57400" y="1399680"/>
            <a:ext cx="6973920" cy="34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Goal - Actual Measurement vs Simulatio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1250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easurement Correlated with Internal Reference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1250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nternal Reference Correlated with Simulation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easuremen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1250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est Board Setups, Equipment Accuracy &amp; Limits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1250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Cap Measurement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4244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BIS Accuracy Spec. (Cont’d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7400" y="1399680"/>
            <a:ext cx="6973920" cy="34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rrelatio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040040" indent="-207720">
              <a:lnSpc>
                <a:spcPct val="85000"/>
              </a:lnSpc>
              <a:spcBef>
                <a:spcPts val="1250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Level 1 (Random Part) - Envelope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040040" indent="-207720">
              <a:lnSpc>
                <a:spcPct val="85000"/>
              </a:lnSpc>
              <a:spcBef>
                <a:spcPts val="1250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Level 2 (Known Typ) - Envelope and Overlay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040040" indent="-207720">
              <a:lnSpc>
                <a:spcPct val="85000"/>
              </a:lnSpc>
              <a:spcBef>
                <a:spcPts val="1250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Level 3 (Typ, Min, Max) - Envelope and Overlay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76080" indent="-25992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etrics 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040040" indent="-207720">
              <a:lnSpc>
                <a:spcPct val="85000"/>
              </a:lnSpc>
              <a:spcBef>
                <a:spcPts val="1250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E.g. Figure of Merit = 95%)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76080" indent="-25992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litude or Time Correlation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12120" indent="-31212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ocument (Accuracy Trailer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04004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04004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4244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alid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7400" y="1399680"/>
            <a:ext cx="6973920" cy="34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mpare against Model Data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23880" indent="-23976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ata Values (e.g., C_comp)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23880" indent="-23976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tored Tables (e.g., [Pullup])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23880" indent="-23976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BD Topology (Visual Inspection)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88000" indent="-28800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mpare against Simulation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23880" indent="-23976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Resistive Loads at Buffer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23880" indent="-23976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Resistive Loads Outside of Package or EBD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23880" indent="-23976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Representative Test Nets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6238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442440"/>
            <a:ext cx="9090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alidation (Cont’d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7400" y="1399680"/>
            <a:ext cx="6973920" cy="34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1749"/>
              </a:spcBef>
              <a:buClr>
                <a:srgbClr val="a2000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able Comparison Metrics &amp; Issue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564480" indent="-21708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ompare Summations against Reference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868680" indent="-173520">
              <a:lnSpc>
                <a:spcPct val="85000"/>
              </a:lnSpc>
              <a:spcBef>
                <a:spcPts val="1250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Clamps plus Pullup/Pulldown Tables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868680" indent="-173520">
              <a:lnSpc>
                <a:spcPct val="85000"/>
              </a:lnSpc>
              <a:spcBef>
                <a:spcPts val="1250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nternal RTT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564480" indent="-21708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Processed Data (%V%time vs Waveform)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564480" indent="-217080">
              <a:lnSpc>
                <a:spcPct val="85000"/>
              </a:lnSpc>
              <a:spcBef>
                <a:spcPts val="1500"/>
              </a:spcBef>
              <a:buClr>
                <a:srgbClr val="a2000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ompare Fixed Tables Against Reference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868680" indent="-173520">
              <a:lnSpc>
                <a:spcPct val="85000"/>
              </a:lnSpc>
              <a:spcBef>
                <a:spcPts val="1250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on-monotonic Behavior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868680" indent="-173520">
              <a:lnSpc>
                <a:spcPct val="85000"/>
              </a:lnSpc>
              <a:spcBef>
                <a:spcPts val="1250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Glitch Removal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868680" indent="-173520">
              <a:lnSpc>
                <a:spcPct val="85000"/>
              </a:lnSpc>
              <a:spcBef>
                <a:spcPts val="1250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Extrapolation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868680" indent="-173520">
              <a:lnSpc>
                <a:spcPct val="85000"/>
              </a:lnSpc>
              <a:spcBef>
                <a:spcPts val="1250"/>
              </a:spcBef>
              <a:buClr>
                <a:srgbClr val="a2000c"/>
              </a:buClr>
              <a:buSzPct val="13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iltered (Points Removed)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2T23:03:28Z</dcterms:created>
  <dc:creator>Ruth Lorenzetti</dc:creator>
  <dc:description/>
  <dc:language>en-US</dc:language>
  <cp:lastModifiedBy>bob</cp:lastModifiedBy>
  <cp:lastPrinted>1999-04-28T10:19:46Z</cp:lastPrinted>
  <dcterms:modified xsi:type="dcterms:W3CDTF">1999-10-18T19:46:34Z</dcterms:modified>
  <cp:revision>105</cp:revision>
  <dc:subject/>
  <dc:title>Title</dc:title>
</cp:coreProperties>
</file>