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ED8-F585-4423-89BC-711B983C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A01-8EB0-4D33-B4FE-7539815C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A182-D770-40F8-8919-20B31637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840-1B39-4667-8C29-AB14686F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4938-D9FA-47E9-AA68-5D14296A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D15D-9180-48B4-9359-275E37C2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3E65-9292-412C-9457-9471D36D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AD9F-C35D-4319-8034-565C142A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F45A-A055-4F6C-A29B-B2106355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AD78-8FC9-4C54-AB46-83C67BE7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67C6-2BE4-474E-9225-B5DF5EF9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14A-3DA9-4AC7-9A99-FBA70C84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1B7E-15EE-4647-91E8-B6306190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1E8E-345C-498A-A90A-C97BA33F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CA8A-D314-46AB-AE92-46837005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4435-13B1-4FEE-9425-7C26BFD8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BD64-F8E5-48E2-94C7-6382ACCD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1CE-CC54-46B5-8D62-126D1301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E83-418D-408A-AE6B-D5653A5F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3B4-7C43-4F6B-B203-57420D04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B9AC-9071-439A-835B-F29255E9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F0A0-7DF1-43D7-9CDB-6558A28B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4D1-50D9-4D95-8DA8-9BD87200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3E33-105D-47C0-B830-9F12ECC0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10/12/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IBIS Summit Fall ‘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A45F-D963-4173-B421-DE571EEE3E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8537-79C4-4889-8DBD-A9C4D22148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havioral Receiv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ound Table Discussion Not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BIS Summit, Fall ‘9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ephen Peters, Intel Corp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20D8-8743-44B7-9EB6-A6E41EAAF6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And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ort started with June IBIS sum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ing group 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ard Mellitz, Arpad Muranyi, Stephen Peters (Intel) DC Sessions (Phili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 in July, results was four related propos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rd 61 - input characte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rd 62 - enhance receiver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rd 63 - documentation of setup/hold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rd 64 - (unwritten) receiver validation wave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E01-33A8-4D8A-A90C-140870CD33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rd 61 - Characterizing a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ory is that receiver input -&gt; output delay is dependent on input overdrive and edge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tables for ‘delta’ delay vs. overdrive and ‘delta’ delay vs. edge r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ption: with this data simulators can calculate parameters to a behavioral mod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7A52-B265-4930-9198-FB3686A882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rd 61 - Characterizing a Receiver (cont.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434960" y="1886040"/>
          <a:ext cx="622332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1886040"/>
                    <a:ext cx="622332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1D8-B450-4154-9633-E87C44D516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rd 61 - Characterizing a Receiver (cont.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ya gonna use the da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 up tabl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efficients to an equ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eak/select a standard mode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data is enoug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requires enough to cover “most” cond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many tables, how does user know it’s enough for 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put Model or equation yet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A54-DF85-4610-AACB-9F8D013F0F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rd 62 - Enhanced Receiver Specif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: traditional Vinh/Vinl are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to much slop between high and low mar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lue as to what happens for signal ring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’t adjust threshold for VCC/process vari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: Allow user to spec four margins + Vth shift due to VCC/process var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CF46-3971-406F-81A3-CFE80D8682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rd 62 - Enhanced Receiver Specifications (cont.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98320" y="1886040"/>
          <a:ext cx="789624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" y="1886040"/>
                    <a:ext cx="789624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D944-85C0-48E3-BA87-BF10D8214B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rd 62 - Enhanced Receiver Specifications (cont.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nh/Vinl specified wrt threshold point (V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h allowed to vary with process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inh_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inh_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 VCC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th_sensi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Vth to be slaved to external supply (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rnal 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keywor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keyword needed, can’t use [Model Spec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4E19-104A-481F-AA91-C6CB2FFB42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rd 63 - Document Setup and Hold condi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s under what conditions a devices setup/hold time are spec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ng method similar to Bird63 (offset from threshold volta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lew rates needed for setup and hol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h=0 means differential input.  Is there a better way to indicate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142-9738-4130-8515-084F62F0C9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19:53:25Z</dcterms:created>
  <dc:creator>MD6 Engineering Computing</dc:creator>
  <dc:description/>
  <dc:language>en-US</dc:language>
  <cp:lastModifiedBy>MD6 Engineering Computing</cp:lastModifiedBy>
  <cp:lastPrinted>1999-10-13T00:34:37Z</cp:lastPrinted>
  <dcterms:modified xsi:type="dcterms:W3CDTF">1999-10-13T00:41:03Z</dcterms:modified>
  <cp:revision>10</cp:revision>
  <dc:subject/>
  <dc:title>Behavioral Receivers</dc:title>
</cp:coreProperties>
</file>