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016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0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26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016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0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9520"/>
            <a:ext cx="90900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16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0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6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16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0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99520"/>
            <a:ext cx="90900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Bef>
                <a:spcPts val="1749"/>
              </a:spcBef>
              <a:buClr>
                <a:srgbClr val="fdd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lnSpc>
                <a:spcPct val="85000"/>
              </a:lnSpc>
              <a:spcBef>
                <a:spcPts val="1749"/>
              </a:spcBef>
              <a:buClr>
                <a:srgbClr val="fdd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480" y="6485040"/>
            <a:ext cx="3808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posed Improvements to the SPICE to IBIS Tool - 10/14/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40360" y="6486480"/>
            <a:ext cx="87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2BA269-8BCD-4A33-AF60-34BA1BEC62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8584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40400"/>
            <a:ext cx="685944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61240" y="6429240"/>
            <a:ext cx="48276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66000" y="6124680"/>
            <a:ext cx="1600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966000" y="6124680"/>
            <a:ext cx="160020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26880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52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8332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365120"/>
            <a:ext cx="41148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6040" y="1285920"/>
            <a:ext cx="4114800" cy="1384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927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posed Improvements to the SPICE to IBIS T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19580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October 14,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16040" y="1285920"/>
            <a:ext cx="4114800" cy="138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8332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57240" y="5110200"/>
            <a:ext cx="52707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Mohamed Nas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Times New Roman"/>
              </a:rPr>
              <a:t>mohamed_nasef@mentor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738360" y="471600"/>
            <a:ext cx="7980120" cy="5611680"/>
            <a:chOff x="738360" y="471600"/>
            <a:chExt cx="7980120" cy="5611680"/>
          </a:xfrm>
        </p:grpSpPr>
        <p:grpSp>
          <p:nvGrpSpPr>
            <p:cNvPr id="134" name=""/>
            <p:cNvGrpSpPr/>
            <p:nvPr/>
          </p:nvGrpSpPr>
          <p:grpSpPr>
            <a:xfrm>
              <a:off x="738360" y="471600"/>
              <a:ext cx="4786200" cy="5611680"/>
              <a:chOff x="738360" y="471600"/>
              <a:chExt cx="4786200" cy="5611680"/>
            </a:xfrm>
          </p:grpSpPr>
          <p:pic>
            <p:nvPicPr>
              <p:cNvPr id="135" name="fgnd_comp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360" y="471600"/>
                <a:ext cx="4786200" cy="27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rvdd_comp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360" y="3370320"/>
                <a:ext cx="4778280" cy="271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"/>
            <p:cNvSpPr/>
            <p:nvPr/>
          </p:nvSpPr>
          <p:spPr>
            <a:xfrm>
              <a:off x="5718240" y="1527120"/>
              <a:ext cx="30002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alling waveform comparis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8240" y="4481640"/>
              <a:ext cx="30002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ing waveform comparis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12640" y="635040"/>
            <a:ext cx="8126640" cy="55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fferent simulation time for each waveform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 maximum number of points per table is 100 points, so, the shorter the simulation time, the better the resolution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tool, the minimum limit of the simulation time is set by the slowest waveform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improved tool, each waveform has its own simulation time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one by modifying the [Rising Waveform] and the [Falling Waveform] keywords sub-parameters in the *.s2i to be: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4d4d4d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4d4d4d"/>
                </a:solidFill>
                <a:latin typeface="Times New Roman"/>
              </a:rPr>
              <a:t>R_fix, V_fix_typ, V_fix_min, V_fix_max, C_fix, L_fix, R_dut, L_dut, C_dut, </a:t>
            </a:r>
            <a:r>
              <a:rPr b="1" lang="en-US" sz="1500" spc="-1" strike="noStrike">
                <a:solidFill>
                  <a:srgbClr val="cf0e30"/>
                </a:solidFill>
                <a:latin typeface="Times New Roman"/>
              </a:rPr>
              <a:t>sim_time</a:t>
            </a:r>
            <a:endParaRPr b="1" lang="en-US" sz="15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12640" y="635040"/>
            <a:ext cx="8126640" cy="55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9129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9129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9129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9129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912960" indent="0">
              <a:lnSpc>
                <a:spcPct val="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as in the original tool the simulation time for all the waveforms will be 16ns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360" y="6081840"/>
            <a:ext cx="34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EDA Today, 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90680" y="1311120"/>
            <a:ext cx="6692760" cy="133056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[Rising Waveform] 50 0 0 0 NA NA NA NA NA 12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[Rising Waveform] 50 3.3 3.0 3.6 NA NA NA NA NA 3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[Falling Waveform] 50 3.3 3.0 3.6 NA NA NA NA NA 16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[Falling Waveform] 50 0 0 0 NA NA NA NA NA 4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voiding the double counting in VI curves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ing the internal pulling behavio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trapolating VI curv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aveforms with higher resolution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fferent simulation time for different waveform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8440" y="368280"/>
            <a:ext cx="909000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c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6360" y="6081840"/>
            <a:ext cx="34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EDA Today, 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7400" y="1399680"/>
            <a:ext cx="6973920" cy="34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I Curves Improvements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aveform Improvement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c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8560" y="1399680"/>
            <a:ext cx="7293240" cy="44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voiding the double counting in the pull up and pull down VI curv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ing the internal pulling termination behavio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I curves extrapolation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tter waveform’s resolution for better IBIS models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fferent simulation time for each waveform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c"/>
                </a:solidFill>
                <a:latin typeface="Arial"/>
              </a:rPr>
              <a:t>VI Curves Improve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1880" y="1400040"/>
            <a:ext cx="77263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voiding double counting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3-state buffers, the original tool double counts the power clamp in the pull down and the ground clamp in the pull up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void this double counting, the improved tool combines the power &amp; ground clamp simulations into one DC sweep (from -Vcc to 2Vcc) and then subtracts it from both the pull up and the pull down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&amp; ground clamp curves can be extracted from this sweep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01560" y="1011240"/>
            <a:ext cx="8075880" cy="4349880"/>
            <a:chOff x="601560" y="1011240"/>
            <a:chExt cx="8075880" cy="4349880"/>
          </a:xfrm>
        </p:grpSpPr>
        <p:pic>
          <p:nvPicPr>
            <p:cNvPr id="100" name="pd_with_clamps_40" descr=""/>
            <p:cNvPicPr/>
            <p:nvPr/>
          </p:nvPicPr>
          <p:blipFill>
            <a:blip r:embed="rId1"/>
            <a:stretch/>
          </p:blipFill>
          <p:spPr>
            <a:xfrm>
              <a:off x="601560" y="1011240"/>
              <a:ext cx="320832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cgc_40" descr=""/>
            <p:cNvPicPr/>
            <p:nvPr/>
          </p:nvPicPr>
          <p:blipFill>
            <a:blip r:embed="rId2"/>
            <a:stretch/>
          </p:blipFill>
          <p:spPr>
            <a:xfrm>
              <a:off x="601560" y="3548160"/>
              <a:ext cx="3208320" cy="181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4027320" y="3106800"/>
              <a:ext cx="453960" cy="171360"/>
              <a:chOff x="4027320" y="3106800"/>
              <a:chExt cx="453960" cy="171360"/>
            </a:xfrm>
          </p:grpSpPr>
          <p:sp>
            <p:nvSpPr>
              <p:cNvPr id="103" name=""/>
              <p:cNvSpPr/>
              <p:nvPr/>
            </p:nvSpPr>
            <p:spPr>
              <a:xfrm>
                <a:off x="4027320" y="3106800"/>
                <a:ext cx="453960" cy="0"/>
              </a:xfrm>
              <a:prstGeom prst="line">
                <a:avLst/>
              </a:prstGeom>
              <a:ln w="7632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27320" y="3278160"/>
                <a:ext cx="453960" cy="0"/>
              </a:xfrm>
              <a:prstGeom prst="line">
                <a:avLst/>
              </a:prstGeom>
              <a:ln w="7632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890720" y="3192480"/>
              <a:ext cx="45396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pd_comparison_50" descr=""/>
            <p:cNvPicPr/>
            <p:nvPr/>
          </p:nvPicPr>
          <p:blipFill>
            <a:blip r:embed="rId3"/>
            <a:stretch/>
          </p:blipFill>
          <p:spPr>
            <a:xfrm>
              <a:off x="4675320" y="2057400"/>
              <a:ext cx="4002120" cy="22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211360" y="775800"/>
            <a:ext cx="2946600" cy="9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Times New Roman"/>
              </a:rPr>
              <a:t>Original tool pull down curve</a:t>
            </a:r>
            <a:endParaRPr b="1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ower clamp double counting</a:t>
            </a:r>
            <a:endParaRPr b="1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8840" y="1413000"/>
            <a:ext cx="1317600" cy="1073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4800600"/>
            <a:ext cx="3000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Times New Roman"/>
              </a:rPr>
              <a:t>Improved tool pull down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Times New Roman"/>
              </a:rPr>
              <a:t>No double cou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385040" y="3510000"/>
            <a:ext cx="380880" cy="12333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3840" y="606600"/>
            <a:ext cx="36874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ll down curve including clam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3440" y="5443560"/>
            <a:ext cx="3687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wer &amp; Ground clamp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2640" y="684360"/>
            <a:ext cx="812664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ing internal pulling termin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iginal tool uses the same technique for the buffers having or not having internal pulling (up or down) termination giving inaccurate IBIS models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proved tool puts the internal pulling down behavior in the ground clamp table and the internal pulling up behavior in the power clamp table giving accurate IBIS models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ment in the *.s2i file is used so that the tool could recognize that this buffer has internal pulling termination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0440" y="5100480"/>
            <a:ext cx="6649920" cy="62568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[model type]</a:t>
            </a: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3-st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| internal pull up termin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57400" y="3987720"/>
            <a:ext cx="69739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74840" y="1427040"/>
            <a:ext cx="8173800" cy="2619360"/>
            <a:chOff x="474840" y="1427040"/>
            <a:chExt cx="8173800" cy="2619360"/>
          </a:xfrm>
        </p:grpSpPr>
        <p:pic>
          <p:nvPicPr>
            <p:cNvPr id="117" name="gc_int_pu" descr=""/>
            <p:cNvPicPr/>
            <p:nvPr/>
          </p:nvPicPr>
          <p:blipFill>
            <a:blip r:embed="rId1"/>
            <a:stretch/>
          </p:blipFill>
          <p:spPr>
            <a:xfrm>
              <a:off x="474840" y="1776240"/>
              <a:ext cx="401616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c_int_pu" descr=""/>
            <p:cNvPicPr/>
            <p:nvPr/>
          </p:nvPicPr>
          <p:blipFill>
            <a:blip r:embed="rId2"/>
            <a:stretch/>
          </p:blipFill>
          <p:spPr>
            <a:xfrm>
              <a:off x="4632480" y="1776240"/>
              <a:ext cx="401616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865840" y="1427040"/>
              <a:ext cx="155088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wer Cl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6400" y="1427040"/>
              <a:ext cx="15512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ound Cl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8240" y="835200"/>
            <a:ext cx="8126280" cy="41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Times New Roman"/>
              </a:rPr>
              <a:t>Internal pull up example</a:t>
            </a:r>
            <a:endParaRPr b="1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32520" y="3414240"/>
            <a:ext cx="405000" cy="9320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4387680"/>
            <a:ext cx="30002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al pull up behavior exis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the power clamp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0480" y="4387680"/>
            <a:ext cx="30002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al pull up behavior exis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the ground clamp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022480" y="2851200"/>
            <a:ext cx="441360" cy="1495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2640" y="684360"/>
            <a:ext cx="812664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I curves extrapo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ome cases, we may need to extrapolate the VI cur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hree options for extrapo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extrap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rizontal extrap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xtrap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d_tri_45" descr=""/>
          <p:cNvPicPr/>
          <p:nvPr/>
        </p:nvPicPr>
        <p:blipFill>
          <a:blip r:embed="rId1"/>
          <a:stretch/>
        </p:blipFill>
        <p:spPr>
          <a:xfrm>
            <a:off x="649440" y="2187720"/>
            <a:ext cx="3597120" cy="2027160"/>
          </a:xfrm>
          <a:prstGeom prst="rect">
            <a:avLst/>
          </a:prstGeom>
          <a:ln w="0">
            <a:noFill/>
          </a:ln>
        </p:spPr>
      </p:pic>
      <p:pic>
        <p:nvPicPr>
          <p:cNvPr id="128" name="pd_tri_extra" descr=""/>
          <p:cNvPicPr/>
          <p:nvPr/>
        </p:nvPicPr>
        <p:blipFill>
          <a:blip r:embed="rId2"/>
          <a:stretch/>
        </p:blipFill>
        <p:spPr>
          <a:xfrm>
            <a:off x="4697280" y="2201760"/>
            <a:ext cx="35989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c"/>
                </a:solidFill>
                <a:latin typeface="Arial"/>
              </a:rPr>
              <a:t>Waveform Improve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41400" y="2182680"/>
          <a:ext cx="7261200" cy="371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2182680"/>
                    <a:ext cx="726120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80960" y="1268280"/>
            <a:ext cx="77263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tter waveform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2T23:03:28Z</dcterms:created>
  <dc:creator>Ruth Lorenzetti</dc:creator>
  <dc:description/>
  <dc:language>en-US</dc:language>
  <cp:lastModifiedBy>mohamedn</cp:lastModifiedBy>
  <cp:lastPrinted>1999-10-06T23:38:09Z</cp:lastPrinted>
  <dcterms:modified xsi:type="dcterms:W3CDTF">1999-10-07T21:41:25Z</dcterms:modified>
  <cp:revision>102</cp:revision>
  <dc:subject/>
  <dc:title>Title</dc:title>
</cp:coreProperties>
</file>