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6692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540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82844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6692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0540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828440" y="3098880"/>
            <a:ext cx="66200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6692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05400" y="412704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82844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06692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05400" y="4933080"/>
            <a:ext cx="213156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828440" y="3098880"/>
            <a:ext cx="66200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20720" y="493308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0720" y="4127040"/>
            <a:ext cx="323028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933080"/>
            <a:ext cx="6620040" cy="7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3880" y="1019160"/>
            <a:ext cx="0" cy="538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33320" y="457200"/>
            <a:ext cx="59817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5867280"/>
            <a:ext cx="401400" cy="201600"/>
          </a:xfrm>
          <a:custGeom>
            <a:avLst/>
            <a:gdLst/>
            <a:ahLst/>
            <a:rect l="l" t="t" r="r" b="b"/>
            <a:pathLst>
              <a:path w="253" h="127">
                <a:moveTo>
                  <a:pt x="0" y="126"/>
                </a:moveTo>
                <a:lnTo>
                  <a:pt x="0" y="0"/>
                </a:lnTo>
                <a:lnTo>
                  <a:pt x="252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77720" y="593424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A8F2-95F6-47A5-8C48-958121BF9162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05720" y="63828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0440" y="644400"/>
            <a:ext cx="446040" cy="455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0640" y="644400"/>
            <a:ext cx="3427200" cy="374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"/>
          <p:cNvSpPr/>
          <p:nvPr/>
        </p:nvSpPr>
        <p:spPr>
          <a:xfrm>
            <a:off x="6874920" y="37980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 Integrity -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0764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3320" y="457200"/>
            <a:ext cx="59817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1092240"/>
            <a:ext cx="0" cy="530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63828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0440" y="644400"/>
            <a:ext cx="446040" cy="455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0640" y="644400"/>
            <a:ext cx="3427200" cy="374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438280" cy="1304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6280" algn="ctr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wprod2.it.usr.com/Iso/Main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4876920"/>
            <a:ext cx="4495680" cy="12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avigating IBIS @ 3Com</a:t>
            </a:r>
            <a:br>
              <a:rPr sz="34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oy Leventhal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/28/99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47-797-215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leventh@mw.3com.com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828800"/>
            <a:ext cx="365616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2133720"/>
          <a:ext cx="328608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133720"/>
                    <a:ext cx="3286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002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Component Request For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03360" y="25146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64160" indent="-164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helps communicate between Design, Signal Integrity and Component Engineering (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-164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deals directly with the suppliers and can inform them of our IBIS Model Standard and follow through on negotiated purchase spec for IBIS mode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0160" y="24382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8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017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r Systems IBIS Model Standar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3360" y="22860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ains 3Com’s IBIS model requirements plus information on getting help, generating data, creating models, correcting mistakes, and verifying model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ference is made to the current IBIS Committee Standard (which is used extensively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tion 2 of this talk covers this Standard in more detai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tion 3 of this talk covers a Syntax Guide which explains field sizes, allowable characters, formatting, etc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0160" y="24382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1371240"/>
            <a:ext cx="7315200" cy="8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017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Model Creation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Updating Proc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35000" y="2438280"/>
          <a:ext cx="24512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2438280"/>
                    <a:ext cx="24512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s the model creator/updater through the making of a mod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ains the purpose, scope, definitions, responsibilities, applicable documents and procedure to foll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chnical detail is contained in the E0173 standard and an “IBIS Syntax Guide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8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017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Model Verification Proc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eps the model tester through the verifying of a mod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lains purpose, scope, definitions, responsibilities, applicable documents and procedure to follo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lains the 4 levels of model approval/verific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fers to the E0173 standard and an “IBIS Syntax Guide”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60520" y="2438280"/>
          <a:ext cx="34005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438280"/>
                    <a:ext cx="34005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Other ISO-IBI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78080" y="2644920"/>
          <a:ext cx="3574800" cy="35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2644920"/>
                    <a:ext cx="357480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05160" y="2437920"/>
            <a:ext cx="38084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0001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rrier New Component Approval Proce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0167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mulation Model Procurement Proces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067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mulation Request For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Q0001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rrier Quality Manua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Q0002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rrier Systems Systems Manual Part 4: Design 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3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yste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BIS Model Standar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in Idea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arrier Standard is built around the following main idea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minimum requirem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up other parameters as optional, or, “add-on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oup related IBIS parameters into “threads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tables, notes, white space, etc., as appropri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where to get help and additional inform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methods for generating da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methods for generating and checking an IBIS fi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ist some common mistakes and how to correct th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in verification methods and how to apply approval level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inimum Requirement Grouping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2209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eneral (Header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BIS Version, File Name, File Rev, Date, Source, Copyright, Manufactur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nent, Voltage Range, Temperature R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ckage and P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ckage, Pin (incl. Rpkg-Cpkg-Lpkg), Rac, Cac, Rgnd, Rpower, Diff P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I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, Model_type, Polarity, Vinl, Vinh, </a:t>
            </a: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Vol, Voh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comp, Vref, Vmeas, Rref, Cref, </a:t>
            </a: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Technology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ullup, Pulldown, POWER Clamp, GND Clamp, Model Select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T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mp, dV/dt_r, dV/dt_f, Rload, Driver Schedu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dd-Ons for Above Grouping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0160" y="2209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eneral (Header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ent Char, Notes, Disclaim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_location, Timing_loc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ckage and P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pin-Cpin-Lpin, Signal_name, Package Model (incl. sub) Pin Mapping (incl. sub) vdiff &amp; tdelay, Number of Sections, Series Pin Mappings, Series Switch Group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I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able, Pullup/Pulldown/Power Clamp/GND Clamp Reference, Model Spec, GND &amp; POWER Pulse Table, TTgnd, TTpow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 V-T Behavi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ising Waveform, Falling Waveform, R-L-C_fixture, R-L-C_dut, V_fi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able Example 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2438280"/>
          <a:ext cx="63039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6303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presentation draws heavily on (uses) documents prepared by the IBIS Committe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my recommendations for making the IBIS Spec clearer for newcomers to it. By doing so, I hope to aid in its adoption by more of the electronics industry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t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1480" y="3333600"/>
          <a:ext cx="7320240" cy="23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3333600"/>
                    <a:ext cx="73202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846360" cy="855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tting Help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971800" y="1981080"/>
          <a:ext cx="39164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3916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nerating Dat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2514600"/>
          <a:ext cx="619740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6197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nerating a Fi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8120" y="2133720"/>
          <a:ext cx="3889080" cy="39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133720"/>
                    <a:ext cx="38890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ore Help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5720" y="2438280"/>
          <a:ext cx="654228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2438280"/>
                    <a:ext cx="6542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istak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2057400"/>
          <a:ext cx="48974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057400"/>
                    <a:ext cx="4897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pproval Level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71600" y="2209680"/>
          <a:ext cx="7315200" cy="38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3152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4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BIS Model Syntax Gui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in Idea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yntax guide is built around the following main ide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llow the threads, or groupings, of the Standa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t up parallel tables of properties to the tables in the Standa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se out syntax and formatting rules into these tabl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llow each set of properties with related examples and not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abl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32160" y="2438280"/>
          <a:ext cx="51908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2438280"/>
                    <a:ext cx="5190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1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t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933560" y="3135240"/>
          <a:ext cx="6188040" cy="25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3135240"/>
                    <a:ext cx="61880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846360" cy="855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ample Examp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93880" y="2955960"/>
          <a:ext cx="6467400" cy="29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2955960"/>
                    <a:ext cx="6467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5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828440" y="4191120"/>
            <a:ext cx="66200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arrier R&amp;D’s Intranet Web Sit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http//:hardware.sp.usr.com/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dditional Information for User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4648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dditional documentation is placed on our internal web site to </a:t>
            </a:r>
            <a:r>
              <a:rPr b="0" lang="en-US" sz="2600" spc="-1" strike="noStrike">
                <a:solidFill>
                  <a:srgbClr val="fc0128"/>
                </a:solidFill>
                <a:latin typeface="Arial Narrow"/>
              </a:rPr>
              <a:t>explai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he use of IBIS in Signal Integrity, modeling in general, and the use of simulation tool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793960" y="2438280"/>
          <a:ext cx="4465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960" y="2438280"/>
                    <a:ext cx="4465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27360" y="13716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95600" y="1371600"/>
            <a:ext cx="666252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n Development - SI Proces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58880" y="1981080"/>
          <a:ext cx="49406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1981080"/>
                    <a:ext cx="49406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n Prepar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ode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emiconduct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y Leventh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03360" y="243792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tains information on SPICE, 2-Port, Scattering Parameter, IBIS, macro and other mode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cludes discussion of circuit design, statistical design, device physics, model parameter measurement, selection guides, device characterization and population statistics, model library management, 3rd party sources and services and mo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6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here Do You Want to Go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1333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re are two main destination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reating an IBIS mod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sing an IBIS model in a Signal Integrity sim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the first objective you will primarily be interested in the ISO documents in sections 2, 3 and 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the second objective you will primarily be interested in the “how to” documents in section 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932200"/>
            <a:ext cx="2818080" cy="29750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king the Spec Easier to Read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70160" y="2494080"/>
            <a:ext cx="3581280" cy="3849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03360" y="2057040"/>
            <a:ext cx="3581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67760" indent="-1677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rou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related items (ex. Pins, Package, etc.) together and separate them from other grou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para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ata measurement, syntax, format, required/not required, etc., into different se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syntax, format and file example for a particular keyword together physical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technical writing tips: white space, notes, tables, </a:t>
            </a:r>
            <a:r>
              <a:rPr b="0" lang="en-US" sz="1800" spc="-1" strike="noStrike">
                <a:solidFill>
                  <a:srgbClr val="fc0128"/>
                </a:solidFill>
                <a:latin typeface="Arial Narrow"/>
              </a:rPr>
              <a:t>highlighting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hypertext, etc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plain Yourself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0160" y="2955960"/>
            <a:ext cx="3581280" cy="29271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05520" y="167652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64160" indent="-1641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, Why, Where, When, How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lain theory, motivation, benefit, methods, etc. - in a reference document if necessa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. Pin Lis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. Ccom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-1641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 Brief!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you explain how the clock works do it in a separate paragraph - section - document as necess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164160" indent="-1641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n’t be afraid to use graphi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164160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picture is worth 1000 words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reating an IBIS Model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rt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he need for an IBIS model is signaled by New Component Request form, F0026, and the Simulation Model Request Form, F0672. F0672 spells out any add-on parameters the requestor wa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ke or bu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cisions on obtaining a model are described by the Simulation Model Procurement Process, E016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k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 model is described by the Simulation Model Creation and Updating Process, E017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y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 model’s accuracy, from any source, is described by the Simulation Model Verification Process, E017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an IBIS model and its minimum requirements are in the Carrier Systems IBIS Model Standa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an IBIS model file is in Appendix A: “IBIS Model Syntax”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315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ing an IBIS Model in a Signal Integrity Simu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016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to Use the IBIS Mode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ntroduces you to what it is, ho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 use it in a simulation and what optional properties might be necessary for adequate accura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gnal Integrity - 10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s a tutorial on transmission lines, termination, design techniques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gnal Integrity - Board Design &amp; Simulation Techniqu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s a further technical discussion of SI and EMI and design techniq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gic Family Signal Integrity Comparison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compares the SI behavior of different IC technolo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deling Semiconductor Componen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looks at the different models, IBIS, SPICE, Scattering Parameter, 2-Port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752120" y="3733560"/>
            <a:ext cx="662004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ookman Old Style"/>
              </a:rPr>
              <a:t>[End]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2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440" y="3885840"/>
            <a:ext cx="66200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SO 9000 Document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O 9000 is the framework within which the whole IBIS modeling process is broken down into chun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is Section Covers: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ISO documents are stored on the intranet for Carrier Systems at: 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 Narrow"/>
                <a:hlinkClick r:id="rId1"/>
              </a:rPr>
              <a:t>http://mwprod2.it.usr.com/Iso/Main.html_x000b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067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Model Request For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002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omponent Request For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017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r Systems IBIS Model Standar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017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Model Creation &amp; Updating Proc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017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Model Verification Proc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067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Model Request For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86400" y="2437920"/>
            <a:ext cx="31989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icate a preference for model type (usually an IBIS model) and any special parameters (such as individualized pin parasitics, programmable drivers, etc.) you think will be neede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0160" y="1981080"/>
            <a:ext cx="4039920" cy="4419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067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0160" y="1981080"/>
            <a:ext cx="4116240" cy="4419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86040" y="213336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deas Includ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inimum Requir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dd-Ons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tion Leve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otnotes with a brief explanation of the parameters lis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067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38320" y="2437920"/>
            <a:ext cx="3046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rcuit/Product Design Engineer will see a very simplified list of IBIS model properties [Keywords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job of the Signal Integrity Engineer to understand IBIS in depth and see that the model meets requirement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0160" y="1905120"/>
            <a:ext cx="419256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05:24:29Z</dcterms:created>
  <dc:creator>Cadence Design Systems Inc</dc:creator>
  <dc:description/>
  <dc:language>en-US</dc:language>
  <cp:lastModifiedBy>Roy Gilbert Leventhal</cp:lastModifiedBy>
  <cp:lastPrinted>1999-10-05T15:05:33Z</cp:lastPrinted>
  <dcterms:modified xsi:type="dcterms:W3CDTF">1999-10-05T17:01:42Z</dcterms:modified>
  <cp:revision>168</cp:revision>
  <dc:subject/>
  <dc:title>Cadence Presentation  Guidelines Document</dc:title>
</cp:coreProperties>
</file>