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9452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93880" y="1019160"/>
            <a:ext cx="0" cy="538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33320" y="457200"/>
            <a:ext cx="5981760" cy="19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5867280"/>
            <a:ext cx="401400" cy="201600"/>
          </a:xfrm>
          <a:custGeom>
            <a:avLst/>
            <a:gdLst/>
            <a:ahLst/>
            <a:rect l="l" t="t" r="r" b="b"/>
            <a:pathLst>
              <a:path w="253" h="127">
                <a:moveTo>
                  <a:pt x="0" y="126"/>
                </a:moveTo>
                <a:lnTo>
                  <a:pt x="0" y="0"/>
                </a:lnTo>
                <a:lnTo>
                  <a:pt x="252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77720" y="593424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876E-A277-46A9-9A8D-325BE9A9E39A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05720" y="638280"/>
            <a:ext cx="19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0440" y="644400"/>
            <a:ext cx="446040" cy="455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0640" y="644400"/>
            <a:ext cx="3427200" cy="374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9440" indent="-1731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46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98560" y="1092240"/>
              <a:ext cx="0" cy="530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Cadence%20Logo%20Web%20Red%20Title" descr=""/>
            <p:cNvPicPr/>
            <p:nvPr/>
          </p:nvPicPr>
          <p:blipFill>
            <a:blip r:embed="rId2"/>
            <a:stretch/>
          </p:blipFill>
          <p:spPr>
            <a:xfrm>
              <a:off x="4313160" y="1731960"/>
              <a:ext cx="24210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848600" y="6127560"/>
            <a:ext cx="28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dence Design System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2IBIS3 Subcommittee Member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chael Cohen, IBM - lead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n Dodd, Veribe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ed Huq, Cisco Syste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ke LaBonte, Cadence Design System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pad Muranyi, Int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b Ross, Mentor Graphic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ristian Klein, Fairchild Semicondu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raham Connolly, Fairchild Semicondu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2IBIS3 Activity Since DAC IBIS Summi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6 teleconferen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members from Fairchild Semiconduct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cision to pursue funded developer to produce s2ibis3, possibly based on s2ibis2 cod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ject requirements document drafted (Thanks, Sy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SpiTran GUI in public dom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tp://ftp.eda.org/pub/ibis/s2ibis/spitran/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2IBIS3 Pla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lete the requirements specif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olicit development bi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termine how to fund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oose a developer and assign the contrac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egin planning for next generation s2ibi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uilt in GUI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re support for IBIS 3.2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upport for new IBIS 4.x features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3T13:52:50Z</dcterms:created>
  <dc:creator>Mike LaBonte</dc:creator>
  <dc:description/>
  <dc:language>en-US</dc:language>
  <cp:lastModifiedBy>Mike LaBonte</cp:lastModifiedBy>
  <cp:lastPrinted>1999-10-13T14:28:08Z</cp:lastPrinted>
  <dcterms:modified xsi:type="dcterms:W3CDTF">1999-10-13T23:14:42Z</dcterms:modified>
  <cp:revision>6</cp:revision>
  <dc:subject/>
  <dc:title>S2IBIS3 Subcommittee Members</dc:title>
</cp:coreProperties>
</file>