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1.xml"/><Relationship Id="rId13" Type="http://schemas.openxmlformats.org/officeDocument/2006/relationships/slideLayout" Target="../slideLayouts/slideLayout2.xml"/><Relationship Id="rId14" Type="http://schemas.openxmlformats.org/officeDocument/2006/relationships/slideLayout" Target="../slideLayouts/slideLayout3.xml"/><Relationship Id="rId15" Type="http://schemas.openxmlformats.org/officeDocument/2006/relationships/slideLayout" Target="../slideLayouts/slideLayout4.xml"/><Relationship Id="rId16" Type="http://schemas.openxmlformats.org/officeDocument/2006/relationships/slideLayout" Target="../slideLayouts/slideLayout5.xml"/><Relationship Id="rId17" Type="http://schemas.openxmlformats.org/officeDocument/2006/relationships/slideLayout" Target="../slideLayouts/slideLayout6.xml"/><Relationship Id="rId18" Type="http://schemas.openxmlformats.org/officeDocument/2006/relationships/slideLayout" Target="../slideLayouts/slideLayout7.xml"/><Relationship Id="rId19" Type="http://schemas.openxmlformats.org/officeDocument/2006/relationships/slideLayout" Target="../slideLayouts/slideLayout8.xml"/><Relationship Id="rId20" Type="http://schemas.openxmlformats.org/officeDocument/2006/relationships/slideLayout" Target="../slideLayouts/slideLayout9.xml"/><Relationship Id="rId21" Type="http://schemas.openxmlformats.org/officeDocument/2006/relationships/slideLayout" Target="../slideLayouts/slideLayout10.xml"/><Relationship Id="rId22" Type="http://schemas.openxmlformats.org/officeDocument/2006/relationships/slideLayout" Target="../slideLayouts/slideLayout11.xml"/><Relationship Id="rId2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67320" y="228600"/>
            <a:ext cx="31654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BIS Users Summit October ‘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152280" y="609480"/>
            <a:ext cx="5181840" cy="76320"/>
            <a:chOff x="152280" y="609480"/>
            <a:chExt cx="5181840" cy="76320"/>
          </a:xfrm>
        </p:grpSpPr>
        <p:sp>
          <p:nvSpPr>
            <p:cNvPr id="4" name=""/>
            <p:cNvSpPr/>
            <p:nvPr/>
          </p:nvSpPr>
          <p:spPr>
            <a:xfrm>
              <a:off x="152280" y="609480"/>
              <a:ext cx="4114800" cy="763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343400" y="609480"/>
              <a:ext cx="304920" cy="763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4724280" y="609480"/>
              <a:ext cx="228600" cy="763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029200" y="609480"/>
              <a:ext cx="152280" cy="763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257800" y="609480"/>
              <a:ext cx="76320" cy="7632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" name=""/>
          <p:cNvSpPr/>
          <p:nvPr/>
        </p:nvSpPr>
        <p:spPr>
          <a:xfrm>
            <a:off x="12600" y="12600"/>
            <a:ext cx="9042480" cy="6756480"/>
          </a:xfrm>
          <a:prstGeom prst="rect">
            <a:avLst/>
          </a:prstGeom>
          <a:noFill/>
          <a:ln w="25560">
            <a:solidFill>
              <a:srgbClr val="a2c1fe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" name=""/>
          <p:cNvGrpSpPr/>
          <p:nvPr/>
        </p:nvGrpSpPr>
        <p:grpSpPr>
          <a:xfrm>
            <a:off x="3809880" y="6172200"/>
            <a:ext cx="5181840" cy="76320"/>
            <a:chOff x="3809880" y="6172200"/>
            <a:chExt cx="5181840" cy="76320"/>
          </a:xfrm>
        </p:grpSpPr>
        <p:sp>
          <p:nvSpPr>
            <p:cNvPr id="11" name=""/>
            <p:cNvSpPr/>
            <p:nvPr/>
          </p:nvSpPr>
          <p:spPr>
            <a:xfrm>
              <a:off x="4876920" y="6172200"/>
              <a:ext cx="4114800" cy="763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495680" y="6172200"/>
              <a:ext cx="304920" cy="7632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4191120" y="6172200"/>
              <a:ext cx="228600" cy="7632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3962520" y="6172200"/>
              <a:ext cx="152280" cy="7632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809880" y="6172200"/>
              <a:ext cx="76320" cy="7632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" name=""/>
          <p:cNvSpPr/>
          <p:nvPr/>
        </p:nvSpPr>
        <p:spPr>
          <a:xfrm>
            <a:off x="3711600" y="6424560"/>
            <a:ext cx="3279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High Performance Engineering &amp; 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8826480" y="6240600"/>
            <a:ext cx="18108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"/>
          <p:cNvGrpSpPr/>
          <p:nvPr/>
        </p:nvGrpSpPr>
        <p:grpSpPr>
          <a:xfrm>
            <a:off x="7011000" y="6095880"/>
            <a:ext cx="2018880" cy="677160"/>
            <a:chOff x="7011000" y="6095880"/>
            <a:chExt cx="2018880" cy="677160"/>
          </a:xfrm>
        </p:grpSpPr>
        <p:sp>
          <p:nvSpPr>
            <p:cNvPr id="19" name=""/>
            <p:cNvSpPr/>
            <p:nvPr/>
          </p:nvSpPr>
          <p:spPr>
            <a:xfrm>
              <a:off x="8810280" y="6265800"/>
              <a:ext cx="0" cy="31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843760" y="6265800"/>
              <a:ext cx="1440" cy="336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710560" y="6265800"/>
              <a:ext cx="0" cy="8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775360" y="6265800"/>
              <a:ext cx="0" cy="299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742240" y="6265800"/>
              <a:ext cx="0" cy="193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673840" y="6253200"/>
              <a:ext cx="131760" cy="3394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7862760" y="6265800"/>
              <a:ext cx="1440" cy="32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7827840" y="6265800"/>
              <a:ext cx="0" cy="323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7791120" y="6265800"/>
              <a:ext cx="0" cy="32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7011000" y="6562440"/>
              <a:ext cx="19447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North East Systems Associates, Inc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7016040" y="6426000"/>
              <a:ext cx="51048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© 1998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773920" y="6199200"/>
              <a:ext cx="2559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®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7759440" y="6595920"/>
              <a:ext cx="11368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7773480" y="6095880"/>
              <a:ext cx="51228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7978320" y="6095880"/>
              <a:ext cx="4863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192520" y="6095880"/>
              <a:ext cx="4863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382960" y="6095880"/>
              <a:ext cx="51228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2"/>
    <p:sldLayoutId id="2147483650" r:id="rId13"/>
    <p:sldLayoutId id="2147483651" r:id="rId14"/>
    <p:sldLayoutId id="2147483652" r:id="rId15"/>
    <p:sldLayoutId id="2147483653" r:id="rId16"/>
    <p:sldLayoutId id="2147483654" r:id="rId17"/>
    <p:sldLayoutId id="2147483655" r:id="rId18"/>
    <p:sldLayoutId id="2147483656" r:id="rId19"/>
    <p:sldLayoutId id="2147483657" r:id="rId20"/>
    <p:sldLayoutId id="2147483658" r:id="rId21"/>
    <p:sldLayoutId id="2147483659" r:id="rId22"/>
    <p:sldLayoutId id="2147483660" r:id="rId2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IBIS USER SUMMIT ‘9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mphasis is on Relevancy for Digital Design Engineers with Signal Integrity Ne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anks is the Order of the D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nks for your attendance to make this meeting a su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nks to the vendors and sponsors for providing the facilities and fo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nks for the IBIS Users Group for arranging the Technical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nks for the NESA staff for planning and carrying out the mee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User is Central to IB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1752480" y="1828800"/>
            <a:ext cx="5486400" cy="3809880"/>
            <a:chOff x="1752480" y="1828800"/>
            <a:chExt cx="5486400" cy="3809880"/>
          </a:xfrm>
        </p:grpSpPr>
        <p:sp>
          <p:nvSpPr>
            <p:cNvPr id="76" name=""/>
            <p:cNvSpPr/>
            <p:nvPr/>
          </p:nvSpPr>
          <p:spPr>
            <a:xfrm>
              <a:off x="3657600" y="1828800"/>
              <a:ext cx="1371600" cy="1371600"/>
            </a:xfrm>
            <a:prstGeom prst="ellipse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736800" y="2057400"/>
              <a:ext cx="1275120" cy="85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cc"/>
                  </a:solidFill>
                  <a:latin typeface="Arial"/>
                </a:rPr>
                <a:t>IBIS MODEL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cc"/>
                  </a:solidFill>
                  <a:latin typeface="Arial"/>
                </a:rPr>
                <a:t>of CHIPS,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cc"/>
                  </a:solidFill>
                  <a:latin typeface="Arial"/>
                </a:rPr>
                <a:t>X-MISSION LINES,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cc"/>
                  </a:solidFill>
                  <a:latin typeface="Arial"/>
                </a:rPr>
                <a:t>CONNECTORS,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cc"/>
                  </a:solidFill>
                  <a:latin typeface="Arial"/>
                </a:rPr>
                <a:t>ETC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752480" y="4267080"/>
              <a:ext cx="1371600" cy="1371600"/>
            </a:xfrm>
            <a:prstGeom prst="ellipse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830960" y="4495680"/>
              <a:ext cx="12337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cc"/>
                  </a:solidFill>
                  <a:latin typeface="Arial"/>
                </a:rPr>
                <a:t>IBIS Software,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cc"/>
                  </a:solidFill>
                  <a:latin typeface="Arial"/>
                </a:rPr>
                <a:t>SYNTAX, IBI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cc"/>
                  </a:solidFill>
                  <a:latin typeface="Arial"/>
                </a:rPr>
                <a:t>to SPICE, SPIC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cc"/>
                  </a:solidFill>
                  <a:latin typeface="Arial"/>
                </a:rPr>
                <a:t>to IBIS, TRAIN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867280" y="4191120"/>
              <a:ext cx="1371600" cy="1371600"/>
            </a:xfrm>
            <a:prstGeom prst="ellipse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098760" y="4478400"/>
              <a:ext cx="103716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cc"/>
                  </a:solidFill>
                  <a:latin typeface="Arial"/>
                </a:rPr>
                <a:t>SIMULATORS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cc"/>
                  </a:solidFill>
                  <a:latin typeface="Arial"/>
                </a:rPr>
                <a:t>and CIRCUI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cc"/>
                  </a:solidFill>
                  <a:latin typeface="Arial"/>
                </a:rPr>
                <a:t>PREDIC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cc"/>
                  </a:solidFill>
                  <a:latin typeface="Arial"/>
                </a:rPr>
                <a:t>SOFTWAR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09880" y="3505320"/>
              <a:ext cx="1143000" cy="914400"/>
            </a:xfrm>
            <a:prstGeom prst="rect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949560" y="3639960"/>
              <a:ext cx="8877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c0128"/>
                  </a:solidFill>
                  <a:latin typeface="Arial"/>
                </a:rPr>
                <a:t>IBIS USER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c0128"/>
                  </a:solidFill>
                  <a:latin typeface="Arial"/>
                </a:rPr>
                <a:t>AND THEI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c0128"/>
                  </a:solidFill>
                  <a:latin typeface="Arial"/>
                </a:rPr>
                <a:t>MISSION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V="1">
              <a:off x="2743200" y="3048120"/>
              <a:ext cx="1143000" cy="1295280"/>
            </a:xfrm>
            <a:prstGeom prst="line">
              <a:avLst/>
            </a:prstGeom>
            <a:ln w="1260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124080" y="4952880"/>
              <a:ext cx="2743200" cy="0"/>
            </a:xfrm>
            <a:prstGeom prst="line">
              <a:avLst/>
            </a:prstGeom>
            <a:ln w="1260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 flipV="1">
              <a:off x="4876920" y="2895480"/>
              <a:ext cx="1218960" cy="1447920"/>
            </a:xfrm>
            <a:prstGeom prst="line">
              <a:avLst/>
            </a:prstGeom>
            <a:ln w="1260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V="1">
              <a:off x="3048120" y="4191120"/>
              <a:ext cx="76176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343400" y="320040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flipV="1">
              <a:off x="4952880" y="4191120"/>
              <a:ext cx="91440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BIS Users FAQ’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IBI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I know IBIS will be useful and accurat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IBIS  simulation a replacement for SPI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I Use IBIS in my wor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reate my own IBIS model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’s the future for IBI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I get on boar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y IB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BIS behavioral descriptions are simulator independent, having a defined standard syntax and physical properti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BIS based simulations show promise to greatly speed up the process of analog simulation of digital interconnec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miconductor manufacturers can provide descriptions of I/O without having to reveal the details of their process and transisto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at is IB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BIS is a syntactical structured behavioral description of digital semiconductor devices based on I-V curves and V vs. t performance. It also  describes the interconnect between de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BIS is a EIA national standard supported by industry activities such as the IBIS Open Forum and the IBIS Users Gro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 do I know IBIS is Accurat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BIS Users Group has sponsored the design of a test board and a specification which defines accuracy and recommendations for measuring the test board &amp; device to check accuracy of any device or simulation under realistic usage condi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est board design will be made available in an Allegro data base which can be specialized if a user so chooses do to 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tions today will describe case studies and comparisons focusing on accuracy and simulation resul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 do I learn About IBI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IBIS Users group will begin the process of learning about IBIS.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short training tutorial is offered in today’s meetin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urther training and the specifics of any given simulator will most likely be provided by the simulator vendo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IBIS web site has a large number of publications and specifications which define IBIS syntax and softwar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s IBIS a Replacement for SPIC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ICE is a transistor level description of semiconductor action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BIS is a behavioral I - V and V vs. t based descrip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 is for IBIS to be equivalent to SPICE, but fundamentally different in the specifics of the description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vice manufacturers will no longer provide SPICE descriptions for IP protection reas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at’s the Future of IB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s today will describe what’s happening with IBIS developments in syntax, simulator algorithms, simulators requirements for specific designs and tool capabil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nstrations have been arranged for IBIS educational purpos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9-28T16:32:30Z</dcterms:created>
  <dc:creator>Michael Baxter</dc:creator>
  <dc:description/>
  <dc:language>en-US</dc:language>
  <cp:lastModifiedBy>NESA Inc.</cp:lastModifiedBy>
  <cp:lastPrinted>1998-10-15T12:00:22Z</cp:lastPrinted>
  <dcterms:modified xsi:type="dcterms:W3CDTF">1998-10-21T21:15:44Z</dcterms:modified>
  <cp:revision>8</cp:revision>
  <dc:subject/>
  <dc:title>NESA Slide Presentation Template</dc:title>
</cp:coreProperties>
</file>