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A43-D404-446F-83EB-24517A90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59A-B774-4230-A8CD-450F45D7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2E8-C08E-406F-8094-3801243D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349-F0A4-41A2-B65A-19E3D281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658-A3C2-46BD-A7FB-514D2BBB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DE8-F511-4ED4-B16E-837407A4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C1E-1C94-458D-B972-ED4A7DAC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5EE-1B71-4C6F-A599-AC8D11B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0C9-D723-43EF-BCC7-6638CF5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361-A426-45D6-9142-5DBF512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020-E5F3-4980-A3C4-7C0C6605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FD0-4C40-41B6-86D4-C13F2B11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429-E282-4B01-A177-F58F4904A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troduction &amp; Model Processing Algorithm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ix Business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, Boxboro,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5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2 - Waveform Comparison &amp; Kur(t) &amp; Kdr(t)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1 - Waveform Comparison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(2 Different Loads) &amp; Kur(t)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Using Multicolumn Tables - EIAJ Approach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ric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f V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Construction Allows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pice for Internal VT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Waveform Methodology - Extracted from Sp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Waveform Extraction by Reverse Engineering or Optim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umeric Tr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 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Internal Tables by Scaling o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ome IBIS &amp; Spice Differenc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creasing Tables (IBIS: Increasing or Decreasing) &amp; 0.0 Point if from Negative to 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point Hspice Limit - Same as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Truncation vs. IBIS 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Globals - e.g.,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, Initi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 Discontinuities in Tables Cause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Advantage - Can Scale to Match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Validations Need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troduction, 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CHK3, Version 3.2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&amp; Version 3.2 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IEC 62014-1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AJ IMIC Interest,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BIS Summit with JEDEC JC16.2 (Models and Testing) - San Diego CA, December 9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Con99 Proposal to Sponsor February 1, 1999 IBIS Summit Meeting - Associate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 &amp; Food, Booth, Suite, Publicity, VIP Registration &amp; 10% Discount, Banner, Sports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signCon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&amp;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, Measurement &amp;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Hints &amp;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&amp; Tool Futur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odel Processing Algorithms 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BIS Mode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s, Oct97 IBIS Email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er - eda.org/pub/summits/feb98/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AJ Approach (Copied from EIAJ IMIC Presen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pice Models - 1, 2, 3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sc.eiaj.or.jp/tsc/SSC/iop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eroxed Slides for Presentation, Refer to Document for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General IBIS Mode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558800"/>
          <a:ext cx="8686800" cy="52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8800"/>
                    <a:ext cx="868680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2 - Waveform Based Simulation with Ku(t) &amp; Kd(t) 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1676520"/>
          <a:ext cx="853452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1 - Waveform Simulation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d(t) = 1 - Ku(t)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701720"/>
          <a:ext cx="868680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6868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1 - Waveform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ur(t) Extrac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76520"/>
          <a:ext cx="868680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686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2 - Waveform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Kur(t) &amp; Kdr(t) Extraction 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1752480"/>
          <a:ext cx="77724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72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(t)/Z(t) = Ku(t)*Iu(V1(t)) + Kd(t)*Id(V1(t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2(t)/Z(t) = Ku(t)*Iu(V2(t)) + Kd(t)*Id(V2(t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</cp:lastModifiedBy>
  <cp:lastPrinted>1998-10-09T17:35:04Z</cp:lastPrinted>
  <dcterms:modified xsi:type="dcterms:W3CDTF">1998-10-09T17:51:58Z</dcterms:modified>
  <cp:revision>85</cp:revision>
  <dc:subject/>
  <dc:title>IBIS ACCURACY</dc:title>
</cp:coreProperties>
</file>