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5029200" cy="43243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 txBox="1"/>
          <p:nvPr/>
        </p:nvSpPr>
        <p:spPr>
          <a:xfrm>
            <a:off x="8380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5400" spc="-1" strike="noStrike">
                <a:solidFill>
                  <a:srgbClr val="081d58"/>
                </a:solidFill>
                <a:latin typeface="Arial"/>
                <a:ea typeface="Arial"/>
              </a:rPr>
              <a:t>IBIS Test Bo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204920" y="4846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ter LaFl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7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Fairchild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7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333 Western 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7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So. Portland, ME 04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7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207-775-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0" y="60948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st Load Waveforms</a:t>
            </a:r>
            <a:br>
              <a:rPr sz="36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(Ideal Transmission Line, T-line terminated to Zo)</a:t>
            </a: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9400" y="370368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chema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4960" y="4157640"/>
            <a:ext cx="8423280" cy="0"/>
          </a:xfrm>
          <a:prstGeom prst="line">
            <a:avLst/>
          </a:prstGeom>
          <a:ln w="255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3520" y="6550200"/>
            <a:ext cx="8423280" cy="0"/>
          </a:xfrm>
          <a:prstGeom prst="line">
            <a:avLst/>
          </a:prstGeom>
          <a:ln w="255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010200" y="3611520"/>
            <a:ext cx="725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236680" y="36226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314360" y="1604880"/>
            <a:ext cx="7162920" cy="1970280"/>
            <a:chOff x="1314360" y="1604880"/>
            <a:chExt cx="7162920" cy="197028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4981680" y="1617840"/>
              <a:ext cx="3495600" cy="19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1314360" y="1604880"/>
              <a:ext cx="3514680" cy="196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"/>
          <p:cNvSpPr txBox="1"/>
          <p:nvPr/>
        </p:nvSpPr>
        <p:spPr>
          <a:xfrm>
            <a:off x="12600" y="1173240"/>
            <a:ext cx="192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Wave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565360" y="115884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73640" y="1157400"/>
            <a:ext cx="725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4500720" y="4173480"/>
            <a:ext cx="4186080" cy="2389320"/>
            <a:chOff x="4500720" y="4173480"/>
            <a:chExt cx="4186080" cy="2389320"/>
          </a:xfrm>
        </p:grpSpPr>
        <p:sp>
          <p:nvSpPr>
            <p:cNvPr id="445" name=""/>
            <p:cNvSpPr/>
            <p:nvPr/>
          </p:nvSpPr>
          <p:spPr>
            <a:xfrm>
              <a:off x="5821200" y="4892760"/>
              <a:ext cx="703800" cy="895680"/>
            </a:xfrm>
            <a:custGeom>
              <a:avLst/>
              <a:gdLst/>
              <a:ahLst/>
              <a:rect l="0" t="0" r="r" b="b"/>
              <a:pathLst>
                <a:path w="1955" h="2488">
                  <a:moveTo>
                    <a:pt x="1955" y="1290"/>
                  </a:moveTo>
                  <a:lnTo>
                    <a:pt x="0" y="2488"/>
                  </a:lnTo>
                  <a:lnTo>
                    <a:pt x="0" y="0"/>
                  </a:lnTo>
                  <a:lnTo>
                    <a:pt x="1955" y="12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1920" y="5348160"/>
              <a:ext cx="12765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89880" y="5549760"/>
              <a:ext cx="287640" cy="489240"/>
            </a:xfrm>
            <a:custGeom>
              <a:avLst/>
              <a:gdLst/>
              <a:ahLst/>
              <a:rect l="0" t="0" r="r" b="b"/>
              <a:pathLst>
                <a:path fill="none" w="799" h="1359">
                  <a:moveTo>
                    <a:pt x="435" y="1359"/>
                  </a:moveTo>
                  <a:lnTo>
                    <a:pt x="0" y="1279"/>
                  </a:lnTo>
                  <a:lnTo>
                    <a:pt x="799" y="1036"/>
                  </a:lnTo>
                  <a:lnTo>
                    <a:pt x="0" y="797"/>
                  </a:lnTo>
                  <a:lnTo>
                    <a:pt x="799" y="557"/>
                  </a:lnTo>
                  <a:lnTo>
                    <a:pt x="0" y="322"/>
                  </a:lnTo>
                  <a:lnTo>
                    <a:pt x="799" y="79"/>
                  </a:lnTo>
                  <a:lnTo>
                    <a:pt x="43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6761160" y="6168960"/>
              <a:ext cx="155880" cy="234000"/>
              <a:chOff x="6761160" y="6168960"/>
              <a:chExt cx="155880" cy="234000"/>
            </a:xfrm>
          </p:grpSpPr>
          <p:sp>
            <p:nvSpPr>
              <p:cNvPr id="449" name=""/>
              <p:cNvSpPr/>
              <p:nvPr/>
            </p:nvSpPr>
            <p:spPr>
              <a:xfrm>
                <a:off x="6761160" y="6267600"/>
                <a:ext cx="155880" cy="135360"/>
              </a:xfrm>
              <a:custGeom>
                <a:avLst/>
                <a:gdLst/>
                <a:ahLst/>
                <a:rect l="0" t="0" r="r" b="b"/>
                <a:pathLst>
                  <a:path w="433" h="376">
                    <a:moveTo>
                      <a:pt x="433" y="0"/>
                    </a:moveTo>
                    <a:lnTo>
                      <a:pt x="213" y="376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837480" y="6168960"/>
                <a:ext cx="0" cy="9540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 txBox="1"/>
            <p:nvPr/>
          </p:nvSpPr>
          <p:spPr>
            <a:xfrm>
              <a:off x="6926400" y="5614920"/>
              <a:ext cx="87948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50 Oh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6033960" y="5780160"/>
              <a:ext cx="155880" cy="233640"/>
              <a:chOff x="6033960" y="5780160"/>
              <a:chExt cx="155880" cy="233640"/>
            </a:xfrm>
          </p:grpSpPr>
          <p:sp>
            <p:nvSpPr>
              <p:cNvPr id="453" name=""/>
              <p:cNvSpPr/>
              <p:nvPr/>
            </p:nvSpPr>
            <p:spPr>
              <a:xfrm>
                <a:off x="6033960" y="5878440"/>
                <a:ext cx="155880" cy="135360"/>
              </a:xfrm>
              <a:custGeom>
                <a:avLst/>
                <a:gdLst/>
                <a:ahLst/>
                <a:rect l="0" t="0" r="r" b="b"/>
                <a:pathLst>
                  <a:path w="433" h="376">
                    <a:moveTo>
                      <a:pt x="433" y="0"/>
                    </a:moveTo>
                    <a:lnTo>
                      <a:pt x="213" y="376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10280" y="5780160"/>
                <a:ext cx="0" cy="9504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6110280" y="5630760"/>
              <a:ext cx="0" cy="1350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5799240" y="5159520"/>
              <a:ext cx="493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D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6132600" y="4513320"/>
              <a:ext cx="0" cy="5871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5910120" y="4251240"/>
              <a:ext cx="426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V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51480" y="5338800"/>
              <a:ext cx="3556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48240" y="5549760"/>
              <a:ext cx="1890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4746600" y="5172120"/>
              <a:ext cx="123840" cy="372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4862520" y="5173560"/>
              <a:ext cx="4096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13440" y="4502160"/>
              <a:ext cx="2160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48640" y="5365800"/>
              <a:ext cx="0" cy="183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48640" y="6043680"/>
              <a:ext cx="0" cy="136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86800" y="4176720"/>
              <a:ext cx="0" cy="238608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00720" y="4173480"/>
              <a:ext cx="0" cy="238608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7675560" y="5348160"/>
              <a:ext cx="963720" cy="1087920"/>
              <a:chOff x="7675560" y="5348160"/>
              <a:chExt cx="963720" cy="1087920"/>
            </a:xfrm>
          </p:grpSpPr>
          <p:sp>
            <p:nvSpPr>
              <p:cNvPr id="469" name=""/>
              <p:cNvSpPr/>
              <p:nvPr/>
            </p:nvSpPr>
            <p:spPr>
              <a:xfrm>
                <a:off x="7675560" y="5351400"/>
                <a:ext cx="22392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7713720" y="5621400"/>
                <a:ext cx="925560" cy="563400"/>
                <a:chOff x="7713720" y="5621400"/>
                <a:chExt cx="925560" cy="5634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7738920" y="5621400"/>
                  <a:ext cx="839880" cy="563400"/>
                </a:xfrm>
                <a:prstGeom prst="rect">
                  <a:avLst/>
                </a:prstGeom>
                <a:noFill/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 txBox="1"/>
                <p:nvPr/>
              </p:nvSpPr>
              <p:spPr>
                <a:xfrm>
                  <a:off x="7713720" y="5661000"/>
                  <a:ext cx="9255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Times New Roman"/>
                      <a:ea typeface="Times New Roman"/>
                    </a:rPr>
                    <a:t>Probe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Times New Roman"/>
                      <a:ea typeface="Times New Roman"/>
                    </a:rPr>
                    <a:t>Parasitic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8078760" y="6202440"/>
                <a:ext cx="155880" cy="233640"/>
                <a:chOff x="8078760" y="6202440"/>
                <a:chExt cx="155880" cy="233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8078760" y="6300720"/>
                  <a:ext cx="155880" cy="135360"/>
                </a:xfrm>
                <a:custGeom>
                  <a:avLst/>
                  <a:gdLst/>
                  <a:ahLst/>
                  <a:rect l="0" t="0" r="r" b="b"/>
                  <a:pathLst>
                    <a:path w="433" h="376">
                      <a:moveTo>
                        <a:pt x="433" y="0"/>
                      </a:moveTo>
                      <a:lnTo>
                        <a:pt x="213" y="376"/>
                      </a:ln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4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155080" y="6202440"/>
                  <a:ext cx="0" cy="95040"/>
                </a:xfrm>
                <a:prstGeom prst="line">
                  <a:avLst/>
                </a:prstGeom>
                <a:ln w="12600">
                  <a:solidFill>
                    <a:srgbClr val="081d5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7908840" y="5348160"/>
                <a:ext cx="246600" cy="276480"/>
              </a:xfrm>
              <a:custGeom>
                <a:avLst/>
                <a:gdLst/>
                <a:ahLst/>
                <a:rect l="0" t="0" r="r" b="b"/>
                <a:pathLst>
                  <a:path fill="none" w="685" h="768">
                    <a:moveTo>
                      <a:pt x="0" y="0"/>
                    </a:moveTo>
                    <a:lnTo>
                      <a:pt x="685" y="0"/>
                    </a:lnTo>
                    <a:lnTo>
                      <a:pt x="685" y="768"/>
                    </a:lnTo>
                  </a:path>
                </a:pathLst>
              </a:custGeom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257040" y="4165560"/>
            <a:ext cx="4042080" cy="2386080"/>
            <a:chOff x="257040" y="4165560"/>
            <a:chExt cx="4042080" cy="2386080"/>
          </a:xfrm>
        </p:grpSpPr>
        <p:sp>
          <p:nvSpPr>
            <p:cNvPr id="478" name=""/>
            <p:cNvSpPr/>
            <p:nvPr/>
          </p:nvSpPr>
          <p:spPr>
            <a:xfrm>
              <a:off x="2239920" y="4871880"/>
              <a:ext cx="703800" cy="895680"/>
            </a:xfrm>
            <a:custGeom>
              <a:avLst/>
              <a:gdLst/>
              <a:ahLst/>
              <a:rect l="0" t="0" r="r" b="b"/>
              <a:pathLst>
                <a:path w="1955" h="2488">
                  <a:moveTo>
                    <a:pt x="1955" y="1290"/>
                  </a:moveTo>
                  <a:lnTo>
                    <a:pt x="0" y="2488"/>
                  </a:lnTo>
                  <a:lnTo>
                    <a:pt x="0" y="0"/>
                  </a:lnTo>
                  <a:lnTo>
                    <a:pt x="1955" y="12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60640" y="5327640"/>
              <a:ext cx="239760" cy="1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3419640" y="4711680"/>
              <a:ext cx="87948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50 Oh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487600" y="5734080"/>
              <a:ext cx="155880" cy="233640"/>
              <a:chOff x="2487600" y="5734080"/>
              <a:chExt cx="155880" cy="233640"/>
            </a:xfrm>
          </p:grpSpPr>
          <p:sp>
            <p:nvSpPr>
              <p:cNvPr id="482" name=""/>
              <p:cNvSpPr/>
              <p:nvPr/>
            </p:nvSpPr>
            <p:spPr>
              <a:xfrm>
                <a:off x="2487600" y="5832360"/>
                <a:ext cx="155880" cy="135360"/>
              </a:xfrm>
              <a:custGeom>
                <a:avLst/>
                <a:gdLst/>
                <a:ahLst/>
                <a:rect l="0" t="0" r="r" b="b"/>
                <a:pathLst>
                  <a:path w="433" h="376">
                    <a:moveTo>
                      <a:pt x="433" y="0"/>
                    </a:moveTo>
                    <a:lnTo>
                      <a:pt x="213" y="376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563920" y="5734080"/>
                <a:ext cx="0" cy="9540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560680" y="5584680"/>
              <a:ext cx="0" cy="1350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2281320" y="5189400"/>
              <a:ext cx="493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D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583000" y="4492800"/>
              <a:ext cx="0" cy="5871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2687760" y="4183200"/>
              <a:ext cx="426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V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70200" y="5318280"/>
              <a:ext cx="3553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52480" y="5162400"/>
              <a:ext cx="1890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71720" y="5156280"/>
              <a:ext cx="123840" cy="372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1181160" y="5522760"/>
              <a:ext cx="4096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44760" y="4478400"/>
              <a:ext cx="8082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95640" y="4635360"/>
              <a:ext cx="287640" cy="489240"/>
            </a:xfrm>
            <a:custGeom>
              <a:avLst/>
              <a:gdLst/>
              <a:ahLst/>
              <a:rect l="0" t="0" r="r" b="b"/>
              <a:pathLst>
                <a:path fill="none" w="799" h="1359">
                  <a:moveTo>
                    <a:pt x="435" y="0"/>
                  </a:moveTo>
                  <a:lnTo>
                    <a:pt x="0" y="79"/>
                  </a:lnTo>
                  <a:lnTo>
                    <a:pt x="799" y="322"/>
                  </a:lnTo>
                  <a:lnTo>
                    <a:pt x="0" y="561"/>
                  </a:lnTo>
                  <a:lnTo>
                    <a:pt x="799" y="801"/>
                  </a:lnTo>
                  <a:lnTo>
                    <a:pt x="0" y="1036"/>
                  </a:lnTo>
                  <a:lnTo>
                    <a:pt x="799" y="1279"/>
                  </a:lnTo>
                  <a:lnTo>
                    <a:pt x="435" y="1359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238560" y="5110200"/>
              <a:ext cx="0" cy="183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3254400" y="4495680"/>
              <a:ext cx="0" cy="1368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7040" y="4165560"/>
              <a:ext cx="0" cy="238608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3225960" y="5327640"/>
              <a:ext cx="963360" cy="1087920"/>
              <a:chOff x="3225960" y="5327640"/>
              <a:chExt cx="963360" cy="1087920"/>
            </a:xfrm>
          </p:grpSpPr>
          <p:sp>
            <p:nvSpPr>
              <p:cNvPr id="498" name=""/>
              <p:cNvSpPr/>
              <p:nvPr/>
            </p:nvSpPr>
            <p:spPr>
              <a:xfrm>
                <a:off x="3225960" y="5330880"/>
                <a:ext cx="22356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3263760" y="5600880"/>
                <a:ext cx="925560" cy="563400"/>
                <a:chOff x="3263760" y="5600880"/>
                <a:chExt cx="925560" cy="5634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3289320" y="5600880"/>
                  <a:ext cx="839880" cy="563400"/>
                </a:xfrm>
                <a:prstGeom prst="rect">
                  <a:avLst/>
                </a:prstGeom>
                <a:noFill/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 txBox="1"/>
                <p:nvPr/>
              </p:nvSpPr>
              <p:spPr>
                <a:xfrm>
                  <a:off x="3263760" y="5640480"/>
                  <a:ext cx="9255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Times New Roman"/>
                      <a:ea typeface="Times New Roman"/>
                    </a:rPr>
                    <a:t>Probe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Times New Roman"/>
                      <a:ea typeface="Times New Roman"/>
                    </a:rPr>
                    <a:t>Parasitic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3629160" y="6181560"/>
                <a:ext cx="155880" cy="234000"/>
                <a:chOff x="3629160" y="6181560"/>
                <a:chExt cx="155880" cy="2340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3629160" y="6280200"/>
                  <a:ext cx="155880" cy="135360"/>
                </a:xfrm>
                <a:custGeom>
                  <a:avLst/>
                  <a:gdLst/>
                  <a:ahLst/>
                  <a:rect l="0" t="0" r="r" b="b"/>
                  <a:pathLst>
                    <a:path w="433" h="376">
                      <a:moveTo>
                        <a:pt x="433" y="0"/>
                      </a:moveTo>
                      <a:lnTo>
                        <a:pt x="213" y="376"/>
                      </a:ln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4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705120" y="6181560"/>
                  <a:ext cx="0" cy="95400"/>
                </a:xfrm>
                <a:prstGeom prst="line">
                  <a:avLst/>
                </a:prstGeom>
                <a:ln w="12600">
                  <a:solidFill>
                    <a:srgbClr val="081d5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3459240" y="5327640"/>
                <a:ext cx="246600" cy="276480"/>
              </a:xfrm>
              <a:custGeom>
                <a:avLst/>
                <a:gdLst/>
                <a:ahLst/>
                <a:rect l="0" t="0" r="r" b="b"/>
                <a:pathLst>
                  <a:path fill="none" w="685" h="768">
                    <a:moveTo>
                      <a:pt x="0" y="0"/>
                    </a:moveTo>
                    <a:lnTo>
                      <a:pt x="685" y="0"/>
                    </a:lnTo>
                    <a:lnTo>
                      <a:pt x="685" y="768"/>
                    </a:lnTo>
                  </a:path>
                </a:pathLst>
              </a:custGeom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685800" y="60948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st Load Waveforms</a:t>
            </a:r>
            <a:br>
              <a:rPr sz="36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(Standard “Datasheet” Load)</a:t>
            </a: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74640" y="3484440"/>
            <a:ext cx="170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ch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516480" y="1401840"/>
            <a:ext cx="3860640" cy="2057400"/>
            <a:chOff x="3516480" y="1401840"/>
            <a:chExt cx="3860640" cy="2057400"/>
          </a:xfrm>
        </p:grpSpPr>
        <p:sp>
          <p:nvSpPr>
            <p:cNvPr id="509" name=""/>
            <p:cNvSpPr/>
            <p:nvPr/>
          </p:nvSpPr>
          <p:spPr>
            <a:xfrm>
              <a:off x="3719520" y="1401840"/>
              <a:ext cx="3657600" cy="20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49800" y="2081160"/>
              <a:ext cx="0" cy="9921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11640" y="3073320"/>
              <a:ext cx="36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11640" y="2824200"/>
              <a:ext cx="36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11640" y="2581200"/>
              <a:ext cx="36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11640" y="2330280"/>
              <a:ext cx="36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11640" y="2079720"/>
              <a:ext cx="36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51240" y="2824200"/>
              <a:ext cx="26640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4249800" y="2824200"/>
              <a:ext cx="0" cy="31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722840" y="2824200"/>
              <a:ext cx="0" cy="31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5195880" y="2824200"/>
              <a:ext cx="0" cy="31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670720" y="2824200"/>
              <a:ext cx="0" cy="31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145200" y="2824200"/>
              <a:ext cx="0" cy="31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618240" y="2824200"/>
              <a:ext cx="0" cy="31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59160" y="2832120"/>
              <a:ext cx="176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275000" y="2824200"/>
              <a:ext cx="1908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99120" y="282420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14960" y="2824200"/>
              <a:ext cx="7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24320" y="2824200"/>
              <a:ext cx="176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44840" y="2824200"/>
              <a:ext cx="162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62480" y="282420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79760" y="2824200"/>
              <a:ext cx="176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00640" y="282420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16480" y="282420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35560" y="282420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54640" y="282420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73720" y="2824200"/>
              <a:ext cx="7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83080" y="2824200"/>
              <a:ext cx="176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02160" y="2824200"/>
              <a:ext cx="144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16560" y="2824200"/>
              <a:ext cx="205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538520" y="2816280"/>
              <a:ext cx="1584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554360" y="2790720"/>
              <a:ext cx="19080" cy="223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578480" y="2757600"/>
              <a:ext cx="14040" cy="31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594320" y="2705040"/>
              <a:ext cx="17280" cy="507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611600" y="2639880"/>
              <a:ext cx="17640" cy="651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630680" y="2573280"/>
              <a:ext cx="7920" cy="637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4638600" y="2505240"/>
              <a:ext cx="15840" cy="66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4657680" y="2433600"/>
              <a:ext cx="17640" cy="716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676760" y="2354400"/>
              <a:ext cx="15840" cy="75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692600" y="2281320"/>
              <a:ext cx="19080" cy="745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716360" y="2230560"/>
              <a:ext cx="14400" cy="48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4730760" y="2187720"/>
              <a:ext cx="19080" cy="42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751280" y="2171880"/>
              <a:ext cx="17640" cy="140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772160" y="2157480"/>
              <a:ext cx="17280" cy="144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89440" y="2155680"/>
              <a:ext cx="64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97360" y="2155680"/>
              <a:ext cx="1764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18240" y="2163600"/>
              <a:ext cx="1584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35520" y="2171880"/>
              <a:ext cx="17640" cy="140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54600" y="2187720"/>
              <a:ext cx="17280" cy="61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3680" y="2197080"/>
              <a:ext cx="14400" cy="144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88080" y="2212920"/>
              <a:ext cx="18720" cy="97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10040" y="2222640"/>
              <a:ext cx="15840" cy="61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27680" y="223056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46760" y="2230560"/>
              <a:ext cx="61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6120" y="223056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971960" y="2230560"/>
              <a:ext cx="208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4994280" y="2220840"/>
              <a:ext cx="1728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13360" y="222264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5029200" y="2211480"/>
              <a:ext cx="15840" cy="93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49720" y="221148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064120" y="2201760"/>
              <a:ext cx="1908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087880" y="2203560"/>
              <a:ext cx="144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02280" y="2203560"/>
              <a:ext cx="7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11640" y="2203560"/>
              <a:ext cx="190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32520" y="220356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51600" y="220356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68880" y="2203560"/>
              <a:ext cx="17640" cy="61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89400" y="2211480"/>
              <a:ext cx="176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05240" y="2211480"/>
              <a:ext cx="190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27560" y="221148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5200" y="221148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62480" y="2211480"/>
              <a:ext cx="97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73640" y="221148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91280" y="221148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08560" y="221148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27640" y="2211480"/>
              <a:ext cx="176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45280" y="2211480"/>
              <a:ext cx="187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67240" y="221148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84880" y="2211480"/>
              <a:ext cx="140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00720" y="221148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19800" y="2211480"/>
              <a:ext cx="7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30960" y="221148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48240" y="2211480"/>
              <a:ext cx="176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68760" y="2211480"/>
              <a:ext cx="144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83160" y="2211480"/>
              <a:ext cx="190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05480" y="221148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24560" y="221148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41840" y="2211480"/>
              <a:ext cx="144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59480" y="221148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76760" y="2211480"/>
              <a:ext cx="7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86480" y="2211480"/>
              <a:ext cx="190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07000" y="221148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624640" y="221148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43720" y="221148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61000" y="2211480"/>
              <a:ext cx="190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80080" y="221148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00600" y="2212920"/>
              <a:ext cx="15840" cy="97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6440" y="2224080"/>
              <a:ext cx="17640" cy="302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35520" y="2255760"/>
              <a:ext cx="9720" cy="381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48480" y="2295360"/>
              <a:ext cx="15840" cy="590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64320" y="2355840"/>
              <a:ext cx="15840" cy="633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83400" y="2421000"/>
              <a:ext cx="17280" cy="75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02480" y="2498760"/>
              <a:ext cx="17280" cy="745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19760" y="2575080"/>
              <a:ext cx="17640" cy="82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38840" y="2658960"/>
              <a:ext cx="15840" cy="810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56120" y="2741760"/>
              <a:ext cx="19080" cy="727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77000" y="2816280"/>
              <a:ext cx="15840" cy="507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94280" y="2868480"/>
              <a:ext cx="9720" cy="302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05440" y="2900520"/>
              <a:ext cx="15840" cy="140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23080" y="291456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940360" y="2906640"/>
              <a:ext cx="1584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5958000" y="2892600"/>
              <a:ext cx="19080" cy="140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978520" y="2876400"/>
              <a:ext cx="15840" cy="144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997600" y="2847960"/>
              <a:ext cx="17280" cy="255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014880" y="2824200"/>
              <a:ext cx="16200" cy="223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6033960" y="2806560"/>
              <a:ext cx="17640" cy="176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053040" y="2790720"/>
              <a:ext cx="7920" cy="12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060960" y="2782800"/>
              <a:ext cx="1584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80040" y="278136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97680" y="278136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16760" y="2782800"/>
              <a:ext cx="1908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37280" y="2792520"/>
              <a:ext cx="17280" cy="4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156360" y="2798640"/>
              <a:ext cx="1584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173640" y="2816280"/>
              <a:ext cx="1764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92720" y="2825640"/>
              <a:ext cx="1764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11800" y="2833560"/>
              <a:ext cx="648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19720" y="284004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237360" y="2841480"/>
              <a:ext cx="1908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57880" y="284796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6275520" y="2840040"/>
              <a:ext cx="1728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94600" y="284004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6311880" y="2832120"/>
              <a:ext cx="1764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30960" y="2832120"/>
              <a:ext cx="190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6351480" y="2824200"/>
              <a:ext cx="1764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370560" y="2824200"/>
              <a:ext cx="46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375240" y="2816280"/>
              <a:ext cx="1908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397560" y="281448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15200" y="2814480"/>
              <a:ext cx="190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435720" y="2814480"/>
              <a:ext cx="144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51560" y="281448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69200" y="2816280"/>
              <a:ext cx="1908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89720" y="282420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08800" y="282420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526080" y="2825640"/>
              <a:ext cx="792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35800" y="283212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53080" y="2832120"/>
              <a:ext cx="190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73960" y="283212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93040" y="283212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10320" y="283212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27960" y="283212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645240" y="2824200"/>
              <a:ext cx="19080" cy="6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67560" y="2824200"/>
              <a:ext cx="144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83400" y="2824200"/>
              <a:ext cx="7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92760" y="2824200"/>
              <a:ext cx="190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13640" y="282420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30920" y="282420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48560" y="2824200"/>
              <a:ext cx="190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69080" y="282420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86720" y="282420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05440" y="2824200"/>
              <a:ext cx="162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23080" y="2824200"/>
              <a:ext cx="172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842160" y="2824200"/>
              <a:ext cx="7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1520" y="2824200"/>
              <a:ext cx="176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870600" y="2824200"/>
              <a:ext cx="176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89680" y="2824200"/>
              <a:ext cx="158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4081320" y="1411200"/>
              <a:ext cx="3211560" cy="35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244 Driving Lumped Load (50pF/5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4819680" y="1616040"/>
              <a:ext cx="133992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BIS Sim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 txBox="1"/>
            <p:nvPr/>
          </p:nvSpPr>
          <p:spPr>
            <a:xfrm>
              <a:off x="3951360" y="2951280"/>
              <a:ext cx="35712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3989520" y="2701800"/>
              <a:ext cx="30636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3989520" y="2459160"/>
              <a:ext cx="30636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 txBox="1"/>
            <p:nvPr/>
          </p:nvSpPr>
          <p:spPr>
            <a:xfrm>
              <a:off x="3989520" y="2208240"/>
              <a:ext cx="30636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3989520" y="1959120"/>
              <a:ext cx="30636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41800" y="2873520"/>
              <a:ext cx="1792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>
              <a:off x="4602240" y="2859120"/>
              <a:ext cx="30636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5038560" y="2859120"/>
              <a:ext cx="39204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>
              <a:off x="5511960" y="2859120"/>
              <a:ext cx="39204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5987880" y="2859120"/>
              <a:ext cx="39204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6459480" y="2859120"/>
              <a:ext cx="39204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5195880" y="3141720"/>
              <a:ext cx="91584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(n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3516480" y="2397240"/>
              <a:ext cx="80640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ut (V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19520" y="1401840"/>
              <a:ext cx="36576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 txBox="1"/>
          <p:nvPr/>
        </p:nvSpPr>
        <p:spPr>
          <a:xfrm>
            <a:off x="728640" y="181296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Wave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540160" y="3930480"/>
            <a:ext cx="6297480" cy="2202480"/>
            <a:chOff x="2540160" y="3930480"/>
            <a:chExt cx="6297480" cy="2202480"/>
          </a:xfrm>
        </p:grpSpPr>
        <p:sp>
          <p:nvSpPr>
            <p:cNvPr id="692" name=""/>
            <p:cNvSpPr txBox="1"/>
            <p:nvPr/>
          </p:nvSpPr>
          <p:spPr>
            <a:xfrm>
              <a:off x="7269120" y="5276880"/>
              <a:ext cx="59688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50p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92800" y="4587840"/>
              <a:ext cx="703800" cy="895680"/>
            </a:xfrm>
            <a:custGeom>
              <a:avLst/>
              <a:gdLst/>
              <a:ahLst/>
              <a:rect l="0" t="0" r="r" b="b"/>
              <a:pathLst>
                <a:path w="1955" h="2488">
                  <a:moveTo>
                    <a:pt x="1955" y="1290"/>
                  </a:moveTo>
                  <a:lnTo>
                    <a:pt x="0" y="2488"/>
                  </a:lnTo>
                  <a:lnTo>
                    <a:pt x="0" y="0"/>
                  </a:lnTo>
                  <a:lnTo>
                    <a:pt x="1955" y="12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181480" y="5043600"/>
              <a:ext cx="2803680" cy="1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61120" y="5245200"/>
              <a:ext cx="287640" cy="489240"/>
            </a:xfrm>
            <a:custGeom>
              <a:avLst/>
              <a:gdLst/>
              <a:ahLst/>
              <a:rect l="0" t="0" r="r" b="b"/>
              <a:pathLst>
                <a:path fill="none" w="799" h="1359">
                  <a:moveTo>
                    <a:pt x="435" y="1359"/>
                  </a:moveTo>
                  <a:lnTo>
                    <a:pt x="0" y="1279"/>
                  </a:lnTo>
                  <a:lnTo>
                    <a:pt x="799" y="1036"/>
                  </a:lnTo>
                  <a:lnTo>
                    <a:pt x="0" y="797"/>
                  </a:lnTo>
                  <a:lnTo>
                    <a:pt x="799" y="557"/>
                  </a:lnTo>
                  <a:lnTo>
                    <a:pt x="0" y="322"/>
                  </a:lnTo>
                  <a:lnTo>
                    <a:pt x="799" y="79"/>
                  </a:lnTo>
                  <a:lnTo>
                    <a:pt x="43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5446800" y="5889600"/>
              <a:ext cx="155880" cy="233640"/>
              <a:chOff x="5446800" y="5889600"/>
              <a:chExt cx="155880" cy="233640"/>
            </a:xfrm>
          </p:grpSpPr>
          <p:sp>
            <p:nvSpPr>
              <p:cNvPr id="697" name=""/>
              <p:cNvSpPr/>
              <p:nvPr/>
            </p:nvSpPr>
            <p:spPr>
              <a:xfrm>
                <a:off x="5446800" y="5987880"/>
                <a:ext cx="155880" cy="135360"/>
              </a:xfrm>
              <a:custGeom>
                <a:avLst/>
                <a:gdLst/>
                <a:ahLst/>
                <a:rect l="0" t="0" r="r" b="b"/>
                <a:pathLst>
                  <a:path w="433" h="376">
                    <a:moveTo>
                      <a:pt x="433" y="0"/>
                    </a:moveTo>
                    <a:lnTo>
                      <a:pt x="213" y="376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522760" y="5889600"/>
                <a:ext cx="0" cy="9540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 txBox="1"/>
            <p:nvPr/>
          </p:nvSpPr>
          <p:spPr>
            <a:xfrm>
              <a:off x="5748480" y="5326200"/>
              <a:ext cx="96840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500 Oh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4692600" y="5513400"/>
              <a:ext cx="155880" cy="233640"/>
              <a:chOff x="4692600" y="5513400"/>
              <a:chExt cx="155880" cy="233640"/>
            </a:xfrm>
          </p:grpSpPr>
          <p:sp>
            <p:nvSpPr>
              <p:cNvPr id="701" name=""/>
              <p:cNvSpPr/>
              <p:nvPr/>
            </p:nvSpPr>
            <p:spPr>
              <a:xfrm>
                <a:off x="4692600" y="5611680"/>
                <a:ext cx="155880" cy="135360"/>
              </a:xfrm>
              <a:custGeom>
                <a:avLst/>
                <a:gdLst/>
                <a:ahLst/>
                <a:rect l="0" t="0" r="r" b="b"/>
                <a:pathLst>
                  <a:path w="433" h="376">
                    <a:moveTo>
                      <a:pt x="433" y="0"/>
                    </a:moveTo>
                    <a:lnTo>
                      <a:pt x="213" y="376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768920" y="5513400"/>
                <a:ext cx="0" cy="9540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4770360" y="5319720"/>
              <a:ext cx="0" cy="1825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4432320" y="4854600"/>
              <a:ext cx="493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D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4788000" y="4192560"/>
              <a:ext cx="0" cy="5875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4597560" y="3930480"/>
              <a:ext cx="426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V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22720" y="5033880"/>
              <a:ext cx="3556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3743280" y="5294160"/>
              <a:ext cx="30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3516480" y="4865760"/>
              <a:ext cx="223560" cy="4284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105000" y="4869000"/>
              <a:ext cx="4096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54920" y="5041800"/>
              <a:ext cx="0" cy="298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27840" y="5489640"/>
              <a:ext cx="2700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907320" y="5362560"/>
              <a:ext cx="307800" cy="1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937200" y="5888160"/>
              <a:ext cx="240120" cy="185760"/>
              <a:chOff x="6937200" y="5888160"/>
              <a:chExt cx="240120" cy="185760"/>
            </a:xfrm>
          </p:grpSpPr>
          <p:sp>
            <p:nvSpPr>
              <p:cNvPr id="715" name=""/>
              <p:cNvSpPr/>
              <p:nvPr/>
            </p:nvSpPr>
            <p:spPr>
              <a:xfrm>
                <a:off x="6937200" y="5964120"/>
                <a:ext cx="240120" cy="109800"/>
              </a:xfrm>
              <a:custGeom>
                <a:avLst/>
                <a:gdLst/>
                <a:ahLst/>
                <a:rect l="0" t="0" r="r" b="b"/>
                <a:pathLst>
                  <a:path w="667" h="305">
                    <a:moveTo>
                      <a:pt x="667" y="0"/>
                    </a:moveTo>
                    <a:lnTo>
                      <a:pt x="329" y="305"/>
                    </a:lnTo>
                    <a:lnTo>
                      <a:pt x="0" y="0"/>
                    </a:lnTo>
                    <a:lnTo>
                      <a:pt x="329" y="0"/>
                    </a:lnTo>
                    <a:lnTo>
                      <a:pt x="6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54920" y="5888160"/>
                <a:ext cx="0" cy="7128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7054920" y="5522760"/>
              <a:ext cx="0" cy="363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684680" y="4165560"/>
              <a:ext cx="2160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19880" y="5060880"/>
              <a:ext cx="0" cy="1843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19880" y="5738760"/>
              <a:ext cx="0" cy="136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874960" y="4859280"/>
              <a:ext cx="223920" cy="4287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2540160" y="5294160"/>
              <a:ext cx="3045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73920" y="5048280"/>
              <a:ext cx="223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7912080" y="5318280"/>
              <a:ext cx="925560" cy="563400"/>
              <a:chOff x="7912080" y="5318280"/>
              <a:chExt cx="925560" cy="563400"/>
            </a:xfrm>
          </p:grpSpPr>
          <p:sp>
            <p:nvSpPr>
              <p:cNvPr id="725" name=""/>
              <p:cNvSpPr/>
              <p:nvPr/>
            </p:nvSpPr>
            <p:spPr>
              <a:xfrm>
                <a:off x="7937640" y="5318280"/>
                <a:ext cx="839880" cy="563400"/>
              </a:xfrm>
              <a:prstGeom prst="rect">
                <a:avLst/>
              </a:prstGeom>
              <a:noFill/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 txBox="1"/>
              <p:nvPr/>
            </p:nvSpPr>
            <p:spPr>
              <a:xfrm>
                <a:off x="7912080" y="5357880"/>
                <a:ext cx="92556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Prob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Parasitic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8277120" y="5899320"/>
              <a:ext cx="155880" cy="233640"/>
              <a:chOff x="8277120" y="5899320"/>
              <a:chExt cx="155880" cy="233640"/>
            </a:xfrm>
          </p:grpSpPr>
          <p:sp>
            <p:nvSpPr>
              <p:cNvPr id="728" name=""/>
              <p:cNvSpPr/>
              <p:nvPr/>
            </p:nvSpPr>
            <p:spPr>
              <a:xfrm>
                <a:off x="8277120" y="5997600"/>
                <a:ext cx="155880" cy="135360"/>
              </a:xfrm>
              <a:custGeom>
                <a:avLst/>
                <a:gdLst/>
                <a:ahLst/>
                <a:rect l="0" t="0" r="r" b="b"/>
                <a:pathLst>
                  <a:path w="433" h="376">
                    <a:moveTo>
                      <a:pt x="433" y="0"/>
                    </a:moveTo>
                    <a:lnTo>
                      <a:pt x="213" y="376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353440" y="5899320"/>
                <a:ext cx="0" cy="9504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8107200" y="5045040"/>
              <a:ext cx="246600" cy="276480"/>
            </a:xfrm>
            <a:custGeom>
              <a:avLst/>
              <a:gdLst/>
              <a:ahLst/>
              <a:rect l="0" t="0" r="r" b="b"/>
              <a:pathLst>
                <a:path fill="none" w="685" h="768">
                  <a:moveTo>
                    <a:pt x="0" y="0"/>
                  </a:moveTo>
                  <a:lnTo>
                    <a:pt x="685" y="0"/>
                  </a:lnTo>
                  <a:lnTo>
                    <a:pt x="685" y="768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685800" y="60948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st Load Waveforms</a:t>
            </a:r>
            <a:br>
              <a:rPr sz="36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(Transmission Line, Un-terminated)</a:t>
            </a: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576360" y="365760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chema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728640" y="181296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Wave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969920" y="4216320"/>
            <a:ext cx="5324760" cy="2464200"/>
            <a:chOff x="1969920" y="4216320"/>
            <a:chExt cx="5324760" cy="2464200"/>
          </a:xfrm>
        </p:grpSpPr>
        <p:sp>
          <p:nvSpPr>
            <p:cNvPr id="735" name=""/>
            <p:cNvSpPr/>
            <p:nvPr/>
          </p:nvSpPr>
          <p:spPr>
            <a:xfrm>
              <a:off x="4194000" y="4905360"/>
              <a:ext cx="703800" cy="895680"/>
            </a:xfrm>
            <a:custGeom>
              <a:avLst/>
              <a:gdLst/>
              <a:ahLst/>
              <a:rect l="0" t="0" r="r" b="b"/>
              <a:pathLst>
                <a:path w="1955" h="2488">
                  <a:moveTo>
                    <a:pt x="1955" y="1290"/>
                  </a:moveTo>
                  <a:lnTo>
                    <a:pt x="0" y="2488"/>
                  </a:lnTo>
                  <a:lnTo>
                    <a:pt x="0" y="0"/>
                  </a:lnTo>
                  <a:lnTo>
                    <a:pt x="1955" y="12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5467320" y="5205240"/>
              <a:ext cx="6634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Zo,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4406760" y="5792760"/>
              <a:ext cx="155880" cy="233640"/>
              <a:chOff x="4406760" y="5792760"/>
              <a:chExt cx="155880" cy="233640"/>
            </a:xfrm>
          </p:grpSpPr>
          <p:sp>
            <p:nvSpPr>
              <p:cNvPr id="738" name=""/>
              <p:cNvSpPr/>
              <p:nvPr/>
            </p:nvSpPr>
            <p:spPr>
              <a:xfrm>
                <a:off x="4406760" y="5891040"/>
                <a:ext cx="155880" cy="135360"/>
              </a:xfrm>
              <a:custGeom>
                <a:avLst/>
                <a:gdLst/>
                <a:ahLst/>
                <a:rect l="0" t="0" r="r" b="b"/>
                <a:pathLst>
                  <a:path w="433" h="376">
                    <a:moveTo>
                      <a:pt x="433" y="0"/>
                    </a:moveTo>
                    <a:lnTo>
                      <a:pt x="213" y="376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483080" y="5792760"/>
                <a:ext cx="0" cy="9540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4483080" y="5643720"/>
              <a:ext cx="0" cy="1346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4187880" y="5235480"/>
              <a:ext cx="493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D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4489560" y="4510080"/>
              <a:ext cx="0" cy="5875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4235400" y="4216320"/>
              <a:ext cx="426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V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24280" y="5367240"/>
              <a:ext cx="3556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386240" y="4483080"/>
              <a:ext cx="2160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167440" y="5245200"/>
              <a:ext cx="101520" cy="244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200560" y="5251320"/>
              <a:ext cx="13701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213520" y="5481720"/>
              <a:ext cx="13698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559560" y="5249880"/>
              <a:ext cx="65520" cy="221040"/>
            </a:xfrm>
            <a:custGeom>
              <a:avLst/>
              <a:gdLst/>
              <a:ahLst/>
              <a:rect l="0" t="0" r="r" b="b"/>
              <a:pathLst>
                <a:path fill="none" w="182" h="614">
                  <a:moveTo>
                    <a:pt x="0" y="0"/>
                  </a:moveTo>
                  <a:lnTo>
                    <a:pt x="123" y="137"/>
                  </a:lnTo>
                  <a:lnTo>
                    <a:pt x="182" y="227"/>
                  </a:lnTo>
                  <a:lnTo>
                    <a:pt x="182" y="343"/>
                  </a:lnTo>
                  <a:lnTo>
                    <a:pt x="123" y="499"/>
                  </a:lnTo>
                  <a:lnTo>
                    <a:pt x="123" y="570"/>
                  </a:lnTo>
                  <a:lnTo>
                    <a:pt x="91" y="614"/>
                  </a:lnTo>
                  <a:lnTo>
                    <a:pt x="64" y="614"/>
                  </a:lnTo>
                  <a:lnTo>
                    <a:pt x="0" y="614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4720" y="5367240"/>
              <a:ext cx="223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98880" y="5367240"/>
              <a:ext cx="3524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173400" y="5622840"/>
              <a:ext cx="30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2946240" y="5194440"/>
              <a:ext cx="223920" cy="4284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535120" y="5197320"/>
              <a:ext cx="4096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2289240" y="5187960"/>
              <a:ext cx="223920" cy="4287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1969920" y="5622840"/>
              <a:ext cx="30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6369120" y="5865840"/>
              <a:ext cx="925560" cy="563400"/>
              <a:chOff x="6369120" y="5865840"/>
              <a:chExt cx="925560" cy="563400"/>
            </a:xfrm>
          </p:grpSpPr>
          <p:sp>
            <p:nvSpPr>
              <p:cNvPr id="758" name=""/>
              <p:cNvSpPr/>
              <p:nvPr/>
            </p:nvSpPr>
            <p:spPr>
              <a:xfrm>
                <a:off x="6394320" y="5865840"/>
                <a:ext cx="839880" cy="563400"/>
              </a:xfrm>
              <a:prstGeom prst="rect">
                <a:avLst/>
              </a:prstGeom>
              <a:noFill/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 txBox="1"/>
              <p:nvPr/>
            </p:nvSpPr>
            <p:spPr>
              <a:xfrm>
                <a:off x="6369120" y="5905440"/>
                <a:ext cx="92556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Prob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Parasitic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734160" y="6446880"/>
              <a:ext cx="155880" cy="233640"/>
              <a:chOff x="6734160" y="6446880"/>
              <a:chExt cx="155880" cy="233640"/>
            </a:xfrm>
          </p:grpSpPr>
          <p:sp>
            <p:nvSpPr>
              <p:cNvPr id="761" name=""/>
              <p:cNvSpPr/>
              <p:nvPr/>
            </p:nvSpPr>
            <p:spPr>
              <a:xfrm>
                <a:off x="6734160" y="6545160"/>
                <a:ext cx="155880" cy="135360"/>
              </a:xfrm>
              <a:custGeom>
                <a:avLst/>
                <a:gdLst/>
                <a:ahLst/>
                <a:rect l="0" t="0" r="r" b="b"/>
                <a:pathLst>
                  <a:path w="433" h="376">
                    <a:moveTo>
                      <a:pt x="433" y="0"/>
                    </a:moveTo>
                    <a:lnTo>
                      <a:pt x="213" y="376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810480" y="6446880"/>
                <a:ext cx="0" cy="9504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6827760" y="5365800"/>
              <a:ext cx="0" cy="501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3281400" y="1795320"/>
            <a:ext cx="45752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685800" y="60948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st Load Waveforms</a:t>
            </a:r>
            <a:br>
              <a:rPr sz="36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(Driver and Receiver, Un-terminated)</a:t>
            </a: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46120" y="373392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chema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728640" y="181296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Wave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527120" y="4079880"/>
            <a:ext cx="5569560" cy="2589480"/>
            <a:chOff x="1527120" y="4079880"/>
            <a:chExt cx="5569560" cy="2589480"/>
          </a:xfrm>
        </p:grpSpPr>
        <p:sp>
          <p:nvSpPr>
            <p:cNvPr id="769" name=""/>
            <p:cNvSpPr/>
            <p:nvPr/>
          </p:nvSpPr>
          <p:spPr>
            <a:xfrm>
              <a:off x="3473280" y="4737240"/>
              <a:ext cx="703800" cy="895680"/>
            </a:xfrm>
            <a:custGeom>
              <a:avLst/>
              <a:gdLst/>
              <a:ahLst/>
              <a:rect l="0" t="0" r="r" b="b"/>
              <a:pathLst>
                <a:path w="1955" h="2488">
                  <a:moveTo>
                    <a:pt x="1955" y="1290"/>
                  </a:moveTo>
                  <a:lnTo>
                    <a:pt x="0" y="2488"/>
                  </a:lnTo>
                  <a:lnTo>
                    <a:pt x="0" y="0"/>
                  </a:lnTo>
                  <a:lnTo>
                    <a:pt x="1955" y="12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4746600" y="5037120"/>
              <a:ext cx="6634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Zo,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3686040" y="5624640"/>
              <a:ext cx="155880" cy="233640"/>
              <a:chOff x="3686040" y="5624640"/>
              <a:chExt cx="155880" cy="233640"/>
            </a:xfrm>
          </p:grpSpPr>
          <p:sp>
            <p:nvSpPr>
              <p:cNvPr id="772" name=""/>
              <p:cNvSpPr/>
              <p:nvPr/>
            </p:nvSpPr>
            <p:spPr>
              <a:xfrm>
                <a:off x="3686040" y="5722920"/>
                <a:ext cx="155880" cy="135360"/>
              </a:xfrm>
              <a:custGeom>
                <a:avLst/>
                <a:gdLst/>
                <a:ahLst/>
                <a:rect l="0" t="0" r="r" b="b"/>
                <a:pathLst>
                  <a:path w="433" h="376">
                    <a:moveTo>
                      <a:pt x="433" y="0"/>
                    </a:moveTo>
                    <a:lnTo>
                      <a:pt x="213" y="376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762360" y="5624640"/>
                <a:ext cx="0" cy="9504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762360" y="5475240"/>
              <a:ext cx="0" cy="1350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 txBox="1"/>
            <p:nvPr/>
          </p:nvSpPr>
          <p:spPr>
            <a:xfrm>
              <a:off x="3497400" y="5048280"/>
              <a:ext cx="4176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Dr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768840" y="4341960"/>
              <a:ext cx="0" cy="5871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3546360" y="4079880"/>
              <a:ext cx="426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V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03560" y="5183280"/>
              <a:ext cx="3556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49680" y="4330800"/>
              <a:ext cx="2160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4414680" y="5076720"/>
              <a:ext cx="1491480" cy="244440"/>
              <a:chOff x="4414680" y="5076720"/>
              <a:chExt cx="1491480" cy="24444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4414680" y="5076720"/>
                <a:ext cx="1447920" cy="244440"/>
                <a:chOff x="4414680" y="5076720"/>
                <a:chExt cx="1447920" cy="24444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4414680" y="5076720"/>
                  <a:ext cx="101520" cy="244440"/>
                </a:xfrm>
                <a:prstGeom prst="ellipse">
                  <a:avLst/>
                </a:prstGeom>
                <a:noFill/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479840" y="5083200"/>
                  <a:ext cx="1370160" cy="0"/>
                </a:xfrm>
                <a:prstGeom prst="line">
                  <a:avLst/>
                </a:prstGeom>
                <a:ln w="12600">
                  <a:solidFill>
                    <a:srgbClr val="081d5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4492800" y="5313240"/>
                  <a:ext cx="1369800" cy="0"/>
                </a:xfrm>
                <a:prstGeom prst="line">
                  <a:avLst/>
                </a:prstGeom>
                <a:ln w="12600">
                  <a:solidFill>
                    <a:srgbClr val="081d5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"/>
              <p:cNvSpPr/>
              <p:nvPr/>
            </p:nvSpPr>
            <p:spPr>
              <a:xfrm>
                <a:off x="5837400" y="5087880"/>
                <a:ext cx="68760" cy="214560"/>
              </a:xfrm>
              <a:custGeom>
                <a:avLst/>
                <a:gdLst/>
                <a:ahLst/>
                <a:rect l="0" t="0" r="r" b="b"/>
                <a:pathLst>
                  <a:path fill="none" w="191" h="596">
                    <a:moveTo>
                      <a:pt x="0" y="0"/>
                    </a:moveTo>
                    <a:lnTo>
                      <a:pt x="136" y="119"/>
                    </a:lnTo>
                    <a:lnTo>
                      <a:pt x="191" y="213"/>
                    </a:lnTo>
                    <a:lnTo>
                      <a:pt x="191" y="334"/>
                    </a:lnTo>
                    <a:lnTo>
                      <a:pt x="136" y="476"/>
                    </a:lnTo>
                    <a:lnTo>
                      <a:pt x="109" y="547"/>
                    </a:lnTo>
                    <a:lnTo>
                      <a:pt x="82" y="596"/>
                    </a:lnTo>
                    <a:lnTo>
                      <a:pt x="55" y="596"/>
                    </a:lnTo>
                    <a:lnTo>
                      <a:pt x="0" y="596"/>
                    </a:lnTo>
                  </a:path>
                </a:pathLst>
              </a:custGeom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4178160" y="5199120"/>
              <a:ext cx="3524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4000" y="5214960"/>
              <a:ext cx="223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392880" y="4780080"/>
              <a:ext cx="703800" cy="895680"/>
            </a:xfrm>
            <a:custGeom>
              <a:avLst/>
              <a:gdLst/>
              <a:ahLst/>
              <a:rect l="0" t="0" r="r" b="b"/>
              <a:pathLst>
                <a:path w="1955" h="2488">
                  <a:moveTo>
                    <a:pt x="1955" y="1290"/>
                  </a:moveTo>
                  <a:lnTo>
                    <a:pt x="0" y="2488"/>
                  </a:lnTo>
                  <a:lnTo>
                    <a:pt x="0" y="0"/>
                  </a:lnTo>
                  <a:lnTo>
                    <a:pt x="1955" y="12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6605640" y="5667480"/>
              <a:ext cx="155880" cy="233640"/>
              <a:chOff x="6605640" y="5667480"/>
              <a:chExt cx="155880" cy="233640"/>
            </a:xfrm>
          </p:grpSpPr>
          <p:sp>
            <p:nvSpPr>
              <p:cNvPr id="790" name=""/>
              <p:cNvSpPr/>
              <p:nvPr/>
            </p:nvSpPr>
            <p:spPr>
              <a:xfrm>
                <a:off x="6605640" y="5765760"/>
                <a:ext cx="155880" cy="135360"/>
              </a:xfrm>
              <a:custGeom>
                <a:avLst/>
                <a:gdLst/>
                <a:ahLst/>
                <a:rect l="0" t="0" r="r" b="b"/>
                <a:pathLst>
                  <a:path w="433" h="376">
                    <a:moveTo>
                      <a:pt x="433" y="0"/>
                    </a:moveTo>
                    <a:lnTo>
                      <a:pt x="213" y="376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81960" y="5667480"/>
                <a:ext cx="0" cy="9504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"/>
            <p:cNvSpPr/>
            <p:nvPr/>
          </p:nvSpPr>
          <p:spPr>
            <a:xfrm>
              <a:off x="6681960" y="5518080"/>
              <a:ext cx="0" cy="1350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6370560" y="5046840"/>
              <a:ext cx="426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Rc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6688080" y="4384800"/>
              <a:ext cx="0" cy="5871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6465960" y="4154400"/>
              <a:ext cx="426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V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22800" y="5210280"/>
              <a:ext cx="3556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585120" y="4373640"/>
              <a:ext cx="2156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2730600" y="5424480"/>
              <a:ext cx="3045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2503440" y="4995720"/>
              <a:ext cx="223920" cy="4287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2092320" y="4998960"/>
              <a:ext cx="4096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1846440" y="4989600"/>
              <a:ext cx="223560" cy="4284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1527120" y="5424480"/>
              <a:ext cx="30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5619600" y="5854680"/>
              <a:ext cx="925560" cy="563400"/>
              <a:chOff x="5619600" y="5854680"/>
              <a:chExt cx="925560" cy="563400"/>
            </a:xfrm>
          </p:grpSpPr>
          <p:sp>
            <p:nvSpPr>
              <p:cNvPr id="804" name=""/>
              <p:cNvSpPr/>
              <p:nvPr/>
            </p:nvSpPr>
            <p:spPr>
              <a:xfrm>
                <a:off x="5645160" y="5854680"/>
                <a:ext cx="839880" cy="563400"/>
              </a:xfrm>
              <a:prstGeom prst="rect">
                <a:avLst/>
              </a:prstGeom>
              <a:noFill/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 txBox="1"/>
              <p:nvPr/>
            </p:nvSpPr>
            <p:spPr>
              <a:xfrm>
                <a:off x="5619600" y="5894280"/>
                <a:ext cx="92556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Prob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Parasitic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5985000" y="6435720"/>
              <a:ext cx="155880" cy="233640"/>
              <a:chOff x="5985000" y="6435720"/>
              <a:chExt cx="155880" cy="233640"/>
            </a:xfrm>
          </p:grpSpPr>
          <p:sp>
            <p:nvSpPr>
              <p:cNvPr id="807" name=""/>
              <p:cNvSpPr/>
              <p:nvPr/>
            </p:nvSpPr>
            <p:spPr>
              <a:xfrm>
                <a:off x="5985000" y="6534000"/>
                <a:ext cx="155880" cy="135360"/>
              </a:xfrm>
              <a:custGeom>
                <a:avLst/>
                <a:gdLst/>
                <a:ahLst/>
                <a:rect l="0" t="0" r="r" b="b"/>
                <a:pathLst>
                  <a:path w="433" h="376">
                    <a:moveTo>
                      <a:pt x="433" y="0"/>
                    </a:moveTo>
                    <a:lnTo>
                      <a:pt x="213" y="376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060960" y="6435720"/>
                <a:ext cx="0" cy="9540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6027840" y="5218200"/>
              <a:ext cx="0" cy="63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3328920" y="1519200"/>
            <a:ext cx="45943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dditional Measurements </a:t>
            </a:r>
            <a:br>
              <a:rPr sz="1800"/>
            </a:br>
            <a:r>
              <a:rPr b="1" lang="en-US" sz="3000" spc="-1" strike="noStrike">
                <a:solidFill>
                  <a:srgbClr val="081d58"/>
                </a:solidFill>
                <a:latin typeface="Arial"/>
                <a:ea typeface="Arial"/>
              </a:rPr>
              <a:t>Capaci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41360" y="1722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LRC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apacitanc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im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ulse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630440" y="5075280"/>
            <a:ext cx="685800" cy="70020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874880" y="5303880"/>
            <a:ext cx="198360" cy="212760"/>
          </a:xfrm>
          <a:prstGeom prst="ellipse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982880" y="5410080"/>
            <a:ext cx="464652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692360" y="5135400"/>
            <a:ext cx="90360" cy="76320"/>
          </a:xfrm>
          <a:prstGeom prst="ellipse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65400" y="5119560"/>
            <a:ext cx="90360" cy="76320"/>
          </a:xfrm>
          <a:prstGeom prst="ellipse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708200" y="5622840"/>
            <a:ext cx="90360" cy="76320"/>
          </a:xfrm>
          <a:prstGeom prst="ellipse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63600" y="5638680"/>
            <a:ext cx="90360" cy="76320"/>
          </a:xfrm>
          <a:prstGeom prst="ellipse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659640" y="4981680"/>
            <a:ext cx="703800" cy="895680"/>
          </a:xfrm>
          <a:custGeom>
            <a:avLst/>
            <a:gdLst/>
            <a:ahLst/>
            <a:rect l="0" t="0" r="r" b="b"/>
            <a:pathLst>
              <a:path w="1955" h="2488">
                <a:moveTo>
                  <a:pt x="1955" y="1290"/>
                </a:moveTo>
                <a:lnTo>
                  <a:pt x="0" y="2488"/>
                </a:lnTo>
                <a:lnTo>
                  <a:pt x="0" y="0"/>
                </a:lnTo>
                <a:lnTo>
                  <a:pt x="1955" y="129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81d5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734160" y="3852720"/>
            <a:ext cx="703800" cy="895680"/>
          </a:xfrm>
          <a:custGeom>
            <a:avLst/>
            <a:gdLst/>
            <a:ahLst/>
            <a:rect l="0" t="0" r="r" b="b"/>
            <a:pathLst>
              <a:path w="1955" h="2488">
                <a:moveTo>
                  <a:pt x="0" y="1290"/>
                </a:moveTo>
                <a:lnTo>
                  <a:pt x="1955" y="2488"/>
                </a:lnTo>
                <a:lnTo>
                  <a:pt x="1955" y="0"/>
                </a:lnTo>
                <a:lnTo>
                  <a:pt x="0" y="129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81d5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45240" y="4313160"/>
            <a:ext cx="992520" cy="1099080"/>
          </a:xfrm>
          <a:custGeom>
            <a:avLst/>
            <a:gdLst/>
            <a:ahLst/>
            <a:rect l="0" t="0" r="r" b="b"/>
            <a:pathLst>
              <a:path fill="none" w="2757" h="3053">
                <a:moveTo>
                  <a:pt x="0" y="3053"/>
                </a:moveTo>
                <a:lnTo>
                  <a:pt x="0" y="0"/>
                </a:lnTo>
                <a:lnTo>
                  <a:pt x="2757" y="0"/>
                </a:lnTo>
              </a:path>
            </a:pathLst>
          </a:custGeom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346880" y="5440320"/>
            <a:ext cx="117180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453440" y="4327560"/>
            <a:ext cx="117144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76280" y="5989680"/>
            <a:ext cx="8332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Note: Capacitance measured is the sum of Input, Output or I/O capacitance and package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282920" y="5089680"/>
            <a:ext cx="1143000" cy="67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4419720" y="516564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arameters Not Measu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534960" y="1766880"/>
            <a:ext cx="8380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ackag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Resistance typically &lt; 0.1 O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ackage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ccuracy can be inferred from test load wav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Not easily measured in packag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BIS Test board (Summa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590400" y="1566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est Case to Verify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till work to be done to “characterize” board and test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et of Tes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Measure AC and DC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pecification Comp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Board Design is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c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Ger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art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tudy, Improve and Sh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rpo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33240" y="1657440"/>
            <a:ext cx="8043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est board offers a means for testing and verifying IBIS Accuracy methodologies through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est board was designed for meas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DC IV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est Loads (AC Wavefor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apacitance (Input and 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n IBIS model can be created from sample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BIS Test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28920" y="30859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22760" y="2571840"/>
            <a:ext cx="3987720" cy="4218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5840" y="996840"/>
            <a:ext cx="58975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espun and Ready for Testing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chematics and Layout available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2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ll be part of our demo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DesignCon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3049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ard Specifica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8240" y="1327320"/>
            <a:ext cx="889776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Layout Accommodates a 16244 function in 48-l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0000"/>
              </a:lnSpc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SSOP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est board is a simple 4 layer stack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Only requires device power, all other signal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0000"/>
              </a:lnSpc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generated on-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2 Devices (U1 and U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U1 is set up for standard IBIS I/V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0000"/>
              </a:lnSpc>
            </a:pPr>
            <a:r>
              <a:rPr b="0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and input/output Capacitance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U2 is set up for all AC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est strips for measuring T-line characteristics of board t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est strips for measuring the load characteristics of board 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0000"/>
              </a:lnSpc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and 3 types of probe 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4492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4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BIS Model Struct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50920" y="5756400"/>
            <a:ext cx="26748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NPU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2800" y="5762520"/>
            <a:ext cx="26748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OUTPU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2600" y="1419120"/>
            <a:ext cx="3828960" cy="4111560"/>
            <a:chOff x="12600" y="1419120"/>
            <a:chExt cx="3828960" cy="4111560"/>
          </a:xfrm>
        </p:grpSpPr>
        <p:sp>
          <p:nvSpPr>
            <p:cNvPr id="54" name=""/>
            <p:cNvSpPr/>
            <p:nvPr/>
          </p:nvSpPr>
          <p:spPr>
            <a:xfrm>
              <a:off x="2173320" y="2367000"/>
              <a:ext cx="581040" cy="87948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30240" y="3424320"/>
              <a:ext cx="1236600" cy="33480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898560" y="3440160"/>
              <a:ext cx="1333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Package R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57480" y="3603600"/>
              <a:ext cx="280800" cy="1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470320" y="3247920"/>
              <a:ext cx="0" cy="669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8000" y="3916440"/>
              <a:ext cx="581040" cy="87948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74880" y="4925880"/>
              <a:ext cx="1236600" cy="33480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1843200" y="4941720"/>
              <a:ext cx="1333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Package R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74880" y="1859040"/>
              <a:ext cx="1236600" cy="33480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1843200" y="1874880"/>
              <a:ext cx="1333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Package R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73480" y="3519360"/>
              <a:ext cx="1746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54120" y="4786200"/>
              <a:ext cx="0" cy="1368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482920" y="2195640"/>
              <a:ext cx="1440" cy="1587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81120" y="1697040"/>
              <a:ext cx="0" cy="1494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13080" y="1682640"/>
              <a:ext cx="1364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2139840" y="1419120"/>
              <a:ext cx="703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Vc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324160" y="5262480"/>
              <a:ext cx="285840" cy="268200"/>
              <a:chOff x="2324160" y="5262480"/>
              <a:chExt cx="285840" cy="268200"/>
            </a:xfrm>
          </p:grpSpPr>
          <p:sp>
            <p:nvSpPr>
              <p:cNvPr id="71" name=""/>
              <p:cNvSpPr/>
              <p:nvPr/>
            </p:nvSpPr>
            <p:spPr>
              <a:xfrm>
                <a:off x="2473200" y="5262480"/>
                <a:ext cx="0" cy="13644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24160" y="5411880"/>
                <a:ext cx="28584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82840" y="5467320"/>
                <a:ext cx="16200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21000" y="5530680"/>
                <a:ext cx="10152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 txBox="1"/>
            <p:nvPr/>
          </p:nvSpPr>
          <p:spPr>
            <a:xfrm>
              <a:off x="1812960" y="4076640"/>
              <a:ext cx="133344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G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Cla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1812960" y="2511360"/>
              <a:ext cx="133344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PW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cla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4080" y="1755720"/>
              <a:ext cx="3057480" cy="356220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12600" y="3273480"/>
              <a:ext cx="703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33360" y="3600360"/>
              <a:ext cx="5954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038560" y="1419120"/>
            <a:ext cx="4113360" cy="4157640"/>
            <a:chOff x="5038560" y="1419120"/>
            <a:chExt cx="4113360" cy="4157640"/>
          </a:xfrm>
        </p:grpSpPr>
        <p:sp>
          <p:nvSpPr>
            <p:cNvPr id="81" name=""/>
            <p:cNvSpPr/>
            <p:nvPr/>
          </p:nvSpPr>
          <p:spPr>
            <a:xfrm>
              <a:off x="6254640" y="2389320"/>
              <a:ext cx="581040" cy="87948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0080" y="3446640"/>
              <a:ext cx="1236600" cy="33480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6816600" y="3478320"/>
              <a:ext cx="1333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Package R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075520" y="3635280"/>
              <a:ext cx="5954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559560" y="3627360"/>
              <a:ext cx="2905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553080" y="3271680"/>
              <a:ext cx="0" cy="652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49960" y="3914640"/>
              <a:ext cx="581040" cy="87948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69160" y="4971960"/>
              <a:ext cx="1236600" cy="33480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5904000" y="4987800"/>
              <a:ext cx="1333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Package R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97520" y="1881360"/>
              <a:ext cx="1236600" cy="33480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5832360" y="1897200"/>
              <a:ext cx="1333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Package R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61280" y="3541680"/>
              <a:ext cx="1746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54880" y="4808520"/>
              <a:ext cx="0" cy="1494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12040" y="2216160"/>
              <a:ext cx="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27880" y="1703520"/>
              <a:ext cx="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448320" y="1698480"/>
              <a:ext cx="1620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6157800" y="1419120"/>
              <a:ext cx="703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Vc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5886360" y="4083120"/>
              <a:ext cx="133344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G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Cla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5884920" y="2533680"/>
              <a:ext cx="133344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PW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Cla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67440" y="1778040"/>
              <a:ext cx="3057480" cy="356220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8271000" y="3278160"/>
              <a:ext cx="8809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48440" y="2384280"/>
              <a:ext cx="882720" cy="87948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711760" y="3627360"/>
              <a:ext cx="7304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748480" y="3267000"/>
              <a:ext cx="7920" cy="649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3909960"/>
              <a:ext cx="896760" cy="87948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56320" y="3537000"/>
              <a:ext cx="1746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762520" y="4937040"/>
              <a:ext cx="7668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734080" y="2263680"/>
              <a:ext cx="7668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7560" y="4795920"/>
              <a:ext cx="0" cy="136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729400" y="2255760"/>
              <a:ext cx="1440" cy="1191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060880" y="2612880"/>
              <a:ext cx="1333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Pull-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038560" y="4165560"/>
              <a:ext cx="1333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Pull-Dow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6421320" y="5308560"/>
              <a:ext cx="285840" cy="268200"/>
              <a:chOff x="6421320" y="5308560"/>
              <a:chExt cx="285840" cy="268200"/>
            </a:xfrm>
          </p:grpSpPr>
          <p:sp>
            <p:nvSpPr>
              <p:cNvPr id="114" name=""/>
              <p:cNvSpPr/>
              <p:nvPr/>
            </p:nvSpPr>
            <p:spPr>
              <a:xfrm>
                <a:off x="6570720" y="5308560"/>
                <a:ext cx="0" cy="13644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21320" y="5457960"/>
                <a:ext cx="28584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480000" y="5513400"/>
                <a:ext cx="16200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18160" y="5576760"/>
                <a:ext cx="10188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BIS DC Data: IV Cur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81d58"/>
                </a:solidFill>
                <a:uFillTx/>
                <a:latin typeface="Arial"/>
                <a:ea typeface="Arial"/>
              </a:rPr>
              <a:t>I/V Curves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INPUT and TRI-STATE:   Clamp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OUTPUT:     Pull-Down and/or Pull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81d58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081d58"/>
                </a:solidFill>
                <a:uFillTx/>
                <a:latin typeface="Arial"/>
                <a:ea typeface="Arial"/>
              </a:rPr>
              <a:t>Schematic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65800" y="3747960"/>
            <a:ext cx="370044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Input and Output DC Swe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Vcc= Max, Typ, Min (+/-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Temp = -40C, 25C, 85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84560" y="3478320"/>
            <a:ext cx="5190840" cy="2746440"/>
            <a:chOff x="2284560" y="3478320"/>
            <a:chExt cx="5190840" cy="2746440"/>
          </a:xfrm>
        </p:grpSpPr>
        <p:sp>
          <p:nvSpPr>
            <p:cNvPr id="122" name=""/>
            <p:cNvSpPr/>
            <p:nvPr/>
          </p:nvSpPr>
          <p:spPr>
            <a:xfrm>
              <a:off x="4114800" y="4548240"/>
              <a:ext cx="1090800" cy="1117800"/>
            </a:xfrm>
            <a:custGeom>
              <a:avLst/>
              <a:gdLst/>
              <a:ahLst/>
              <a:rect l="0" t="0" r="r" b="b"/>
              <a:pathLst>
                <a:path w="3030" h="3105">
                  <a:moveTo>
                    <a:pt x="3030" y="1612"/>
                  </a:moveTo>
                  <a:lnTo>
                    <a:pt x="0" y="3105"/>
                  </a:lnTo>
                  <a:lnTo>
                    <a:pt x="0" y="0"/>
                  </a:lnTo>
                  <a:lnTo>
                    <a:pt x="3030" y="16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417920" y="5641920"/>
              <a:ext cx="268560" cy="582840"/>
              <a:chOff x="4417920" y="5641920"/>
              <a:chExt cx="268560" cy="5828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17920" y="5902200"/>
                <a:ext cx="268560" cy="322560"/>
              </a:xfrm>
              <a:custGeom>
                <a:avLst/>
                <a:gdLst/>
                <a:ahLst/>
                <a:rect l="0" t="0" r="r" b="b"/>
                <a:pathLst>
                  <a:path w="746" h="896">
                    <a:moveTo>
                      <a:pt x="746" y="0"/>
                    </a:moveTo>
                    <a:lnTo>
                      <a:pt x="368" y="896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7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49680" y="5641920"/>
                <a:ext cx="0" cy="26820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4562640" y="5454720"/>
              <a:ext cx="0" cy="1792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192560" y="4910040"/>
              <a:ext cx="7034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D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557600" y="3832200"/>
              <a:ext cx="0" cy="9446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54360" y="3781440"/>
              <a:ext cx="0" cy="3841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4335480" y="3478320"/>
              <a:ext cx="5079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Vc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84800" y="3770280"/>
              <a:ext cx="3254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683320" y="4924440"/>
              <a:ext cx="1792080" cy="1155960"/>
              <a:chOff x="5683320" y="4924440"/>
              <a:chExt cx="1792080" cy="1155960"/>
            </a:xfrm>
          </p:grpSpPr>
          <p:sp>
            <p:nvSpPr>
              <p:cNvPr id="133" name=""/>
              <p:cNvSpPr/>
              <p:nvPr/>
            </p:nvSpPr>
            <p:spPr>
              <a:xfrm>
                <a:off x="6564240" y="5108400"/>
                <a:ext cx="58572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7093080" y="5724360"/>
                <a:ext cx="155880" cy="356040"/>
                <a:chOff x="7093080" y="5724360"/>
                <a:chExt cx="155880" cy="356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093080" y="5883120"/>
                  <a:ext cx="155880" cy="197280"/>
                </a:xfrm>
                <a:custGeom>
                  <a:avLst/>
                  <a:gdLst/>
                  <a:ahLst/>
                  <a:rect l="0" t="0" r="r" b="b"/>
                  <a:pathLst>
                    <a:path w="433" h="548">
                      <a:moveTo>
                        <a:pt x="433" y="0"/>
                      </a:moveTo>
                      <a:lnTo>
                        <a:pt x="209" y="548"/>
                      </a:lnTo>
                      <a:lnTo>
                        <a:pt x="0" y="0"/>
                      </a:lnTo>
                      <a:lnTo>
                        <a:pt x="209" y="0"/>
                      </a:lnTo>
                      <a:lnTo>
                        <a:pt x="4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169040" y="5724360"/>
                  <a:ext cx="0" cy="162000"/>
                </a:xfrm>
                <a:prstGeom prst="line">
                  <a:avLst/>
                </a:prstGeom>
                <a:ln w="12600">
                  <a:solidFill>
                    <a:srgbClr val="081d5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 flipV="1">
                <a:off x="7159680" y="5113440"/>
                <a:ext cx="0" cy="10296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7024680" y="5342040"/>
                <a:ext cx="282600" cy="32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V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889680" y="5222880"/>
                <a:ext cx="585720" cy="503280"/>
                <a:chOff x="6889680" y="5222880"/>
                <a:chExt cx="585720" cy="503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889680" y="5222880"/>
                  <a:ext cx="525600" cy="503280"/>
                </a:xfrm>
                <a:prstGeom prst="ellipse">
                  <a:avLst/>
                </a:prstGeom>
                <a:noFill/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 txBox="1"/>
                <p:nvPr/>
              </p:nvSpPr>
              <p:spPr>
                <a:xfrm>
                  <a:off x="7043760" y="5237280"/>
                  <a:ext cx="43164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70000"/>
                    </a:lnSpc>
                    <a:spcBef>
                      <a:spcPts val="1199"/>
                    </a:spcBef>
                  </a:pPr>
                  <a:r>
                    <a:rPr b="0" lang="en-US" sz="1700" spc="-1" strike="noStrike">
                      <a:solidFill>
                        <a:srgbClr val="081d58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 txBox="1"/>
              <p:nvPr/>
            </p:nvSpPr>
            <p:spPr>
              <a:xfrm>
                <a:off x="7066080" y="5460840"/>
                <a:ext cx="201600" cy="32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7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48360" y="4924440"/>
                <a:ext cx="507960" cy="39672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6129360" y="4933800"/>
                <a:ext cx="3682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683320" y="5119560"/>
                <a:ext cx="35388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284560" y="4932360"/>
              <a:ext cx="1793880" cy="1155960"/>
              <a:chOff x="2284560" y="4932360"/>
              <a:chExt cx="1793880" cy="115596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2611440" y="5116680"/>
                <a:ext cx="58572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511360" y="5732640"/>
                <a:ext cx="157680" cy="355680"/>
                <a:chOff x="2511360" y="5732640"/>
                <a:chExt cx="157680" cy="3556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511360" y="5891040"/>
                  <a:ext cx="157680" cy="197280"/>
                </a:xfrm>
                <a:custGeom>
                  <a:avLst/>
                  <a:gdLst/>
                  <a:ahLst/>
                  <a:rect l="0" t="0" r="r" b="b"/>
                  <a:pathLst>
                    <a:path w="438" h="548">
                      <a:moveTo>
                        <a:pt x="0" y="0"/>
                      </a:moveTo>
                      <a:lnTo>
                        <a:pt x="223" y="548"/>
                      </a:lnTo>
                      <a:lnTo>
                        <a:pt x="438" y="0"/>
                      </a:lnTo>
                      <a:lnTo>
                        <a:pt x="22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90920" y="5732640"/>
                  <a:ext cx="0" cy="161640"/>
                </a:xfrm>
                <a:prstGeom prst="line">
                  <a:avLst/>
                </a:prstGeom>
                <a:ln w="12600">
                  <a:solidFill>
                    <a:srgbClr val="081d5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V="1">
                <a:off x="2600280" y="5121360"/>
                <a:ext cx="0" cy="10296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>
                <a:off x="2452680" y="5349960"/>
                <a:ext cx="282600" cy="32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V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2284560" y="5230800"/>
                <a:ext cx="585720" cy="503280"/>
                <a:chOff x="2284560" y="5230800"/>
                <a:chExt cx="585720" cy="503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344680" y="5230800"/>
                  <a:ext cx="525600" cy="503280"/>
                </a:xfrm>
                <a:prstGeom prst="ellipse">
                  <a:avLst/>
                </a:prstGeom>
                <a:noFill/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 txBox="1"/>
                <p:nvPr/>
              </p:nvSpPr>
              <p:spPr>
                <a:xfrm>
                  <a:off x="2284560" y="5245200"/>
                  <a:ext cx="43164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70000"/>
                    </a:lnSpc>
                    <a:spcBef>
                      <a:spcPts val="1199"/>
                    </a:spcBef>
                  </a:pPr>
                  <a:r>
                    <a:rPr b="0" lang="en-US" sz="1700" spc="-1" strike="noStrike">
                      <a:solidFill>
                        <a:srgbClr val="081d58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0" lang="en-US" sz="1700" spc="-1" strike="noStrike">
                      <a:solidFill>
                        <a:srgbClr val="081d58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 txBox="1"/>
              <p:nvPr/>
            </p:nvSpPr>
            <p:spPr>
              <a:xfrm>
                <a:off x="2492280" y="5468760"/>
                <a:ext cx="201600" cy="32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7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3640" y="4932360"/>
                <a:ext cx="507960" cy="39672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3262320" y="4941720"/>
                <a:ext cx="3682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724200" y="5127480"/>
                <a:ext cx="35424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>
              <a:off x="5153040" y="5121360"/>
              <a:ext cx="5619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utput IV Curves</a:t>
            </a:r>
            <a:br>
              <a:rPr sz="1800"/>
            </a:br>
            <a:r>
              <a:rPr b="1" lang="en-US" sz="3000" spc="-1" strike="noStrike">
                <a:solidFill>
                  <a:srgbClr val="081d58"/>
                </a:solidFill>
                <a:latin typeface="Arial"/>
                <a:ea typeface="Arial"/>
              </a:rPr>
              <a:t>Pull-up and Pull-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8480" y="4208400"/>
            <a:ext cx="3978360" cy="2158920"/>
            <a:chOff x="4578480" y="4208400"/>
            <a:chExt cx="3978360" cy="2158920"/>
          </a:xfrm>
        </p:grpSpPr>
        <p:sp>
          <p:nvSpPr>
            <p:cNvPr id="163" name=""/>
            <p:cNvSpPr/>
            <p:nvPr/>
          </p:nvSpPr>
          <p:spPr>
            <a:xfrm>
              <a:off x="4694400" y="4208400"/>
              <a:ext cx="3862440" cy="21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30720" y="4651200"/>
              <a:ext cx="0" cy="1268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08400" y="59198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8400" y="57085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08400" y="549576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08400" y="528480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8400" y="507348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8400" y="486108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08400" y="464976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32520" y="5919840"/>
              <a:ext cx="324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130720" y="589752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410080" y="589752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88000" y="589752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967360" y="589752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246720" y="589752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531120" y="589752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810480" y="589752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089840" y="589752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367760" y="589752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647120" y="589752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926480" y="589752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204040" y="589752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30720" y="4703760"/>
              <a:ext cx="3245040" cy="1217880"/>
            </a:xfrm>
            <a:custGeom>
              <a:avLst/>
              <a:gdLst/>
              <a:ahLst/>
              <a:rect l="0" t="0" r="r" b="b"/>
              <a:pathLst>
                <a:path fill="none" w="9014" h="3383">
                  <a:moveTo>
                    <a:pt x="0" y="3383"/>
                  </a:moveTo>
                  <a:lnTo>
                    <a:pt x="150" y="3317"/>
                  </a:lnTo>
                  <a:lnTo>
                    <a:pt x="304" y="3233"/>
                  </a:lnTo>
                  <a:lnTo>
                    <a:pt x="472" y="3162"/>
                  </a:lnTo>
                  <a:lnTo>
                    <a:pt x="622" y="3113"/>
                  </a:lnTo>
                  <a:lnTo>
                    <a:pt x="776" y="3047"/>
                  </a:lnTo>
                  <a:lnTo>
                    <a:pt x="926" y="2994"/>
                  </a:lnTo>
                  <a:lnTo>
                    <a:pt x="1094" y="2946"/>
                  </a:lnTo>
                  <a:lnTo>
                    <a:pt x="1248" y="2893"/>
                  </a:lnTo>
                  <a:lnTo>
                    <a:pt x="1398" y="2862"/>
                  </a:lnTo>
                  <a:lnTo>
                    <a:pt x="1548" y="2809"/>
                  </a:lnTo>
                  <a:lnTo>
                    <a:pt x="1702" y="2778"/>
                  </a:lnTo>
                  <a:lnTo>
                    <a:pt x="1870" y="2743"/>
                  </a:lnTo>
                  <a:lnTo>
                    <a:pt x="2020" y="2712"/>
                  </a:lnTo>
                  <a:lnTo>
                    <a:pt x="2175" y="2676"/>
                  </a:lnTo>
                  <a:lnTo>
                    <a:pt x="2325" y="2641"/>
                  </a:lnTo>
                  <a:lnTo>
                    <a:pt x="2492" y="2628"/>
                  </a:lnTo>
                  <a:lnTo>
                    <a:pt x="2647" y="2610"/>
                  </a:lnTo>
                  <a:lnTo>
                    <a:pt x="2797" y="2575"/>
                  </a:lnTo>
                  <a:lnTo>
                    <a:pt x="2947" y="2557"/>
                  </a:lnTo>
                  <a:lnTo>
                    <a:pt x="3101" y="2539"/>
                  </a:lnTo>
                  <a:lnTo>
                    <a:pt x="3269" y="2526"/>
                  </a:lnTo>
                  <a:lnTo>
                    <a:pt x="3419" y="2526"/>
                  </a:lnTo>
                  <a:lnTo>
                    <a:pt x="3573" y="2508"/>
                  </a:lnTo>
                  <a:lnTo>
                    <a:pt x="3723" y="2508"/>
                  </a:lnTo>
                  <a:lnTo>
                    <a:pt x="3891" y="2491"/>
                  </a:lnTo>
                  <a:lnTo>
                    <a:pt x="4045" y="2491"/>
                  </a:lnTo>
                  <a:lnTo>
                    <a:pt x="4195" y="2491"/>
                  </a:lnTo>
                  <a:lnTo>
                    <a:pt x="4345" y="2491"/>
                  </a:lnTo>
                  <a:lnTo>
                    <a:pt x="4518" y="2491"/>
                  </a:lnTo>
                  <a:lnTo>
                    <a:pt x="4668" y="2491"/>
                  </a:lnTo>
                  <a:lnTo>
                    <a:pt x="4818" y="2491"/>
                  </a:lnTo>
                  <a:lnTo>
                    <a:pt x="4973" y="2491"/>
                  </a:lnTo>
                  <a:lnTo>
                    <a:pt x="5123" y="2491"/>
                  </a:lnTo>
                  <a:lnTo>
                    <a:pt x="5290" y="2491"/>
                  </a:lnTo>
                  <a:lnTo>
                    <a:pt x="5445" y="2473"/>
                  </a:lnTo>
                  <a:lnTo>
                    <a:pt x="5595" y="2473"/>
                  </a:lnTo>
                  <a:lnTo>
                    <a:pt x="5745" y="2473"/>
                  </a:lnTo>
                  <a:lnTo>
                    <a:pt x="5917" y="2473"/>
                  </a:lnTo>
                  <a:lnTo>
                    <a:pt x="6067" y="2473"/>
                  </a:lnTo>
                  <a:lnTo>
                    <a:pt x="6217" y="2473"/>
                  </a:lnTo>
                  <a:lnTo>
                    <a:pt x="6371" y="2473"/>
                  </a:lnTo>
                  <a:lnTo>
                    <a:pt x="6521" y="2473"/>
                  </a:lnTo>
                  <a:lnTo>
                    <a:pt x="6689" y="2473"/>
                  </a:lnTo>
                  <a:lnTo>
                    <a:pt x="6843" y="2473"/>
                  </a:lnTo>
                  <a:lnTo>
                    <a:pt x="6993" y="2473"/>
                  </a:lnTo>
                  <a:lnTo>
                    <a:pt x="7143" y="2473"/>
                  </a:lnTo>
                  <a:lnTo>
                    <a:pt x="7315" y="2473"/>
                  </a:lnTo>
                  <a:lnTo>
                    <a:pt x="7465" y="2473"/>
                  </a:lnTo>
                  <a:lnTo>
                    <a:pt x="7615" y="2473"/>
                  </a:lnTo>
                  <a:lnTo>
                    <a:pt x="7770" y="2473"/>
                  </a:lnTo>
                  <a:lnTo>
                    <a:pt x="7920" y="2473"/>
                  </a:lnTo>
                  <a:lnTo>
                    <a:pt x="8087" y="2456"/>
                  </a:lnTo>
                  <a:lnTo>
                    <a:pt x="8242" y="2456"/>
                  </a:lnTo>
                  <a:lnTo>
                    <a:pt x="8392" y="2456"/>
                  </a:lnTo>
                  <a:lnTo>
                    <a:pt x="8542" y="2456"/>
                  </a:lnTo>
                  <a:lnTo>
                    <a:pt x="8710" y="2173"/>
                  </a:lnTo>
                  <a:lnTo>
                    <a:pt x="8864" y="1227"/>
                  </a:lnTo>
                  <a:lnTo>
                    <a:pt x="9014" y="0"/>
                  </a:lnTo>
                </a:path>
              </a:pathLst>
            </a:custGeom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5911920" y="4246560"/>
              <a:ext cx="14763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244 Output Pull-Dow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4935600" y="582768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4869000" y="561672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869000" y="540540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4869000" y="519444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4869000" y="498168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4869000" y="477036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4869000" y="455940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5021280" y="5943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5262480" y="594360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5578560" y="5943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5821200" y="594360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6135840" y="5943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6384960" y="594360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6699240" y="5943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6942240" y="594360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7257960" y="5943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500960" y="594360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7815240" y="5943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8058240" y="594360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6518160" y="6149880"/>
              <a:ext cx="4762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ut (V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4578480" y="5270400"/>
              <a:ext cx="4507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out (A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94400" y="4208400"/>
              <a:ext cx="3855960" cy="2152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727520" y="1782720"/>
            <a:ext cx="3827520" cy="21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341440"/>
            <a:ext cx="0" cy="125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60960" y="359892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60960" y="338940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60960" y="317988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60960" y="297036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60960" y="275904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60960" y="254952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60960" y="234000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6520" y="234000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184720" y="231768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54720" y="231768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24360" y="231768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996160" y="231768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265800" y="231768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535800" y="231768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05440" y="231768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077240" y="231768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346880" y="231768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616880" y="231768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888320" y="231768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158320" y="231768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84720" y="2340000"/>
            <a:ext cx="3191400" cy="1230840"/>
          </a:xfrm>
          <a:custGeom>
            <a:avLst/>
            <a:gdLst/>
            <a:ahLst/>
            <a:rect l="0" t="0" r="r" b="b"/>
            <a:pathLst>
              <a:path fill="none" w="8865" h="3419">
                <a:moveTo>
                  <a:pt x="0" y="0"/>
                </a:moveTo>
                <a:lnTo>
                  <a:pt x="150" y="48"/>
                </a:lnTo>
                <a:lnTo>
                  <a:pt x="300" y="83"/>
                </a:lnTo>
                <a:lnTo>
                  <a:pt x="450" y="132"/>
                </a:lnTo>
                <a:lnTo>
                  <a:pt x="600" y="167"/>
                </a:lnTo>
                <a:lnTo>
                  <a:pt x="750" y="198"/>
                </a:lnTo>
                <a:lnTo>
                  <a:pt x="900" y="251"/>
                </a:lnTo>
                <a:lnTo>
                  <a:pt x="1050" y="282"/>
                </a:lnTo>
                <a:lnTo>
                  <a:pt x="1200" y="317"/>
                </a:lnTo>
                <a:lnTo>
                  <a:pt x="1350" y="348"/>
                </a:lnTo>
                <a:lnTo>
                  <a:pt x="1500" y="366"/>
                </a:lnTo>
                <a:lnTo>
                  <a:pt x="1650" y="401"/>
                </a:lnTo>
                <a:lnTo>
                  <a:pt x="1800" y="432"/>
                </a:lnTo>
                <a:lnTo>
                  <a:pt x="1950" y="450"/>
                </a:lnTo>
                <a:lnTo>
                  <a:pt x="2100" y="485"/>
                </a:lnTo>
                <a:lnTo>
                  <a:pt x="2255" y="498"/>
                </a:lnTo>
                <a:lnTo>
                  <a:pt x="2405" y="534"/>
                </a:lnTo>
                <a:lnTo>
                  <a:pt x="2555" y="551"/>
                </a:lnTo>
                <a:lnTo>
                  <a:pt x="2705" y="565"/>
                </a:lnTo>
                <a:lnTo>
                  <a:pt x="2855" y="582"/>
                </a:lnTo>
                <a:lnTo>
                  <a:pt x="3005" y="600"/>
                </a:lnTo>
                <a:lnTo>
                  <a:pt x="3155" y="618"/>
                </a:lnTo>
                <a:lnTo>
                  <a:pt x="3305" y="635"/>
                </a:lnTo>
                <a:lnTo>
                  <a:pt x="3455" y="649"/>
                </a:lnTo>
                <a:lnTo>
                  <a:pt x="3605" y="666"/>
                </a:lnTo>
                <a:lnTo>
                  <a:pt x="3755" y="666"/>
                </a:lnTo>
                <a:lnTo>
                  <a:pt x="3905" y="684"/>
                </a:lnTo>
                <a:lnTo>
                  <a:pt x="4055" y="702"/>
                </a:lnTo>
                <a:lnTo>
                  <a:pt x="4205" y="702"/>
                </a:lnTo>
                <a:lnTo>
                  <a:pt x="4355" y="702"/>
                </a:lnTo>
                <a:lnTo>
                  <a:pt x="4505" y="715"/>
                </a:lnTo>
                <a:lnTo>
                  <a:pt x="4659" y="715"/>
                </a:lnTo>
                <a:lnTo>
                  <a:pt x="4809" y="715"/>
                </a:lnTo>
                <a:lnTo>
                  <a:pt x="4959" y="715"/>
                </a:lnTo>
                <a:lnTo>
                  <a:pt x="5110" y="732"/>
                </a:lnTo>
                <a:lnTo>
                  <a:pt x="5260" y="732"/>
                </a:lnTo>
                <a:lnTo>
                  <a:pt x="5410" y="732"/>
                </a:lnTo>
                <a:lnTo>
                  <a:pt x="5560" y="732"/>
                </a:lnTo>
                <a:lnTo>
                  <a:pt x="5710" y="732"/>
                </a:lnTo>
                <a:lnTo>
                  <a:pt x="5860" y="732"/>
                </a:lnTo>
                <a:lnTo>
                  <a:pt x="6010" y="750"/>
                </a:lnTo>
                <a:lnTo>
                  <a:pt x="6160" y="750"/>
                </a:lnTo>
                <a:lnTo>
                  <a:pt x="6310" y="750"/>
                </a:lnTo>
                <a:lnTo>
                  <a:pt x="6460" y="750"/>
                </a:lnTo>
                <a:lnTo>
                  <a:pt x="6610" y="750"/>
                </a:lnTo>
                <a:lnTo>
                  <a:pt x="6761" y="750"/>
                </a:lnTo>
                <a:lnTo>
                  <a:pt x="6911" y="768"/>
                </a:lnTo>
                <a:lnTo>
                  <a:pt x="7065" y="768"/>
                </a:lnTo>
                <a:lnTo>
                  <a:pt x="7215" y="768"/>
                </a:lnTo>
                <a:lnTo>
                  <a:pt x="7365" y="768"/>
                </a:lnTo>
                <a:lnTo>
                  <a:pt x="7515" y="768"/>
                </a:lnTo>
                <a:lnTo>
                  <a:pt x="7665" y="768"/>
                </a:lnTo>
                <a:lnTo>
                  <a:pt x="7815" y="785"/>
                </a:lnTo>
                <a:lnTo>
                  <a:pt x="7965" y="785"/>
                </a:lnTo>
                <a:lnTo>
                  <a:pt x="8115" y="785"/>
                </a:lnTo>
                <a:lnTo>
                  <a:pt x="8265" y="785"/>
                </a:lnTo>
                <a:lnTo>
                  <a:pt x="8415" y="785"/>
                </a:lnTo>
                <a:lnTo>
                  <a:pt x="8565" y="937"/>
                </a:lnTo>
                <a:lnTo>
                  <a:pt x="8715" y="1868"/>
                </a:lnTo>
                <a:lnTo>
                  <a:pt x="8865" y="3419"/>
                </a:lnTo>
              </a:path>
            </a:pathLst>
          </a:custGeom>
          <a:ln w="12600">
            <a:solidFill>
              <a:srgbClr val="000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12000" y="1817640"/>
            <a:ext cx="1335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T244 Output Pull-U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00680" y="3506760"/>
            <a:ext cx="316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-0.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00680" y="3297240"/>
            <a:ext cx="316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-0.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900680" y="3085920"/>
            <a:ext cx="316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-0.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00680" y="2876400"/>
            <a:ext cx="316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-0.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00680" y="2666880"/>
            <a:ext cx="316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-0.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900680" y="2457360"/>
            <a:ext cx="316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-0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89600" y="2247840"/>
            <a:ext cx="227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73480" y="2127240"/>
            <a:ext cx="227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08560" y="2127240"/>
            <a:ext cx="290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614920" y="2127240"/>
            <a:ext cx="227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848200" y="2127240"/>
            <a:ext cx="290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156360" y="2127240"/>
            <a:ext cx="227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389640" y="2127240"/>
            <a:ext cx="290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96000" y="2127240"/>
            <a:ext cx="227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931080" y="2127240"/>
            <a:ext cx="290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237440" y="2127240"/>
            <a:ext cx="227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470720" y="2127240"/>
            <a:ext cx="290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4.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77080" y="2127240"/>
            <a:ext cx="227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012160" y="2127240"/>
            <a:ext cx="290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5.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176880" y="1963800"/>
            <a:ext cx="9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Vtsble = Vcc-Vout (V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10160" y="2951280"/>
            <a:ext cx="4507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Iout 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27520" y="1782720"/>
            <a:ext cx="3821040" cy="21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838080" y="2157480"/>
            <a:ext cx="3301920" cy="3480120"/>
            <a:chOff x="838080" y="2157480"/>
            <a:chExt cx="3301920" cy="3480120"/>
          </a:xfrm>
        </p:grpSpPr>
        <p:sp>
          <p:nvSpPr>
            <p:cNvPr id="256" name=""/>
            <p:cNvSpPr txBox="1"/>
            <p:nvPr/>
          </p:nvSpPr>
          <p:spPr>
            <a:xfrm>
              <a:off x="2052720" y="2157480"/>
              <a:ext cx="552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V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88960" y="3057480"/>
              <a:ext cx="0" cy="1684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27080" y="2887560"/>
              <a:ext cx="0" cy="382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47960" y="4584600"/>
              <a:ext cx="0" cy="3812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31840" y="2895480"/>
              <a:ext cx="0" cy="382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89080" y="4584600"/>
              <a:ext cx="0" cy="3812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8960" y="3056040"/>
              <a:ext cx="4255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00120" y="4753080"/>
              <a:ext cx="4255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31840" y="3292560"/>
              <a:ext cx="313200" cy="1292760"/>
            </a:xfrm>
            <a:custGeom>
              <a:avLst/>
              <a:gdLst/>
              <a:ahLst/>
              <a:rect l="0" t="0" r="r" b="b"/>
              <a:pathLst>
                <a:path fill="none" w="870" h="3591">
                  <a:moveTo>
                    <a:pt x="0" y="0"/>
                  </a:moveTo>
                  <a:lnTo>
                    <a:pt x="870" y="0"/>
                  </a:lnTo>
                  <a:lnTo>
                    <a:pt x="870" y="3591"/>
                  </a:lnTo>
                  <a:lnTo>
                    <a:pt x="146" y="3591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87640" y="4978440"/>
              <a:ext cx="268560" cy="439920"/>
            </a:xfrm>
            <a:custGeom>
              <a:avLst/>
              <a:gdLst/>
              <a:ahLst/>
              <a:rect l="0" t="0" r="r" b="b"/>
              <a:pathLst>
                <a:path fill="none" w="746" h="1222">
                  <a:moveTo>
                    <a:pt x="0" y="0"/>
                  </a:moveTo>
                  <a:lnTo>
                    <a:pt x="746" y="0"/>
                  </a:lnTo>
                  <a:lnTo>
                    <a:pt x="746" y="122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33640" y="2438280"/>
              <a:ext cx="268560" cy="439920"/>
            </a:xfrm>
            <a:custGeom>
              <a:avLst/>
              <a:gdLst/>
              <a:ahLst/>
              <a:rect l="0" t="0" r="r" b="b"/>
              <a:pathLst>
                <a:path fill="none" w="746" h="1222">
                  <a:moveTo>
                    <a:pt x="0" y="1222"/>
                  </a:moveTo>
                  <a:lnTo>
                    <a:pt x="746" y="1222"/>
                  </a:lnTo>
                  <a:lnTo>
                    <a:pt x="746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8080" y="3855960"/>
              <a:ext cx="6397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95640" y="2448000"/>
              <a:ext cx="24264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2273400" y="5281560"/>
              <a:ext cx="157680" cy="356040"/>
              <a:chOff x="2273400" y="5281560"/>
              <a:chExt cx="157680" cy="356040"/>
            </a:xfrm>
          </p:grpSpPr>
          <p:sp>
            <p:nvSpPr>
              <p:cNvPr id="270" name=""/>
              <p:cNvSpPr/>
              <p:nvPr/>
            </p:nvSpPr>
            <p:spPr>
              <a:xfrm>
                <a:off x="2273400" y="5438880"/>
                <a:ext cx="157680" cy="198720"/>
              </a:xfrm>
              <a:custGeom>
                <a:avLst/>
                <a:gdLst/>
                <a:ahLst/>
                <a:rect l="0" t="0" r="r" b="b"/>
                <a:pathLst>
                  <a:path w="438" h="552">
                    <a:moveTo>
                      <a:pt x="438" y="0"/>
                    </a:moveTo>
                    <a:lnTo>
                      <a:pt x="214" y="552"/>
                    </a:lnTo>
                    <a:lnTo>
                      <a:pt x="0" y="0"/>
                    </a:lnTo>
                    <a:lnTo>
                      <a:pt x="214" y="0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51160" y="5281560"/>
                <a:ext cx="0" cy="16200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347920" y="3683160"/>
              <a:ext cx="1792080" cy="1155960"/>
              <a:chOff x="2347920" y="3683160"/>
              <a:chExt cx="1792080" cy="1155960"/>
            </a:xfrm>
          </p:grpSpPr>
          <p:sp>
            <p:nvSpPr>
              <p:cNvPr id="273" name=""/>
              <p:cNvSpPr/>
              <p:nvPr/>
            </p:nvSpPr>
            <p:spPr>
              <a:xfrm>
                <a:off x="3228840" y="3867120"/>
                <a:ext cx="58608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3757680" y="4483080"/>
                <a:ext cx="155880" cy="356040"/>
                <a:chOff x="3757680" y="4483080"/>
                <a:chExt cx="155880" cy="3560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757680" y="4641840"/>
                  <a:ext cx="155880" cy="197280"/>
                </a:xfrm>
                <a:custGeom>
                  <a:avLst/>
                  <a:gdLst/>
                  <a:ahLst/>
                  <a:rect l="0" t="0" r="r" b="b"/>
                  <a:pathLst>
                    <a:path w="433" h="548">
                      <a:moveTo>
                        <a:pt x="433" y="0"/>
                      </a:moveTo>
                      <a:lnTo>
                        <a:pt x="209" y="548"/>
                      </a:lnTo>
                      <a:lnTo>
                        <a:pt x="0" y="0"/>
                      </a:lnTo>
                      <a:lnTo>
                        <a:pt x="209" y="0"/>
                      </a:lnTo>
                      <a:lnTo>
                        <a:pt x="4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833640" y="4483080"/>
                  <a:ext cx="0" cy="162000"/>
                </a:xfrm>
                <a:prstGeom prst="line">
                  <a:avLst/>
                </a:prstGeom>
                <a:ln w="12600">
                  <a:solidFill>
                    <a:srgbClr val="081d5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 flipV="1">
                <a:off x="3824280" y="3871800"/>
                <a:ext cx="0" cy="10332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3689280" y="4100400"/>
                <a:ext cx="282600" cy="32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V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3554280" y="3981600"/>
                <a:ext cx="585720" cy="503280"/>
                <a:chOff x="3554280" y="3981600"/>
                <a:chExt cx="585720" cy="5032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3554280" y="3981600"/>
                  <a:ext cx="525600" cy="503280"/>
                </a:xfrm>
                <a:prstGeom prst="ellipse">
                  <a:avLst/>
                </a:prstGeom>
                <a:noFill/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 txBox="1"/>
                <p:nvPr/>
              </p:nvSpPr>
              <p:spPr>
                <a:xfrm>
                  <a:off x="3708360" y="3995640"/>
                  <a:ext cx="43164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70000"/>
                    </a:lnSpc>
                    <a:spcBef>
                      <a:spcPts val="1199"/>
                    </a:spcBef>
                  </a:pPr>
                  <a:r>
                    <a:rPr b="0" lang="en-US" sz="1700" spc="-1" strike="noStrike">
                      <a:solidFill>
                        <a:srgbClr val="081d58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"/>
              <p:cNvSpPr txBox="1"/>
              <p:nvPr/>
            </p:nvSpPr>
            <p:spPr>
              <a:xfrm>
                <a:off x="3730680" y="4219560"/>
                <a:ext cx="201600" cy="32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7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2960" y="3683160"/>
                <a:ext cx="507960" cy="39672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2793960" y="3692520"/>
                <a:ext cx="3682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347920" y="3878280"/>
                <a:ext cx="35388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2152800" y="2867040"/>
            <a:ext cx="166680" cy="412560"/>
            <a:chOff x="2152800" y="2867040"/>
            <a:chExt cx="166680" cy="412560"/>
          </a:xfrm>
        </p:grpSpPr>
        <p:grpSp>
          <p:nvGrpSpPr>
            <p:cNvPr id="287" name=""/>
            <p:cNvGrpSpPr/>
            <p:nvPr/>
          </p:nvGrpSpPr>
          <p:grpSpPr>
            <a:xfrm>
              <a:off x="2189160" y="3030480"/>
              <a:ext cx="111600" cy="249120"/>
              <a:chOff x="2189160" y="3030480"/>
              <a:chExt cx="111600" cy="249120"/>
            </a:xfrm>
          </p:grpSpPr>
          <p:sp>
            <p:nvSpPr>
              <p:cNvPr id="288" name=""/>
              <p:cNvSpPr/>
              <p:nvPr/>
            </p:nvSpPr>
            <p:spPr>
              <a:xfrm>
                <a:off x="2189160" y="3030480"/>
                <a:ext cx="111600" cy="141480"/>
              </a:xfrm>
              <a:custGeom>
                <a:avLst/>
                <a:gdLst/>
                <a:ahLst/>
                <a:rect l="0" t="0" r="r" b="b"/>
                <a:pathLst>
                  <a:path w="310" h="393">
                    <a:moveTo>
                      <a:pt x="310" y="393"/>
                    </a:moveTo>
                    <a:lnTo>
                      <a:pt x="148" y="0"/>
                    </a:lnTo>
                    <a:lnTo>
                      <a:pt x="0" y="393"/>
                    </a:lnTo>
                    <a:lnTo>
                      <a:pt x="148" y="393"/>
                    </a:lnTo>
                    <a:lnTo>
                      <a:pt x="31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2246400" y="3166920"/>
                <a:ext cx="0" cy="112680"/>
              </a:xfrm>
              <a:prstGeom prst="line">
                <a:avLst/>
              </a:prstGeom>
              <a:ln w="12600">
                <a:solidFill>
                  <a:srgbClr val="081d58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152800" y="3022560"/>
              <a:ext cx="166680" cy="18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47840" y="2867040"/>
              <a:ext cx="0" cy="150840"/>
            </a:xfrm>
            <a:prstGeom prst="line">
              <a:avLst/>
            </a:prstGeom>
            <a:ln w="12600">
              <a:solidFill>
                <a:srgbClr val="081d58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243160" y="4570560"/>
            <a:ext cx="166680" cy="412560"/>
            <a:chOff x="2243160" y="4570560"/>
            <a:chExt cx="166680" cy="412560"/>
          </a:xfrm>
        </p:grpSpPr>
        <p:grpSp>
          <p:nvGrpSpPr>
            <p:cNvPr id="293" name=""/>
            <p:cNvGrpSpPr/>
            <p:nvPr/>
          </p:nvGrpSpPr>
          <p:grpSpPr>
            <a:xfrm>
              <a:off x="2278080" y="4734000"/>
              <a:ext cx="111600" cy="249120"/>
              <a:chOff x="2278080" y="4734000"/>
              <a:chExt cx="111600" cy="249120"/>
            </a:xfrm>
          </p:grpSpPr>
          <p:sp>
            <p:nvSpPr>
              <p:cNvPr id="294" name=""/>
              <p:cNvSpPr/>
              <p:nvPr/>
            </p:nvSpPr>
            <p:spPr>
              <a:xfrm>
                <a:off x="2278080" y="4734000"/>
                <a:ext cx="111600" cy="141480"/>
              </a:xfrm>
              <a:custGeom>
                <a:avLst/>
                <a:gdLst/>
                <a:ahLst/>
                <a:rect l="0" t="0" r="r" b="b"/>
                <a:pathLst>
                  <a:path w="310" h="393">
                    <a:moveTo>
                      <a:pt x="310" y="393"/>
                    </a:moveTo>
                    <a:lnTo>
                      <a:pt x="153" y="0"/>
                    </a:lnTo>
                    <a:lnTo>
                      <a:pt x="0" y="393"/>
                    </a:lnTo>
                    <a:lnTo>
                      <a:pt x="153" y="393"/>
                    </a:lnTo>
                    <a:lnTo>
                      <a:pt x="310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2336760" y="4870440"/>
                <a:ext cx="0" cy="112680"/>
              </a:xfrm>
              <a:prstGeom prst="line">
                <a:avLst/>
              </a:prstGeom>
              <a:ln w="12600">
                <a:solidFill>
                  <a:srgbClr val="081d58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243160" y="4726080"/>
              <a:ext cx="166680" cy="1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38560" y="4570560"/>
              <a:ext cx="0" cy="150840"/>
            </a:xfrm>
            <a:prstGeom prst="line">
              <a:avLst/>
            </a:prstGeom>
            <a:ln w="12600">
              <a:solidFill>
                <a:srgbClr val="081d58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put and Tri-State IV Curves</a:t>
            </a:r>
            <a:br>
              <a:rPr sz="1800"/>
            </a:br>
            <a:r>
              <a:rPr b="1" lang="en-US" sz="3000" spc="-1" strike="noStrike">
                <a:solidFill>
                  <a:srgbClr val="081d58"/>
                </a:solidFill>
                <a:latin typeface="Arial"/>
                <a:ea typeface="Arial"/>
              </a:rPr>
              <a:t>Gnd Clamp and Pwr Cla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876920" y="4421160"/>
            <a:ext cx="3986280" cy="2273400"/>
            <a:chOff x="4876920" y="4421160"/>
            <a:chExt cx="3986280" cy="2273400"/>
          </a:xfrm>
        </p:grpSpPr>
        <p:sp>
          <p:nvSpPr>
            <p:cNvPr id="300" name=""/>
            <p:cNvSpPr/>
            <p:nvPr/>
          </p:nvSpPr>
          <p:spPr>
            <a:xfrm>
              <a:off x="4992840" y="4421160"/>
              <a:ext cx="3870360" cy="227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30960" y="4986360"/>
              <a:ext cx="0" cy="1380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07200" y="6367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07200" y="61372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07200" y="59054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07200" y="56754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07200" y="54450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07200" y="5214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07200" y="49849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32400" y="4984920"/>
              <a:ext cx="327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430960" y="49626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5977080" y="49626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523200" y="49626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070760" y="49626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610400" y="49626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58320" y="49626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704440" y="49626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30960" y="4984920"/>
              <a:ext cx="3275280" cy="1348200"/>
            </a:xfrm>
            <a:custGeom>
              <a:avLst/>
              <a:gdLst/>
              <a:ahLst/>
              <a:rect l="0" t="0" r="r" b="b"/>
              <a:pathLst>
                <a:path fill="none" w="9098" h="3745">
                  <a:moveTo>
                    <a:pt x="0" y="3745"/>
                  </a:moveTo>
                  <a:lnTo>
                    <a:pt x="300" y="3578"/>
                  </a:lnTo>
                  <a:lnTo>
                    <a:pt x="604" y="3392"/>
                  </a:lnTo>
                  <a:lnTo>
                    <a:pt x="908" y="3207"/>
                  </a:lnTo>
                  <a:lnTo>
                    <a:pt x="1213" y="3021"/>
                  </a:lnTo>
                  <a:lnTo>
                    <a:pt x="1517" y="2849"/>
                  </a:lnTo>
                  <a:lnTo>
                    <a:pt x="1822" y="2663"/>
                  </a:lnTo>
                  <a:lnTo>
                    <a:pt x="2126" y="2477"/>
                  </a:lnTo>
                  <a:lnTo>
                    <a:pt x="2430" y="2310"/>
                  </a:lnTo>
                  <a:lnTo>
                    <a:pt x="2735" y="2124"/>
                  </a:lnTo>
                  <a:lnTo>
                    <a:pt x="3035" y="1939"/>
                  </a:lnTo>
                  <a:lnTo>
                    <a:pt x="3339" y="1771"/>
                  </a:lnTo>
                  <a:lnTo>
                    <a:pt x="3644" y="1585"/>
                  </a:lnTo>
                  <a:lnTo>
                    <a:pt x="3948" y="1400"/>
                  </a:lnTo>
                  <a:lnTo>
                    <a:pt x="4253" y="1232"/>
                  </a:lnTo>
                  <a:lnTo>
                    <a:pt x="4558" y="1047"/>
                  </a:lnTo>
                  <a:lnTo>
                    <a:pt x="4845" y="878"/>
                  </a:lnTo>
                  <a:lnTo>
                    <a:pt x="5149" y="693"/>
                  </a:lnTo>
                  <a:lnTo>
                    <a:pt x="5454" y="520"/>
                  </a:lnTo>
                  <a:lnTo>
                    <a:pt x="5758" y="353"/>
                  </a:lnTo>
                  <a:lnTo>
                    <a:pt x="6058" y="185"/>
                  </a:lnTo>
                  <a:lnTo>
                    <a:pt x="6362" y="35"/>
                  </a:lnTo>
                  <a:lnTo>
                    <a:pt x="6667" y="0"/>
                  </a:lnTo>
                  <a:lnTo>
                    <a:pt x="6971" y="0"/>
                  </a:lnTo>
                  <a:lnTo>
                    <a:pt x="7276" y="0"/>
                  </a:lnTo>
                  <a:lnTo>
                    <a:pt x="7580" y="0"/>
                  </a:lnTo>
                  <a:lnTo>
                    <a:pt x="7884" y="0"/>
                  </a:lnTo>
                  <a:lnTo>
                    <a:pt x="8189" y="0"/>
                  </a:lnTo>
                  <a:lnTo>
                    <a:pt x="8493" y="0"/>
                  </a:lnTo>
                  <a:lnTo>
                    <a:pt x="8793" y="0"/>
                  </a:lnTo>
                  <a:lnTo>
                    <a:pt x="9098" y="0"/>
                  </a:lnTo>
                </a:path>
              </a:pathLst>
            </a:custGeom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6224760" y="4459320"/>
              <a:ext cx="14605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244 Input GND Clam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5167440" y="6275520"/>
              <a:ext cx="2937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5167440" y="6045120"/>
              <a:ext cx="2937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5167440" y="5815080"/>
              <a:ext cx="2937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167440" y="5584680"/>
              <a:ext cx="2937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5167440" y="5354640"/>
              <a:ext cx="2937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5210280" y="512460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5234040" y="48942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307120" y="477216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5854680" y="477216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6400800" y="477216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6948360" y="477216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7488360" y="477216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8047080" y="477216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8594640" y="477216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6838920" y="4646520"/>
              <a:ext cx="4762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ut (V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4876920" y="5661000"/>
              <a:ext cx="4507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out (A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92840" y="4421160"/>
              <a:ext cx="3863880" cy="2266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830840" y="1876320"/>
            <a:ext cx="3986280" cy="2273400"/>
            <a:chOff x="4830840" y="1876320"/>
            <a:chExt cx="3986280" cy="2273400"/>
          </a:xfrm>
        </p:grpSpPr>
        <p:sp>
          <p:nvSpPr>
            <p:cNvPr id="337" name=""/>
            <p:cNvSpPr/>
            <p:nvPr/>
          </p:nvSpPr>
          <p:spPr>
            <a:xfrm>
              <a:off x="4946760" y="1876320"/>
              <a:ext cx="3870360" cy="227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59320" y="2320920"/>
              <a:ext cx="0" cy="137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7000" y="370044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37000" y="35496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7000" y="339264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37000" y="32400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37000" y="30891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37000" y="29304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7000" y="27795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37000" y="26272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37000" y="247032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37000" y="23194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61120" y="3700440"/>
              <a:ext cx="326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359320" y="36766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688000" y="36766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010200" y="36766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337440" y="36766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665760" y="36766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994440" y="36766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316640" y="36766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643880" y="36766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7972560" y="36766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8294760" y="36766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621640" y="36766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59320" y="2367000"/>
              <a:ext cx="3264120" cy="1335600"/>
            </a:xfrm>
            <a:custGeom>
              <a:avLst/>
              <a:gdLst/>
              <a:ahLst/>
              <a:rect l="0" t="0" r="r" b="b"/>
              <a:pathLst>
                <a:path fill="none" w="9067" h="3710">
                  <a:moveTo>
                    <a:pt x="0" y="0"/>
                  </a:moveTo>
                  <a:lnTo>
                    <a:pt x="185" y="83"/>
                  </a:lnTo>
                  <a:lnTo>
                    <a:pt x="357" y="167"/>
                  </a:lnTo>
                  <a:lnTo>
                    <a:pt x="542" y="269"/>
                  </a:lnTo>
                  <a:lnTo>
                    <a:pt x="727" y="353"/>
                  </a:lnTo>
                  <a:lnTo>
                    <a:pt x="913" y="441"/>
                  </a:lnTo>
                  <a:lnTo>
                    <a:pt x="1080" y="525"/>
                  </a:lnTo>
                  <a:lnTo>
                    <a:pt x="1266" y="609"/>
                  </a:lnTo>
                  <a:lnTo>
                    <a:pt x="1451" y="693"/>
                  </a:lnTo>
                  <a:lnTo>
                    <a:pt x="1636" y="777"/>
                  </a:lnTo>
                  <a:lnTo>
                    <a:pt x="1808" y="860"/>
                  </a:lnTo>
                  <a:lnTo>
                    <a:pt x="1994" y="945"/>
                  </a:lnTo>
                  <a:lnTo>
                    <a:pt x="2179" y="1047"/>
                  </a:lnTo>
                  <a:lnTo>
                    <a:pt x="2364" y="1131"/>
                  </a:lnTo>
                  <a:lnTo>
                    <a:pt x="2532" y="1215"/>
                  </a:lnTo>
                  <a:lnTo>
                    <a:pt x="2717" y="1299"/>
                  </a:lnTo>
                  <a:lnTo>
                    <a:pt x="2903" y="1382"/>
                  </a:lnTo>
                  <a:lnTo>
                    <a:pt x="3092" y="1466"/>
                  </a:lnTo>
                  <a:lnTo>
                    <a:pt x="3260" y="1555"/>
                  </a:lnTo>
                  <a:lnTo>
                    <a:pt x="3445" y="1638"/>
                  </a:lnTo>
                  <a:lnTo>
                    <a:pt x="3630" y="1722"/>
                  </a:lnTo>
                  <a:lnTo>
                    <a:pt x="3816" y="1806"/>
                  </a:lnTo>
                  <a:lnTo>
                    <a:pt x="3983" y="1908"/>
                  </a:lnTo>
                  <a:lnTo>
                    <a:pt x="4173" y="1992"/>
                  </a:lnTo>
                  <a:lnTo>
                    <a:pt x="4358" y="2076"/>
                  </a:lnTo>
                  <a:lnTo>
                    <a:pt x="4545" y="2159"/>
                  </a:lnTo>
                  <a:lnTo>
                    <a:pt x="4712" y="2243"/>
                  </a:lnTo>
                  <a:lnTo>
                    <a:pt x="4898" y="2327"/>
                  </a:lnTo>
                  <a:lnTo>
                    <a:pt x="5083" y="2411"/>
                  </a:lnTo>
                  <a:lnTo>
                    <a:pt x="5251" y="2495"/>
                  </a:lnTo>
                  <a:lnTo>
                    <a:pt x="5440" y="2579"/>
                  </a:lnTo>
                  <a:lnTo>
                    <a:pt x="5626" y="2667"/>
                  </a:lnTo>
                  <a:lnTo>
                    <a:pt x="5811" y="2751"/>
                  </a:lnTo>
                  <a:lnTo>
                    <a:pt x="5979" y="2836"/>
                  </a:lnTo>
                  <a:lnTo>
                    <a:pt x="6164" y="2920"/>
                  </a:lnTo>
                  <a:lnTo>
                    <a:pt x="6349" y="3004"/>
                  </a:lnTo>
                  <a:lnTo>
                    <a:pt x="6534" y="3088"/>
                  </a:lnTo>
                  <a:lnTo>
                    <a:pt x="6707" y="3171"/>
                  </a:lnTo>
                  <a:lnTo>
                    <a:pt x="6892" y="3255"/>
                  </a:lnTo>
                  <a:lnTo>
                    <a:pt x="7077" y="3339"/>
                  </a:lnTo>
                  <a:lnTo>
                    <a:pt x="7262" y="3423"/>
                  </a:lnTo>
                  <a:lnTo>
                    <a:pt x="7430" y="3507"/>
                  </a:lnTo>
                  <a:lnTo>
                    <a:pt x="7615" y="3578"/>
                  </a:lnTo>
                  <a:lnTo>
                    <a:pt x="7801" y="3644"/>
                  </a:lnTo>
                  <a:lnTo>
                    <a:pt x="7986" y="3692"/>
                  </a:lnTo>
                  <a:lnTo>
                    <a:pt x="8158" y="3710"/>
                  </a:lnTo>
                  <a:lnTo>
                    <a:pt x="8343" y="3710"/>
                  </a:lnTo>
                  <a:lnTo>
                    <a:pt x="8529" y="3710"/>
                  </a:lnTo>
                  <a:lnTo>
                    <a:pt x="8714" y="3710"/>
                  </a:lnTo>
                  <a:lnTo>
                    <a:pt x="8882" y="3710"/>
                  </a:lnTo>
                  <a:lnTo>
                    <a:pt x="9067" y="3710"/>
                  </a:lnTo>
                </a:path>
              </a:pathLst>
            </a:custGeom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6167520" y="1914480"/>
              <a:ext cx="1471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244 Input PWR Clam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5164200" y="361008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164200" y="345744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5164200" y="330048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5164200" y="314964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5164200" y="299736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5121360" y="2840040"/>
              <a:ext cx="2682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5121360" y="2687760"/>
              <a:ext cx="2682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5121360" y="2536920"/>
              <a:ext cx="2682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5121360" y="2379600"/>
              <a:ext cx="2682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5121360" y="2227320"/>
              <a:ext cx="2682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5237280" y="372420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5529240" y="3724200"/>
              <a:ext cx="3160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5888160" y="372420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6178680" y="3724200"/>
              <a:ext cx="3160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6543720" y="372420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6835680" y="3724200"/>
              <a:ext cx="3160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7192800" y="372420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7485120" y="3724200"/>
              <a:ext cx="3160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7850160" y="372420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8136000" y="3724200"/>
              <a:ext cx="3160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8512200" y="37242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6434280" y="3938760"/>
              <a:ext cx="1046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table = (Vcc - Vout) (V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4830840" y="2995560"/>
              <a:ext cx="4507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out (A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46760" y="1876320"/>
              <a:ext cx="3863880" cy="2266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57200" y="2203560"/>
            <a:ext cx="3946680" cy="3480120"/>
            <a:chOff x="457200" y="2203560"/>
            <a:chExt cx="3946680" cy="3480120"/>
          </a:xfrm>
        </p:grpSpPr>
        <p:sp>
          <p:nvSpPr>
            <p:cNvPr id="388" name=""/>
            <p:cNvSpPr txBox="1"/>
            <p:nvPr/>
          </p:nvSpPr>
          <p:spPr>
            <a:xfrm>
              <a:off x="3516480" y="2203560"/>
              <a:ext cx="552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81d58"/>
                  </a:solidFill>
                  <a:latin typeface="Times New Roman"/>
                  <a:ea typeface="Times New Roman"/>
                </a:rPr>
                <a:t>V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52720" y="3103560"/>
              <a:ext cx="0" cy="16844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90840" y="2933640"/>
              <a:ext cx="0" cy="382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11360" y="4630680"/>
              <a:ext cx="0" cy="3808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95600" y="2932200"/>
              <a:ext cx="0" cy="382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52840" y="4630680"/>
              <a:ext cx="0" cy="3808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52720" y="3102120"/>
              <a:ext cx="4255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63880" y="4799160"/>
              <a:ext cx="4255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95600" y="3338640"/>
              <a:ext cx="313200" cy="1292760"/>
            </a:xfrm>
            <a:custGeom>
              <a:avLst/>
              <a:gdLst/>
              <a:ahLst/>
              <a:rect l="0" t="0" r="r" b="b"/>
              <a:pathLst>
                <a:path fill="none" w="870" h="3591">
                  <a:moveTo>
                    <a:pt x="0" y="0"/>
                  </a:moveTo>
                  <a:lnTo>
                    <a:pt x="870" y="0"/>
                  </a:lnTo>
                  <a:lnTo>
                    <a:pt x="870" y="3591"/>
                  </a:lnTo>
                  <a:lnTo>
                    <a:pt x="146" y="3591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51400" y="5024520"/>
              <a:ext cx="268560" cy="439920"/>
            </a:xfrm>
            <a:custGeom>
              <a:avLst/>
              <a:gdLst/>
              <a:ahLst/>
              <a:rect l="0" t="0" r="r" b="b"/>
              <a:pathLst>
                <a:path fill="none" w="746" h="1222">
                  <a:moveTo>
                    <a:pt x="0" y="0"/>
                  </a:moveTo>
                  <a:lnTo>
                    <a:pt x="746" y="0"/>
                  </a:lnTo>
                  <a:lnTo>
                    <a:pt x="746" y="122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97400" y="2484360"/>
              <a:ext cx="268560" cy="439920"/>
            </a:xfrm>
            <a:custGeom>
              <a:avLst/>
              <a:gdLst/>
              <a:ahLst/>
              <a:rect l="0" t="0" r="r" b="b"/>
              <a:pathLst>
                <a:path fill="none" w="746" h="1222">
                  <a:moveTo>
                    <a:pt x="0" y="1222"/>
                  </a:moveTo>
                  <a:lnTo>
                    <a:pt x="746" y="1222"/>
                  </a:lnTo>
                  <a:lnTo>
                    <a:pt x="746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71600" y="3902040"/>
              <a:ext cx="6699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7800" y="3913200"/>
              <a:ext cx="58608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9040" y="2494080"/>
              <a:ext cx="2430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753000" y="5327640"/>
              <a:ext cx="157680" cy="356040"/>
              <a:chOff x="3753000" y="5327640"/>
              <a:chExt cx="157680" cy="356040"/>
            </a:xfrm>
          </p:grpSpPr>
          <p:sp>
            <p:nvSpPr>
              <p:cNvPr id="403" name=""/>
              <p:cNvSpPr/>
              <p:nvPr/>
            </p:nvSpPr>
            <p:spPr>
              <a:xfrm>
                <a:off x="3753000" y="5484960"/>
                <a:ext cx="157680" cy="198720"/>
              </a:xfrm>
              <a:custGeom>
                <a:avLst/>
                <a:gdLst/>
                <a:ahLst/>
                <a:rect l="0" t="0" r="r" b="b"/>
                <a:pathLst>
                  <a:path w="438" h="552">
                    <a:moveTo>
                      <a:pt x="438" y="0"/>
                    </a:moveTo>
                    <a:lnTo>
                      <a:pt x="214" y="552"/>
                    </a:lnTo>
                    <a:lnTo>
                      <a:pt x="0" y="0"/>
                    </a:lnTo>
                    <a:lnTo>
                      <a:pt x="214" y="0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30760" y="5327640"/>
                <a:ext cx="0" cy="16200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211480" y="4532400"/>
              <a:ext cx="157680" cy="353880"/>
              <a:chOff x="2211480" y="4532400"/>
              <a:chExt cx="157680" cy="353880"/>
            </a:xfrm>
          </p:grpSpPr>
          <p:sp>
            <p:nvSpPr>
              <p:cNvPr id="406" name=""/>
              <p:cNvSpPr/>
              <p:nvPr/>
            </p:nvSpPr>
            <p:spPr>
              <a:xfrm>
                <a:off x="2211480" y="4532400"/>
                <a:ext cx="157680" cy="200520"/>
              </a:xfrm>
              <a:custGeom>
                <a:avLst/>
                <a:gdLst/>
                <a:ahLst/>
                <a:rect l="0" t="0" r="r" b="b"/>
                <a:pathLst>
                  <a:path w="438" h="557">
                    <a:moveTo>
                      <a:pt x="438" y="557"/>
                    </a:moveTo>
                    <a:lnTo>
                      <a:pt x="214" y="0"/>
                    </a:lnTo>
                    <a:lnTo>
                      <a:pt x="0" y="557"/>
                    </a:lnTo>
                    <a:lnTo>
                      <a:pt x="214" y="557"/>
                    </a:lnTo>
                    <a:lnTo>
                      <a:pt x="438" y="55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289240" y="4724280"/>
                <a:ext cx="0" cy="16200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212920" y="3130560"/>
              <a:ext cx="157680" cy="353880"/>
              <a:chOff x="2212920" y="3130560"/>
              <a:chExt cx="157680" cy="353880"/>
            </a:xfrm>
          </p:grpSpPr>
          <p:sp>
            <p:nvSpPr>
              <p:cNvPr id="409" name=""/>
              <p:cNvSpPr/>
              <p:nvPr/>
            </p:nvSpPr>
            <p:spPr>
              <a:xfrm>
                <a:off x="2212920" y="3130560"/>
                <a:ext cx="157680" cy="200520"/>
              </a:xfrm>
              <a:custGeom>
                <a:avLst/>
                <a:gdLst/>
                <a:ahLst/>
                <a:rect l="0" t="0" r="r" b="b"/>
                <a:pathLst>
                  <a:path w="438" h="557">
                    <a:moveTo>
                      <a:pt x="438" y="557"/>
                    </a:moveTo>
                    <a:lnTo>
                      <a:pt x="214" y="0"/>
                    </a:lnTo>
                    <a:lnTo>
                      <a:pt x="0" y="557"/>
                    </a:lnTo>
                    <a:lnTo>
                      <a:pt x="214" y="557"/>
                    </a:lnTo>
                    <a:lnTo>
                      <a:pt x="438" y="55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290680" y="3322800"/>
                <a:ext cx="0" cy="16164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2165400" y="3103560"/>
              <a:ext cx="2430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63600" y="4521240"/>
              <a:ext cx="24300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86000" y="4876920"/>
              <a:ext cx="1556280" cy="519480"/>
            </a:xfrm>
            <a:custGeom>
              <a:avLst/>
              <a:gdLst/>
              <a:ahLst/>
              <a:rect l="0" t="0" r="r" b="b"/>
              <a:pathLst>
                <a:path fill="none" w="4323" h="1443">
                  <a:moveTo>
                    <a:pt x="0" y="0"/>
                  </a:moveTo>
                  <a:lnTo>
                    <a:pt x="0" y="1443"/>
                  </a:lnTo>
                  <a:lnTo>
                    <a:pt x="4323" y="1443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86000" y="2590920"/>
              <a:ext cx="1495800" cy="519480"/>
            </a:xfrm>
            <a:custGeom>
              <a:avLst/>
              <a:gdLst/>
              <a:ahLst/>
              <a:rect l="0" t="0" r="r" b="b"/>
              <a:pathLst>
                <a:path fill="none" w="4155" h="1443">
                  <a:moveTo>
                    <a:pt x="0" y="1443"/>
                  </a:moveTo>
                  <a:lnTo>
                    <a:pt x="0" y="0"/>
                  </a:lnTo>
                  <a:lnTo>
                    <a:pt x="415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506760"/>
              <a:ext cx="0" cy="10047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57200" y="3713040"/>
              <a:ext cx="1793880" cy="1156320"/>
              <a:chOff x="457200" y="3713040"/>
              <a:chExt cx="1793880" cy="115632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784080" y="3897360"/>
                <a:ext cx="58608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684360" y="4513320"/>
                <a:ext cx="157680" cy="356040"/>
                <a:chOff x="684360" y="4513320"/>
                <a:chExt cx="157680" cy="3560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84360" y="4672080"/>
                  <a:ext cx="157680" cy="197280"/>
                </a:xfrm>
                <a:custGeom>
                  <a:avLst/>
                  <a:gdLst/>
                  <a:ahLst/>
                  <a:rect l="0" t="0" r="r" b="b"/>
                  <a:pathLst>
                    <a:path w="438" h="548">
                      <a:moveTo>
                        <a:pt x="0" y="0"/>
                      </a:moveTo>
                      <a:lnTo>
                        <a:pt x="223" y="548"/>
                      </a:lnTo>
                      <a:lnTo>
                        <a:pt x="438" y="0"/>
                      </a:lnTo>
                      <a:lnTo>
                        <a:pt x="22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63560" y="4513320"/>
                  <a:ext cx="0" cy="162000"/>
                </a:xfrm>
                <a:prstGeom prst="line">
                  <a:avLst/>
                </a:prstGeom>
                <a:ln w="12600">
                  <a:solidFill>
                    <a:srgbClr val="081d5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 flipV="1">
                <a:off x="773280" y="3902040"/>
                <a:ext cx="0" cy="10332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625320" y="4130640"/>
                <a:ext cx="282600" cy="32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V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457200" y="4011480"/>
                <a:ext cx="586080" cy="503280"/>
                <a:chOff x="457200" y="4011480"/>
                <a:chExt cx="586080" cy="50328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517680" y="4011480"/>
                  <a:ext cx="525600" cy="503280"/>
                </a:xfrm>
                <a:prstGeom prst="ellipse">
                  <a:avLst/>
                </a:prstGeom>
                <a:noFill/>
                <a:ln w="12600">
                  <a:solidFill>
                    <a:srgbClr val="081d5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 txBox="1"/>
                <p:nvPr/>
              </p:nvSpPr>
              <p:spPr>
                <a:xfrm>
                  <a:off x="457200" y="4025880"/>
                  <a:ext cx="43164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70000"/>
                    </a:lnSpc>
                    <a:spcBef>
                      <a:spcPts val="1199"/>
                    </a:spcBef>
                  </a:pPr>
                  <a:r>
                    <a:rPr b="0" lang="en-US" sz="1700" spc="-1" strike="noStrike">
                      <a:solidFill>
                        <a:srgbClr val="081d58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0" lang="en-US" sz="1700" spc="-1" strike="noStrike">
                      <a:solidFill>
                        <a:srgbClr val="081d58"/>
                      </a:solidFill>
                      <a:latin typeface="Times New Roman"/>
                      <a:ea typeface="Times New Roman"/>
                    </a:rPr>
                    <a:t>+  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 txBox="1"/>
              <p:nvPr/>
            </p:nvSpPr>
            <p:spPr>
              <a:xfrm>
                <a:off x="665280" y="4249800"/>
                <a:ext cx="201600" cy="32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7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376280" y="3713040"/>
                <a:ext cx="507960" cy="39672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1434960" y="3722760"/>
                <a:ext cx="3682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81d58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897200" y="3908520"/>
                <a:ext cx="35388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C Test Load Waveforms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45960" y="164772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Tline terminated to Zo (IBIS Lo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Standard Lumped “Datasheet”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Lightly Loaded Tline (Un-termin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Driver Driving Receiver of Same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(Un-termin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Importance of properly model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</dc:creator>
  <dc:description/>
  <dc:language>en-US</dc:language>
  <cp:lastModifiedBy>Peter LaFlamme</cp:lastModifiedBy>
  <cp:revision>0</cp:revision>
  <dc:subject>DDT</dc:subject>
  <dc:title>Template for powerpoint color master</dc:title>
</cp:coreProperties>
</file>