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86480" y="5408640"/>
            <a:ext cx="109224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47680" y="57240"/>
            <a:ext cx="664200" cy="787680"/>
            <a:chOff x="247680" y="57240"/>
            <a:chExt cx="664200" cy="787680"/>
          </a:xfrm>
        </p:grpSpPr>
        <p:sp>
          <p:nvSpPr>
            <p:cNvPr id="3" name=""/>
            <p:cNvSpPr/>
            <p:nvPr/>
          </p:nvSpPr>
          <p:spPr>
            <a:xfrm>
              <a:off x="314280" y="136440"/>
              <a:ext cx="530640" cy="628920"/>
            </a:xfrm>
            <a:custGeom>
              <a:avLst/>
              <a:gdLst/>
              <a:ahLst/>
              <a:rect l="0" t="0" r="r" b="b"/>
              <a:pathLst>
                <a:path w="1474" h="1747">
                  <a:moveTo>
                    <a:pt x="735" y="0"/>
                  </a:moveTo>
                  <a:lnTo>
                    <a:pt x="0" y="870"/>
                  </a:lnTo>
                  <a:lnTo>
                    <a:pt x="735" y="1747"/>
                  </a:lnTo>
                  <a:lnTo>
                    <a:pt x="1474" y="870"/>
                  </a:lnTo>
                  <a:lnTo>
                    <a:pt x="735" y="0"/>
                  </a:lnTo>
                  <a:close/>
                </a:path>
              </a:pathLst>
            </a:custGeom>
            <a:solidFill>
              <a:srgbClr val="4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7680" y="57240"/>
              <a:ext cx="664200" cy="787680"/>
              <a:chOff x="247680" y="57240"/>
              <a:chExt cx="664200" cy="787680"/>
            </a:xfrm>
          </p:grpSpPr>
          <p:sp>
            <p:nvSpPr>
              <p:cNvPr id="5" name=""/>
              <p:cNvSpPr/>
              <p:nvPr/>
            </p:nvSpPr>
            <p:spPr>
              <a:xfrm>
                <a:off x="579600" y="57240"/>
                <a:ext cx="332280" cy="394200"/>
              </a:xfrm>
              <a:custGeom>
                <a:avLst/>
                <a:gdLst/>
                <a:ahLst/>
                <a:rect l="0" t="0" r="r" b="b"/>
                <a:pathLst>
                  <a:path w="923" h="1095">
                    <a:moveTo>
                      <a:pt x="0" y="216"/>
                    </a:moveTo>
                    <a:lnTo>
                      <a:pt x="0" y="0"/>
                    </a:lnTo>
                    <a:lnTo>
                      <a:pt x="923" y="1095"/>
                    </a:lnTo>
                    <a:lnTo>
                      <a:pt x="737" y="1095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7680" y="57240"/>
                <a:ext cx="332280" cy="394200"/>
              </a:xfrm>
              <a:custGeom>
                <a:avLst/>
                <a:gdLst/>
                <a:ahLst/>
                <a:rect l="0" t="0" r="r" b="b"/>
                <a:pathLst>
                  <a:path w="923" h="1095">
                    <a:moveTo>
                      <a:pt x="923" y="0"/>
                    </a:moveTo>
                    <a:lnTo>
                      <a:pt x="923" y="216"/>
                    </a:lnTo>
                    <a:lnTo>
                      <a:pt x="181" y="1095"/>
                    </a:lnTo>
                    <a:lnTo>
                      <a:pt x="0" y="1095"/>
                    </a:lnTo>
                    <a:lnTo>
                      <a:pt x="923" y="0"/>
                    </a:lnTo>
                    <a:close/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9600" y="450720"/>
                <a:ext cx="332280" cy="394200"/>
              </a:xfrm>
              <a:custGeom>
                <a:avLst/>
                <a:gdLst/>
                <a:ahLst/>
                <a:rect l="0" t="0" r="r" b="b"/>
                <a:pathLst>
                  <a:path w="923" h="1095">
                    <a:moveTo>
                      <a:pt x="737" y="0"/>
                    </a:moveTo>
                    <a:lnTo>
                      <a:pt x="923" y="0"/>
                    </a:lnTo>
                    <a:lnTo>
                      <a:pt x="0" y="1095"/>
                    </a:lnTo>
                    <a:lnTo>
                      <a:pt x="0" y="874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47680" y="450720"/>
                <a:ext cx="332280" cy="394200"/>
              </a:xfrm>
              <a:custGeom>
                <a:avLst/>
                <a:gdLst/>
                <a:ahLst/>
                <a:rect l="0" t="0" r="r" b="b"/>
                <a:pathLst>
                  <a:path w="923" h="1095">
                    <a:moveTo>
                      <a:pt x="181" y="0"/>
                    </a:moveTo>
                    <a:lnTo>
                      <a:pt x="923" y="874"/>
                    </a:lnTo>
                    <a:lnTo>
                      <a:pt x="923" y="1095"/>
                    </a:lnTo>
                    <a:lnTo>
                      <a:pt x="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BIS Evolution and Ad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ob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3360" y="147600"/>
            <a:ext cx="759456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BIS Evolution and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8440" y="93672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prise! Technology growth isn’t slow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hallenges cause subtler effects to be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s. Picoseconds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voltages. Millivolts add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nd simulators must keep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noise and timing budgets demand better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need to be comprehensive, include subtl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case study, next f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cy work and commitment to future growth need pub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ll fears of high speed I/O archit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x must be implemented and deployed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ulative implementation of 3.0 would have helped, as wou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parser development - 1 year is too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enhancements must be deployed mor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2286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1600" y="4025880"/>
            <a:ext cx="539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blem: Glitch on strobe during SSO in particular systems caused false state machine c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36800" y="4832280"/>
            <a:ext cx="31780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44360" y="820800"/>
            <a:ext cx="5727600" cy="3130560"/>
            <a:chOff x="144360" y="820800"/>
            <a:chExt cx="5727600" cy="3130560"/>
          </a:xfrm>
        </p:grpSpPr>
        <p:grpSp>
          <p:nvGrpSpPr>
            <p:cNvPr id="55" name=""/>
            <p:cNvGrpSpPr/>
            <p:nvPr/>
          </p:nvGrpSpPr>
          <p:grpSpPr>
            <a:xfrm>
              <a:off x="144360" y="820800"/>
              <a:ext cx="5727600" cy="3130560"/>
              <a:chOff x="144360" y="820800"/>
              <a:chExt cx="5727600" cy="31305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44360" y="820800"/>
                <a:ext cx="5727600" cy="3130560"/>
                <a:chOff x="144360" y="820800"/>
                <a:chExt cx="5727600" cy="3130560"/>
              </a:xfrm>
            </p:grpSpPr>
            <p:sp>
              <p:nvSpPr>
                <p:cNvPr id="57" name=""/>
                <p:cNvSpPr txBox="1"/>
                <p:nvPr/>
              </p:nvSpPr>
              <p:spPr>
                <a:xfrm>
                  <a:off x="3683160" y="2635200"/>
                  <a:ext cx="496800" cy="299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44360" y="820800"/>
                  <a:ext cx="5727600" cy="3130560"/>
                  <a:chOff x="144360" y="820800"/>
                  <a:chExt cx="5727600" cy="3130560"/>
                </a:xfrm>
              </p:grpSpPr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820800"/>
                    <a:ext cx="572760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" name=""/>
                  <p:cNvSpPr/>
                  <p:nvPr/>
                </p:nvSpPr>
                <p:spPr>
                  <a:xfrm flipV="1">
                    <a:off x="4092480" y="1425600"/>
                    <a:ext cx="1219320" cy="14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" name=""/>
                <p:cNvSpPr txBox="1"/>
                <p:nvPr/>
              </p:nvSpPr>
              <p:spPr>
                <a:xfrm>
                  <a:off x="2658960" y="1122480"/>
                  <a:ext cx="608040" cy="299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ob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4840200" y="996840"/>
                <a:ext cx="920880" cy="3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863960" y="3603600"/>
              <a:ext cx="919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5218200" y="1292400"/>
            <a:ext cx="384012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Glitch, eroded margin. Multiple contribu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O of data affected strobe, but only with specific data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on coincident with 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margin eroded by path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plan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c bypa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or induc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ground return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fects subtle, simulators and models inadequate, decomposition into contributing elements exceedingly difficult in-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01560" y="1319040"/>
            <a:ext cx="3881520" cy="1807200"/>
            <a:chOff x="601560" y="1319040"/>
            <a:chExt cx="3881520" cy="1807200"/>
          </a:xfrm>
        </p:grpSpPr>
        <p:sp>
          <p:nvSpPr>
            <p:cNvPr id="66" name=""/>
            <p:cNvSpPr/>
            <p:nvPr/>
          </p:nvSpPr>
          <p:spPr>
            <a:xfrm>
              <a:off x="1569960" y="2416320"/>
              <a:ext cx="119160" cy="1126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8040" y="2724120"/>
              <a:ext cx="11916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01560" y="1319040"/>
              <a:ext cx="3881520" cy="1807200"/>
              <a:chOff x="601560" y="1319040"/>
              <a:chExt cx="3881520" cy="180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492200" y="1459080"/>
                <a:ext cx="141480" cy="1337040"/>
              </a:xfrm>
              <a:custGeom>
                <a:avLst/>
                <a:gdLst/>
                <a:ahLst/>
                <a:rect l="0" t="0" r="r" b="b"/>
                <a:pathLst>
                  <a:path fill="none" w="393" h="3714">
                    <a:moveTo>
                      <a:pt x="107" y="0"/>
                    </a:moveTo>
                    <a:lnTo>
                      <a:pt x="393" y="507"/>
                    </a:lnTo>
                    <a:lnTo>
                      <a:pt x="0" y="2080"/>
                    </a:lnTo>
                    <a:lnTo>
                      <a:pt x="371" y="2773"/>
                    </a:lnTo>
                    <a:lnTo>
                      <a:pt x="197" y="3714"/>
                    </a:lnTo>
                  </a:path>
                </a:pathLst>
              </a:custGeom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22280" y="1319040"/>
                <a:ext cx="435240" cy="1697400"/>
              </a:xfrm>
              <a:custGeom>
                <a:avLst/>
                <a:gdLst/>
                <a:ahLst/>
                <a:rect l="0" t="0" r="r" b="b"/>
                <a:pathLst>
                  <a:path fill="none" w="1209" h="4715">
                    <a:moveTo>
                      <a:pt x="345" y="17"/>
                    </a:moveTo>
                    <a:lnTo>
                      <a:pt x="278" y="101"/>
                    </a:lnTo>
                    <a:lnTo>
                      <a:pt x="234" y="163"/>
                    </a:lnTo>
                    <a:lnTo>
                      <a:pt x="212" y="220"/>
                    </a:lnTo>
                    <a:lnTo>
                      <a:pt x="194" y="282"/>
                    </a:lnTo>
                    <a:lnTo>
                      <a:pt x="172" y="344"/>
                    </a:lnTo>
                    <a:lnTo>
                      <a:pt x="172" y="406"/>
                    </a:lnTo>
                    <a:lnTo>
                      <a:pt x="194" y="467"/>
                    </a:lnTo>
                    <a:lnTo>
                      <a:pt x="256" y="507"/>
                    </a:lnTo>
                    <a:lnTo>
                      <a:pt x="300" y="547"/>
                    </a:lnTo>
                    <a:lnTo>
                      <a:pt x="345" y="609"/>
                    </a:lnTo>
                    <a:lnTo>
                      <a:pt x="362" y="653"/>
                    </a:lnTo>
                    <a:lnTo>
                      <a:pt x="362" y="710"/>
                    </a:lnTo>
                    <a:lnTo>
                      <a:pt x="385" y="772"/>
                    </a:lnTo>
                    <a:lnTo>
                      <a:pt x="385" y="878"/>
                    </a:lnTo>
                    <a:lnTo>
                      <a:pt x="385" y="935"/>
                    </a:lnTo>
                    <a:lnTo>
                      <a:pt x="385" y="1037"/>
                    </a:lnTo>
                    <a:lnTo>
                      <a:pt x="385" y="1099"/>
                    </a:lnTo>
                    <a:lnTo>
                      <a:pt x="385" y="1201"/>
                    </a:lnTo>
                    <a:lnTo>
                      <a:pt x="385" y="1263"/>
                    </a:lnTo>
                    <a:lnTo>
                      <a:pt x="385" y="1325"/>
                    </a:lnTo>
                    <a:lnTo>
                      <a:pt x="385" y="1409"/>
                    </a:lnTo>
                    <a:lnTo>
                      <a:pt x="385" y="1470"/>
                    </a:lnTo>
                    <a:lnTo>
                      <a:pt x="362" y="1567"/>
                    </a:lnTo>
                    <a:lnTo>
                      <a:pt x="345" y="1673"/>
                    </a:lnTo>
                    <a:lnTo>
                      <a:pt x="323" y="1735"/>
                    </a:lnTo>
                    <a:lnTo>
                      <a:pt x="300" y="1837"/>
                    </a:lnTo>
                    <a:lnTo>
                      <a:pt x="234" y="1916"/>
                    </a:lnTo>
                    <a:lnTo>
                      <a:pt x="212" y="2018"/>
                    </a:lnTo>
                    <a:lnTo>
                      <a:pt x="194" y="2079"/>
                    </a:lnTo>
                    <a:lnTo>
                      <a:pt x="128" y="2181"/>
                    </a:lnTo>
                    <a:lnTo>
                      <a:pt x="61" y="2282"/>
                    </a:lnTo>
                    <a:lnTo>
                      <a:pt x="39" y="2384"/>
                    </a:lnTo>
                    <a:lnTo>
                      <a:pt x="39" y="2446"/>
                    </a:lnTo>
                    <a:lnTo>
                      <a:pt x="17" y="2508"/>
                    </a:lnTo>
                    <a:lnTo>
                      <a:pt x="0" y="2609"/>
                    </a:lnTo>
                    <a:lnTo>
                      <a:pt x="0" y="2653"/>
                    </a:lnTo>
                    <a:lnTo>
                      <a:pt x="0" y="2711"/>
                    </a:lnTo>
                    <a:lnTo>
                      <a:pt x="0" y="2772"/>
                    </a:lnTo>
                    <a:lnTo>
                      <a:pt x="17" y="2834"/>
                    </a:lnTo>
                    <a:lnTo>
                      <a:pt x="61" y="2936"/>
                    </a:lnTo>
                    <a:lnTo>
                      <a:pt x="84" y="3037"/>
                    </a:lnTo>
                    <a:lnTo>
                      <a:pt x="84" y="3099"/>
                    </a:lnTo>
                    <a:lnTo>
                      <a:pt x="106" y="3161"/>
                    </a:lnTo>
                    <a:lnTo>
                      <a:pt x="128" y="3262"/>
                    </a:lnTo>
                    <a:lnTo>
                      <a:pt x="150" y="3368"/>
                    </a:lnTo>
                    <a:lnTo>
                      <a:pt x="150" y="3426"/>
                    </a:lnTo>
                    <a:lnTo>
                      <a:pt x="172" y="3527"/>
                    </a:lnTo>
                    <a:lnTo>
                      <a:pt x="172" y="3634"/>
                    </a:lnTo>
                    <a:lnTo>
                      <a:pt x="172" y="3691"/>
                    </a:lnTo>
                    <a:lnTo>
                      <a:pt x="172" y="3793"/>
                    </a:lnTo>
                    <a:lnTo>
                      <a:pt x="172" y="3899"/>
                    </a:lnTo>
                    <a:lnTo>
                      <a:pt x="172" y="4000"/>
                    </a:lnTo>
                    <a:lnTo>
                      <a:pt x="172" y="4058"/>
                    </a:lnTo>
                    <a:lnTo>
                      <a:pt x="172" y="4164"/>
                    </a:lnTo>
                    <a:lnTo>
                      <a:pt x="194" y="4243"/>
                    </a:lnTo>
                    <a:lnTo>
                      <a:pt x="194" y="4327"/>
                    </a:lnTo>
                    <a:lnTo>
                      <a:pt x="212" y="4407"/>
                    </a:lnTo>
                    <a:lnTo>
                      <a:pt x="234" y="4508"/>
                    </a:lnTo>
                    <a:lnTo>
                      <a:pt x="278" y="4610"/>
                    </a:lnTo>
                    <a:lnTo>
                      <a:pt x="323" y="4649"/>
                    </a:lnTo>
                    <a:lnTo>
                      <a:pt x="385" y="4671"/>
                    </a:lnTo>
                    <a:lnTo>
                      <a:pt x="495" y="4693"/>
                    </a:lnTo>
                    <a:lnTo>
                      <a:pt x="557" y="4715"/>
                    </a:lnTo>
                    <a:lnTo>
                      <a:pt x="709" y="4715"/>
                    </a:lnTo>
                    <a:lnTo>
                      <a:pt x="841" y="4715"/>
                    </a:lnTo>
                    <a:lnTo>
                      <a:pt x="948" y="4715"/>
                    </a:lnTo>
                    <a:lnTo>
                      <a:pt x="1076" y="4693"/>
                    </a:lnTo>
                    <a:lnTo>
                      <a:pt x="1098" y="4632"/>
                    </a:lnTo>
                    <a:lnTo>
                      <a:pt x="1160" y="4570"/>
                    </a:lnTo>
                    <a:lnTo>
                      <a:pt x="1160" y="4508"/>
                    </a:lnTo>
                    <a:lnTo>
                      <a:pt x="1160" y="4407"/>
                    </a:lnTo>
                    <a:lnTo>
                      <a:pt x="1160" y="4345"/>
                    </a:lnTo>
                    <a:lnTo>
                      <a:pt x="1160" y="4226"/>
                    </a:lnTo>
                    <a:lnTo>
                      <a:pt x="1142" y="4120"/>
                    </a:lnTo>
                    <a:lnTo>
                      <a:pt x="1142" y="4058"/>
                    </a:lnTo>
                    <a:lnTo>
                      <a:pt x="1142" y="3961"/>
                    </a:lnTo>
                    <a:lnTo>
                      <a:pt x="1142" y="3855"/>
                    </a:lnTo>
                    <a:lnTo>
                      <a:pt x="1142" y="3793"/>
                    </a:lnTo>
                    <a:lnTo>
                      <a:pt x="1142" y="3691"/>
                    </a:lnTo>
                    <a:lnTo>
                      <a:pt x="1142" y="3590"/>
                    </a:lnTo>
                    <a:lnTo>
                      <a:pt x="1142" y="3527"/>
                    </a:lnTo>
                    <a:lnTo>
                      <a:pt x="1160" y="3426"/>
                    </a:lnTo>
                    <a:lnTo>
                      <a:pt x="1187" y="3346"/>
                    </a:lnTo>
                    <a:lnTo>
                      <a:pt x="1187" y="3262"/>
                    </a:lnTo>
                    <a:lnTo>
                      <a:pt x="1209" y="3183"/>
                    </a:lnTo>
                    <a:lnTo>
                      <a:pt x="1209" y="3081"/>
                    </a:lnTo>
                    <a:lnTo>
                      <a:pt x="1209" y="2998"/>
                    </a:lnTo>
                    <a:lnTo>
                      <a:pt x="1187" y="2896"/>
                    </a:lnTo>
                    <a:lnTo>
                      <a:pt x="1160" y="2834"/>
                    </a:lnTo>
                    <a:lnTo>
                      <a:pt x="1160" y="2772"/>
                    </a:lnTo>
                    <a:lnTo>
                      <a:pt x="1142" y="2653"/>
                    </a:lnTo>
                    <a:lnTo>
                      <a:pt x="1076" y="2552"/>
                    </a:lnTo>
                    <a:lnTo>
                      <a:pt x="1076" y="2446"/>
                    </a:lnTo>
                    <a:lnTo>
                      <a:pt x="1010" y="2344"/>
                    </a:lnTo>
                    <a:lnTo>
                      <a:pt x="992" y="2225"/>
                    </a:lnTo>
                    <a:lnTo>
                      <a:pt x="970" y="2159"/>
                    </a:lnTo>
                    <a:lnTo>
                      <a:pt x="970" y="2062"/>
                    </a:lnTo>
                    <a:lnTo>
                      <a:pt x="948" y="1916"/>
                    </a:lnTo>
                    <a:lnTo>
                      <a:pt x="948" y="1837"/>
                    </a:lnTo>
                    <a:lnTo>
                      <a:pt x="970" y="1753"/>
                    </a:lnTo>
                    <a:lnTo>
                      <a:pt x="992" y="1673"/>
                    </a:lnTo>
                    <a:lnTo>
                      <a:pt x="1010" y="1589"/>
                    </a:lnTo>
                    <a:lnTo>
                      <a:pt x="1032" y="1510"/>
                    </a:lnTo>
                    <a:lnTo>
                      <a:pt x="1054" y="1409"/>
                    </a:lnTo>
                    <a:lnTo>
                      <a:pt x="1076" y="1347"/>
                    </a:lnTo>
                    <a:lnTo>
                      <a:pt x="1076" y="1245"/>
                    </a:lnTo>
                    <a:lnTo>
                      <a:pt x="1098" y="1143"/>
                    </a:lnTo>
                    <a:lnTo>
                      <a:pt x="1098" y="1076"/>
                    </a:lnTo>
                    <a:lnTo>
                      <a:pt x="1120" y="935"/>
                    </a:lnTo>
                    <a:lnTo>
                      <a:pt x="1120" y="856"/>
                    </a:lnTo>
                    <a:lnTo>
                      <a:pt x="1120" y="772"/>
                    </a:lnTo>
                    <a:lnTo>
                      <a:pt x="1120" y="710"/>
                    </a:lnTo>
                    <a:lnTo>
                      <a:pt x="1120" y="653"/>
                    </a:lnTo>
                    <a:lnTo>
                      <a:pt x="1120" y="609"/>
                    </a:lnTo>
                    <a:lnTo>
                      <a:pt x="1120" y="547"/>
                    </a:lnTo>
                    <a:lnTo>
                      <a:pt x="1120" y="507"/>
                    </a:lnTo>
                    <a:lnTo>
                      <a:pt x="1098" y="445"/>
                    </a:lnTo>
                    <a:lnTo>
                      <a:pt x="1098" y="384"/>
                    </a:lnTo>
                    <a:lnTo>
                      <a:pt x="1054" y="326"/>
                    </a:lnTo>
                    <a:lnTo>
                      <a:pt x="1010" y="282"/>
                    </a:lnTo>
                    <a:lnTo>
                      <a:pt x="970" y="242"/>
                    </a:lnTo>
                    <a:lnTo>
                      <a:pt x="926" y="203"/>
                    </a:lnTo>
                    <a:lnTo>
                      <a:pt x="859" y="141"/>
                    </a:lnTo>
                    <a:lnTo>
                      <a:pt x="797" y="101"/>
                    </a:lnTo>
                    <a:lnTo>
                      <a:pt x="731" y="39"/>
                    </a:lnTo>
                    <a:lnTo>
                      <a:pt x="664" y="17"/>
                    </a:lnTo>
                    <a:lnTo>
                      <a:pt x="601" y="0"/>
                    </a:lnTo>
                    <a:lnTo>
                      <a:pt x="535" y="0"/>
                    </a:lnTo>
                    <a:lnTo>
                      <a:pt x="473" y="0"/>
                    </a:lnTo>
                    <a:lnTo>
                      <a:pt x="345" y="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01560" y="1406520"/>
                <a:ext cx="3881520" cy="1719720"/>
                <a:chOff x="601560" y="1406520"/>
                <a:chExt cx="3881520" cy="1719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706320" y="1803240"/>
                  <a:ext cx="174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01560" y="2046240"/>
                  <a:ext cx="1953000" cy="1080000"/>
                </a:xfrm>
                <a:custGeom>
                  <a:avLst/>
                  <a:gdLst/>
                  <a:ahLst/>
                  <a:rect l="0" t="0" r="r" b="b"/>
                  <a:pathLst>
                    <a:path fill="none" w="5425" h="3000">
                      <a:moveTo>
                        <a:pt x="5425" y="17"/>
                      </a:moveTo>
                      <a:lnTo>
                        <a:pt x="5271" y="17"/>
                      </a:lnTo>
                      <a:lnTo>
                        <a:pt x="5209" y="17"/>
                      </a:lnTo>
                      <a:lnTo>
                        <a:pt x="5103" y="0"/>
                      </a:lnTo>
                      <a:lnTo>
                        <a:pt x="4971" y="0"/>
                      </a:lnTo>
                      <a:lnTo>
                        <a:pt x="4887" y="0"/>
                      </a:lnTo>
                      <a:lnTo>
                        <a:pt x="4803" y="0"/>
                      </a:lnTo>
                      <a:lnTo>
                        <a:pt x="4693" y="0"/>
                      </a:lnTo>
                      <a:lnTo>
                        <a:pt x="4587" y="0"/>
                      </a:lnTo>
                      <a:lnTo>
                        <a:pt x="4521" y="0"/>
                      </a:lnTo>
                      <a:lnTo>
                        <a:pt x="4410" y="0"/>
                      </a:lnTo>
                      <a:lnTo>
                        <a:pt x="4304" y="0"/>
                      </a:lnTo>
                      <a:lnTo>
                        <a:pt x="4238" y="0"/>
                      </a:lnTo>
                      <a:lnTo>
                        <a:pt x="4132" y="0"/>
                      </a:lnTo>
                      <a:lnTo>
                        <a:pt x="4025" y="0"/>
                      </a:lnTo>
                      <a:lnTo>
                        <a:pt x="3959" y="0"/>
                      </a:lnTo>
                      <a:lnTo>
                        <a:pt x="3853" y="0"/>
                      </a:lnTo>
                      <a:lnTo>
                        <a:pt x="3787" y="17"/>
                      </a:lnTo>
                      <a:lnTo>
                        <a:pt x="3743" y="17"/>
                      </a:lnTo>
                      <a:lnTo>
                        <a:pt x="3743" y="79"/>
                      </a:lnTo>
                      <a:lnTo>
                        <a:pt x="3293" y="3000"/>
                      </a:lnTo>
                      <a:lnTo>
                        <a:pt x="1528" y="2978"/>
                      </a:lnTo>
                      <a:lnTo>
                        <a:pt x="1204" y="446"/>
                      </a:lnTo>
                      <a:lnTo>
                        <a:pt x="0" y="406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341440" y="2079720"/>
                  <a:ext cx="190800" cy="142920"/>
                </a:xfrm>
                <a:custGeom>
                  <a:avLst/>
                  <a:gdLst/>
                  <a:ahLst/>
                  <a:rect l="0" t="0" r="r" b="b"/>
                  <a:pathLst>
                    <a:path fill="none" w="530" h="397">
                      <a:moveTo>
                        <a:pt x="530" y="0"/>
                      </a:moveTo>
                      <a:lnTo>
                        <a:pt x="530" y="0"/>
                      </a:lnTo>
                      <a:cubicBezTo>
                        <a:pt x="438" y="1"/>
                        <a:pt x="347" y="19"/>
                        <a:pt x="267" y="54"/>
                      </a:cubicBezTo>
                      <a:cubicBezTo>
                        <a:pt x="186" y="90"/>
                        <a:pt x="118" y="141"/>
                        <a:pt x="71" y="203"/>
                      </a:cubicBezTo>
                      <a:cubicBezTo>
                        <a:pt x="27" y="262"/>
                        <a:pt x="2" y="329"/>
                        <a:pt x="0" y="397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 txBox="1"/>
                <p:nvPr/>
              </p:nvSpPr>
              <p:spPr>
                <a:xfrm>
                  <a:off x="2556000" y="1755720"/>
                  <a:ext cx="19270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gnal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(over plane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 txBox="1"/>
                <p:nvPr/>
              </p:nvSpPr>
              <p:spPr>
                <a:xfrm>
                  <a:off x="2664000" y="2027160"/>
                  <a:ext cx="9208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tur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500120" y="1406520"/>
                  <a:ext cx="101520" cy="968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457280" y="2127240"/>
                  <a:ext cx="120600" cy="112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554120" y="1579680"/>
                  <a:ext cx="120600" cy="112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"/>
          <p:cNvGrpSpPr/>
          <p:nvPr/>
        </p:nvGrpSpPr>
        <p:grpSpPr>
          <a:xfrm>
            <a:off x="4952880" y="4268880"/>
            <a:ext cx="155880" cy="911160"/>
            <a:chOff x="4952880" y="4268880"/>
            <a:chExt cx="155880" cy="911160"/>
          </a:xfrm>
        </p:grpSpPr>
        <p:sp>
          <p:nvSpPr>
            <p:cNvPr id="81" name=""/>
            <p:cNvSpPr/>
            <p:nvPr/>
          </p:nvSpPr>
          <p:spPr>
            <a:xfrm flipV="1">
              <a:off x="4952880" y="4268880"/>
              <a:ext cx="0" cy="9111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54680" y="4270320"/>
              <a:ext cx="154080" cy="228960"/>
            </a:xfrm>
            <a:custGeom>
              <a:avLst/>
              <a:gdLst/>
              <a:ahLst/>
              <a:rect l="0" t="0" r="r" b="b"/>
              <a:pathLst>
                <a:path fill="none" w="428" h="636">
                  <a:moveTo>
                    <a:pt x="428" y="636"/>
                  </a:moveTo>
                  <a:lnTo>
                    <a:pt x="428" y="636"/>
                  </a:lnTo>
                  <a:lnTo>
                    <a:pt x="428" y="636"/>
                  </a:lnTo>
                  <a:cubicBezTo>
                    <a:pt x="428" y="524"/>
                    <a:pt x="408" y="415"/>
                    <a:pt x="371" y="318"/>
                  </a:cubicBezTo>
                  <a:cubicBezTo>
                    <a:pt x="334" y="221"/>
                    <a:pt x="280" y="141"/>
                    <a:pt x="216" y="85"/>
                  </a:cubicBezTo>
                  <a:cubicBezTo>
                    <a:pt x="152" y="29"/>
                    <a:pt x="78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496040"/>
              <a:ext cx="76680" cy="228600"/>
            </a:xfrm>
            <a:custGeom>
              <a:avLst/>
              <a:gdLst/>
              <a:ahLst/>
              <a:rect l="0" t="0" r="r" b="b"/>
              <a:pathLst>
                <a:path fill="none" w="213" h="635">
                  <a:moveTo>
                    <a:pt x="0" y="635"/>
                  </a:moveTo>
                  <a:lnTo>
                    <a:pt x="0" y="635"/>
                  </a:lnTo>
                  <a:lnTo>
                    <a:pt x="0" y="635"/>
                  </a:lnTo>
                  <a:cubicBezTo>
                    <a:pt x="37" y="635"/>
                    <a:pt x="74" y="606"/>
                    <a:pt x="107" y="550"/>
                  </a:cubicBezTo>
                  <a:cubicBezTo>
                    <a:pt x="139" y="494"/>
                    <a:pt x="166" y="414"/>
                    <a:pt x="184" y="317"/>
                  </a:cubicBezTo>
                  <a:cubicBezTo>
                    <a:pt x="203" y="221"/>
                    <a:pt x="213" y="111"/>
                    <a:pt x="213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335560" y="4270320"/>
            <a:ext cx="154080" cy="909720"/>
            <a:chOff x="5335560" y="4270320"/>
            <a:chExt cx="154080" cy="909720"/>
          </a:xfrm>
        </p:grpSpPr>
        <p:sp>
          <p:nvSpPr>
            <p:cNvPr id="85" name=""/>
            <p:cNvSpPr/>
            <p:nvPr/>
          </p:nvSpPr>
          <p:spPr>
            <a:xfrm flipV="1">
              <a:off x="5410080" y="4726080"/>
              <a:ext cx="0" cy="453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335560" y="4270320"/>
              <a:ext cx="154080" cy="454320"/>
              <a:chOff x="5335560" y="4270320"/>
              <a:chExt cx="154080" cy="454320"/>
            </a:xfrm>
          </p:grpSpPr>
          <p:sp>
            <p:nvSpPr>
              <p:cNvPr id="87" name=""/>
              <p:cNvSpPr/>
              <p:nvPr/>
            </p:nvSpPr>
            <p:spPr>
              <a:xfrm>
                <a:off x="5335560" y="4270320"/>
                <a:ext cx="154080" cy="228960"/>
              </a:xfrm>
              <a:custGeom>
                <a:avLst/>
                <a:gdLst/>
                <a:ahLst/>
                <a:rect l="0" t="0" r="r" b="b"/>
                <a:pathLst>
                  <a:path fill="none" w="428" h="636">
                    <a:moveTo>
                      <a:pt x="428" y="636"/>
                    </a:moveTo>
                    <a:lnTo>
                      <a:pt x="428" y="636"/>
                    </a:lnTo>
                    <a:lnTo>
                      <a:pt x="428" y="636"/>
                    </a:lnTo>
                    <a:cubicBezTo>
                      <a:pt x="428" y="524"/>
                      <a:pt x="408" y="415"/>
                      <a:pt x="371" y="318"/>
                    </a:cubicBezTo>
                    <a:cubicBezTo>
                      <a:pt x="334" y="221"/>
                      <a:pt x="280" y="141"/>
                      <a:pt x="216" y="85"/>
                    </a:cubicBezTo>
                    <a:cubicBezTo>
                      <a:pt x="152" y="29"/>
                      <a:pt x="78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10080" y="4496040"/>
                <a:ext cx="76680" cy="228600"/>
              </a:xfrm>
              <a:custGeom>
                <a:avLst/>
                <a:gdLst/>
                <a:ahLst/>
                <a:rect l="0" t="0" r="r" b="b"/>
                <a:pathLst>
                  <a:path fill="none" w="213" h="635">
                    <a:moveTo>
                      <a:pt x="0" y="635"/>
                    </a:moveTo>
                    <a:lnTo>
                      <a:pt x="0" y="635"/>
                    </a:lnTo>
                    <a:lnTo>
                      <a:pt x="0" y="635"/>
                    </a:lnTo>
                    <a:cubicBezTo>
                      <a:pt x="37" y="635"/>
                      <a:pt x="74" y="606"/>
                      <a:pt x="107" y="550"/>
                    </a:cubicBezTo>
                    <a:cubicBezTo>
                      <a:pt x="139" y="494"/>
                      <a:pt x="166" y="414"/>
                      <a:pt x="184" y="317"/>
                    </a:cubicBezTo>
                    <a:cubicBezTo>
                      <a:pt x="203" y="221"/>
                      <a:pt x="213" y="111"/>
                      <a:pt x="213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 txBox="1"/>
          <p:nvPr/>
        </p:nvSpPr>
        <p:spPr>
          <a:xfrm>
            <a:off x="152280" y="4724280"/>
            <a:ext cx="4267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or pin inductance not properly mode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le but measurable difference, signific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eroded mar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6640" y="4876920"/>
            <a:ext cx="453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56160" y="5180040"/>
            <a:ext cx="1414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L, Low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87880" y="1324080"/>
            <a:ext cx="2598840" cy="1563480"/>
            <a:chOff x="5087880" y="1324080"/>
            <a:chExt cx="2598840" cy="1563480"/>
          </a:xfrm>
        </p:grpSpPr>
        <p:grpSp>
          <p:nvGrpSpPr>
            <p:cNvPr id="93" name=""/>
            <p:cNvGrpSpPr/>
            <p:nvPr/>
          </p:nvGrpSpPr>
          <p:grpSpPr>
            <a:xfrm>
              <a:off x="5087880" y="1692360"/>
              <a:ext cx="2598840" cy="551160"/>
              <a:chOff x="5087880" y="1692360"/>
              <a:chExt cx="2598840" cy="551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5199120" y="1836720"/>
                <a:ext cx="2487600" cy="403200"/>
                <a:chOff x="5199120" y="1836720"/>
                <a:chExt cx="2487600" cy="403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199120" y="1836720"/>
                  <a:ext cx="2487600" cy="403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5283360" y="1878120"/>
                  <a:ext cx="133200" cy="304560"/>
                  <a:chOff x="5283360" y="1878120"/>
                  <a:chExt cx="133200" cy="30456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5283360" y="187812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5283360" y="2030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283360" y="2182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291280" y="1949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291280" y="2101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5500800" y="1878120"/>
                  <a:ext cx="133200" cy="304560"/>
                  <a:chOff x="5500800" y="1878120"/>
                  <a:chExt cx="133200" cy="3045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5500800" y="187812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500800" y="2030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500800" y="2182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508720" y="1949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508720" y="2101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259760" y="1878120"/>
                  <a:ext cx="133200" cy="304560"/>
                  <a:chOff x="7259760" y="1878120"/>
                  <a:chExt cx="133200" cy="3045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7259760" y="187812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59760" y="2030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259760" y="2182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267680" y="1949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67680" y="2101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477200" y="1878120"/>
                  <a:ext cx="133200" cy="304560"/>
                  <a:chOff x="7477200" y="1878120"/>
                  <a:chExt cx="133200" cy="3045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7477200" y="187812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477200" y="2030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477200" y="2182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485120" y="194940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485120" y="210168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5703840" y="1901880"/>
                  <a:ext cx="1433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710320" y="2054160"/>
                  <a:ext cx="1433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718240" y="2206800"/>
                  <a:ext cx="1433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727600" y="1973160"/>
                  <a:ext cx="1433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11760" y="2135160"/>
                  <a:ext cx="1433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100000" sp="100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5087880" y="1692360"/>
                <a:ext cx="114840" cy="551160"/>
              </a:xfrm>
              <a:custGeom>
                <a:avLst/>
                <a:gdLst/>
                <a:ahLst/>
                <a:rect l="0" t="0" r="r" b="b"/>
                <a:pathLst>
                  <a:path fill="none" w="319" h="1531">
                    <a:moveTo>
                      <a:pt x="319" y="1531"/>
                    </a:moveTo>
                    <a:lnTo>
                      <a:pt x="0" y="1168"/>
                    </a:lnTo>
                    <a:lnTo>
                      <a:pt x="0" y="0"/>
                    </a:lnTo>
                    <a:lnTo>
                      <a:pt x="319" y="40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03720" y="1692360"/>
                <a:ext cx="2568960" cy="130680"/>
              </a:xfrm>
              <a:custGeom>
                <a:avLst/>
                <a:gdLst/>
                <a:ahLst/>
                <a:rect l="0" t="0" r="r" b="b"/>
                <a:pathLst>
                  <a:path fill="none" w="7136" h="363">
                    <a:moveTo>
                      <a:pt x="0" y="0"/>
                    </a:moveTo>
                    <a:lnTo>
                      <a:pt x="6779" y="0"/>
                    </a:lnTo>
                    <a:lnTo>
                      <a:pt x="7136" y="36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6411960" y="2276640"/>
              <a:ext cx="0" cy="6109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80280" y="1324080"/>
              <a:ext cx="12600" cy="350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97480" y="1438200"/>
              <a:ext cx="1043640" cy="984600"/>
              <a:chOff x="5397480" y="1438200"/>
              <a:chExt cx="1043640" cy="984600"/>
            </a:xfrm>
          </p:grpSpPr>
          <p:sp>
            <p:nvSpPr>
              <p:cNvPr id="130" name=""/>
              <p:cNvSpPr/>
              <p:nvPr/>
            </p:nvSpPr>
            <p:spPr>
              <a:xfrm>
                <a:off x="5413320" y="1438200"/>
                <a:ext cx="579960" cy="320400"/>
              </a:xfrm>
              <a:custGeom>
                <a:avLst/>
                <a:gdLst/>
                <a:ahLst/>
                <a:rect l="0" t="0" r="r" b="b"/>
                <a:pathLst>
                  <a:path fill="none" w="1611" h="890"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329" y="0"/>
                      <a:pt x="1051" y="42"/>
                      <a:pt x="807" y="120"/>
                    </a:cubicBezTo>
                    <a:cubicBezTo>
                      <a:pt x="562" y="199"/>
                      <a:pt x="358" y="312"/>
                      <a:pt x="216" y="448"/>
                    </a:cubicBezTo>
                    <a:cubicBezTo>
                      <a:pt x="76" y="582"/>
                      <a:pt x="2" y="735"/>
                      <a:pt x="0" y="89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97480" y="2047680"/>
                <a:ext cx="482760" cy="375120"/>
              </a:xfrm>
              <a:custGeom>
                <a:avLst/>
                <a:gdLst/>
                <a:ahLst/>
                <a:rect l="0" t="0" r="r" b="b"/>
                <a:pathLst>
                  <a:path fill="none" w="1341" h="1042">
                    <a:moveTo>
                      <a:pt x="31" y="0"/>
                    </a:moveTo>
                    <a:lnTo>
                      <a:pt x="31" y="0"/>
                    </a:lnTo>
                    <a:cubicBezTo>
                      <a:pt x="11" y="60"/>
                      <a:pt x="0" y="121"/>
                      <a:pt x="0" y="182"/>
                    </a:cubicBezTo>
                    <a:cubicBezTo>
                      <a:pt x="0" y="333"/>
                      <a:pt x="63" y="481"/>
                      <a:pt x="181" y="612"/>
                    </a:cubicBezTo>
                    <a:cubicBezTo>
                      <a:pt x="299" y="743"/>
                      <a:pt x="469" y="851"/>
                      <a:pt x="673" y="927"/>
                    </a:cubicBezTo>
                    <a:cubicBezTo>
                      <a:pt x="876" y="1002"/>
                      <a:pt x="1106" y="1041"/>
                      <a:pt x="1341" y="1042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71040" y="1916280"/>
                <a:ext cx="370080" cy="475200"/>
              </a:xfrm>
              <a:custGeom>
                <a:avLst/>
                <a:gdLst/>
                <a:ahLst/>
                <a:rect l="0" t="0" r="r" b="b"/>
                <a:pathLst>
                  <a:path fill="none" w="1028" h="1320">
                    <a:moveTo>
                      <a:pt x="166" y="1320"/>
                    </a:moveTo>
                    <a:lnTo>
                      <a:pt x="1028" y="1320"/>
                    </a:lnTo>
                    <a:lnTo>
                      <a:pt x="1028" y="1320"/>
                    </a:lnTo>
                    <a:lnTo>
                      <a:pt x="1028" y="1320"/>
                    </a:lnTo>
                    <a:cubicBezTo>
                      <a:pt x="1028" y="1088"/>
                      <a:pt x="988" y="861"/>
                      <a:pt x="913" y="660"/>
                    </a:cubicBezTo>
                    <a:cubicBezTo>
                      <a:pt x="837" y="459"/>
                      <a:pt x="729" y="293"/>
                      <a:pt x="598" y="177"/>
                    </a:cubicBezTo>
                    <a:cubicBezTo>
                      <a:pt x="467" y="61"/>
                      <a:pt x="318" y="0"/>
                      <a:pt x="167" y="0"/>
                    </a:cubicBezTo>
                    <a:cubicBezTo>
                      <a:pt x="111" y="0"/>
                      <a:pt x="55" y="8"/>
                      <a:pt x="0" y="25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744240" y="1460520"/>
              <a:ext cx="580680" cy="322560"/>
            </a:xfrm>
            <a:custGeom>
              <a:avLst/>
              <a:gdLst/>
              <a:ahLst/>
              <a:rect l="0" t="0" r="r" b="b"/>
              <a:pathLst>
                <a:path fill="none" w="1613" h="896">
                  <a:moveTo>
                    <a:pt x="1613" y="896"/>
                  </a:moveTo>
                  <a:lnTo>
                    <a:pt x="1613" y="896"/>
                  </a:lnTo>
                  <a:lnTo>
                    <a:pt x="1613" y="896"/>
                  </a:lnTo>
                  <a:cubicBezTo>
                    <a:pt x="1613" y="739"/>
                    <a:pt x="1538" y="584"/>
                    <a:pt x="1397" y="448"/>
                  </a:cubicBezTo>
                  <a:cubicBezTo>
                    <a:pt x="1255" y="312"/>
                    <a:pt x="1051" y="199"/>
                    <a:pt x="806" y="120"/>
                  </a:cubicBezTo>
                  <a:cubicBezTo>
                    <a:pt x="561" y="41"/>
                    <a:pt x="283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6560" y="2068560"/>
              <a:ext cx="484920" cy="373320"/>
            </a:xfrm>
            <a:custGeom>
              <a:avLst/>
              <a:gdLst/>
              <a:ahLst/>
              <a:rect l="0" t="0" r="r" b="b"/>
              <a:pathLst>
                <a:path fill="none" w="1347" h="1037">
                  <a:moveTo>
                    <a:pt x="0" y="1037"/>
                  </a:moveTo>
                  <a:lnTo>
                    <a:pt x="0" y="1037"/>
                  </a:lnTo>
                  <a:lnTo>
                    <a:pt x="1" y="1037"/>
                  </a:lnTo>
                  <a:cubicBezTo>
                    <a:pt x="237" y="1037"/>
                    <a:pt x="469" y="997"/>
                    <a:pt x="674" y="922"/>
                  </a:cubicBezTo>
                  <a:cubicBezTo>
                    <a:pt x="878" y="846"/>
                    <a:pt x="1048" y="738"/>
                    <a:pt x="1166" y="607"/>
                  </a:cubicBezTo>
                  <a:cubicBezTo>
                    <a:pt x="1284" y="476"/>
                    <a:pt x="1347" y="327"/>
                    <a:pt x="1347" y="176"/>
                  </a:cubicBezTo>
                  <a:cubicBezTo>
                    <a:pt x="1347" y="117"/>
                    <a:pt x="1337" y="58"/>
                    <a:pt x="1318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97480" y="1938240"/>
              <a:ext cx="375120" cy="475560"/>
            </a:xfrm>
            <a:custGeom>
              <a:avLst/>
              <a:gdLst/>
              <a:ahLst/>
              <a:rect l="0" t="0" r="r" b="b"/>
              <a:pathLst>
                <a:path fill="none" w="1042" h="1321">
                  <a:moveTo>
                    <a:pt x="860" y="1321"/>
                  </a:moveTo>
                  <a:lnTo>
                    <a:pt x="1042" y="30"/>
                  </a:lnTo>
                  <a:lnTo>
                    <a:pt x="1042" y="30"/>
                  </a:lnTo>
                  <a:cubicBezTo>
                    <a:pt x="982" y="10"/>
                    <a:pt x="921" y="0"/>
                    <a:pt x="860" y="0"/>
                  </a:cubicBezTo>
                  <a:cubicBezTo>
                    <a:pt x="709" y="0"/>
                    <a:pt x="561" y="61"/>
                    <a:pt x="430" y="177"/>
                  </a:cubicBezTo>
                  <a:cubicBezTo>
                    <a:pt x="299" y="293"/>
                    <a:pt x="191" y="459"/>
                    <a:pt x="115" y="660"/>
                  </a:cubicBezTo>
                  <a:cubicBezTo>
                    <a:pt x="40" y="861"/>
                    <a:pt x="0" y="1088"/>
                    <a:pt x="0" y="132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91080" y="1612800"/>
              <a:ext cx="179244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2157480" y="3017880"/>
            <a:ext cx="43196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gnal return-path coupling </a:t>
            </a:r>
            <a:r>
              <a:rPr b="1" i="1" lang="en-US" sz="19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an </a:t>
            </a:r>
            <a:r>
              <a:rPr b="1" lang="en-US" sz="19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e a significant source of noi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65840" y="2741760"/>
            <a:ext cx="1217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65840" y="3122640"/>
            <a:ext cx="1195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P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478560" y="2973240"/>
            <a:ext cx="301680" cy="225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64360" y="2440080"/>
            <a:ext cx="14940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346480" y="1217520"/>
            <a:ext cx="127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 i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2040" y="1374840"/>
            <a:ext cx="530280" cy="149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763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ubtle Effects Accu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5880" y="3429000"/>
            <a:ext cx="1219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ed 50-9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5120" y="5840280"/>
            <a:ext cx="6864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hese are not all IBIS issues, but illustrate the need for ever finer precision and good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0320" y="352440"/>
            <a:ext cx="757080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ecent Model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4880" y="3890880"/>
            <a:ext cx="7580160" cy="18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 time measurement taken from input of output buffer to output of inpu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spec logic level transition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with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? Not sure. But if so, limits EDA vendor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input model required to model in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89320" y="1574640"/>
            <a:ext cx="346320" cy="422640"/>
          </a:xfrm>
          <a:custGeom>
            <a:avLst/>
            <a:gdLst/>
            <a:ahLst/>
            <a:rect l="0" t="0" r="r" b="b"/>
            <a:pathLst>
              <a:path w="962" h="1174">
                <a:moveTo>
                  <a:pt x="0" y="1174"/>
                </a:moveTo>
                <a:lnTo>
                  <a:pt x="962" y="1174"/>
                </a:lnTo>
                <a:lnTo>
                  <a:pt x="480" y="0"/>
                </a:lnTo>
                <a:lnTo>
                  <a:pt x="0" y="11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37200" y="1574640"/>
            <a:ext cx="346320" cy="422640"/>
          </a:xfrm>
          <a:custGeom>
            <a:avLst/>
            <a:gdLst/>
            <a:ahLst/>
            <a:rect l="0" t="0" r="r" b="b"/>
            <a:pathLst>
              <a:path w="962" h="1174">
                <a:moveTo>
                  <a:pt x="0" y="1174"/>
                </a:moveTo>
                <a:lnTo>
                  <a:pt x="962" y="1174"/>
                </a:lnTo>
                <a:lnTo>
                  <a:pt x="480" y="0"/>
                </a:lnTo>
                <a:lnTo>
                  <a:pt x="0" y="11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398600" y="1793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60880" y="1652760"/>
            <a:ext cx="22114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traces,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98920" y="1793880"/>
            <a:ext cx="56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68760" y="179856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179388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70000" y="1092240"/>
            <a:ext cx="906480" cy="1461960"/>
            <a:chOff x="2070000" y="1092240"/>
            <a:chExt cx="906480" cy="1461960"/>
          </a:xfrm>
        </p:grpSpPr>
        <p:sp>
          <p:nvSpPr>
            <p:cNvPr id="157" name=""/>
            <p:cNvSpPr/>
            <p:nvPr/>
          </p:nvSpPr>
          <p:spPr>
            <a:xfrm>
              <a:off x="2070000" y="109692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6480" y="109224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101680" y="2554200"/>
              <a:ext cx="866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834160" y="1063800"/>
            <a:ext cx="909720" cy="1461960"/>
            <a:chOff x="5834160" y="1063800"/>
            <a:chExt cx="909720" cy="1461960"/>
          </a:xfrm>
        </p:grpSpPr>
        <p:sp>
          <p:nvSpPr>
            <p:cNvPr id="161" name=""/>
            <p:cNvSpPr/>
            <p:nvPr/>
          </p:nvSpPr>
          <p:spPr>
            <a:xfrm flipH="1">
              <a:off x="5845320" y="106848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4160" y="106380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45320" y="2525760"/>
              <a:ext cx="8665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2065320" y="2155680"/>
            <a:ext cx="716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21280" y="2155680"/>
            <a:ext cx="90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14920" y="2811600"/>
            <a:ext cx="1274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92440" y="3205080"/>
            <a:ext cx="181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 of this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43680" y="2643120"/>
            <a:ext cx="923760" cy="338040"/>
            <a:chOff x="5143680" y="2643120"/>
            <a:chExt cx="923760" cy="338040"/>
          </a:xfrm>
        </p:grpSpPr>
        <p:sp>
          <p:nvSpPr>
            <p:cNvPr id="169" name=""/>
            <p:cNvSpPr/>
            <p:nvPr/>
          </p:nvSpPr>
          <p:spPr>
            <a:xfrm>
              <a:off x="5143680" y="2981160"/>
              <a:ext cx="915840" cy="0"/>
            </a:xfrm>
            <a:prstGeom prst="line">
              <a:avLst/>
            </a:prstGeom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067440" y="2643120"/>
              <a:ext cx="0" cy="319320"/>
            </a:xfrm>
            <a:prstGeom prst="line">
              <a:avLst/>
            </a:prstGeom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24120" y="2643120"/>
            <a:ext cx="927000" cy="338040"/>
            <a:chOff x="2724120" y="2643120"/>
            <a:chExt cx="927000" cy="338040"/>
          </a:xfrm>
        </p:grpSpPr>
        <p:sp>
          <p:nvSpPr>
            <p:cNvPr id="172" name=""/>
            <p:cNvSpPr/>
            <p:nvPr/>
          </p:nvSpPr>
          <p:spPr>
            <a:xfrm flipH="1">
              <a:off x="2735280" y="2981160"/>
              <a:ext cx="915840" cy="0"/>
            </a:xfrm>
            <a:prstGeom prst="line">
              <a:avLst/>
            </a:prstGeom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724120" y="2643120"/>
              <a:ext cx="0" cy="319320"/>
            </a:xfrm>
            <a:prstGeom prst="line">
              <a:avLst/>
            </a:prstGeom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462640" y="3027240"/>
            <a:ext cx="1506600" cy="338400"/>
            <a:chOff x="5462640" y="3027240"/>
            <a:chExt cx="1506600" cy="338400"/>
          </a:xfrm>
        </p:grpSpPr>
        <p:sp>
          <p:nvSpPr>
            <p:cNvPr id="175" name=""/>
            <p:cNvSpPr/>
            <p:nvPr/>
          </p:nvSpPr>
          <p:spPr>
            <a:xfrm>
              <a:off x="5462640" y="3365640"/>
              <a:ext cx="1493640" cy="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969240" y="3027240"/>
              <a:ext cx="0" cy="31932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98720" y="3027240"/>
            <a:ext cx="1509480" cy="338400"/>
            <a:chOff x="1998720" y="3027240"/>
            <a:chExt cx="1509480" cy="338400"/>
          </a:xfrm>
        </p:grpSpPr>
        <p:sp>
          <p:nvSpPr>
            <p:cNvPr id="178" name=""/>
            <p:cNvSpPr/>
            <p:nvPr/>
          </p:nvSpPr>
          <p:spPr>
            <a:xfrm flipH="1">
              <a:off x="2014560" y="3365640"/>
              <a:ext cx="1493640" cy="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98720" y="3027240"/>
              <a:ext cx="0" cy="319320"/>
            </a:xfrm>
            <a:prstGeom prst="line">
              <a:avLst/>
            </a:prstGeom>
            <a:ln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96920"/>
            <a:ext cx="74739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o Po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7240" y="117648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behavioral simulation reached its lim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hink so (present company exclu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need to address their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need to identify the limits of behavioral simulation, and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 happy coexistence between structural and behavioral (API?), without lo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neutr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advantage of behaviora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models, bett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we need to keep pushing IBIS to meet emerging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ophisticated inpu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package models (include coupling, e.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-based mode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D6 Engineering Computing</dc:creator>
  <dc:description/>
  <dc:language>en-US</dc:language>
  <cp:lastModifiedBy>NESA Inc.</cp:lastModifiedBy>
  <cp:revision>0</cp:revision>
  <dc:subject/>
  <dc:title>No Slide Title</dc:title>
</cp:coreProperties>
</file>