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280" y="228600"/>
            <a:ext cx="602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ison Between SPICE and IBIS I/O Device Sim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609480"/>
            <a:ext cx="5181840" cy="76320"/>
            <a:chOff x="152280" y="609480"/>
            <a:chExt cx="5181840" cy="76320"/>
          </a:xfrm>
        </p:grpSpPr>
        <p:sp>
          <p:nvSpPr>
            <p:cNvPr id="2" name=""/>
            <p:cNvSpPr/>
            <p:nvPr/>
          </p:nvSpPr>
          <p:spPr>
            <a:xfrm>
              <a:off x="152280" y="609480"/>
              <a:ext cx="4114800" cy="76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343400" y="60948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24280" y="609480"/>
              <a:ext cx="22860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29200" y="609480"/>
              <a:ext cx="15228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257800" y="609480"/>
              <a:ext cx="7632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600" y="12600"/>
            <a:ext cx="9042480" cy="6756480"/>
          </a:xfrm>
          <a:prstGeom prst="rect">
            <a:avLst/>
          </a:prstGeom>
          <a:noFill/>
          <a:ln w="25560">
            <a:solidFill>
              <a:srgbClr val="a2c1fe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809880" y="6172200"/>
            <a:ext cx="5181840" cy="76320"/>
            <a:chOff x="3809880" y="6172200"/>
            <a:chExt cx="5181840" cy="76320"/>
          </a:xfrm>
        </p:grpSpPr>
        <p:sp>
          <p:nvSpPr>
            <p:cNvPr id="9" name=""/>
            <p:cNvSpPr/>
            <p:nvPr/>
          </p:nvSpPr>
          <p:spPr>
            <a:xfrm>
              <a:off x="4876920" y="6172200"/>
              <a:ext cx="411480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95680" y="6172200"/>
              <a:ext cx="304920" cy="763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191120" y="6172200"/>
              <a:ext cx="228600" cy="76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62520" y="6172200"/>
              <a:ext cx="152280" cy="763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9880" y="6172200"/>
              <a:ext cx="76320" cy="76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3711600" y="6424560"/>
            <a:ext cx="327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High Performance Engineering &amp;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826480" y="6240600"/>
            <a:ext cx="1810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011000" y="6095880"/>
            <a:ext cx="2018880" cy="677160"/>
            <a:chOff x="7011000" y="6095880"/>
            <a:chExt cx="2018880" cy="677160"/>
          </a:xfrm>
        </p:grpSpPr>
        <p:sp>
          <p:nvSpPr>
            <p:cNvPr id="17" name=""/>
            <p:cNvSpPr/>
            <p:nvPr/>
          </p:nvSpPr>
          <p:spPr>
            <a:xfrm>
              <a:off x="8810280" y="626580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43760" y="626580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10560" y="626580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775360" y="6265800"/>
              <a:ext cx="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742240" y="62658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73840" y="6253200"/>
              <a:ext cx="131760" cy="33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862760" y="6265800"/>
              <a:ext cx="144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27840" y="6265800"/>
              <a:ext cx="0" cy="3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91120" y="626580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011000" y="6562440"/>
              <a:ext cx="19447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orth East Systems Associates, In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016040" y="6426000"/>
              <a:ext cx="510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© 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773920" y="6199200"/>
              <a:ext cx="255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759440" y="6595920"/>
              <a:ext cx="1136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73480" y="6095880"/>
              <a:ext cx="512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978320" y="60958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92520" y="6095880"/>
              <a:ext cx="486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82960" y="6095880"/>
              <a:ext cx="512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880" y="1343160"/>
            <a:ext cx="7772400" cy="16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Between SPICE and IBIS I/O Device Sim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53960" y="4111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nhua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 East Systems Associate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ne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5075" t="5975" r="11305" b="6409"/>
          <a:stretch/>
        </p:blipFill>
        <p:spPr>
          <a:xfrm>
            <a:off x="1976400" y="690480"/>
            <a:ext cx="5119560" cy="5448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5440" y="255420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hz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4480" y="1765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25057" t="6125" r="11207" b="6536"/>
          <a:stretch/>
        </p:blipFill>
        <p:spPr>
          <a:xfrm>
            <a:off x="2131920" y="708120"/>
            <a:ext cx="5129280" cy="5430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5440" y="255420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hz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4480" y="1765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frequency 10 Mhz, Z0 =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s = 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08240" y="2367000"/>
          <a:ext cx="7102440" cy="25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367000"/>
                    <a:ext cx="710244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25173" t="6125" r="11207" b="6536"/>
          <a:stretch/>
        </p:blipFill>
        <p:spPr>
          <a:xfrm>
            <a:off x="2027160" y="727200"/>
            <a:ext cx="511992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25075" t="5975" r="11305" b="6409"/>
          <a:stretch/>
        </p:blipFill>
        <p:spPr>
          <a:xfrm>
            <a:off x="2227320" y="752400"/>
            <a:ext cx="51195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25057" t="6281" r="11207" b="6409"/>
          <a:stretch/>
        </p:blipFill>
        <p:spPr>
          <a:xfrm>
            <a:off x="1863720" y="709560"/>
            <a:ext cx="51292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5057" t="6125" r="11207" b="6409"/>
          <a:stretch/>
        </p:blipFill>
        <p:spPr>
          <a:xfrm>
            <a:off x="2027160" y="709560"/>
            <a:ext cx="512928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ive load only, clock frequency 1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62040" y="3017880"/>
          <a:ext cx="529272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040" y="3017880"/>
                    <a:ext cx="529272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555520" y="45370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86160" y="4718160"/>
            <a:ext cx="423720" cy="1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5075" t="5975" r="11305" b="6559"/>
          <a:stretch/>
        </p:blipFill>
        <p:spPr>
          <a:xfrm>
            <a:off x="2565360" y="690480"/>
            <a:ext cx="5119560" cy="5438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25360" y="5315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64280" y="5532480"/>
            <a:ext cx="415800" cy="3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1, The general waveform shapes are very close between SPICE and IBIS Simulations. The ringing in the IBIS results are larger by up to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2, The general waveform shape are very close between SPICE and IBIS Simulations. The ringing of the IBIS results is almost same as SPICE simul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3, The IBIS result has larger overshoot and undershoot. It also has faster rising and falling ed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, the IBIS simulations agree with the SPICE simulations to a good degree for most purpo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 Simulator: Avanti’s Hsp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Simulator: HyperLynx’s LineS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CE Model: Fairchild’s 74LCX16245, Level 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Model: Fairchild’s 74LCX16245, Rev. 2.1, Converted from SPIC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of Three Cases Were Stu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e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0 = 5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 series ter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66920" y="2602080"/>
          <a:ext cx="693720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2602080"/>
                    <a:ext cx="693720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89760" y="1393920"/>
            <a:ext cx="10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 1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. 5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5272" t="5975" r="11207" b="6559"/>
          <a:stretch/>
        </p:blipFill>
        <p:spPr>
          <a:xfrm>
            <a:off x="2581200" y="690480"/>
            <a:ext cx="5112000" cy="5438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54840" y="17654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25173" t="6253" r="11305" b="6559"/>
          <a:stretch/>
        </p:blipFill>
        <p:spPr>
          <a:xfrm>
            <a:off x="2036880" y="708120"/>
            <a:ext cx="5111640" cy="542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95920" y="1271520"/>
            <a:ext cx="27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 load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 line: IBIS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line: SPICE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4840" y="17654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25075" t="6253" r="11207" b="6253"/>
          <a:stretch/>
        </p:blipFill>
        <p:spPr>
          <a:xfrm>
            <a:off x="1967040" y="716040"/>
            <a:ext cx="5127480" cy="5440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76960" y="1219320"/>
            <a:ext cx="27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load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 line: IBIS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line: SPICE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4840" y="17654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25075" t="6536" r="11283" b="6536"/>
          <a:stretch/>
        </p:blipFill>
        <p:spPr>
          <a:xfrm>
            <a:off x="2141640" y="716040"/>
            <a:ext cx="5121000" cy="5405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43520" y="1271520"/>
            <a:ext cx="27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load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sh line: IBIS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id line: SPICE simulation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840" y="17654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25057" t="5998" r="11305" b="6409"/>
          <a:stretch/>
        </p:blipFill>
        <p:spPr>
          <a:xfrm>
            <a:off x="2305080" y="709560"/>
            <a:ext cx="5121360" cy="5446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5440" y="255420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hz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4480" y="1765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5294" t="6125" r="11207" b="6281"/>
          <a:stretch/>
        </p:blipFill>
        <p:spPr>
          <a:xfrm>
            <a:off x="2098800" y="700200"/>
            <a:ext cx="5110200" cy="5446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5440" y="255420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Mhz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4480" y="1765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se 1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14:10:08Z</dcterms:created>
  <dc:creator>Jinhua Chen</dc:creator>
  <dc:description/>
  <dc:language>en-US</dc:language>
  <cp:lastModifiedBy>Jinhua Chen</cp:lastModifiedBy>
  <cp:lastPrinted>1998-10-14T18:57:08Z</cp:lastPrinted>
  <dcterms:modified xsi:type="dcterms:W3CDTF">1998-10-14T18:58:32Z</dcterms:modified>
  <cp:revision>9</cp:revision>
  <dc:subject/>
  <dc:title>No Slide Title</dc:title>
</cp:coreProperties>
</file>