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28.gif" ContentType="image/gif"/>
  <Override PartName="/ppt/media/image13.png" ContentType="image/png"/>
  <Override PartName="/ppt/media/image9.png" ContentType="image/png"/>
  <Override PartName="/ppt/media/image34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35.png" ContentType="image/png"/>
  <Override PartName="/ppt/media/image5.png" ContentType="image/png"/>
  <Override PartName="/ppt/media/image29.jpeg" ContentType="image/jpeg"/>
  <Override PartName="/ppt/media/image14.png" ContentType="image/png"/>
  <Override PartName="/ppt/media/image18.wmf" ContentType="image/x-wmf"/>
  <Override PartName="/ppt/media/image2.jpeg" ContentType="image/jpeg"/>
  <Override PartName="/ppt/media/image20.wmf" ContentType="image/x-wmf"/>
  <Override PartName="/ppt/media/image17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30BED-392E-41D2-844B-D7A91425A0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97000"/>
            <a:ext cx="7772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48F12-E92E-44A3-8B03-C7F8FD7E9C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97000"/>
            <a:ext cx="37926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97000"/>
            <a:ext cx="37926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49816-9AE2-4441-8CB2-DD34D08AC6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97000"/>
            <a:ext cx="250236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97000"/>
            <a:ext cx="250236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97000"/>
            <a:ext cx="250236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79D80-348A-4083-BD29-2A7DC055CD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97000"/>
            <a:ext cx="37926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8F718-E317-4922-B960-907A785ADA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897000"/>
            <a:ext cx="37926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97000"/>
            <a:ext cx="7772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97000"/>
            <a:ext cx="7772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97000"/>
            <a:ext cx="37926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897000"/>
            <a:ext cx="37926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97000"/>
            <a:ext cx="250236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897000"/>
            <a:ext cx="250236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897000"/>
            <a:ext cx="250236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5990B-FDFA-4218-9152-58561B356E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82CCC-C66A-4B8A-9CB4-B15FC25E23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4BB67-8D23-4805-B3F9-D37021F930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B24BC-3203-42D5-99C5-1CBADEFD6E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97000"/>
            <a:ext cx="37926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750E4-912B-409D-AB1A-6230F225E1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97000"/>
            <a:ext cx="37926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A853D-9D68-4E4C-87E5-1F0A7E7AB1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97000"/>
            <a:ext cx="777240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05FA9-F0AA-47FA-80D5-E9BF392F38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76000" y="6305040"/>
            <a:ext cx="3276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© 2006 CYBERNET SYSTEMS CO.,LTD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114800" y="630504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C9B8-25BD-44D3-8C3A-0050E83B09F6}" type="slidenum"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6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5440" cy="6858000"/>
            <a:chOff x="0" y="0"/>
            <a:chExt cx="9145440" cy="685800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14544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3521160" cy="73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png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image" Target="../media/image19.png"/><Relationship Id="rId4" Type="http://schemas.openxmlformats.org/officeDocument/2006/relationships/image" Target="../media/image21.png"/><Relationship Id="rId5" Type="http://schemas.openxmlformats.org/officeDocument/2006/relationships/image" Target="../media/image22.wmf"/><Relationship Id="rId6" Type="http://schemas.openxmlformats.org/officeDocument/2006/relationships/image" Target="../media/image20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4.png"/><Relationship Id="rId9" Type="http://schemas.openxmlformats.org/officeDocument/2006/relationships/image" Target="../media/image25.jpeg"/><Relationship Id="rId10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9800" y="2676600"/>
            <a:ext cx="8242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IS Model Engineering for SI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ian IBIS Summit (Japan), October 31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94080" y="3568680"/>
            <a:ext cx="3889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ngsuhChe"/>
              </a:rPr>
              <a:t>Kazuhiko Kusuno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ngsuhChe"/>
              </a:rPr>
              <a:t>k-kusu@cybernet.co.j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809640" y="1069920"/>
            <a:ext cx="70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ion IBI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00600" y="2344680"/>
            <a:ext cx="112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955800" y="1874880"/>
          <a:ext cx="4265640" cy="283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5800" y="1874880"/>
                    <a:ext cx="4265640" cy="28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4498920" y="2930400"/>
          <a:ext cx="3809880" cy="270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8920" y="2930400"/>
                    <a:ext cx="380988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5710320" y="3984480"/>
            <a:ext cx="1674720" cy="603360"/>
          </a:xfrm>
          <a:prstGeom prst="leftArrow">
            <a:avLst>
              <a:gd name="adj1" fmla="val 50000"/>
              <a:gd name="adj2" fmla="val 6939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1040" y="3173400"/>
            <a:ext cx="2665440" cy="906480"/>
          </a:xfrm>
          <a:prstGeom prst="rightArrowCallout">
            <a:avLst>
              <a:gd name="adj1" fmla="val 25002"/>
              <a:gd name="adj2" fmla="val 25000"/>
              <a:gd name="adj3" fmla="val 49007"/>
              <a:gd name="adj4" fmla="val 6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rase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 interpolation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49600" y="196056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-I cur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27760" y="299556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-V cur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DC0D4-6166-42E4-9262-B1E6449AD5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662040" y="2075040"/>
          <a:ext cx="6503760" cy="36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2075040"/>
                    <a:ext cx="6503760" cy="36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1021680" y="1001880"/>
            <a:ext cx="30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pare IBI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397480" y="919080"/>
          <a:ext cx="2716200" cy="26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7480" y="919080"/>
                    <a:ext cx="271620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"/>
          <p:cNvGrpSpPr/>
          <p:nvPr/>
        </p:nvGrpSpPr>
        <p:grpSpPr>
          <a:xfrm>
            <a:off x="3794040" y="3824280"/>
            <a:ext cx="3762360" cy="2001960"/>
            <a:chOff x="3794040" y="3824280"/>
            <a:chExt cx="3762360" cy="2001960"/>
          </a:xfrm>
        </p:grpSpPr>
        <p:graphicFrame>
          <p:nvGraphicFramePr>
            <p:cNvPr id="230" name=""/>
            <p:cNvGraphicFramePr/>
            <p:nvPr/>
          </p:nvGraphicFramePr>
          <p:xfrm>
            <a:off x="3794040" y="3824280"/>
            <a:ext cx="3762360" cy="2001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794040" y="3824280"/>
                      <a:ext cx="3762360" cy="200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2" name=""/>
            <p:cNvSpPr/>
            <p:nvPr/>
          </p:nvSpPr>
          <p:spPr>
            <a:xfrm>
              <a:off x="4236840" y="4081680"/>
              <a:ext cx="0" cy="15699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03360" y="5626440"/>
              <a:ext cx="3009960" cy="7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7205400" y="4073760"/>
              <a:ext cx="7920" cy="1587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35200" y="4081680"/>
              <a:ext cx="0" cy="1431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427280" y="4081680"/>
              <a:ext cx="2778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10000" y="5504040"/>
              <a:ext cx="2501640" cy="9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6911640" y="4211280"/>
              <a:ext cx="0" cy="1311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4789080" y="4219560"/>
              <a:ext cx="2130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81520" y="4237200"/>
              <a:ext cx="0" cy="11304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787320" y="1735200"/>
            <a:ext cx="34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n/Signal/Model As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00040" y="5735520"/>
            <a:ext cx="40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ral pin number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730280" y="7779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DF03E-DCB5-406B-9DA0-8A5AE64BED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020240" y="1001880"/>
            <a:ext cx="26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ne IBI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317520" y="1557360"/>
          <a:ext cx="2557440" cy="15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1557360"/>
                    <a:ext cx="255744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263600" y="2835360"/>
          <a:ext cx="2559240" cy="152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63600" y="2835360"/>
                    <a:ext cx="255924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9" name="" descr=""/>
          <p:cNvPicPr/>
          <p:nvPr/>
        </p:nvPicPr>
        <p:blipFill>
          <a:blip r:embed="rId5"/>
          <a:srcRect l="50085" t="38072" r="3591" b="15666"/>
          <a:stretch/>
        </p:blipFill>
        <p:spPr>
          <a:xfrm>
            <a:off x="6186600" y="1539720"/>
            <a:ext cx="2473200" cy="1930680"/>
          </a:xfrm>
          <a:prstGeom prst="rect">
            <a:avLst/>
          </a:prstGeom>
          <a:ln w="12600">
            <a:solidFill>
              <a:srgbClr val="ff99ff"/>
            </a:solidFill>
            <a:miter/>
          </a:ln>
        </p:spPr>
      </p:pic>
      <p:graphicFrame>
        <p:nvGraphicFramePr>
          <p:cNvPr id="250" name=""/>
          <p:cNvGraphicFramePr/>
          <p:nvPr/>
        </p:nvGraphicFramePr>
        <p:xfrm>
          <a:off x="2103480" y="4156200"/>
          <a:ext cx="2530440" cy="1571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03480" y="4156200"/>
                    <a:ext cx="2530440" cy="15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2" name="" descr=""/>
          <p:cNvPicPr/>
          <p:nvPr/>
        </p:nvPicPr>
        <p:blipFill>
          <a:blip r:embed="rId8"/>
          <a:srcRect l="31603" t="28839" r="33544" b="48087"/>
          <a:stretch/>
        </p:blipFill>
        <p:spPr>
          <a:xfrm>
            <a:off x="6197760" y="3794040"/>
            <a:ext cx="2501640" cy="17575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253" name=""/>
          <p:cNvSpPr/>
          <p:nvPr/>
        </p:nvSpPr>
        <p:spPr>
          <a:xfrm flipV="1">
            <a:off x="1819440" y="2128320"/>
            <a:ext cx="0" cy="53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11600" y="318132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46200" y="1663560"/>
            <a:ext cx="145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re I-O H/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85920" y="3000240"/>
            <a:ext cx="145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ss I-O H/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48000" y="4327560"/>
            <a:ext cx="145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ail E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54800" y="857160"/>
            <a:ext cx="206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 and Virtual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3606840" y="5829480"/>
          <a:ext cx="4424400" cy="365040"/>
        </p:xfrm>
        <a:graphic>
          <a:graphicData uri="http://schemas.openxmlformats.org/drawingml/2006/table">
            <a:tbl>
              <a:tblPr/>
              <a:tblGrid>
                <a:gridCol w="44244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572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Arial"/>
                          <a:ea typeface="lr SVbN"/>
                        </a:rPr>
                        <a:t>Comparison-data for the best resul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2124000" y="344376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4480" y="2820960"/>
            <a:ext cx="1825920" cy="1163520"/>
          </a:xfrm>
          <a:prstGeom prst="leftRightArrow">
            <a:avLst>
              <a:gd name="adj1" fmla="val 50000"/>
              <a:gd name="adj2" fmla="val 31241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822BA-43AD-44E2-AE17-E0E1657604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What the SI Electronics whiz dose for IBIS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1960" y="1536840"/>
            <a:ext cx="2478240" cy="1746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1120" y="3471840"/>
            <a:ext cx="1325520" cy="1746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71640" y="3687840"/>
            <a:ext cx="1325520" cy="1746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305000" y="3932280"/>
            <a:ext cx="1525680" cy="1859040"/>
            <a:chOff x="1305000" y="3932280"/>
            <a:chExt cx="1525680" cy="1859040"/>
          </a:xfrm>
        </p:grpSpPr>
        <p:sp>
          <p:nvSpPr>
            <p:cNvPr id="267" name=""/>
            <p:cNvSpPr/>
            <p:nvPr/>
          </p:nvSpPr>
          <p:spPr>
            <a:xfrm>
              <a:off x="1305000" y="3932280"/>
              <a:ext cx="1525680" cy="18590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" descr=""/>
            <p:cNvPicPr/>
            <p:nvPr/>
          </p:nvPicPr>
          <p:blipFill>
            <a:blip r:embed="rId1"/>
            <a:stretch/>
          </p:blipFill>
          <p:spPr>
            <a:xfrm>
              <a:off x="1368360" y="4041720"/>
              <a:ext cx="1271520" cy="169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9" name=""/>
          <p:cNvSpPr/>
          <p:nvPr/>
        </p:nvSpPr>
        <p:spPr>
          <a:xfrm>
            <a:off x="1267200" y="454500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I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156200" y="3094200"/>
            <a:ext cx="880920" cy="10666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2890800" y="2925720"/>
            <a:ext cx="1216080" cy="1252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25640" y="3311640"/>
            <a:ext cx="12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32200" y="1373040"/>
            <a:ext cx="4353120" cy="1444680"/>
          </a:xfrm>
          <a:prstGeom prst="cloudCallout">
            <a:avLst>
              <a:gd name="adj1" fmla="val -23449"/>
              <a:gd name="adj2" fmla="val 726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IS model looks g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eries 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logy should be Dai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197240" y="5029200"/>
            <a:ext cx="20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678000" y="2779200"/>
            <a:ext cx="2131560" cy="1797480"/>
            <a:chOff x="6678000" y="2779200"/>
            <a:chExt cx="2131560" cy="1797480"/>
          </a:xfrm>
        </p:grpSpPr>
        <p:pic>
          <p:nvPicPr>
            <p:cNvPr id="276" name="" descr=""/>
            <p:cNvPicPr/>
            <p:nvPr/>
          </p:nvPicPr>
          <p:blipFill>
            <a:blip r:embed="rId3"/>
            <a:stretch/>
          </p:blipFill>
          <p:spPr>
            <a:xfrm>
              <a:off x="6703920" y="3354480"/>
              <a:ext cx="2014560" cy="1222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77" name=""/>
            <p:cNvSpPr/>
            <p:nvPr/>
          </p:nvSpPr>
          <p:spPr>
            <a:xfrm>
              <a:off x="6678000" y="2779200"/>
              <a:ext cx="213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mulation wi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ading hypothesi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4683240" y="5043600"/>
            <a:ext cx="1827000" cy="15494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512520" y="4742640"/>
            <a:ext cx="45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ineering instruction to Layout desig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221440" y="3776760"/>
            <a:ext cx="1188720" cy="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091120" y="4137120"/>
            <a:ext cx="447840" cy="55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573960" y="5294160"/>
            <a:ext cx="18381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the space of place for series resist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v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6A684-1D33-4605-B513-2D2A79FDE3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7149960" y="1346040"/>
            <a:ext cx="1651320" cy="1322640"/>
            <a:chOff x="7149960" y="1346040"/>
            <a:chExt cx="1651320" cy="1322640"/>
          </a:xfrm>
        </p:grpSpPr>
        <p:graphicFrame>
          <p:nvGraphicFramePr>
            <p:cNvPr id="284" name=""/>
            <p:cNvGraphicFramePr/>
            <p:nvPr/>
          </p:nvGraphicFramePr>
          <p:xfrm>
            <a:off x="7149960" y="1346040"/>
            <a:ext cx="1651320" cy="1322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149960" y="1346040"/>
                      <a:ext cx="1651320" cy="132264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86" name=""/>
            <p:cNvSpPr/>
            <p:nvPr/>
          </p:nvSpPr>
          <p:spPr>
            <a:xfrm>
              <a:off x="8163360" y="1878840"/>
              <a:ext cx="43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0000"/>
                  </a:solidFill>
                  <a:latin typeface="Times New Roman"/>
                  <a:ea typeface="HG創英角ｺﾞｼｯｸUB"/>
                </a:rPr>
                <a:t>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7645320" y="137016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What the Non SI Electronics whiz may does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06280" y="1825560"/>
            <a:ext cx="625680" cy="878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Mod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96800" y="2041560"/>
            <a:ext cx="625680" cy="8776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Mod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830160" y="2286000"/>
            <a:ext cx="785880" cy="934920"/>
            <a:chOff x="830160" y="2286000"/>
            <a:chExt cx="785880" cy="934920"/>
          </a:xfrm>
        </p:grpSpPr>
        <p:sp>
          <p:nvSpPr>
            <p:cNvPr id="292" name=""/>
            <p:cNvSpPr/>
            <p:nvPr/>
          </p:nvSpPr>
          <p:spPr>
            <a:xfrm>
              <a:off x="830160" y="2286000"/>
              <a:ext cx="785880" cy="934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3" name="" descr=""/>
            <p:cNvPicPr/>
            <p:nvPr/>
          </p:nvPicPr>
          <p:blipFill>
            <a:blip r:embed="rId3"/>
            <a:stretch/>
          </p:blipFill>
          <p:spPr>
            <a:xfrm>
              <a:off x="862560" y="2341080"/>
              <a:ext cx="654840" cy="85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4" name=""/>
          <p:cNvSpPr/>
          <p:nvPr/>
        </p:nvSpPr>
        <p:spPr>
          <a:xfrm>
            <a:off x="734760" y="2570040"/>
            <a:ext cx="92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IS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33560" y="4645080"/>
            <a:ext cx="20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561840" y="1266840"/>
            <a:ext cx="2556000" cy="2147400"/>
            <a:chOff x="3561840" y="1266840"/>
            <a:chExt cx="2556000" cy="2147400"/>
          </a:xfrm>
        </p:grpSpPr>
        <p:pic>
          <p:nvPicPr>
            <p:cNvPr id="297" name="" descr=""/>
            <p:cNvPicPr/>
            <p:nvPr/>
          </p:nvPicPr>
          <p:blipFill>
            <a:blip r:embed="rId4"/>
            <a:stretch/>
          </p:blipFill>
          <p:spPr>
            <a:xfrm>
              <a:off x="3595320" y="1904040"/>
              <a:ext cx="2522520" cy="1510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98" name=""/>
            <p:cNvSpPr/>
            <p:nvPr/>
          </p:nvSpPr>
          <p:spPr>
            <a:xfrm>
              <a:off x="3561840" y="1266840"/>
              <a:ext cx="2372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mulation wi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roundless suspic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" descr=""/>
          <p:cNvPicPr/>
          <p:nvPr/>
        </p:nvPicPr>
        <p:blipFill>
          <a:blip r:embed="rId5"/>
          <a:stretch/>
        </p:blipFill>
        <p:spPr>
          <a:xfrm>
            <a:off x="1519200" y="4659480"/>
            <a:ext cx="1827360" cy="15490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348840" y="4358520"/>
            <a:ext cx="45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ineering instruction to Layout desig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427560" y="4809960"/>
            <a:ext cx="20937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the space of place for series resistor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f it’s possi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4800" y="1333440"/>
            <a:ext cx="1225440" cy="7858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9400" y="1987560"/>
            <a:ext cx="681120" cy="799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1900080" y="1819440"/>
            <a:ext cx="881280" cy="1066680"/>
            <a:chOff x="1900080" y="1819440"/>
            <a:chExt cx="881280" cy="1066680"/>
          </a:xfrm>
        </p:grpSpPr>
        <p:pic>
          <p:nvPicPr>
            <p:cNvPr id="305" name="" descr=""/>
            <p:cNvPicPr/>
            <p:nvPr/>
          </p:nvPicPr>
          <p:blipFill>
            <a:blip r:embed="rId6"/>
            <a:stretch/>
          </p:blipFill>
          <p:spPr>
            <a:xfrm>
              <a:off x="1900080" y="1819440"/>
              <a:ext cx="8812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1928880" y="1830600"/>
              <a:ext cx="384120" cy="357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691320" y="2257560"/>
            <a:ext cx="1700280" cy="1412640"/>
            <a:chOff x="6691320" y="2257560"/>
            <a:chExt cx="1700280" cy="1412640"/>
          </a:xfrm>
        </p:grpSpPr>
        <p:graphicFrame>
          <p:nvGraphicFramePr>
            <p:cNvPr id="308" name=""/>
            <p:cNvGraphicFramePr/>
            <p:nvPr/>
          </p:nvGraphicFramePr>
          <p:xfrm>
            <a:off x="6691320" y="2257560"/>
            <a:ext cx="1700280" cy="1412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691320" y="2257560"/>
                      <a:ext cx="1700280" cy="141264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10" name=""/>
            <p:cNvSpPr/>
            <p:nvPr/>
          </p:nvSpPr>
          <p:spPr>
            <a:xfrm>
              <a:off x="7832520" y="2404440"/>
              <a:ext cx="428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0000"/>
                  </a:solidFill>
                  <a:latin typeface="Times New Roman"/>
                  <a:ea typeface="HG創英角ｺﾞｼｯｸUB"/>
                </a:rPr>
                <a:t>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7156440" y="229860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622840" y="2112840"/>
            <a:ext cx="1427400" cy="649440"/>
          </a:xfrm>
          <a:prstGeom prst="leftRightArrow">
            <a:avLst>
              <a:gd name="adj1" fmla="val 50000"/>
              <a:gd name="adj2" fmla="val 43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&amp;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370480" y="5111640"/>
            <a:ext cx="1155600" cy="946440"/>
          </a:xfrm>
          <a:prstGeom prst="rightArrow">
            <a:avLst>
              <a:gd name="adj1" fmla="val 50000"/>
              <a:gd name="adj2" fmla="val 305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6637680" y="4225320"/>
            <a:ext cx="2373840" cy="2122920"/>
            <a:chOff x="6637680" y="4225320"/>
            <a:chExt cx="2373840" cy="2122920"/>
          </a:xfrm>
        </p:grpSpPr>
        <p:pic>
          <p:nvPicPr>
            <p:cNvPr id="315" name="" descr=""/>
            <p:cNvPicPr/>
            <p:nvPr/>
          </p:nvPicPr>
          <p:blipFill>
            <a:blip r:embed="rId9"/>
            <a:stretch/>
          </p:blipFill>
          <p:spPr>
            <a:xfrm>
              <a:off x="6823080" y="4916520"/>
              <a:ext cx="172728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6637680" y="4225320"/>
              <a:ext cx="23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CB under suspic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132680" y="4853160"/>
              <a:ext cx="977760" cy="95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6600"/>
                  </a:solidFill>
                  <a:latin typeface="Arial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 rot="21004800">
            <a:off x="2639880" y="3759120"/>
            <a:ext cx="3219480" cy="501840"/>
          </a:xfrm>
          <a:prstGeom prst="leftArrow">
            <a:avLst>
              <a:gd name="adj1" fmla="val 50000"/>
              <a:gd name="adj2" fmla="val 160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749600" y="13795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I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FE7D3-7194-4031-B3B0-A68CAA5466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584520" y="4165560"/>
            <a:ext cx="5351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 Signal Wave from IBI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1676520"/>
            <a:ext cx="2819520" cy="373356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Times New Roman"/>
              </a:rPr>
              <a:t>IBIS Mo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ffff"/>
                </a:solidFill>
                <a:latin typeface="Times New Roman"/>
              </a:rPr>
              <a:t>|****************************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ffff"/>
                </a:solidFill>
                <a:latin typeface="Times New Roman"/>
              </a:rPr>
              <a:t>[Model]  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ffff"/>
                </a:solidFill>
                <a:latin typeface="Times New Roman"/>
              </a:rPr>
              <a:t>Model_type      I/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ffff"/>
                </a:solidFill>
                <a:latin typeface="Times New Roman"/>
              </a:rPr>
              <a:t>Polarity        Non-Inver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ffff"/>
                </a:solidFill>
                <a:latin typeface="Times New Roman"/>
              </a:rPr>
              <a:t>Enable          Active-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ffff"/>
                </a:solidFill>
                <a:latin typeface="Times New Roman"/>
              </a:rPr>
              <a:t>Vinl = 0.66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ffff"/>
                </a:solidFill>
                <a:latin typeface="Times New Roman"/>
              </a:rPr>
              <a:t>Vinh = 2.00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ffff"/>
                </a:solidFill>
                <a:latin typeface="Times New Roman"/>
              </a:rPr>
              <a:t>C_comp 2.55pF 1.18pF 3.91p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ffff"/>
                </a:solidFill>
                <a:latin typeface="Times New Roman"/>
              </a:rPr>
              <a:t>[Voltage Range] 3.3V 3.0V 3.6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ffff"/>
                </a:solidFill>
                <a:latin typeface="Times New Roman"/>
              </a:rPr>
              <a:t>[Power Clamp Reference] 3.3V 3.0V 3.6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ffff"/>
                </a:solidFill>
                <a:latin typeface="Times New Roman"/>
              </a:rPr>
              <a:t>[GND Clamp Reference] 0.0V 0.0V 0.0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ffff"/>
                </a:solidFill>
                <a:latin typeface="Times New Roman"/>
              </a:rPr>
              <a:t>[Pullup Reference] 3.3V 3.0V 3.6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ffff"/>
                </a:solidFill>
                <a:latin typeface="Times New Roman"/>
              </a:rPr>
              <a:t>[Pulldown Reference] 0.0V 0.0V 0.0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ffff"/>
                </a:solidFill>
                <a:latin typeface="Times New Roman"/>
              </a:rPr>
              <a:t>[Temperature Range] 49.0 125.0 -20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ffff"/>
                </a:solidFill>
                <a:latin typeface="Times New Roman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ffff"/>
                </a:solidFill>
                <a:latin typeface="Times New Roman"/>
              </a:rPr>
              <a:t>|*********************************************************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ffff"/>
                </a:solidFill>
                <a:latin typeface="Times New Roman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ffff"/>
                </a:solidFill>
                <a:latin typeface="Times New Roman"/>
              </a:rPr>
              <a:t>[Pulldown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ja-JP" sz="800" spc="-1" strike="noStrike">
                <a:solidFill>
                  <a:srgbClr val="ffffff"/>
                </a:solidFill>
                <a:latin typeface="Times New Roman"/>
              </a:rPr>
              <a:t>-3.300E+00        -2.7539E-01        -2.2720E-01        -3.4332E-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ja-JP" sz="800" spc="-1" strike="noStrike">
                <a:solidFill>
                  <a:srgbClr val="ffffff"/>
                </a:solidFill>
                <a:latin typeface="Times New Roman"/>
              </a:rPr>
              <a:t>-3.200E+00        -2.6889E-01        -2.2122E-01        -3.3549E-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ja-JP" sz="800" spc="-1" strike="noStrike">
                <a:solidFill>
                  <a:srgbClr val="ffffff"/>
                </a:solidFill>
                <a:latin typeface="Times New Roman"/>
              </a:rPr>
              <a:t>-3.100E+00        -2.6192E-01        -2.1499E-01        -3.2720E-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5867280" y="2209680"/>
            <a:ext cx="2737080" cy="19335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4041720" y="2549520"/>
            <a:ext cx="1447920" cy="1295280"/>
          </a:xfrm>
          <a:custGeom>
            <a:avLst/>
            <a:gdLst>
              <a:gd name="textAreaLeft" fmla="*/ 180720 w 1447920"/>
              <a:gd name="textAreaRight" fmla="*/ 1267200 w 144792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22200" y="950760"/>
            <a:ext cx="82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BIS model Engineering as Front load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I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FFF59-40E1-48A3-B14C-275F5BF33F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77880" y="1098720"/>
            <a:ext cx="7772400" cy="4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IBIS model Engineering as </a:t>
            </a:r>
            <a:br>
              <a:rPr sz="2300"/>
            </a:b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Front loade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SI Engineering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77880" y="1707840"/>
            <a:ext cx="7772400" cy="37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a look (evaluate a sympto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Output 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a look (evaluate a sympto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Rise/Fall Sp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a look (evaluate a sympto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Signal ampli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nd prediction for Routing Topology, Cross Talk ,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57160" y="3986280"/>
            <a:ext cx="7605720" cy="2066760"/>
          </a:xfrm>
          <a:prstGeom prst="rightArrow">
            <a:avLst>
              <a:gd name="adj1" fmla="val 50000"/>
              <a:gd name="adj2" fmla="val 9200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023840" y="4648320"/>
            <a:ext cx="1573200" cy="7063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I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602080" y="4653000"/>
            <a:ext cx="1573200" cy="7063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I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160880" y="4659480"/>
            <a:ext cx="1573200" cy="7063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I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738760" y="4654440"/>
            <a:ext cx="2400480" cy="712800"/>
          </a:xfrm>
          <a:custGeom>
            <a:avLst/>
            <a:gdLst>
              <a:gd name="textAreaLeft" fmla="*/ 0 w 2400480"/>
              <a:gd name="textAreaRight" fmla="*/ 2400840 w 240048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129" y="0"/>
                </a:lnTo>
                <a:lnTo>
                  <a:pt x="21600" y="10800"/>
                </a:lnTo>
                <a:lnTo>
                  <a:pt x="151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ke decis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n SI 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778880" y="2101680"/>
            <a:ext cx="1063440" cy="1063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7763040" y="1004760"/>
            <a:ext cx="1063440" cy="10638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7778880" y="3186000"/>
            <a:ext cx="1063440" cy="10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AEB6F-16F7-4C2F-8377-3D25699F09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 rot="16200000">
            <a:off x="2551680" y="2913480"/>
            <a:ext cx="1208160" cy="358920"/>
          </a:xfrm>
          <a:prstGeom prst="leftArrow">
            <a:avLst>
              <a:gd name="adj1" fmla="val 50000"/>
              <a:gd name="adj2" fmla="val 84152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72040" y="3782880"/>
            <a:ext cx="685800" cy="46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E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735360" y="3778200"/>
            <a:ext cx="1339920" cy="477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yout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757840" y="3776760"/>
            <a:ext cx="1987560" cy="47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al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25680" y="3747960"/>
            <a:ext cx="1341360" cy="489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HG創英角ｺﾞｼｯｸUB"/>
              </a:rPr>
              <a:t>S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406600" y="3757680"/>
            <a:ext cx="534024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35200" y="2706840"/>
            <a:ext cx="4748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vention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sl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302800" y="4395960"/>
            <a:ext cx="25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duce the time of SIM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68240" y="4425840"/>
            <a:ext cx="44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ront load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427120" y="1974960"/>
            <a:ext cx="1828800" cy="457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HG創英角ｺﾞｼｯｸUB"/>
              </a:rPr>
              <a:t>S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59480" y="1971720"/>
            <a:ext cx="685800" cy="455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E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268880" y="1967040"/>
            <a:ext cx="1295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yout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34120" y="1967040"/>
            <a:ext cx="1987560" cy="46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al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424240" y="1965240"/>
            <a:ext cx="57974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357920" y="1913040"/>
            <a:ext cx="95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ond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990s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437840" y="3728880"/>
            <a:ext cx="77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0s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411280" y="1487520"/>
            <a:ext cx="33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Pre Layout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47880" y="4837680"/>
            <a:ext cx="42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ar in advance as pos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851120" y="961920"/>
            <a:ext cx="57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To minimized the time of SI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0712F-B057-405D-B778-464B9DB6BB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82520" y="105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368520" y="589104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IS model goes mainstre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19720200">
            <a:off x="664920" y="3084120"/>
            <a:ext cx="7907400" cy="685800"/>
          </a:xfrm>
          <a:prstGeom prst="rightArrow">
            <a:avLst>
              <a:gd name="adj1" fmla="val 50000"/>
              <a:gd name="adj2" fmla="val 288255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066680" y="1925640"/>
            <a:ext cx="0" cy="378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066680" y="571500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705720" y="5905440"/>
            <a:ext cx="1676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882720" y="178236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254400" y="2487600"/>
            <a:ext cx="2793960" cy="1351080"/>
          </a:xfrm>
          <a:prstGeom prst="ellipse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ve Engineering imagi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es into practical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1932120" y="1066680"/>
            <a:ext cx="1687320" cy="12258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1944720" y="2341440"/>
            <a:ext cx="1670040" cy="260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just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630440" y="3679920"/>
            <a:ext cx="1679400" cy="1224000"/>
            <a:chOff x="1630440" y="3679920"/>
            <a:chExt cx="1679400" cy="1224000"/>
          </a:xfrm>
        </p:grpSpPr>
        <p:pic>
          <p:nvPicPr>
            <p:cNvPr id="365" name="" descr=""/>
            <p:cNvPicPr/>
            <p:nvPr/>
          </p:nvPicPr>
          <p:blipFill>
            <a:blip r:embed="rId2"/>
            <a:stretch/>
          </p:blipFill>
          <p:spPr>
            <a:xfrm>
              <a:off x="1630440" y="3679920"/>
              <a:ext cx="16794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2190960" y="4037760"/>
              <a:ext cx="639720" cy="68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on Monotoni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1655640" y="4957920"/>
            <a:ext cx="1670040" cy="260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3"/>
          <a:stretch/>
        </p:blipFill>
        <p:spPr>
          <a:xfrm>
            <a:off x="4305240" y="723960"/>
            <a:ext cx="1684440" cy="12430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4314960" y="1990800"/>
            <a:ext cx="1684080" cy="2761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in Grid As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4"/>
          <a:stretch/>
        </p:blipFill>
        <p:spPr>
          <a:xfrm>
            <a:off x="4618080" y="3997440"/>
            <a:ext cx="1677960" cy="120492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sp>
        <p:nvSpPr>
          <p:cNvPr id="371" name=""/>
          <p:cNvSpPr/>
          <p:nvPr/>
        </p:nvSpPr>
        <p:spPr>
          <a:xfrm>
            <a:off x="4608360" y="5235480"/>
            <a:ext cx="1687680" cy="260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5"/>
          <a:stretch/>
        </p:blipFill>
        <p:spPr>
          <a:xfrm>
            <a:off x="7108920" y="2846520"/>
            <a:ext cx="1633320" cy="124272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7115040" y="4113360"/>
            <a:ext cx="1609920" cy="260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del/Pin As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96840" y="833400"/>
            <a:ext cx="167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Useful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for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971E3-47C9-4B87-8798-4C6EB09D04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77880" y="10587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ake IBIS more comforta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2732040" y="2235240"/>
            <a:ext cx="2908440" cy="220824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3687480" y="4778280"/>
            <a:ext cx="192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d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sig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888240" y="464184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er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6264360" y="2981160"/>
            <a:ext cx="2582640" cy="164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380" name=""/>
          <p:cNvGraphicFramePr/>
          <p:nvPr/>
        </p:nvGraphicFramePr>
        <p:xfrm>
          <a:off x="301680" y="2952720"/>
          <a:ext cx="2557440" cy="152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1680" y="2952720"/>
                    <a:ext cx="255744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"/>
          <p:cNvSpPr/>
          <p:nvPr/>
        </p:nvSpPr>
        <p:spPr>
          <a:xfrm>
            <a:off x="1214640" y="455616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765440" y="1650960"/>
            <a:ext cx="55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もっと</a:t>
            </a:r>
            <a:r>
              <a:rPr b="0" lang="en-US" sz="24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IBIS</a:t>
            </a:r>
            <a:r>
              <a:rPr b="0" lang="zh-CN" sz="24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を快適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5"/>
          <a:stretch/>
        </p:blipFill>
        <p:spPr>
          <a:xfrm>
            <a:off x="3540240" y="2809800"/>
            <a:ext cx="2098440" cy="195732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6"/>
          <a:stretch/>
        </p:blipFill>
        <p:spPr>
          <a:xfrm>
            <a:off x="4794120" y="3560760"/>
            <a:ext cx="1584360" cy="133812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3754440" y="2720880"/>
            <a:ext cx="444600" cy="430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22600" y="3206880"/>
            <a:ext cx="540000" cy="422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D66B9-25F7-4EAA-8AAE-AF06290C67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08120" y="1009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IBIS Model</a:t>
            </a: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time goes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1806480"/>
            <a:ext cx="0" cy="390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71500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05720" y="5905440"/>
            <a:ext cx="1676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598176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time goes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9641000">
            <a:off x="876240" y="3035160"/>
            <a:ext cx="7817040" cy="685800"/>
          </a:xfrm>
          <a:prstGeom prst="rightArrow">
            <a:avLst>
              <a:gd name="adj1" fmla="val 50000"/>
              <a:gd name="adj2" fmla="val 284961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1880" y="160632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46520" y="2286000"/>
            <a:ext cx="2916360" cy="1600200"/>
          </a:xfrm>
          <a:prstGeom prst="ellipse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ber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BIS Model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09800" y="3976560"/>
            <a:ext cx="2171520" cy="1220760"/>
          </a:xfrm>
          <a:prstGeom prst="ellipse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Useful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0840" y="1058760"/>
            <a:ext cx="191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DB831-220F-405F-81FA-7CC856212F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82520" y="105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68520" y="589104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IS model goes mainstre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8120" y="1038240"/>
            <a:ext cx="20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/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9641000">
            <a:off x="1665000" y="3200040"/>
            <a:ext cx="5943600" cy="685800"/>
          </a:xfrm>
          <a:prstGeom prst="rightArrow">
            <a:avLst>
              <a:gd name="adj1" fmla="val 50000"/>
              <a:gd name="adj2" fmla="val 216667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1806480"/>
            <a:ext cx="0" cy="390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71500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05720" y="5905440"/>
            <a:ext cx="1676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731880" y="160632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21040" y="1028880"/>
            <a:ext cx="535752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  <a:ea typeface="Arial"/>
              </a:rPr>
              <a:t>all-at-once-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32000" y="3184560"/>
            <a:ext cx="2171520" cy="1220760"/>
          </a:xfrm>
          <a:prstGeom prst="ellipse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p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59120" y="2035080"/>
            <a:ext cx="2171520" cy="1220760"/>
          </a:xfrm>
          <a:prstGeom prst="ellipse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62280" y="4114800"/>
            <a:ext cx="2171880" cy="1220760"/>
          </a:xfrm>
          <a:prstGeom prst="ellipse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42040" y="3178080"/>
            <a:ext cx="2171520" cy="1220760"/>
          </a:xfrm>
          <a:prstGeom prst="ellipse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55439-5009-45B8-A729-F752BED777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008080" y="1996920"/>
            <a:ext cx="1295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Layout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4880" y="1996920"/>
            <a:ext cx="1828800" cy="457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HG創英角ｺﾞｼｯｸUB"/>
              </a:rPr>
              <a:t>S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43680" y="1996920"/>
            <a:ext cx="175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E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88240" y="1995480"/>
            <a:ext cx="1987560" cy="455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al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98720" y="1530360"/>
            <a:ext cx="317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Post Layout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12880" y="774720"/>
            <a:ext cx="79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alleng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HGP創英角ｺﾞｼｯｸUB"/>
              </a:rPr>
              <a:t> to the SI simulation Engineering of PCB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84400" y="4129200"/>
            <a:ext cx="1760400" cy="457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HG創英角ｺﾞｼｯｸUB"/>
              </a:rPr>
              <a:t>S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6400" y="4137120"/>
            <a:ext cx="685800" cy="455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E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81160" y="4648320"/>
            <a:ext cx="33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HG創英角ｺﾞｼｯｸUB"/>
              </a:rPr>
              <a:t>Pre Layout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57760" y="4132440"/>
            <a:ext cx="1363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yout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8528000">
            <a:off x="2554200" y="3101760"/>
            <a:ext cx="1960560" cy="407880"/>
          </a:xfrm>
          <a:prstGeom prst="leftArrow">
            <a:avLst>
              <a:gd name="adj1" fmla="val 50000"/>
              <a:gd name="adj2" fmla="val 120168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91040" y="4132440"/>
            <a:ext cx="1987560" cy="46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al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7321400">
            <a:off x="4997880" y="3112200"/>
            <a:ext cx="1581120" cy="408240"/>
          </a:xfrm>
          <a:prstGeom prst="leftArrow">
            <a:avLst>
              <a:gd name="adj1" fmla="val 50000"/>
              <a:gd name="adj2" fmla="val 96825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45200" y="2949480"/>
            <a:ext cx="1177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27240" y="2954160"/>
            <a:ext cx="1177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3360" y="1852560"/>
            <a:ext cx="136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80s~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0480" y="4024440"/>
            <a:ext cx="12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ond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90s~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26040" y="1660680"/>
            <a:ext cx="391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uce the repeat count of trial production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18520" y="4649760"/>
            <a:ext cx="261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uce the time of ECO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78320" y="3160800"/>
            <a:ext cx="731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4400" y="2859120"/>
            <a:ext cx="5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35400" y="5443560"/>
            <a:ext cx="42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ront load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91040" y="5353200"/>
            <a:ext cx="105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00s~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F5AA9-34CC-4E8E-84E8-E7E1085E2E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06320" y="835200"/>
            <a:ext cx="7659720" cy="535932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49520" y="3078000"/>
            <a:ext cx="2006640" cy="83844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42120" y="3524400"/>
            <a:ext cx="782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38560" y="3497400"/>
            <a:ext cx="1093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92680" y="1589040"/>
            <a:ext cx="1660680" cy="46044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I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95560" y="3078000"/>
            <a:ext cx="1523880" cy="83844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4" idx="1"/>
            <a:endCxn id="131" idx="0"/>
          </p:cNvCxnSpPr>
          <p:nvPr/>
        </p:nvCxnSpPr>
        <p:spPr>
          <a:xfrm flipV="1" rot="10800000">
            <a:off x="4452840" y="1819080"/>
            <a:ext cx="340200" cy="12592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endCxn id="134" idx="3"/>
          </p:cNvCxnSpPr>
          <p:nvPr/>
        </p:nvCxnSpPr>
        <p:spPr>
          <a:xfrm flipV="1" rot="16200000">
            <a:off x="5976720" y="2295000"/>
            <a:ext cx="1334160" cy="38160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 flipH="1">
            <a:off x="4776840" y="2201760"/>
            <a:ext cx="1371600" cy="68580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956960" y="3916080"/>
            <a:ext cx="5947200" cy="2129040"/>
            <a:chOff x="1956960" y="3916080"/>
            <a:chExt cx="5947200" cy="2129040"/>
          </a:xfrm>
        </p:grpSpPr>
        <p:sp>
          <p:nvSpPr>
            <p:cNvPr id="140" name=""/>
            <p:cNvSpPr/>
            <p:nvPr/>
          </p:nvSpPr>
          <p:spPr>
            <a:xfrm>
              <a:off x="2509920" y="5492880"/>
              <a:ext cx="3124080" cy="5522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rre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" name=""/>
            <p:cNvCxnSpPr>
              <a:stCxn id="142" idx="0"/>
              <a:endCxn id="135" idx="2"/>
            </p:cNvCxnSpPr>
            <p:nvPr/>
          </p:nvCxnSpPr>
          <p:spPr>
            <a:xfrm flipV="1">
              <a:off x="1956960" y="3916080"/>
              <a:ext cx="1080" cy="12578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43" name=""/>
            <p:cNvSpPr/>
            <p:nvPr/>
          </p:nvSpPr>
          <p:spPr>
            <a:xfrm>
              <a:off x="1957320" y="5173560"/>
              <a:ext cx="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57320" y="585936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5690880" y="5859360"/>
              <a:ext cx="10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6757920" y="4030560"/>
              <a:ext cx="0" cy="1828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2375640" y="4335480"/>
              <a:ext cx="3543480" cy="838080"/>
            </a:xfrm>
            <a:custGeom>
              <a:avLst/>
              <a:gdLst>
                <a:gd name="textAreaLeft" fmla="*/ 619560 w 3543480"/>
                <a:gd name="textAreaRight" fmla="*/ 2568600 w 3543480"/>
                <a:gd name="textAreaTop" fmla="*/ 112320 h 838080"/>
                <a:gd name="textAreaBottom" fmla="*/ 7257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02480" y="4816440"/>
              <a:ext cx="210168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rror has occurre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HG創英角ｺﾞｼｯｸUB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146160" y="3227400"/>
            <a:ext cx="941400" cy="525600"/>
          </a:xfrm>
          <a:prstGeom prst="rightArrow">
            <a:avLst>
              <a:gd name="adj1" fmla="val 50000"/>
              <a:gd name="adj2" fmla="val 447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951680" y="3218040"/>
            <a:ext cx="941400" cy="525240"/>
          </a:xfrm>
          <a:prstGeom prst="rightArrow">
            <a:avLst>
              <a:gd name="adj1" fmla="val 50000"/>
              <a:gd name="adj2" fmla="val 448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224760" y="2697120"/>
            <a:ext cx="1397880" cy="1600200"/>
            <a:chOff x="6224760" y="2697120"/>
            <a:chExt cx="1397880" cy="1600200"/>
          </a:xfrm>
        </p:grpSpPr>
        <p:sp>
          <p:nvSpPr>
            <p:cNvPr id="152" name=""/>
            <p:cNvSpPr/>
            <p:nvPr/>
          </p:nvSpPr>
          <p:spPr>
            <a:xfrm>
              <a:off x="6224760" y="2697120"/>
              <a:ext cx="1397880" cy="1600200"/>
            </a:xfrm>
            <a:prstGeom prst="foldedCorner">
              <a:avLst>
                <a:gd name="adj" fmla="val 125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Sim Resul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6306480" y="3230640"/>
              <a:ext cx="1247760" cy="7588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</p:grpSp>
      <p:sp>
        <p:nvSpPr>
          <p:cNvPr id="154" name=""/>
          <p:cNvSpPr/>
          <p:nvPr/>
        </p:nvSpPr>
        <p:spPr>
          <a:xfrm>
            <a:off x="748440" y="871560"/>
            <a:ext cx="390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I Simulatio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332400" y="3255840"/>
            <a:ext cx="1185840" cy="709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30E11-BC89-476D-AC86-4850A0BBB6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06320" y="835200"/>
            <a:ext cx="7659720" cy="535932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49520" y="3078000"/>
            <a:ext cx="2006640" cy="83844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42120" y="3524400"/>
            <a:ext cx="782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38560" y="3497400"/>
            <a:ext cx="1093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92680" y="1589040"/>
            <a:ext cx="1660680" cy="46044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I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95560" y="3078000"/>
            <a:ext cx="1523880" cy="83844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60" idx="1"/>
            <a:endCxn id="157" idx="0"/>
          </p:cNvCxnSpPr>
          <p:nvPr/>
        </p:nvCxnSpPr>
        <p:spPr>
          <a:xfrm flipV="1" rot="10800000">
            <a:off x="4452840" y="1819080"/>
            <a:ext cx="340200" cy="12592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endCxn id="160" idx="3"/>
          </p:cNvCxnSpPr>
          <p:nvPr/>
        </p:nvCxnSpPr>
        <p:spPr>
          <a:xfrm flipV="1" rot="16200000">
            <a:off x="5976720" y="2295000"/>
            <a:ext cx="1334160" cy="38160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 flipH="1">
            <a:off x="4776840" y="2201760"/>
            <a:ext cx="1371600" cy="68580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19400" y="5033880"/>
            <a:ext cx="1589040" cy="55260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6160" y="3227400"/>
            <a:ext cx="941400" cy="525600"/>
          </a:xfrm>
          <a:prstGeom prst="rightArrow">
            <a:avLst>
              <a:gd name="adj1" fmla="val 50000"/>
              <a:gd name="adj2" fmla="val 447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951680" y="3218040"/>
            <a:ext cx="941400" cy="525240"/>
          </a:xfrm>
          <a:prstGeom prst="rightArrow">
            <a:avLst>
              <a:gd name="adj1" fmla="val 50000"/>
              <a:gd name="adj2" fmla="val 448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224760" y="2697120"/>
            <a:ext cx="1397880" cy="1600200"/>
            <a:chOff x="6224760" y="2697120"/>
            <a:chExt cx="1397880" cy="1600200"/>
          </a:xfrm>
        </p:grpSpPr>
        <p:sp>
          <p:nvSpPr>
            <p:cNvPr id="169" name=""/>
            <p:cNvSpPr/>
            <p:nvPr/>
          </p:nvSpPr>
          <p:spPr>
            <a:xfrm>
              <a:off x="6224760" y="2697120"/>
              <a:ext cx="1397880" cy="1600200"/>
            </a:xfrm>
            <a:prstGeom prst="foldedCorner">
              <a:avLst>
                <a:gd name="adj" fmla="val 125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Sim Resul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6306480" y="3230640"/>
              <a:ext cx="1247760" cy="7588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</p:grpSp>
      <p:cxnSp>
        <p:nvCxnSpPr>
          <p:cNvPr id="171" name=""/>
          <p:cNvCxnSpPr/>
          <p:nvPr/>
        </p:nvCxnSpPr>
        <p:spPr>
          <a:xfrm flipV="1" rot="10800000">
            <a:off x="3061440" y="3506400"/>
            <a:ext cx="1080" cy="152460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</p:cxnSp>
      <p:sp>
        <p:nvSpPr>
          <p:cNvPr id="172" name=""/>
          <p:cNvSpPr/>
          <p:nvPr/>
        </p:nvSpPr>
        <p:spPr>
          <a:xfrm>
            <a:off x="2300400" y="4192560"/>
            <a:ext cx="16002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86200" y="343044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47840" y="1793880"/>
            <a:ext cx="1600200" cy="1238400"/>
          </a:xfrm>
          <a:prstGeom prst="downArrowCallout">
            <a:avLst>
              <a:gd name="adj1" fmla="val 32307"/>
              <a:gd name="adj2" fmla="val 32304"/>
              <a:gd name="adj3" fmla="val 16667"/>
              <a:gd name="adj4" fmla="val 6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ront loa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IBIS Engin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949040" y="5288040"/>
            <a:ext cx="268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941480" y="3916440"/>
            <a:ext cx="7920" cy="13636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21040" y="4538520"/>
            <a:ext cx="3478320" cy="648000"/>
          </a:xfrm>
          <a:prstGeom prst="leftArrow">
            <a:avLst>
              <a:gd name="adj1" fmla="val 50000"/>
              <a:gd name="adj2" fmla="val 13419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backsl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8440" y="871560"/>
            <a:ext cx="390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I Simulatio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332400" y="3255840"/>
            <a:ext cx="1185840" cy="709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E33ED-F796-4D25-950A-271BB4D1C1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22200" y="95076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BIS model Engineering as Front load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63800" y="1949400"/>
            <a:ext cx="5711760" cy="457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HG創英角ｺﾞｼｯｸUB"/>
              </a:rPr>
              <a:t>S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8920" y="1940040"/>
            <a:ext cx="8238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35040" y="2430360"/>
            <a:ext cx="0" cy="372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84320" y="2639880"/>
            <a:ext cx="65264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ing inspection for IBI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eck IBI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ification IBI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rrection IBI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pare IBI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ne IBI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  <a:ea typeface="ＭＳ Ｐゴシック"/>
              </a:rPr>
              <a:t>Make decisions on SI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35120" y="1324080"/>
            <a:ext cx="57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To minimized the time of SI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41520" y="2886120"/>
            <a:ext cx="40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65040" y="1952640"/>
            <a:ext cx="2484360" cy="4348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HG創英角ｺﾞｼｯｸUB"/>
              </a:rPr>
              <a:t>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31800" y="5613480"/>
            <a:ext cx="48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31800" y="6165720"/>
            <a:ext cx="2275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49440" y="5089680"/>
            <a:ext cx="40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E42AE-144A-4D83-93C7-91364953BC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1924200" y="2170080"/>
          <a:ext cx="5941800" cy="39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4200" y="2170080"/>
                    <a:ext cx="594180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2161440" y="984240"/>
            <a:ext cx="52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ing inspection for IBI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57240" y="1673280"/>
            <a:ext cx="7091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tax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Cell Ver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00320" y="284652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889280" y="4657680"/>
            <a:ext cx="18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81360" y="4657680"/>
            <a:ext cx="0" cy="138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881360" y="6046920"/>
            <a:ext cx="227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157640" y="5918040"/>
            <a:ext cx="0" cy="12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682280" y="479592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74720" y="4795920"/>
            <a:ext cx="0" cy="138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74720" y="6184800"/>
            <a:ext cx="227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951360" y="6055920"/>
            <a:ext cx="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4D58E-278D-4913-95E3-30AF4F6F4C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411120" y="1731960"/>
          <a:ext cx="5334120" cy="23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1731960"/>
                    <a:ext cx="5334120" cy="234324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4170240" y="3492360"/>
          <a:ext cx="4097520" cy="252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70240" y="3492360"/>
                    <a:ext cx="4097520" cy="25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432720" y="3678120"/>
            <a:ext cx="319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circuit for IBIS Ver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488360" y="527364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357800" y="2951280"/>
            <a:ext cx="96840" cy="498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09640" y="1069920"/>
            <a:ext cx="70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ification IBI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7840" y="440676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175280" y="2682720"/>
            <a:ext cx="352440" cy="3524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94AFA-26BD-4512-947F-2B60903968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05:34:58Z</dcterms:created>
  <dc:creator>takuwa koichi</dc:creator>
  <dc:description/>
  <dc:language>en-US</dc:language>
  <cp:lastModifiedBy>k-kusu</cp:lastModifiedBy>
  <dcterms:modified xsi:type="dcterms:W3CDTF">2006-10-20T13:05:43Z</dcterms:modified>
  <cp:revision>149</cp:revision>
  <dc:subject/>
  <dc:title>PowerPoint プレゼンテーション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69163796</vt:r8>
  </property>
  <property fmtid="{D5CDD505-2E9C-101B-9397-08002B2CF9AE}" pid="3" name="_AuthorEmail">
    <vt:lpwstr>k-kusu@cybernet.co.jp</vt:lpwstr>
  </property>
  <property fmtid="{D5CDD505-2E9C-101B-9397-08002B2CF9AE}" pid="4" name="_AuthorEmailDisplayName">
    <vt:lpwstr>Kazuhiko Kusunoki</vt:lpwstr>
  </property>
  <property fmtid="{D5CDD505-2E9C-101B-9397-08002B2CF9AE}" pid="5" name="_EmailSubject">
    <vt:lpwstr>Asian IBIS Summit (Japan)</vt:lpwstr>
  </property>
</Properties>
</file>