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18.png" ContentType="image/png"/>
  <Override PartName="/ppt/media/image21.png" ContentType="image/png"/>
  <Override PartName="/ppt/media/image6.png" ContentType="image/png"/>
  <Override PartName="/ppt/media/image127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09.png" ContentType="image/png"/>
  <Override PartName="/ppt/media/image12.png" ContentType="image/png"/>
  <Override PartName="/ppt/media/image80.png" ContentType="image/png"/>
  <Override PartName="/ppt/media/image83.png" ContentType="image/png"/>
  <Override PartName="/ppt/media/image15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2.jpeg" ContentType="image/jpeg"/>
  <Override PartName="/ppt/media/image128.png" ContentType="image/png"/>
  <Override PartName="/ppt/media/image39.png" ContentType="image/png"/>
  <Override PartName="/ppt/media/image32.png" ContentType="image/png"/>
  <Override PartName="/ppt/media/image129.png" ContentType="image/png"/>
  <Override PartName="/ppt/media/image56.png" ContentType="image/png"/>
  <Override PartName="/ppt/media/image10.png" ContentType="image/png"/>
  <Override PartName="/ppt/media/image10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3.jpeg" ContentType="image/jpe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34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25.png" ContentType="image/png"/>
  <Override PartName="/ppt/media/image93.png" ContentType="image/png"/>
  <Override PartName="/ppt/media/image82.png" ContentType="image/png"/>
  <Override PartName="/ppt/media/image14.png" ContentType="image/png"/>
  <Override PartName="/ppt/media/image84.png" ContentType="image/png"/>
  <Override PartName="/ppt/media/image16.png" ContentType="image/png"/>
  <Override PartName="/ppt/media/image81.png" ContentType="image/png"/>
  <Override PartName="/ppt/media/image1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4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28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728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0FC8-B6FF-4BDA-B95B-CACC06F2CF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FC6-45C0-4571-B987-C472A6CF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817-7D56-4AA8-B61F-B41BD961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392-7D0F-40FA-ACC6-23A6F16B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40D-6B9A-4297-9953-F10A4952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499-7BBE-448E-BF57-ACE35D16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FE6-1852-4099-A4A7-D99B6AA2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150-1EB4-4FA4-8DE8-CF493788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E59-066A-42FC-AF4F-8EF3D4D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739-C00A-46FC-A0CC-52AF5B34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B44-CFB4-4A85-B74B-D8C399D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E77-996C-4011-A98A-E3DEC55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9E4-A8A6-4237-9728-8674ED86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E736-62A2-49EF-935F-98F449E4EAD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11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11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71.png"/><Relationship Id="rId7" Type="http://schemas.openxmlformats.org/officeDocument/2006/relationships/image" Target="../media/image8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11.png"/><Relationship Id="rId6" Type="http://schemas.openxmlformats.org/officeDocument/2006/relationships/image" Target="../media/image1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6.png"/><Relationship Id="rId5" Type="http://schemas.openxmlformats.org/officeDocument/2006/relationships/image" Target="../media/image117.png"/><Relationship Id="rId6" Type="http://schemas.openxmlformats.org/officeDocument/2006/relationships/image" Target="../media/image118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image" Target="../media/image120.png"/><Relationship Id="rId4" Type="http://schemas.openxmlformats.org/officeDocument/2006/relationships/image" Target="../media/image12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image" Target="../media/image1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2.png"/><Relationship Id="rId3" Type="http://schemas.openxmlformats.org/officeDocument/2006/relationships/image" Target="../media/image133.png"/><Relationship Id="rId4" Type="http://schemas.openxmlformats.org/officeDocument/2006/relationships/image" Target="../media/image130.png"/><Relationship Id="rId5" Type="http://schemas.openxmlformats.org/officeDocument/2006/relationships/image" Target="../media/image134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image" Target="../media/image139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8680" y="1916280"/>
            <a:ext cx="70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tudy of Interconnect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645000"/>
            <a:ext cx="77724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ct 3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Summit in Japa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ITA EDA-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iroaki Ike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Japan Aviation Electronics Industry, Lt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549360"/>
            <a:ext cx="3816360" cy="660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EITA EDA -WG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0CD-F1D0-4588-A790-08E7A717DF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2360" y="982800"/>
            <a:ext cx="4052880" cy="265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4052880" cy="2652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09560" y="1692360"/>
            <a:ext cx="2976480" cy="1468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726080" y="1668600"/>
            <a:ext cx="2976480" cy="1468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4520" y="1015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70800" y="3213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84000" y="126828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692000" y="3068280"/>
            <a:ext cx="4316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79680" y="113040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94160" y="1015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90440" y="3213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03640" y="126828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011640" y="3068280"/>
            <a:ext cx="4316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05440" y="113040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84360" y="4565520"/>
            <a:ext cx="2952720" cy="1579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221440" y="4565520"/>
            <a:ext cx="2303280" cy="1397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76720" y="5573880"/>
            <a:ext cx="3276360" cy="577800"/>
          </a:xfrm>
          <a:custGeom>
            <a:avLst/>
            <a:gdLst/>
            <a:ahLst/>
            <a:rect l="l" t="t" r="r" b="b"/>
            <a:pathLst>
              <a:path w="2064" h="364">
                <a:moveTo>
                  <a:pt x="0" y="0"/>
                </a:moveTo>
                <a:cubicBezTo>
                  <a:pt x="17" y="43"/>
                  <a:pt x="35" y="86"/>
                  <a:pt x="98" y="129"/>
                </a:cubicBezTo>
                <a:cubicBezTo>
                  <a:pt x="161" y="172"/>
                  <a:pt x="264" y="224"/>
                  <a:pt x="377" y="257"/>
                </a:cubicBezTo>
                <a:cubicBezTo>
                  <a:pt x="490" y="290"/>
                  <a:pt x="595" y="311"/>
                  <a:pt x="773" y="327"/>
                </a:cubicBezTo>
                <a:cubicBezTo>
                  <a:pt x="951" y="343"/>
                  <a:pt x="1267" y="348"/>
                  <a:pt x="1447" y="350"/>
                </a:cubicBezTo>
                <a:cubicBezTo>
                  <a:pt x="1627" y="352"/>
                  <a:pt x="1752" y="364"/>
                  <a:pt x="1855" y="339"/>
                </a:cubicBezTo>
                <a:cubicBezTo>
                  <a:pt x="1958" y="314"/>
                  <a:pt x="2033" y="218"/>
                  <a:pt x="2064" y="19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6360" y="5645160"/>
            <a:ext cx="4079880" cy="773280"/>
          </a:xfrm>
          <a:custGeom>
            <a:avLst/>
            <a:gdLst/>
            <a:ahLst/>
            <a:rect l="l" t="t" r="r" b="b"/>
            <a:pathLst>
              <a:path w="2570" h="487">
                <a:moveTo>
                  <a:pt x="0" y="0"/>
                </a:moveTo>
                <a:cubicBezTo>
                  <a:pt x="27" y="35"/>
                  <a:pt x="54" y="70"/>
                  <a:pt x="104" y="119"/>
                </a:cubicBezTo>
                <a:cubicBezTo>
                  <a:pt x="154" y="168"/>
                  <a:pt x="194" y="246"/>
                  <a:pt x="301" y="294"/>
                </a:cubicBezTo>
                <a:cubicBezTo>
                  <a:pt x="408" y="342"/>
                  <a:pt x="568" y="381"/>
                  <a:pt x="744" y="410"/>
                </a:cubicBezTo>
                <a:cubicBezTo>
                  <a:pt x="920" y="439"/>
                  <a:pt x="1141" y="458"/>
                  <a:pt x="1360" y="468"/>
                </a:cubicBezTo>
                <a:cubicBezTo>
                  <a:pt x="1579" y="478"/>
                  <a:pt x="1885" y="487"/>
                  <a:pt x="2058" y="468"/>
                </a:cubicBezTo>
                <a:cubicBezTo>
                  <a:pt x="2231" y="449"/>
                  <a:pt x="2311" y="406"/>
                  <a:pt x="2396" y="352"/>
                </a:cubicBezTo>
                <a:cubicBezTo>
                  <a:pt x="2481" y="298"/>
                  <a:pt x="2546" y="170"/>
                  <a:pt x="2570" y="14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7600" y="62215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59720" y="629280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640" y="375120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source signal of simulation, OSC w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ngsuh"/>
              </a:rPr>
              <a:t>direc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with SG using short cable. Cable length was about 20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 diagram of Input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3D2-9CDB-46FD-BB2D-5B1480000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108640" cy="5308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692360" y="2708280"/>
            <a:ext cx="5922720" cy="2828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022400" y="17002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5976720" cy="2774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763640" y="2637000"/>
            <a:ext cx="5977080" cy="2908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32440" y="2276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95080" y="227664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850920" y="256536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3260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5296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771800" y="2565360"/>
            <a:ext cx="360360" cy="432000"/>
          </a:xfrm>
          <a:prstGeom prst="line">
            <a:avLst/>
          </a:prstGeom>
          <a:ln w="19080">
            <a:solidFill>
              <a:srgbClr val="ff33cc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771640" y="2637000"/>
            <a:ext cx="55728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866920" y="2509920"/>
            <a:ext cx="28908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076720" y="1052640"/>
            <a:ext cx="3168720" cy="1149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100480" y="1111320"/>
            <a:ext cx="3159360" cy="473040"/>
          </a:xfrm>
          <a:custGeom>
            <a:avLst/>
            <a:gdLst/>
            <a:ahLst/>
            <a:rect l="l" t="t" r="r" b="b"/>
            <a:pathLst>
              <a:path w="1990" h="298">
                <a:moveTo>
                  <a:pt x="121" y="9"/>
                </a:moveTo>
                <a:lnTo>
                  <a:pt x="129" y="0"/>
                </a:lnTo>
                <a:cubicBezTo>
                  <a:pt x="140" y="3"/>
                  <a:pt x="170" y="13"/>
                  <a:pt x="185" y="28"/>
                </a:cubicBezTo>
                <a:cubicBezTo>
                  <a:pt x="200" y="43"/>
                  <a:pt x="211" y="71"/>
                  <a:pt x="221" y="88"/>
                </a:cubicBezTo>
                <a:cubicBezTo>
                  <a:pt x="231" y="105"/>
                  <a:pt x="234" y="117"/>
                  <a:pt x="245" y="132"/>
                </a:cubicBezTo>
                <a:cubicBezTo>
                  <a:pt x="256" y="147"/>
                  <a:pt x="262" y="165"/>
                  <a:pt x="285" y="176"/>
                </a:cubicBezTo>
                <a:cubicBezTo>
                  <a:pt x="308" y="187"/>
                  <a:pt x="348" y="194"/>
                  <a:pt x="385" y="196"/>
                </a:cubicBezTo>
                <a:cubicBezTo>
                  <a:pt x="422" y="198"/>
                  <a:pt x="463" y="189"/>
                  <a:pt x="509" y="188"/>
                </a:cubicBezTo>
                <a:cubicBezTo>
                  <a:pt x="555" y="187"/>
                  <a:pt x="604" y="191"/>
                  <a:pt x="661" y="192"/>
                </a:cubicBezTo>
                <a:cubicBezTo>
                  <a:pt x="718" y="193"/>
                  <a:pt x="790" y="195"/>
                  <a:pt x="853" y="196"/>
                </a:cubicBezTo>
                <a:cubicBezTo>
                  <a:pt x="916" y="197"/>
                  <a:pt x="990" y="197"/>
                  <a:pt x="1041" y="196"/>
                </a:cubicBezTo>
                <a:cubicBezTo>
                  <a:pt x="1092" y="195"/>
                  <a:pt x="1117" y="191"/>
                  <a:pt x="1157" y="192"/>
                </a:cubicBezTo>
                <a:cubicBezTo>
                  <a:pt x="1197" y="193"/>
                  <a:pt x="1233" y="203"/>
                  <a:pt x="1281" y="204"/>
                </a:cubicBezTo>
                <a:cubicBezTo>
                  <a:pt x="1329" y="205"/>
                  <a:pt x="1400" y="203"/>
                  <a:pt x="1445" y="200"/>
                </a:cubicBezTo>
                <a:cubicBezTo>
                  <a:pt x="1490" y="197"/>
                  <a:pt x="1518" y="190"/>
                  <a:pt x="1553" y="188"/>
                </a:cubicBezTo>
                <a:cubicBezTo>
                  <a:pt x="1588" y="186"/>
                  <a:pt x="1633" y="191"/>
                  <a:pt x="1657" y="188"/>
                </a:cubicBezTo>
                <a:cubicBezTo>
                  <a:pt x="1681" y="185"/>
                  <a:pt x="1683" y="180"/>
                  <a:pt x="1697" y="168"/>
                </a:cubicBezTo>
                <a:cubicBezTo>
                  <a:pt x="1711" y="156"/>
                  <a:pt x="1726" y="135"/>
                  <a:pt x="1741" y="116"/>
                </a:cubicBezTo>
                <a:cubicBezTo>
                  <a:pt x="1756" y="97"/>
                  <a:pt x="1765" y="70"/>
                  <a:pt x="1785" y="56"/>
                </a:cubicBezTo>
                <a:cubicBezTo>
                  <a:pt x="1805" y="42"/>
                  <a:pt x="1834" y="31"/>
                  <a:pt x="1861" y="32"/>
                </a:cubicBezTo>
                <a:cubicBezTo>
                  <a:pt x="1888" y="33"/>
                  <a:pt x="1924" y="47"/>
                  <a:pt x="1945" y="64"/>
                </a:cubicBezTo>
                <a:cubicBezTo>
                  <a:pt x="1966" y="81"/>
                  <a:pt x="1988" y="113"/>
                  <a:pt x="1989" y="136"/>
                </a:cubicBezTo>
                <a:cubicBezTo>
                  <a:pt x="1990" y="159"/>
                  <a:pt x="1964" y="185"/>
                  <a:pt x="1949" y="200"/>
                </a:cubicBezTo>
                <a:cubicBezTo>
                  <a:pt x="1934" y="215"/>
                  <a:pt x="1922" y="219"/>
                  <a:pt x="1897" y="228"/>
                </a:cubicBezTo>
                <a:cubicBezTo>
                  <a:pt x="1872" y="237"/>
                  <a:pt x="1823" y="247"/>
                  <a:pt x="1801" y="256"/>
                </a:cubicBezTo>
                <a:cubicBezTo>
                  <a:pt x="1779" y="265"/>
                  <a:pt x="1784" y="275"/>
                  <a:pt x="1765" y="280"/>
                </a:cubicBezTo>
                <a:cubicBezTo>
                  <a:pt x="1746" y="285"/>
                  <a:pt x="1738" y="283"/>
                  <a:pt x="1685" y="284"/>
                </a:cubicBezTo>
                <a:cubicBezTo>
                  <a:pt x="1632" y="285"/>
                  <a:pt x="1560" y="286"/>
                  <a:pt x="1449" y="288"/>
                </a:cubicBezTo>
                <a:cubicBezTo>
                  <a:pt x="1338" y="290"/>
                  <a:pt x="1140" y="295"/>
                  <a:pt x="1017" y="296"/>
                </a:cubicBezTo>
                <a:cubicBezTo>
                  <a:pt x="894" y="297"/>
                  <a:pt x="808" y="298"/>
                  <a:pt x="713" y="296"/>
                </a:cubicBezTo>
                <a:cubicBezTo>
                  <a:pt x="618" y="294"/>
                  <a:pt x="524" y="289"/>
                  <a:pt x="449" y="284"/>
                </a:cubicBezTo>
                <a:cubicBezTo>
                  <a:pt x="374" y="279"/>
                  <a:pt x="314" y="277"/>
                  <a:pt x="265" y="268"/>
                </a:cubicBezTo>
                <a:cubicBezTo>
                  <a:pt x="216" y="259"/>
                  <a:pt x="198" y="238"/>
                  <a:pt x="157" y="228"/>
                </a:cubicBezTo>
                <a:cubicBezTo>
                  <a:pt x="116" y="218"/>
                  <a:pt x="34" y="239"/>
                  <a:pt x="17" y="208"/>
                </a:cubicBezTo>
                <a:cubicBezTo>
                  <a:pt x="0" y="177"/>
                  <a:pt x="35" y="78"/>
                  <a:pt x="53" y="44"/>
                </a:cubicBezTo>
                <a:cubicBezTo>
                  <a:pt x="71" y="10"/>
                  <a:pt x="98" y="7"/>
                  <a:pt x="121" y="9"/>
                </a:cubicBezTo>
                <a:close/>
              </a:path>
            </a:pathLst>
          </a:custGeom>
          <a:solidFill>
            <a:srgbClr val="bbe0e3">
              <a:alpha val="4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05040" y="19051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3 Eye Diagra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9768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763640" y="2708280"/>
            <a:ext cx="591984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H="1">
            <a:off x="6732720" y="2509920"/>
            <a:ext cx="28872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BB3-51E3-4972-92A8-15D78C8B38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1" dur="1" fill="hold"/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09000" cy="529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01600" y="162864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476360" y="2781360"/>
            <a:ext cx="5945040" cy="2666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481040" y="2708280"/>
            <a:ext cx="5970600" cy="2746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547640" y="2608200"/>
            <a:ext cx="5948640" cy="2908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13244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95080" y="2205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850920" y="2494080"/>
            <a:ext cx="360360" cy="431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3260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5296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771800" y="249408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771640" y="2565360"/>
            <a:ext cx="55728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866920" y="2438280"/>
            <a:ext cx="28908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3 Eye Diagra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5076720" y="1052640"/>
            <a:ext cx="3168720" cy="1149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100480" y="1111320"/>
            <a:ext cx="3159360" cy="473040"/>
          </a:xfrm>
          <a:custGeom>
            <a:avLst/>
            <a:gdLst/>
            <a:ahLst/>
            <a:rect l="l" t="t" r="r" b="b"/>
            <a:pathLst>
              <a:path w="1990" h="298">
                <a:moveTo>
                  <a:pt x="121" y="9"/>
                </a:moveTo>
                <a:lnTo>
                  <a:pt x="129" y="0"/>
                </a:lnTo>
                <a:cubicBezTo>
                  <a:pt x="140" y="3"/>
                  <a:pt x="170" y="13"/>
                  <a:pt x="185" y="28"/>
                </a:cubicBezTo>
                <a:cubicBezTo>
                  <a:pt x="200" y="43"/>
                  <a:pt x="211" y="71"/>
                  <a:pt x="221" y="88"/>
                </a:cubicBezTo>
                <a:cubicBezTo>
                  <a:pt x="231" y="105"/>
                  <a:pt x="234" y="117"/>
                  <a:pt x="245" y="132"/>
                </a:cubicBezTo>
                <a:cubicBezTo>
                  <a:pt x="256" y="147"/>
                  <a:pt x="262" y="165"/>
                  <a:pt x="285" y="176"/>
                </a:cubicBezTo>
                <a:cubicBezTo>
                  <a:pt x="308" y="187"/>
                  <a:pt x="348" y="194"/>
                  <a:pt x="385" y="196"/>
                </a:cubicBezTo>
                <a:cubicBezTo>
                  <a:pt x="422" y="198"/>
                  <a:pt x="463" y="189"/>
                  <a:pt x="509" y="188"/>
                </a:cubicBezTo>
                <a:cubicBezTo>
                  <a:pt x="555" y="187"/>
                  <a:pt x="604" y="191"/>
                  <a:pt x="661" y="192"/>
                </a:cubicBezTo>
                <a:cubicBezTo>
                  <a:pt x="718" y="193"/>
                  <a:pt x="790" y="195"/>
                  <a:pt x="853" y="196"/>
                </a:cubicBezTo>
                <a:cubicBezTo>
                  <a:pt x="916" y="197"/>
                  <a:pt x="990" y="197"/>
                  <a:pt x="1041" y="196"/>
                </a:cubicBezTo>
                <a:cubicBezTo>
                  <a:pt x="1092" y="195"/>
                  <a:pt x="1117" y="191"/>
                  <a:pt x="1157" y="192"/>
                </a:cubicBezTo>
                <a:cubicBezTo>
                  <a:pt x="1197" y="193"/>
                  <a:pt x="1233" y="203"/>
                  <a:pt x="1281" y="204"/>
                </a:cubicBezTo>
                <a:cubicBezTo>
                  <a:pt x="1329" y="205"/>
                  <a:pt x="1400" y="203"/>
                  <a:pt x="1445" y="200"/>
                </a:cubicBezTo>
                <a:cubicBezTo>
                  <a:pt x="1490" y="197"/>
                  <a:pt x="1518" y="190"/>
                  <a:pt x="1553" y="188"/>
                </a:cubicBezTo>
                <a:cubicBezTo>
                  <a:pt x="1588" y="186"/>
                  <a:pt x="1633" y="191"/>
                  <a:pt x="1657" y="188"/>
                </a:cubicBezTo>
                <a:cubicBezTo>
                  <a:pt x="1681" y="185"/>
                  <a:pt x="1683" y="180"/>
                  <a:pt x="1697" y="168"/>
                </a:cubicBezTo>
                <a:cubicBezTo>
                  <a:pt x="1711" y="156"/>
                  <a:pt x="1726" y="135"/>
                  <a:pt x="1741" y="116"/>
                </a:cubicBezTo>
                <a:cubicBezTo>
                  <a:pt x="1756" y="97"/>
                  <a:pt x="1765" y="70"/>
                  <a:pt x="1785" y="56"/>
                </a:cubicBezTo>
                <a:cubicBezTo>
                  <a:pt x="1805" y="42"/>
                  <a:pt x="1834" y="31"/>
                  <a:pt x="1861" y="32"/>
                </a:cubicBezTo>
                <a:cubicBezTo>
                  <a:pt x="1888" y="33"/>
                  <a:pt x="1924" y="47"/>
                  <a:pt x="1945" y="64"/>
                </a:cubicBezTo>
                <a:cubicBezTo>
                  <a:pt x="1966" y="81"/>
                  <a:pt x="1988" y="113"/>
                  <a:pt x="1989" y="136"/>
                </a:cubicBezTo>
                <a:cubicBezTo>
                  <a:pt x="1990" y="159"/>
                  <a:pt x="1964" y="185"/>
                  <a:pt x="1949" y="200"/>
                </a:cubicBezTo>
                <a:cubicBezTo>
                  <a:pt x="1934" y="215"/>
                  <a:pt x="1922" y="219"/>
                  <a:pt x="1897" y="228"/>
                </a:cubicBezTo>
                <a:cubicBezTo>
                  <a:pt x="1872" y="237"/>
                  <a:pt x="1823" y="247"/>
                  <a:pt x="1801" y="256"/>
                </a:cubicBezTo>
                <a:cubicBezTo>
                  <a:pt x="1779" y="265"/>
                  <a:pt x="1784" y="275"/>
                  <a:pt x="1765" y="280"/>
                </a:cubicBezTo>
                <a:cubicBezTo>
                  <a:pt x="1746" y="285"/>
                  <a:pt x="1738" y="283"/>
                  <a:pt x="1685" y="284"/>
                </a:cubicBezTo>
                <a:cubicBezTo>
                  <a:pt x="1632" y="285"/>
                  <a:pt x="1560" y="286"/>
                  <a:pt x="1449" y="288"/>
                </a:cubicBezTo>
                <a:cubicBezTo>
                  <a:pt x="1338" y="290"/>
                  <a:pt x="1140" y="295"/>
                  <a:pt x="1017" y="296"/>
                </a:cubicBezTo>
                <a:cubicBezTo>
                  <a:pt x="894" y="297"/>
                  <a:pt x="808" y="298"/>
                  <a:pt x="713" y="296"/>
                </a:cubicBezTo>
                <a:cubicBezTo>
                  <a:pt x="618" y="294"/>
                  <a:pt x="524" y="289"/>
                  <a:pt x="449" y="284"/>
                </a:cubicBezTo>
                <a:cubicBezTo>
                  <a:pt x="374" y="279"/>
                  <a:pt x="314" y="277"/>
                  <a:pt x="265" y="268"/>
                </a:cubicBezTo>
                <a:cubicBezTo>
                  <a:pt x="216" y="259"/>
                  <a:pt x="198" y="238"/>
                  <a:pt x="157" y="228"/>
                </a:cubicBezTo>
                <a:cubicBezTo>
                  <a:pt x="116" y="218"/>
                  <a:pt x="34" y="239"/>
                  <a:pt x="17" y="208"/>
                </a:cubicBezTo>
                <a:cubicBezTo>
                  <a:pt x="0" y="177"/>
                  <a:pt x="35" y="78"/>
                  <a:pt x="53" y="44"/>
                </a:cubicBezTo>
                <a:cubicBezTo>
                  <a:pt x="71" y="10"/>
                  <a:pt x="98" y="7"/>
                  <a:pt x="121" y="9"/>
                </a:cubicBezTo>
                <a:close/>
              </a:path>
            </a:pathLst>
          </a:custGeom>
          <a:solidFill>
            <a:srgbClr val="bbe0e3">
              <a:alpha val="4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05040" y="19051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6240" y="2205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730560" y="2438280"/>
            <a:ext cx="28908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1496880" y="2712960"/>
            <a:ext cx="5919840" cy="261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BF5-A6C5-46AA-91DB-A440D23A2D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2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3" dur="1" fill="hold"/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/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462760" y="17971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339640" y="2157480"/>
            <a:ext cx="36036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3 Discrete Wavefor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51280" y="1795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Arial"/>
              </a:rPr>
              <a:t>Si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708360" y="2084400"/>
            <a:ext cx="21600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91280" y="157968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Si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003280" y="1795320"/>
            <a:ext cx="36036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24800" y="12193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Si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443280" y="1506600"/>
            <a:ext cx="352440" cy="576360"/>
          </a:xfrm>
          <a:prstGeom prst="line">
            <a:avLst/>
          </a:prstGeom>
          <a:ln w="1908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19720" y="4892760"/>
            <a:ext cx="9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ff"/>
                </a:solidFill>
                <a:latin typeface="Arial"/>
              </a:rPr>
              <a:t>Sim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5651280" y="4676400"/>
            <a:ext cx="502920" cy="43164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423800" y="11080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438-12A6-4DAC-8D9F-DC0F5F8E58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4" dur="1" fill="hold"/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/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6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6720" y="1014480"/>
            <a:ext cx="8109000" cy="5294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409760" y="2549520"/>
            <a:ext cx="5970600" cy="2879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434960" y="2593800"/>
            <a:ext cx="5945400" cy="2746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1434960" y="2503440"/>
            <a:ext cx="5945400" cy="3013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55608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19080" y="220500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274560" y="2494080"/>
            <a:ext cx="360360" cy="431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5624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7696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195440" y="242100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410920" y="242100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91280" y="2438280"/>
            <a:ext cx="28872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7 Eye Diagra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05520" y="914400"/>
            <a:ext cx="3313080" cy="1139760"/>
            <a:chOff x="5105520" y="914400"/>
            <a:chExt cx="3313080" cy="1139760"/>
          </a:xfrm>
        </p:grpSpPr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5141880" y="914400"/>
              <a:ext cx="32767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105520" y="1368360"/>
              <a:ext cx="3273480" cy="308160"/>
            </a:xfrm>
            <a:custGeom>
              <a:avLst/>
              <a:gdLst/>
              <a:ahLst/>
              <a:rect l="l" t="t" r="r" b="b"/>
              <a:pathLst>
                <a:path w="2062" h="194">
                  <a:moveTo>
                    <a:pt x="23" y="28"/>
                  </a:moveTo>
                  <a:cubicBezTo>
                    <a:pt x="29" y="20"/>
                    <a:pt x="37" y="8"/>
                    <a:pt x="47" y="4"/>
                  </a:cubicBezTo>
                  <a:cubicBezTo>
                    <a:pt x="57" y="0"/>
                    <a:pt x="68" y="4"/>
                    <a:pt x="83" y="6"/>
                  </a:cubicBezTo>
                  <a:cubicBezTo>
                    <a:pt x="98" y="8"/>
                    <a:pt x="124" y="11"/>
                    <a:pt x="137" y="16"/>
                  </a:cubicBezTo>
                  <a:cubicBezTo>
                    <a:pt x="150" y="21"/>
                    <a:pt x="154" y="29"/>
                    <a:pt x="163" y="36"/>
                  </a:cubicBezTo>
                  <a:cubicBezTo>
                    <a:pt x="172" y="43"/>
                    <a:pt x="176" y="54"/>
                    <a:pt x="189" y="58"/>
                  </a:cubicBezTo>
                  <a:cubicBezTo>
                    <a:pt x="202" y="62"/>
                    <a:pt x="219" y="60"/>
                    <a:pt x="239" y="62"/>
                  </a:cubicBezTo>
                  <a:cubicBezTo>
                    <a:pt x="259" y="64"/>
                    <a:pt x="288" y="69"/>
                    <a:pt x="311" y="70"/>
                  </a:cubicBezTo>
                  <a:cubicBezTo>
                    <a:pt x="334" y="71"/>
                    <a:pt x="358" y="67"/>
                    <a:pt x="379" y="66"/>
                  </a:cubicBezTo>
                  <a:cubicBezTo>
                    <a:pt x="400" y="65"/>
                    <a:pt x="402" y="66"/>
                    <a:pt x="437" y="66"/>
                  </a:cubicBezTo>
                  <a:cubicBezTo>
                    <a:pt x="472" y="66"/>
                    <a:pt x="540" y="68"/>
                    <a:pt x="587" y="68"/>
                  </a:cubicBezTo>
                  <a:cubicBezTo>
                    <a:pt x="634" y="68"/>
                    <a:pt x="683" y="64"/>
                    <a:pt x="719" y="64"/>
                  </a:cubicBezTo>
                  <a:cubicBezTo>
                    <a:pt x="755" y="64"/>
                    <a:pt x="761" y="70"/>
                    <a:pt x="801" y="70"/>
                  </a:cubicBezTo>
                  <a:cubicBezTo>
                    <a:pt x="841" y="70"/>
                    <a:pt x="903" y="64"/>
                    <a:pt x="957" y="64"/>
                  </a:cubicBezTo>
                  <a:cubicBezTo>
                    <a:pt x="1011" y="64"/>
                    <a:pt x="1060" y="70"/>
                    <a:pt x="1123" y="70"/>
                  </a:cubicBezTo>
                  <a:cubicBezTo>
                    <a:pt x="1186" y="70"/>
                    <a:pt x="1251" y="65"/>
                    <a:pt x="1333" y="64"/>
                  </a:cubicBezTo>
                  <a:cubicBezTo>
                    <a:pt x="1415" y="63"/>
                    <a:pt x="1551" y="65"/>
                    <a:pt x="1613" y="64"/>
                  </a:cubicBezTo>
                  <a:cubicBezTo>
                    <a:pt x="1675" y="63"/>
                    <a:pt x="1677" y="60"/>
                    <a:pt x="1703" y="60"/>
                  </a:cubicBezTo>
                  <a:cubicBezTo>
                    <a:pt x="1729" y="60"/>
                    <a:pt x="1750" y="62"/>
                    <a:pt x="1769" y="62"/>
                  </a:cubicBezTo>
                  <a:cubicBezTo>
                    <a:pt x="1788" y="62"/>
                    <a:pt x="1800" y="63"/>
                    <a:pt x="1815" y="62"/>
                  </a:cubicBezTo>
                  <a:cubicBezTo>
                    <a:pt x="1830" y="61"/>
                    <a:pt x="1850" y="59"/>
                    <a:pt x="1861" y="58"/>
                  </a:cubicBezTo>
                  <a:cubicBezTo>
                    <a:pt x="1872" y="57"/>
                    <a:pt x="1873" y="57"/>
                    <a:pt x="1879" y="54"/>
                  </a:cubicBezTo>
                  <a:cubicBezTo>
                    <a:pt x="1885" y="51"/>
                    <a:pt x="1891" y="45"/>
                    <a:pt x="1897" y="40"/>
                  </a:cubicBezTo>
                  <a:cubicBezTo>
                    <a:pt x="1903" y="35"/>
                    <a:pt x="1908" y="28"/>
                    <a:pt x="1915" y="24"/>
                  </a:cubicBezTo>
                  <a:cubicBezTo>
                    <a:pt x="1922" y="20"/>
                    <a:pt x="1926" y="19"/>
                    <a:pt x="1937" y="18"/>
                  </a:cubicBezTo>
                  <a:cubicBezTo>
                    <a:pt x="1948" y="17"/>
                    <a:pt x="1963" y="21"/>
                    <a:pt x="1979" y="20"/>
                  </a:cubicBezTo>
                  <a:cubicBezTo>
                    <a:pt x="1995" y="19"/>
                    <a:pt x="2022" y="14"/>
                    <a:pt x="2033" y="14"/>
                  </a:cubicBezTo>
                  <a:cubicBezTo>
                    <a:pt x="2044" y="14"/>
                    <a:pt x="2043" y="16"/>
                    <a:pt x="2047" y="20"/>
                  </a:cubicBezTo>
                  <a:cubicBezTo>
                    <a:pt x="2051" y="24"/>
                    <a:pt x="2055" y="28"/>
                    <a:pt x="2057" y="38"/>
                  </a:cubicBezTo>
                  <a:cubicBezTo>
                    <a:pt x="2059" y="48"/>
                    <a:pt x="2056" y="66"/>
                    <a:pt x="2057" y="78"/>
                  </a:cubicBezTo>
                  <a:cubicBezTo>
                    <a:pt x="2058" y="90"/>
                    <a:pt x="2060" y="96"/>
                    <a:pt x="2061" y="108"/>
                  </a:cubicBezTo>
                  <a:cubicBezTo>
                    <a:pt x="2062" y="120"/>
                    <a:pt x="2062" y="139"/>
                    <a:pt x="2061" y="152"/>
                  </a:cubicBezTo>
                  <a:cubicBezTo>
                    <a:pt x="2060" y="165"/>
                    <a:pt x="2061" y="177"/>
                    <a:pt x="2057" y="184"/>
                  </a:cubicBezTo>
                  <a:cubicBezTo>
                    <a:pt x="2053" y="191"/>
                    <a:pt x="2046" y="194"/>
                    <a:pt x="2035" y="194"/>
                  </a:cubicBezTo>
                  <a:cubicBezTo>
                    <a:pt x="2024" y="194"/>
                    <a:pt x="2002" y="188"/>
                    <a:pt x="1991" y="184"/>
                  </a:cubicBezTo>
                  <a:cubicBezTo>
                    <a:pt x="1980" y="180"/>
                    <a:pt x="1976" y="177"/>
                    <a:pt x="1967" y="170"/>
                  </a:cubicBezTo>
                  <a:cubicBezTo>
                    <a:pt x="1958" y="163"/>
                    <a:pt x="1943" y="151"/>
                    <a:pt x="1935" y="144"/>
                  </a:cubicBezTo>
                  <a:cubicBezTo>
                    <a:pt x="1927" y="137"/>
                    <a:pt x="1923" y="130"/>
                    <a:pt x="1917" y="126"/>
                  </a:cubicBezTo>
                  <a:cubicBezTo>
                    <a:pt x="1911" y="122"/>
                    <a:pt x="1906" y="119"/>
                    <a:pt x="1901" y="118"/>
                  </a:cubicBezTo>
                  <a:cubicBezTo>
                    <a:pt x="1896" y="117"/>
                    <a:pt x="1894" y="120"/>
                    <a:pt x="1885" y="120"/>
                  </a:cubicBezTo>
                  <a:cubicBezTo>
                    <a:pt x="1876" y="120"/>
                    <a:pt x="1860" y="120"/>
                    <a:pt x="1845" y="120"/>
                  </a:cubicBezTo>
                  <a:cubicBezTo>
                    <a:pt x="1830" y="120"/>
                    <a:pt x="1815" y="119"/>
                    <a:pt x="1795" y="118"/>
                  </a:cubicBezTo>
                  <a:cubicBezTo>
                    <a:pt x="1775" y="117"/>
                    <a:pt x="1752" y="116"/>
                    <a:pt x="1727" y="116"/>
                  </a:cubicBezTo>
                  <a:cubicBezTo>
                    <a:pt x="1702" y="116"/>
                    <a:pt x="1674" y="117"/>
                    <a:pt x="1647" y="116"/>
                  </a:cubicBezTo>
                  <a:cubicBezTo>
                    <a:pt x="1620" y="115"/>
                    <a:pt x="1593" y="109"/>
                    <a:pt x="1563" y="108"/>
                  </a:cubicBezTo>
                  <a:cubicBezTo>
                    <a:pt x="1533" y="107"/>
                    <a:pt x="1504" y="113"/>
                    <a:pt x="1467" y="112"/>
                  </a:cubicBezTo>
                  <a:cubicBezTo>
                    <a:pt x="1430" y="111"/>
                    <a:pt x="1382" y="104"/>
                    <a:pt x="1341" y="104"/>
                  </a:cubicBezTo>
                  <a:cubicBezTo>
                    <a:pt x="1300" y="104"/>
                    <a:pt x="1262" y="112"/>
                    <a:pt x="1219" y="112"/>
                  </a:cubicBezTo>
                  <a:cubicBezTo>
                    <a:pt x="1176" y="112"/>
                    <a:pt x="1128" y="108"/>
                    <a:pt x="1085" y="106"/>
                  </a:cubicBezTo>
                  <a:cubicBezTo>
                    <a:pt x="1042" y="104"/>
                    <a:pt x="998" y="100"/>
                    <a:pt x="963" y="100"/>
                  </a:cubicBezTo>
                  <a:cubicBezTo>
                    <a:pt x="928" y="100"/>
                    <a:pt x="900" y="105"/>
                    <a:pt x="875" y="106"/>
                  </a:cubicBezTo>
                  <a:cubicBezTo>
                    <a:pt x="850" y="107"/>
                    <a:pt x="835" y="109"/>
                    <a:pt x="815" y="108"/>
                  </a:cubicBezTo>
                  <a:cubicBezTo>
                    <a:pt x="795" y="107"/>
                    <a:pt x="777" y="101"/>
                    <a:pt x="757" y="100"/>
                  </a:cubicBezTo>
                  <a:cubicBezTo>
                    <a:pt x="737" y="99"/>
                    <a:pt x="717" y="101"/>
                    <a:pt x="695" y="102"/>
                  </a:cubicBezTo>
                  <a:cubicBezTo>
                    <a:pt x="673" y="103"/>
                    <a:pt x="643" y="104"/>
                    <a:pt x="627" y="104"/>
                  </a:cubicBezTo>
                  <a:cubicBezTo>
                    <a:pt x="611" y="104"/>
                    <a:pt x="617" y="102"/>
                    <a:pt x="599" y="102"/>
                  </a:cubicBezTo>
                  <a:cubicBezTo>
                    <a:pt x="581" y="102"/>
                    <a:pt x="545" y="106"/>
                    <a:pt x="521" y="106"/>
                  </a:cubicBezTo>
                  <a:cubicBezTo>
                    <a:pt x="497" y="106"/>
                    <a:pt x="477" y="103"/>
                    <a:pt x="455" y="102"/>
                  </a:cubicBezTo>
                  <a:cubicBezTo>
                    <a:pt x="433" y="101"/>
                    <a:pt x="409" y="99"/>
                    <a:pt x="387" y="100"/>
                  </a:cubicBezTo>
                  <a:cubicBezTo>
                    <a:pt x="365" y="101"/>
                    <a:pt x="344" y="104"/>
                    <a:pt x="321" y="106"/>
                  </a:cubicBezTo>
                  <a:cubicBezTo>
                    <a:pt x="298" y="108"/>
                    <a:pt x="262" y="110"/>
                    <a:pt x="247" y="112"/>
                  </a:cubicBezTo>
                  <a:cubicBezTo>
                    <a:pt x="232" y="114"/>
                    <a:pt x="241" y="113"/>
                    <a:pt x="231" y="118"/>
                  </a:cubicBezTo>
                  <a:cubicBezTo>
                    <a:pt x="221" y="123"/>
                    <a:pt x="198" y="134"/>
                    <a:pt x="185" y="142"/>
                  </a:cubicBezTo>
                  <a:cubicBezTo>
                    <a:pt x="172" y="150"/>
                    <a:pt x="163" y="159"/>
                    <a:pt x="153" y="164"/>
                  </a:cubicBezTo>
                  <a:cubicBezTo>
                    <a:pt x="143" y="169"/>
                    <a:pt x="133" y="172"/>
                    <a:pt x="125" y="174"/>
                  </a:cubicBezTo>
                  <a:cubicBezTo>
                    <a:pt x="117" y="176"/>
                    <a:pt x="118" y="177"/>
                    <a:pt x="107" y="178"/>
                  </a:cubicBezTo>
                  <a:cubicBezTo>
                    <a:pt x="96" y="179"/>
                    <a:pt x="75" y="182"/>
                    <a:pt x="61" y="180"/>
                  </a:cubicBezTo>
                  <a:cubicBezTo>
                    <a:pt x="47" y="178"/>
                    <a:pt x="35" y="174"/>
                    <a:pt x="25" y="164"/>
                  </a:cubicBezTo>
                  <a:cubicBezTo>
                    <a:pt x="15" y="154"/>
                    <a:pt x="6" y="136"/>
                    <a:pt x="3" y="122"/>
                  </a:cubicBezTo>
                  <a:cubicBezTo>
                    <a:pt x="0" y="108"/>
                    <a:pt x="7" y="90"/>
                    <a:pt x="9" y="78"/>
                  </a:cubicBezTo>
                  <a:cubicBezTo>
                    <a:pt x="11" y="66"/>
                    <a:pt x="11" y="60"/>
                    <a:pt x="13" y="52"/>
                  </a:cubicBezTo>
                  <a:cubicBezTo>
                    <a:pt x="15" y="44"/>
                    <a:pt x="17" y="36"/>
                    <a:pt x="23" y="2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88960" y="160020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05040" y="175248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1988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154200" y="2438280"/>
            <a:ext cx="28908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1436760" y="2565360"/>
            <a:ext cx="589104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AE6-F991-42AC-A13F-4C98AA6A1F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6" dur="1" fill="hold"/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7" dur="1" fill="hold"/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8" dur="1" fill="hold"/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456280" y="12906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33160" y="1650960"/>
            <a:ext cx="360360" cy="432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46040" y="11462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7 Discrete Wavefor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25880" y="129060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Si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638240" y="1506600"/>
            <a:ext cx="36036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484440" y="12906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Arial"/>
              </a:rPr>
              <a:t>Si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341520" y="1579680"/>
            <a:ext cx="21600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638680" y="5011560"/>
            <a:ext cx="9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Si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5213160" y="4746600"/>
            <a:ext cx="431640" cy="433440"/>
          </a:xfrm>
          <a:prstGeom prst="line">
            <a:avLst/>
          </a:prstGeom>
          <a:ln w="1908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flipH="1">
            <a:off x="6725880" y="1579680"/>
            <a:ext cx="43164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12841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ff"/>
                </a:solidFill>
                <a:latin typeface="Arial"/>
              </a:rPr>
              <a:t>Sim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59C-02B8-4594-B756-9A9E90E274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8" dur="1" fill="hold"/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9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0" dur="1" fill="hold"/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95360" y="1052640"/>
            <a:ext cx="8109000" cy="52941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506600" y="2627280"/>
            <a:ext cx="5945040" cy="2746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442880" y="2590920"/>
            <a:ext cx="5977080" cy="2828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1576440" y="2484360"/>
            <a:ext cx="5948280" cy="2960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55608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19080" y="226044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274560" y="249228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5624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7696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195440" y="254952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410920" y="247644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91280" y="2494080"/>
            <a:ext cx="28872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7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8 Eye Diagra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141880" y="914400"/>
            <a:ext cx="3276720" cy="1139760"/>
            <a:chOff x="5141880" y="914400"/>
            <a:chExt cx="3276720" cy="1139760"/>
          </a:xfrm>
        </p:grpSpPr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5141880" y="914400"/>
              <a:ext cx="32767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81480" y="1052640"/>
              <a:ext cx="3213360" cy="396720"/>
            </a:xfrm>
            <a:custGeom>
              <a:avLst/>
              <a:gdLst/>
              <a:ahLst/>
              <a:rect l="l" t="t" r="r" b="b"/>
              <a:pathLst>
                <a:path w="2024" h="250">
                  <a:moveTo>
                    <a:pt x="96" y="9"/>
                  </a:moveTo>
                  <a:cubicBezTo>
                    <a:pt x="101" y="10"/>
                    <a:pt x="108" y="5"/>
                    <a:pt x="114" y="9"/>
                  </a:cubicBezTo>
                  <a:cubicBezTo>
                    <a:pt x="120" y="13"/>
                    <a:pt x="125" y="20"/>
                    <a:pt x="134" y="31"/>
                  </a:cubicBezTo>
                  <a:cubicBezTo>
                    <a:pt x="143" y="42"/>
                    <a:pt x="159" y="59"/>
                    <a:pt x="168" y="73"/>
                  </a:cubicBezTo>
                  <a:cubicBezTo>
                    <a:pt x="177" y="87"/>
                    <a:pt x="184" y="100"/>
                    <a:pt x="188" y="113"/>
                  </a:cubicBezTo>
                  <a:cubicBezTo>
                    <a:pt x="192" y="126"/>
                    <a:pt x="189" y="142"/>
                    <a:pt x="192" y="151"/>
                  </a:cubicBezTo>
                  <a:cubicBezTo>
                    <a:pt x="195" y="160"/>
                    <a:pt x="193" y="161"/>
                    <a:pt x="204" y="165"/>
                  </a:cubicBezTo>
                  <a:cubicBezTo>
                    <a:pt x="215" y="169"/>
                    <a:pt x="239" y="175"/>
                    <a:pt x="262" y="177"/>
                  </a:cubicBezTo>
                  <a:cubicBezTo>
                    <a:pt x="285" y="179"/>
                    <a:pt x="319" y="177"/>
                    <a:pt x="340" y="177"/>
                  </a:cubicBezTo>
                  <a:cubicBezTo>
                    <a:pt x="361" y="177"/>
                    <a:pt x="367" y="180"/>
                    <a:pt x="390" y="179"/>
                  </a:cubicBezTo>
                  <a:cubicBezTo>
                    <a:pt x="413" y="178"/>
                    <a:pt x="443" y="175"/>
                    <a:pt x="480" y="173"/>
                  </a:cubicBezTo>
                  <a:cubicBezTo>
                    <a:pt x="517" y="171"/>
                    <a:pt x="570" y="170"/>
                    <a:pt x="612" y="169"/>
                  </a:cubicBezTo>
                  <a:cubicBezTo>
                    <a:pt x="654" y="168"/>
                    <a:pt x="694" y="169"/>
                    <a:pt x="732" y="169"/>
                  </a:cubicBezTo>
                  <a:cubicBezTo>
                    <a:pt x="770" y="169"/>
                    <a:pt x="797" y="171"/>
                    <a:pt x="840" y="171"/>
                  </a:cubicBezTo>
                  <a:cubicBezTo>
                    <a:pt x="883" y="171"/>
                    <a:pt x="945" y="168"/>
                    <a:pt x="992" y="167"/>
                  </a:cubicBezTo>
                  <a:cubicBezTo>
                    <a:pt x="1039" y="166"/>
                    <a:pt x="1073" y="168"/>
                    <a:pt x="1122" y="167"/>
                  </a:cubicBezTo>
                  <a:cubicBezTo>
                    <a:pt x="1171" y="166"/>
                    <a:pt x="1226" y="163"/>
                    <a:pt x="1284" y="161"/>
                  </a:cubicBezTo>
                  <a:cubicBezTo>
                    <a:pt x="1342" y="159"/>
                    <a:pt x="1413" y="155"/>
                    <a:pt x="1470" y="155"/>
                  </a:cubicBezTo>
                  <a:cubicBezTo>
                    <a:pt x="1527" y="155"/>
                    <a:pt x="1585" y="161"/>
                    <a:pt x="1628" y="163"/>
                  </a:cubicBezTo>
                  <a:cubicBezTo>
                    <a:pt x="1671" y="165"/>
                    <a:pt x="1702" y="166"/>
                    <a:pt x="1726" y="165"/>
                  </a:cubicBezTo>
                  <a:cubicBezTo>
                    <a:pt x="1750" y="164"/>
                    <a:pt x="1760" y="161"/>
                    <a:pt x="1770" y="157"/>
                  </a:cubicBezTo>
                  <a:cubicBezTo>
                    <a:pt x="1780" y="153"/>
                    <a:pt x="1782" y="147"/>
                    <a:pt x="1786" y="141"/>
                  </a:cubicBezTo>
                  <a:cubicBezTo>
                    <a:pt x="1790" y="135"/>
                    <a:pt x="1790" y="127"/>
                    <a:pt x="1792" y="119"/>
                  </a:cubicBezTo>
                  <a:cubicBezTo>
                    <a:pt x="1794" y="111"/>
                    <a:pt x="1795" y="102"/>
                    <a:pt x="1798" y="91"/>
                  </a:cubicBezTo>
                  <a:cubicBezTo>
                    <a:pt x="1801" y="80"/>
                    <a:pt x="1807" y="60"/>
                    <a:pt x="1810" y="51"/>
                  </a:cubicBezTo>
                  <a:cubicBezTo>
                    <a:pt x="1813" y="42"/>
                    <a:pt x="1810" y="42"/>
                    <a:pt x="1814" y="35"/>
                  </a:cubicBezTo>
                  <a:cubicBezTo>
                    <a:pt x="1818" y="28"/>
                    <a:pt x="1824" y="14"/>
                    <a:pt x="1836" y="9"/>
                  </a:cubicBezTo>
                  <a:cubicBezTo>
                    <a:pt x="1848" y="4"/>
                    <a:pt x="1875" y="3"/>
                    <a:pt x="1886" y="3"/>
                  </a:cubicBezTo>
                  <a:cubicBezTo>
                    <a:pt x="1897" y="3"/>
                    <a:pt x="1893" y="3"/>
                    <a:pt x="1902" y="7"/>
                  </a:cubicBezTo>
                  <a:cubicBezTo>
                    <a:pt x="1911" y="11"/>
                    <a:pt x="1932" y="19"/>
                    <a:pt x="1942" y="25"/>
                  </a:cubicBezTo>
                  <a:cubicBezTo>
                    <a:pt x="1952" y="31"/>
                    <a:pt x="1955" y="38"/>
                    <a:pt x="1964" y="45"/>
                  </a:cubicBezTo>
                  <a:cubicBezTo>
                    <a:pt x="1973" y="52"/>
                    <a:pt x="1986" y="58"/>
                    <a:pt x="1994" y="67"/>
                  </a:cubicBezTo>
                  <a:cubicBezTo>
                    <a:pt x="2002" y="76"/>
                    <a:pt x="2007" y="88"/>
                    <a:pt x="2012" y="97"/>
                  </a:cubicBezTo>
                  <a:cubicBezTo>
                    <a:pt x="2017" y="106"/>
                    <a:pt x="2024" y="114"/>
                    <a:pt x="2024" y="123"/>
                  </a:cubicBezTo>
                  <a:cubicBezTo>
                    <a:pt x="2024" y="132"/>
                    <a:pt x="2021" y="140"/>
                    <a:pt x="2012" y="149"/>
                  </a:cubicBezTo>
                  <a:cubicBezTo>
                    <a:pt x="2003" y="158"/>
                    <a:pt x="1981" y="171"/>
                    <a:pt x="1968" y="177"/>
                  </a:cubicBezTo>
                  <a:cubicBezTo>
                    <a:pt x="1955" y="183"/>
                    <a:pt x="1947" y="185"/>
                    <a:pt x="1932" y="187"/>
                  </a:cubicBezTo>
                  <a:cubicBezTo>
                    <a:pt x="1917" y="189"/>
                    <a:pt x="1892" y="184"/>
                    <a:pt x="1878" y="187"/>
                  </a:cubicBezTo>
                  <a:cubicBezTo>
                    <a:pt x="1864" y="190"/>
                    <a:pt x="1857" y="200"/>
                    <a:pt x="1848" y="205"/>
                  </a:cubicBezTo>
                  <a:cubicBezTo>
                    <a:pt x="1839" y="210"/>
                    <a:pt x="1830" y="212"/>
                    <a:pt x="1822" y="217"/>
                  </a:cubicBezTo>
                  <a:cubicBezTo>
                    <a:pt x="1814" y="222"/>
                    <a:pt x="1813" y="230"/>
                    <a:pt x="1800" y="233"/>
                  </a:cubicBezTo>
                  <a:cubicBezTo>
                    <a:pt x="1787" y="236"/>
                    <a:pt x="1765" y="236"/>
                    <a:pt x="1744" y="237"/>
                  </a:cubicBezTo>
                  <a:cubicBezTo>
                    <a:pt x="1723" y="238"/>
                    <a:pt x="1700" y="240"/>
                    <a:pt x="1672" y="241"/>
                  </a:cubicBezTo>
                  <a:cubicBezTo>
                    <a:pt x="1644" y="242"/>
                    <a:pt x="1613" y="241"/>
                    <a:pt x="1574" y="241"/>
                  </a:cubicBezTo>
                  <a:cubicBezTo>
                    <a:pt x="1535" y="241"/>
                    <a:pt x="1495" y="240"/>
                    <a:pt x="1438" y="241"/>
                  </a:cubicBezTo>
                  <a:cubicBezTo>
                    <a:pt x="1381" y="242"/>
                    <a:pt x="1298" y="244"/>
                    <a:pt x="1230" y="245"/>
                  </a:cubicBezTo>
                  <a:cubicBezTo>
                    <a:pt x="1162" y="246"/>
                    <a:pt x="1084" y="248"/>
                    <a:pt x="1030" y="249"/>
                  </a:cubicBezTo>
                  <a:cubicBezTo>
                    <a:pt x="976" y="250"/>
                    <a:pt x="963" y="249"/>
                    <a:pt x="904" y="249"/>
                  </a:cubicBezTo>
                  <a:cubicBezTo>
                    <a:pt x="845" y="249"/>
                    <a:pt x="731" y="249"/>
                    <a:pt x="674" y="249"/>
                  </a:cubicBezTo>
                  <a:cubicBezTo>
                    <a:pt x="617" y="249"/>
                    <a:pt x="600" y="247"/>
                    <a:pt x="562" y="247"/>
                  </a:cubicBezTo>
                  <a:cubicBezTo>
                    <a:pt x="524" y="247"/>
                    <a:pt x="491" y="250"/>
                    <a:pt x="448" y="249"/>
                  </a:cubicBezTo>
                  <a:cubicBezTo>
                    <a:pt x="405" y="248"/>
                    <a:pt x="340" y="245"/>
                    <a:pt x="302" y="243"/>
                  </a:cubicBezTo>
                  <a:cubicBezTo>
                    <a:pt x="264" y="241"/>
                    <a:pt x="242" y="239"/>
                    <a:pt x="220" y="237"/>
                  </a:cubicBezTo>
                  <a:cubicBezTo>
                    <a:pt x="198" y="235"/>
                    <a:pt x="181" y="235"/>
                    <a:pt x="168" y="229"/>
                  </a:cubicBezTo>
                  <a:cubicBezTo>
                    <a:pt x="155" y="223"/>
                    <a:pt x="151" y="209"/>
                    <a:pt x="144" y="203"/>
                  </a:cubicBezTo>
                  <a:cubicBezTo>
                    <a:pt x="137" y="197"/>
                    <a:pt x="132" y="193"/>
                    <a:pt x="124" y="191"/>
                  </a:cubicBezTo>
                  <a:cubicBezTo>
                    <a:pt x="116" y="189"/>
                    <a:pt x="107" y="189"/>
                    <a:pt x="94" y="189"/>
                  </a:cubicBezTo>
                  <a:cubicBezTo>
                    <a:pt x="81" y="189"/>
                    <a:pt x="62" y="194"/>
                    <a:pt x="48" y="189"/>
                  </a:cubicBezTo>
                  <a:cubicBezTo>
                    <a:pt x="34" y="184"/>
                    <a:pt x="20" y="170"/>
                    <a:pt x="12" y="159"/>
                  </a:cubicBezTo>
                  <a:cubicBezTo>
                    <a:pt x="4" y="148"/>
                    <a:pt x="0" y="139"/>
                    <a:pt x="0" y="125"/>
                  </a:cubicBezTo>
                  <a:cubicBezTo>
                    <a:pt x="0" y="111"/>
                    <a:pt x="3" y="89"/>
                    <a:pt x="10" y="73"/>
                  </a:cubicBezTo>
                  <a:cubicBezTo>
                    <a:pt x="17" y="57"/>
                    <a:pt x="29" y="39"/>
                    <a:pt x="42" y="27"/>
                  </a:cubicBezTo>
                  <a:cubicBezTo>
                    <a:pt x="55" y="15"/>
                    <a:pt x="77" y="6"/>
                    <a:pt x="86" y="3"/>
                  </a:cubicBezTo>
                  <a:cubicBezTo>
                    <a:pt x="95" y="0"/>
                    <a:pt x="91" y="8"/>
                    <a:pt x="96" y="9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89040" y="15238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05040" y="182880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4860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102000" y="2438280"/>
            <a:ext cx="28908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446120" y="2639880"/>
            <a:ext cx="589464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42A-A136-472F-A203-A4F43DF955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0" dur="1" fill="hold"/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1" dur="1" fill="hold"/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2" dur="1" fill="hold"/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05720" y="1141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082600" y="1501920"/>
            <a:ext cx="36036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7120" y="8366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564000" y="112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Arial"/>
              </a:rPr>
              <a:t>Si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419280" y="1414440"/>
            <a:ext cx="21564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565520" y="112536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Si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19720" y="1413000"/>
            <a:ext cx="21744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573880" y="1125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Si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219640" y="1413000"/>
            <a:ext cx="425520" cy="431640"/>
          </a:xfrm>
          <a:prstGeom prst="line">
            <a:avLst/>
          </a:prstGeom>
          <a:ln w="1908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929640" y="1052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ff"/>
                </a:solidFill>
                <a:latin typeface="Arial"/>
              </a:rPr>
              <a:t>Sim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732360" y="1341360"/>
            <a:ext cx="215640" cy="35892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8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8 Discrete Wavefor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404-816A-4192-88E5-799FF6E4EE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2" dur="1" fill="hold"/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3" dur="1" fill="hold"/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4" dur="1" fill="hold"/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9560" y="605304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#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108640" cy="5308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714680" y="2708280"/>
            <a:ext cx="5952960" cy="26956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77208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34720" y="226044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490560" y="256536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626920" y="256392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7224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506560" y="2494080"/>
            <a:ext cx="28908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1747800" y="2781360"/>
            <a:ext cx="5973840" cy="26668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69260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11440" y="254952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744560" y="2741760"/>
            <a:ext cx="5891400" cy="25588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879200" y="44280"/>
            <a:ext cx="5769360" cy="1008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 Simulation for Measured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3 Eye Diagram of Measurement and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easur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56460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318360" y="2438280"/>
            <a:ext cx="28872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1763640" y="2781360"/>
            <a:ext cx="5891400" cy="25588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5076720" y="1052640"/>
            <a:ext cx="3168720" cy="1149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00480" y="1111320"/>
            <a:ext cx="3159360" cy="473040"/>
          </a:xfrm>
          <a:custGeom>
            <a:avLst/>
            <a:gdLst/>
            <a:ahLst/>
            <a:rect l="l" t="t" r="r" b="b"/>
            <a:pathLst>
              <a:path w="1990" h="298">
                <a:moveTo>
                  <a:pt x="121" y="9"/>
                </a:moveTo>
                <a:lnTo>
                  <a:pt x="129" y="0"/>
                </a:lnTo>
                <a:cubicBezTo>
                  <a:pt x="140" y="3"/>
                  <a:pt x="170" y="13"/>
                  <a:pt x="185" y="28"/>
                </a:cubicBezTo>
                <a:cubicBezTo>
                  <a:pt x="200" y="43"/>
                  <a:pt x="211" y="71"/>
                  <a:pt x="221" y="88"/>
                </a:cubicBezTo>
                <a:cubicBezTo>
                  <a:pt x="231" y="105"/>
                  <a:pt x="234" y="117"/>
                  <a:pt x="245" y="132"/>
                </a:cubicBezTo>
                <a:cubicBezTo>
                  <a:pt x="256" y="147"/>
                  <a:pt x="262" y="165"/>
                  <a:pt x="285" y="176"/>
                </a:cubicBezTo>
                <a:cubicBezTo>
                  <a:pt x="308" y="187"/>
                  <a:pt x="348" y="194"/>
                  <a:pt x="385" y="196"/>
                </a:cubicBezTo>
                <a:cubicBezTo>
                  <a:pt x="422" y="198"/>
                  <a:pt x="463" y="189"/>
                  <a:pt x="509" y="188"/>
                </a:cubicBezTo>
                <a:cubicBezTo>
                  <a:pt x="555" y="187"/>
                  <a:pt x="604" y="191"/>
                  <a:pt x="661" y="192"/>
                </a:cubicBezTo>
                <a:cubicBezTo>
                  <a:pt x="718" y="193"/>
                  <a:pt x="790" y="195"/>
                  <a:pt x="853" y="196"/>
                </a:cubicBezTo>
                <a:cubicBezTo>
                  <a:pt x="916" y="197"/>
                  <a:pt x="990" y="197"/>
                  <a:pt x="1041" y="196"/>
                </a:cubicBezTo>
                <a:cubicBezTo>
                  <a:pt x="1092" y="195"/>
                  <a:pt x="1117" y="191"/>
                  <a:pt x="1157" y="192"/>
                </a:cubicBezTo>
                <a:cubicBezTo>
                  <a:pt x="1197" y="193"/>
                  <a:pt x="1233" y="203"/>
                  <a:pt x="1281" y="204"/>
                </a:cubicBezTo>
                <a:cubicBezTo>
                  <a:pt x="1329" y="205"/>
                  <a:pt x="1400" y="203"/>
                  <a:pt x="1445" y="200"/>
                </a:cubicBezTo>
                <a:cubicBezTo>
                  <a:pt x="1490" y="197"/>
                  <a:pt x="1518" y="190"/>
                  <a:pt x="1553" y="188"/>
                </a:cubicBezTo>
                <a:cubicBezTo>
                  <a:pt x="1588" y="186"/>
                  <a:pt x="1633" y="191"/>
                  <a:pt x="1657" y="188"/>
                </a:cubicBezTo>
                <a:cubicBezTo>
                  <a:pt x="1681" y="185"/>
                  <a:pt x="1683" y="180"/>
                  <a:pt x="1697" y="168"/>
                </a:cubicBezTo>
                <a:cubicBezTo>
                  <a:pt x="1711" y="156"/>
                  <a:pt x="1726" y="135"/>
                  <a:pt x="1741" y="116"/>
                </a:cubicBezTo>
                <a:cubicBezTo>
                  <a:pt x="1756" y="97"/>
                  <a:pt x="1765" y="70"/>
                  <a:pt x="1785" y="56"/>
                </a:cubicBezTo>
                <a:cubicBezTo>
                  <a:pt x="1805" y="42"/>
                  <a:pt x="1834" y="31"/>
                  <a:pt x="1861" y="32"/>
                </a:cubicBezTo>
                <a:cubicBezTo>
                  <a:pt x="1888" y="33"/>
                  <a:pt x="1924" y="47"/>
                  <a:pt x="1945" y="64"/>
                </a:cubicBezTo>
                <a:cubicBezTo>
                  <a:pt x="1966" y="81"/>
                  <a:pt x="1988" y="113"/>
                  <a:pt x="1989" y="136"/>
                </a:cubicBezTo>
                <a:cubicBezTo>
                  <a:pt x="1990" y="159"/>
                  <a:pt x="1964" y="185"/>
                  <a:pt x="1949" y="200"/>
                </a:cubicBezTo>
                <a:cubicBezTo>
                  <a:pt x="1934" y="215"/>
                  <a:pt x="1922" y="219"/>
                  <a:pt x="1897" y="228"/>
                </a:cubicBezTo>
                <a:cubicBezTo>
                  <a:pt x="1872" y="237"/>
                  <a:pt x="1823" y="247"/>
                  <a:pt x="1801" y="256"/>
                </a:cubicBezTo>
                <a:cubicBezTo>
                  <a:pt x="1779" y="265"/>
                  <a:pt x="1784" y="275"/>
                  <a:pt x="1765" y="280"/>
                </a:cubicBezTo>
                <a:cubicBezTo>
                  <a:pt x="1746" y="285"/>
                  <a:pt x="1738" y="283"/>
                  <a:pt x="1685" y="284"/>
                </a:cubicBezTo>
                <a:cubicBezTo>
                  <a:pt x="1632" y="285"/>
                  <a:pt x="1560" y="286"/>
                  <a:pt x="1449" y="288"/>
                </a:cubicBezTo>
                <a:cubicBezTo>
                  <a:pt x="1338" y="290"/>
                  <a:pt x="1140" y="295"/>
                  <a:pt x="1017" y="296"/>
                </a:cubicBezTo>
                <a:cubicBezTo>
                  <a:pt x="894" y="297"/>
                  <a:pt x="808" y="298"/>
                  <a:pt x="713" y="296"/>
                </a:cubicBezTo>
                <a:cubicBezTo>
                  <a:pt x="618" y="294"/>
                  <a:pt x="524" y="289"/>
                  <a:pt x="449" y="284"/>
                </a:cubicBezTo>
                <a:cubicBezTo>
                  <a:pt x="374" y="279"/>
                  <a:pt x="314" y="277"/>
                  <a:pt x="265" y="268"/>
                </a:cubicBezTo>
                <a:cubicBezTo>
                  <a:pt x="216" y="259"/>
                  <a:pt x="198" y="238"/>
                  <a:pt x="157" y="228"/>
                </a:cubicBezTo>
                <a:cubicBezTo>
                  <a:pt x="116" y="218"/>
                  <a:pt x="34" y="239"/>
                  <a:pt x="17" y="208"/>
                </a:cubicBezTo>
                <a:cubicBezTo>
                  <a:pt x="0" y="177"/>
                  <a:pt x="35" y="78"/>
                  <a:pt x="53" y="44"/>
                </a:cubicBezTo>
                <a:cubicBezTo>
                  <a:pt x="71" y="10"/>
                  <a:pt x="98" y="7"/>
                  <a:pt x="121" y="9"/>
                </a:cubicBezTo>
                <a:close/>
              </a:path>
            </a:pathLst>
          </a:custGeom>
          <a:solidFill>
            <a:srgbClr val="bbe0e3">
              <a:alpha val="4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05040" y="19051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331-A70C-47A3-9ACD-3D38582AE7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96720" y="1014480"/>
            <a:ext cx="8109000" cy="52941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403280" y="2627280"/>
            <a:ext cx="5919840" cy="2746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34008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3080" y="220500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058920" y="242244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195280" y="242100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4060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148000" y="2494080"/>
            <a:ext cx="215640" cy="430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096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979440" y="254952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5948280" cy="27208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1403280" y="2637000"/>
            <a:ext cx="5953320" cy="2695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79200" y="44280"/>
            <a:ext cx="5921640" cy="1008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 Simulations for Measured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7 Eye Diagram of Measurement and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easur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3260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886000" y="2367000"/>
            <a:ext cx="28908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1460520" y="2760840"/>
            <a:ext cx="5919840" cy="261288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5321160" y="1130400"/>
            <a:ext cx="3313080" cy="1139760"/>
            <a:chOff x="5321160" y="1130400"/>
            <a:chExt cx="3313080" cy="1139760"/>
          </a:xfrm>
        </p:grpSpPr>
        <p:pic>
          <p:nvPicPr>
            <p:cNvPr id="390" name="" descr=""/>
            <p:cNvPicPr/>
            <p:nvPr/>
          </p:nvPicPr>
          <p:blipFill>
            <a:blip r:embed="rId6"/>
            <a:stretch/>
          </p:blipFill>
          <p:spPr>
            <a:xfrm>
              <a:off x="5357520" y="1130400"/>
              <a:ext cx="32767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321160" y="1584360"/>
              <a:ext cx="3273480" cy="308160"/>
            </a:xfrm>
            <a:custGeom>
              <a:avLst/>
              <a:gdLst/>
              <a:ahLst/>
              <a:rect l="l" t="t" r="r" b="b"/>
              <a:pathLst>
                <a:path w="2062" h="194">
                  <a:moveTo>
                    <a:pt x="23" y="28"/>
                  </a:moveTo>
                  <a:cubicBezTo>
                    <a:pt x="29" y="20"/>
                    <a:pt x="37" y="8"/>
                    <a:pt x="47" y="4"/>
                  </a:cubicBezTo>
                  <a:cubicBezTo>
                    <a:pt x="57" y="0"/>
                    <a:pt x="68" y="4"/>
                    <a:pt x="83" y="6"/>
                  </a:cubicBezTo>
                  <a:cubicBezTo>
                    <a:pt x="98" y="8"/>
                    <a:pt x="124" y="11"/>
                    <a:pt x="137" y="16"/>
                  </a:cubicBezTo>
                  <a:cubicBezTo>
                    <a:pt x="150" y="21"/>
                    <a:pt x="154" y="29"/>
                    <a:pt x="163" y="36"/>
                  </a:cubicBezTo>
                  <a:cubicBezTo>
                    <a:pt x="172" y="43"/>
                    <a:pt x="176" y="54"/>
                    <a:pt x="189" y="58"/>
                  </a:cubicBezTo>
                  <a:cubicBezTo>
                    <a:pt x="202" y="62"/>
                    <a:pt x="219" y="60"/>
                    <a:pt x="239" y="62"/>
                  </a:cubicBezTo>
                  <a:cubicBezTo>
                    <a:pt x="259" y="64"/>
                    <a:pt x="288" y="69"/>
                    <a:pt x="311" y="70"/>
                  </a:cubicBezTo>
                  <a:cubicBezTo>
                    <a:pt x="334" y="71"/>
                    <a:pt x="358" y="67"/>
                    <a:pt x="379" y="66"/>
                  </a:cubicBezTo>
                  <a:cubicBezTo>
                    <a:pt x="400" y="65"/>
                    <a:pt x="402" y="66"/>
                    <a:pt x="437" y="66"/>
                  </a:cubicBezTo>
                  <a:cubicBezTo>
                    <a:pt x="472" y="66"/>
                    <a:pt x="540" y="68"/>
                    <a:pt x="587" y="68"/>
                  </a:cubicBezTo>
                  <a:cubicBezTo>
                    <a:pt x="634" y="68"/>
                    <a:pt x="683" y="64"/>
                    <a:pt x="719" y="64"/>
                  </a:cubicBezTo>
                  <a:cubicBezTo>
                    <a:pt x="755" y="64"/>
                    <a:pt x="761" y="70"/>
                    <a:pt x="801" y="70"/>
                  </a:cubicBezTo>
                  <a:cubicBezTo>
                    <a:pt x="841" y="70"/>
                    <a:pt x="903" y="64"/>
                    <a:pt x="957" y="64"/>
                  </a:cubicBezTo>
                  <a:cubicBezTo>
                    <a:pt x="1011" y="64"/>
                    <a:pt x="1060" y="70"/>
                    <a:pt x="1123" y="70"/>
                  </a:cubicBezTo>
                  <a:cubicBezTo>
                    <a:pt x="1186" y="70"/>
                    <a:pt x="1251" y="65"/>
                    <a:pt x="1333" y="64"/>
                  </a:cubicBezTo>
                  <a:cubicBezTo>
                    <a:pt x="1415" y="63"/>
                    <a:pt x="1551" y="65"/>
                    <a:pt x="1613" y="64"/>
                  </a:cubicBezTo>
                  <a:cubicBezTo>
                    <a:pt x="1675" y="63"/>
                    <a:pt x="1677" y="60"/>
                    <a:pt x="1703" y="60"/>
                  </a:cubicBezTo>
                  <a:cubicBezTo>
                    <a:pt x="1729" y="60"/>
                    <a:pt x="1750" y="62"/>
                    <a:pt x="1769" y="62"/>
                  </a:cubicBezTo>
                  <a:cubicBezTo>
                    <a:pt x="1788" y="62"/>
                    <a:pt x="1800" y="63"/>
                    <a:pt x="1815" y="62"/>
                  </a:cubicBezTo>
                  <a:cubicBezTo>
                    <a:pt x="1830" y="61"/>
                    <a:pt x="1850" y="59"/>
                    <a:pt x="1861" y="58"/>
                  </a:cubicBezTo>
                  <a:cubicBezTo>
                    <a:pt x="1872" y="57"/>
                    <a:pt x="1873" y="57"/>
                    <a:pt x="1879" y="54"/>
                  </a:cubicBezTo>
                  <a:cubicBezTo>
                    <a:pt x="1885" y="51"/>
                    <a:pt x="1891" y="45"/>
                    <a:pt x="1897" y="40"/>
                  </a:cubicBezTo>
                  <a:cubicBezTo>
                    <a:pt x="1903" y="35"/>
                    <a:pt x="1908" y="28"/>
                    <a:pt x="1915" y="24"/>
                  </a:cubicBezTo>
                  <a:cubicBezTo>
                    <a:pt x="1922" y="20"/>
                    <a:pt x="1926" y="19"/>
                    <a:pt x="1937" y="18"/>
                  </a:cubicBezTo>
                  <a:cubicBezTo>
                    <a:pt x="1948" y="17"/>
                    <a:pt x="1963" y="21"/>
                    <a:pt x="1979" y="20"/>
                  </a:cubicBezTo>
                  <a:cubicBezTo>
                    <a:pt x="1995" y="19"/>
                    <a:pt x="2022" y="14"/>
                    <a:pt x="2033" y="14"/>
                  </a:cubicBezTo>
                  <a:cubicBezTo>
                    <a:pt x="2044" y="14"/>
                    <a:pt x="2043" y="16"/>
                    <a:pt x="2047" y="20"/>
                  </a:cubicBezTo>
                  <a:cubicBezTo>
                    <a:pt x="2051" y="24"/>
                    <a:pt x="2055" y="28"/>
                    <a:pt x="2057" y="38"/>
                  </a:cubicBezTo>
                  <a:cubicBezTo>
                    <a:pt x="2059" y="48"/>
                    <a:pt x="2056" y="66"/>
                    <a:pt x="2057" y="78"/>
                  </a:cubicBezTo>
                  <a:cubicBezTo>
                    <a:pt x="2058" y="90"/>
                    <a:pt x="2060" y="96"/>
                    <a:pt x="2061" y="108"/>
                  </a:cubicBezTo>
                  <a:cubicBezTo>
                    <a:pt x="2062" y="120"/>
                    <a:pt x="2062" y="139"/>
                    <a:pt x="2061" y="152"/>
                  </a:cubicBezTo>
                  <a:cubicBezTo>
                    <a:pt x="2060" y="165"/>
                    <a:pt x="2061" y="177"/>
                    <a:pt x="2057" y="184"/>
                  </a:cubicBezTo>
                  <a:cubicBezTo>
                    <a:pt x="2053" y="191"/>
                    <a:pt x="2046" y="194"/>
                    <a:pt x="2035" y="194"/>
                  </a:cubicBezTo>
                  <a:cubicBezTo>
                    <a:pt x="2024" y="194"/>
                    <a:pt x="2002" y="188"/>
                    <a:pt x="1991" y="184"/>
                  </a:cubicBezTo>
                  <a:cubicBezTo>
                    <a:pt x="1980" y="180"/>
                    <a:pt x="1976" y="177"/>
                    <a:pt x="1967" y="170"/>
                  </a:cubicBezTo>
                  <a:cubicBezTo>
                    <a:pt x="1958" y="163"/>
                    <a:pt x="1943" y="151"/>
                    <a:pt x="1935" y="144"/>
                  </a:cubicBezTo>
                  <a:cubicBezTo>
                    <a:pt x="1927" y="137"/>
                    <a:pt x="1923" y="130"/>
                    <a:pt x="1917" y="126"/>
                  </a:cubicBezTo>
                  <a:cubicBezTo>
                    <a:pt x="1911" y="122"/>
                    <a:pt x="1906" y="119"/>
                    <a:pt x="1901" y="118"/>
                  </a:cubicBezTo>
                  <a:cubicBezTo>
                    <a:pt x="1896" y="117"/>
                    <a:pt x="1894" y="120"/>
                    <a:pt x="1885" y="120"/>
                  </a:cubicBezTo>
                  <a:cubicBezTo>
                    <a:pt x="1876" y="120"/>
                    <a:pt x="1860" y="120"/>
                    <a:pt x="1845" y="120"/>
                  </a:cubicBezTo>
                  <a:cubicBezTo>
                    <a:pt x="1830" y="120"/>
                    <a:pt x="1815" y="119"/>
                    <a:pt x="1795" y="118"/>
                  </a:cubicBezTo>
                  <a:cubicBezTo>
                    <a:pt x="1775" y="117"/>
                    <a:pt x="1752" y="116"/>
                    <a:pt x="1727" y="116"/>
                  </a:cubicBezTo>
                  <a:cubicBezTo>
                    <a:pt x="1702" y="116"/>
                    <a:pt x="1674" y="117"/>
                    <a:pt x="1647" y="116"/>
                  </a:cubicBezTo>
                  <a:cubicBezTo>
                    <a:pt x="1620" y="115"/>
                    <a:pt x="1593" y="109"/>
                    <a:pt x="1563" y="108"/>
                  </a:cubicBezTo>
                  <a:cubicBezTo>
                    <a:pt x="1533" y="107"/>
                    <a:pt x="1504" y="113"/>
                    <a:pt x="1467" y="112"/>
                  </a:cubicBezTo>
                  <a:cubicBezTo>
                    <a:pt x="1430" y="111"/>
                    <a:pt x="1382" y="104"/>
                    <a:pt x="1341" y="104"/>
                  </a:cubicBezTo>
                  <a:cubicBezTo>
                    <a:pt x="1300" y="104"/>
                    <a:pt x="1262" y="112"/>
                    <a:pt x="1219" y="112"/>
                  </a:cubicBezTo>
                  <a:cubicBezTo>
                    <a:pt x="1176" y="112"/>
                    <a:pt x="1128" y="108"/>
                    <a:pt x="1085" y="106"/>
                  </a:cubicBezTo>
                  <a:cubicBezTo>
                    <a:pt x="1042" y="104"/>
                    <a:pt x="998" y="100"/>
                    <a:pt x="963" y="100"/>
                  </a:cubicBezTo>
                  <a:cubicBezTo>
                    <a:pt x="928" y="100"/>
                    <a:pt x="900" y="105"/>
                    <a:pt x="875" y="106"/>
                  </a:cubicBezTo>
                  <a:cubicBezTo>
                    <a:pt x="850" y="107"/>
                    <a:pt x="835" y="109"/>
                    <a:pt x="815" y="108"/>
                  </a:cubicBezTo>
                  <a:cubicBezTo>
                    <a:pt x="795" y="107"/>
                    <a:pt x="777" y="101"/>
                    <a:pt x="757" y="100"/>
                  </a:cubicBezTo>
                  <a:cubicBezTo>
                    <a:pt x="737" y="99"/>
                    <a:pt x="717" y="101"/>
                    <a:pt x="695" y="102"/>
                  </a:cubicBezTo>
                  <a:cubicBezTo>
                    <a:pt x="673" y="103"/>
                    <a:pt x="643" y="104"/>
                    <a:pt x="627" y="104"/>
                  </a:cubicBezTo>
                  <a:cubicBezTo>
                    <a:pt x="611" y="104"/>
                    <a:pt x="617" y="102"/>
                    <a:pt x="599" y="102"/>
                  </a:cubicBezTo>
                  <a:cubicBezTo>
                    <a:pt x="581" y="102"/>
                    <a:pt x="545" y="106"/>
                    <a:pt x="521" y="106"/>
                  </a:cubicBezTo>
                  <a:cubicBezTo>
                    <a:pt x="497" y="106"/>
                    <a:pt x="477" y="103"/>
                    <a:pt x="455" y="102"/>
                  </a:cubicBezTo>
                  <a:cubicBezTo>
                    <a:pt x="433" y="101"/>
                    <a:pt x="409" y="99"/>
                    <a:pt x="387" y="100"/>
                  </a:cubicBezTo>
                  <a:cubicBezTo>
                    <a:pt x="365" y="101"/>
                    <a:pt x="344" y="104"/>
                    <a:pt x="321" y="106"/>
                  </a:cubicBezTo>
                  <a:cubicBezTo>
                    <a:pt x="298" y="108"/>
                    <a:pt x="262" y="110"/>
                    <a:pt x="247" y="112"/>
                  </a:cubicBezTo>
                  <a:cubicBezTo>
                    <a:pt x="232" y="114"/>
                    <a:pt x="241" y="113"/>
                    <a:pt x="231" y="118"/>
                  </a:cubicBezTo>
                  <a:cubicBezTo>
                    <a:pt x="221" y="123"/>
                    <a:pt x="198" y="134"/>
                    <a:pt x="185" y="142"/>
                  </a:cubicBezTo>
                  <a:cubicBezTo>
                    <a:pt x="172" y="150"/>
                    <a:pt x="163" y="159"/>
                    <a:pt x="153" y="164"/>
                  </a:cubicBezTo>
                  <a:cubicBezTo>
                    <a:pt x="143" y="169"/>
                    <a:pt x="133" y="172"/>
                    <a:pt x="125" y="174"/>
                  </a:cubicBezTo>
                  <a:cubicBezTo>
                    <a:pt x="117" y="176"/>
                    <a:pt x="118" y="177"/>
                    <a:pt x="107" y="178"/>
                  </a:cubicBezTo>
                  <a:cubicBezTo>
                    <a:pt x="96" y="179"/>
                    <a:pt x="75" y="182"/>
                    <a:pt x="61" y="180"/>
                  </a:cubicBezTo>
                  <a:cubicBezTo>
                    <a:pt x="47" y="178"/>
                    <a:pt x="35" y="174"/>
                    <a:pt x="25" y="164"/>
                  </a:cubicBezTo>
                  <a:cubicBezTo>
                    <a:pt x="15" y="154"/>
                    <a:pt x="6" y="136"/>
                    <a:pt x="3" y="122"/>
                  </a:cubicBezTo>
                  <a:cubicBezTo>
                    <a:pt x="0" y="108"/>
                    <a:pt x="7" y="90"/>
                    <a:pt x="9" y="78"/>
                  </a:cubicBezTo>
                  <a:cubicBezTo>
                    <a:pt x="11" y="66"/>
                    <a:pt x="11" y="60"/>
                    <a:pt x="13" y="52"/>
                  </a:cubicBezTo>
                  <a:cubicBezTo>
                    <a:pt x="15" y="44"/>
                    <a:pt x="17" y="36"/>
                    <a:pt x="23" y="2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620680" y="196848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C6E-7D2D-458B-B5DD-6B794B0284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1040" y="1052640"/>
            <a:ext cx="81316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 Measurement and Simulati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 Measurement equipment and 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 of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Simulation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 Eye-Diagram and Discrete Wav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imulation with Measured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1 Eye-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TDR waveform for PCB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S-parameters  of device models (Filters,Via,Connector,C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8280" y="404640"/>
            <a:ext cx="140004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49B-4D7D-46C7-9F65-EC2E439EAF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95360" y="1052640"/>
            <a:ext cx="8109000" cy="5294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09760" y="2658960"/>
            <a:ext cx="5898960" cy="26416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62916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92160" y="226044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347640" y="249228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484000" y="249084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62932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437080" y="2494080"/>
            <a:ext cx="216000" cy="430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5004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268520" y="254952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1432080" y="2587680"/>
            <a:ext cx="5948280" cy="2641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1438200" y="2644920"/>
            <a:ext cx="5923080" cy="2641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879200" y="44280"/>
            <a:ext cx="5921640" cy="1008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 Simulations for Measured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8 Eye Diagram of Measurement and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easur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21680" y="2259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6318000" y="2565360"/>
            <a:ext cx="198360" cy="358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1476360" y="2781360"/>
            <a:ext cx="5899320" cy="25081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5357880" y="1130400"/>
            <a:ext cx="3276360" cy="1139760"/>
            <a:chOff x="5357880" y="1130400"/>
            <a:chExt cx="3276360" cy="1139760"/>
          </a:xfrm>
        </p:grpSpPr>
        <p:pic>
          <p:nvPicPr>
            <p:cNvPr id="411" name="" descr=""/>
            <p:cNvPicPr/>
            <p:nvPr/>
          </p:nvPicPr>
          <p:blipFill>
            <a:blip r:embed="rId6"/>
            <a:stretch/>
          </p:blipFill>
          <p:spPr>
            <a:xfrm>
              <a:off x="5357880" y="1130400"/>
              <a:ext cx="32763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397120" y="1268640"/>
              <a:ext cx="3213000" cy="396720"/>
            </a:xfrm>
            <a:custGeom>
              <a:avLst/>
              <a:gdLst/>
              <a:ahLst/>
              <a:rect l="l" t="t" r="r" b="b"/>
              <a:pathLst>
                <a:path w="2024" h="250">
                  <a:moveTo>
                    <a:pt x="96" y="9"/>
                  </a:moveTo>
                  <a:cubicBezTo>
                    <a:pt x="101" y="10"/>
                    <a:pt x="108" y="5"/>
                    <a:pt x="114" y="9"/>
                  </a:cubicBezTo>
                  <a:cubicBezTo>
                    <a:pt x="120" y="13"/>
                    <a:pt x="125" y="20"/>
                    <a:pt x="134" y="31"/>
                  </a:cubicBezTo>
                  <a:cubicBezTo>
                    <a:pt x="143" y="42"/>
                    <a:pt x="159" y="59"/>
                    <a:pt x="168" y="73"/>
                  </a:cubicBezTo>
                  <a:cubicBezTo>
                    <a:pt x="177" y="87"/>
                    <a:pt x="184" y="100"/>
                    <a:pt x="188" y="113"/>
                  </a:cubicBezTo>
                  <a:cubicBezTo>
                    <a:pt x="192" y="126"/>
                    <a:pt x="189" y="142"/>
                    <a:pt x="192" y="151"/>
                  </a:cubicBezTo>
                  <a:cubicBezTo>
                    <a:pt x="195" y="160"/>
                    <a:pt x="193" y="161"/>
                    <a:pt x="204" y="165"/>
                  </a:cubicBezTo>
                  <a:cubicBezTo>
                    <a:pt x="215" y="169"/>
                    <a:pt x="239" y="175"/>
                    <a:pt x="262" y="177"/>
                  </a:cubicBezTo>
                  <a:cubicBezTo>
                    <a:pt x="285" y="179"/>
                    <a:pt x="319" y="177"/>
                    <a:pt x="340" y="177"/>
                  </a:cubicBezTo>
                  <a:cubicBezTo>
                    <a:pt x="361" y="177"/>
                    <a:pt x="367" y="180"/>
                    <a:pt x="390" y="179"/>
                  </a:cubicBezTo>
                  <a:cubicBezTo>
                    <a:pt x="413" y="178"/>
                    <a:pt x="443" y="175"/>
                    <a:pt x="480" y="173"/>
                  </a:cubicBezTo>
                  <a:cubicBezTo>
                    <a:pt x="517" y="171"/>
                    <a:pt x="570" y="170"/>
                    <a:pt x="612" y="169"/>
                  </a:cubicBezTo>
                  <a:cubicBezTo>
                    <a:pt x="654" y="168"/>
                    <a:pt x="694" y="169"/>
                    <a:pt x="732" y="169"/>
                  </a:cubicBezTo>
                  <a:cubicBezTo>
                    <a:pt x="770" y="169"/>
                    <a:pt x="797" y="171"/>
                    <a:pt x="840" y="171"/>
                  </a:cubicBezTo>
                  <a:cubicBezTo>
                    <a:pt x="883" y="171"/>
                    <a:pt x="945" y="168"/>
                    <a:pt x="992" y="167"/>
                  </a:cubicBezTo>
                  <a:cubicBezTo>
                    <a:pt x="1039" y="166"/>
                    <a:pt x="1073" y="168"/>
                    <a:pt x="1122" y="167"/>
                  </a:cubicBezTo>
                  <a:cubicBezTo>
                    <a:pt x="1171" y="166"/>
                    <a:pt x="1226" y="163"/>
                    <a:pt x="1284" y="161"/>
                  </a:cubicBezTo>
                  <a:cubicBezTo>
                    <a:pt x="1342" y="159"/>
                    <a:pt x="1413" y="155"/>
                    <a:pt x="1470" y="155"/>
                  </a:cubicBezTo>
                  <a:cubicBezTo>
                    <a:pt x="1527" y="155"/>
                    <a:pt x="1585" y="161"/>
                    <a:pt x="1628" y="163"/>
                  </a:cubicBezTo>
                  <a:cubicBezTo>
                    <a:pt x="1671" y="165"/>
                    <a:pt x="1702" y="166"/>
                    <a:pt x="1726" y="165"/>
                  </a:cubicBezTo>
                  <a:cubicBezTo>
                    <a:pt x="1750" y="164"/>
                    <a:pt x="1760" y="161"/>
                    <a:pt x="1770" y="157"/>
                  </a:cubicBezTo>
                  <a:cubicBezTo>
                    <a:pt x="1780" y="153"/>
                    <a:pt x="1782" y="147"/>
                    <a:pt x="1786" y="141"/>
                  </a:cubicBezTo>
                  <a:cubicBezTo>
                    <a:pt x="1790" y="135"/>
                    <a:pt x="1790" y="127"/>
                    <a:pt x="1792" y="119"/>
                  </a:cubicBezTo>
                  <a:cubicBezTo>
                    <a:pt x="1794" y="111"/>
                    <a:pt x="1795" y="102"/>
                    <a:pt x="1798" y="91"/>
                  </a:cubicBezTo>
                  <a:cubicBezTo>
                    <a:pt x="1801" y="80"/>
                    <a:pt x="1807" y="60"/>
                    <a:pt x="1810" y="51"/>
                  </a:cubicBezTo>
                  <a:cubicBezTo>
                    <a:pt x="1813" y="42"/>
                    <a:pt x="1810" y="42"/>
                    <a:pt x="1814" y="35"/>
                  </a:cubicBezTo>
                  <a:cubicBezTo>
                    <a:pt x="1818" y="28"/>
                    <a:pt x="1824" y="14"/>
                    <a:pt x="1836" y="9"/>
                  </a:cubicBezTo>
                  <a:cubicBezTo>
                    <a:pt x="1848" y="4"/>
                    <a:pt x="1875" y="3"/>
                    <a:pt x="1886" y="3"/>
                  </a:cubicBezTo>
                  <a:cubicBezTo>
                    <a:pt x="1897" y="3"/>
                    <a:pt x="1893" y="3"/>
                    <a:pt x="1902" y="7"/>
                  </a:cubicBezTo>
                  <a:cubicBezTo>
                    <a:pt x="1911" y="11"/>
                    <a:pt x="1932" y="19"/>
                    <a:pt x="1942" y="25"/>
                  </a:cubicBezTo>
                  <a:cubicBezTo>
                    <a:pt x="1952" y="31"/>
                    <a:pt x="1955" y="38"/>
                    <a:pt x="1964" y="45"/>
                  </a:cubicBezTo>
                  <a:cubicBezTo>
                    <a:pt x="1973" y="52"/>
                    <a:pt x="1986" y="58"/>
                    <a:pt x="1994" y="67"/>
                  </a:cubicBezTo>
                  <a:cubicBezTo>
                    <a:pt x="2002" y="76"/>
                    <a:pt x="2007" y="88"/>
                    <a:pt x="2012" y="97"/>
                  </a:cubicBezTo>
                  <a:cubicBezTo>
                    <a:pt x="2017" y="106"/>
                    <a:pt x="2024" y="114"/>
                    <a:pt x="2024" y="123"/>
                  </a:cubicBezTo>
                  <a:cubicBezTo>
                    <a:pt x="2024" y="132"/>
                    <a:pt x="2021" y="140"/>
                    <a:pt x="2012" y="149"/>
                  </a:cubicBezTo>
                  <a:cubicBezTo>
                    <a:pt x="2003" y="158"/>
                    <a:pt x="1981" y="171"/>
                    <a:pt x="1968" y="177"/>
                  </a:cubicBezTo>
                  <a:cubicBezTo>
                    <a:pt x="1955" y="183"/>
                    <a:pt x="1947" y="185"/>
                    <a:pt x="1932" y="187"/>
                  </a:cubicBezTo>
                  <a:cubicBezTo>
                    <a:pt x="1917" y="189"/>
                    <a:pt x="1892" y="184"/>
                    <a:pt x="1878" y="187"/>
                  </a:cubicBezTo>
                  <a:cubicBezTo>
                    <a:pt x="1864" y="190"/>
                    <a:pt x="1857" y="200"/>
                    <a:pt x="1848" y="205"/>
                  </a:cubicBezTo>
                  <a:cubicBezTo>
                    <a:pt x="1839" y="210"/>
                    <a:pt x="1830" y="212"/>
                    <a:pt x="1822" y="217"/>
                  </a:cubicBezTo>
                  <a:cubicBezTo>
                    <a:pt x="1814" y="222"/>
                    <a:pt x="1813" y="230"/>
                    <a:pt x="1800" y="233"/>
                  </a:cubicBezTo>
                  <a:cubicBezTo>
                    <a:pt x="1787" y="236"/>
                    <a:pt x="1765" y="236"/>
                    <a:pt x="1744" y="237"/>
                  </a:cubicBezTo>
                  <a:cubicBezTo>
                    <a:pt x="1723" y="238"/>
                    <a:pt x="1700" y="240"/>
                    <a:pt x="1672" y="241"/>
                  </a:cubicBezTo>
                  <a:cubicBezTo>
                    <a:pt x="1644" y="242"/>
                    <a:pt x="1613" y="241"/>
                    <a:pt x="1574" y="241"/>
                  </a:cubicBezTo>
                  <a:cubicBezTo>
                    <a:pt x="1535" y="241"/>
                    <a:pt x="1495" y="240"/>
                    <a:pt x="1438" y="241"/>
                  </a:cubicBezTo>
                  <a:cubicBezTo>
                    <a:pt x="1381" y="242"/>
                    <a:pt x="1298" y="244"/>
                    <a:pt x="1230" y="245"/>
                  </a:cubicBezTo>
                  <a:cubicBezTo>
                    <a:pt x="1162" y="246"/>
                    <a:pt x="1084" y="248"/>
                    <a:pt x="1030" y="249"/>
                  </a:cubicBezTo>
                  <a:cubicBezTo>
                    <a:pt x="976" y="250"/>
                    <a:pt x="963" y="249"/>
                    <a:pt x="904" y="249"/>
                  </a:cubicBezTo>
                  <a:cubicBezTo>
                    <a:pt x="845" y="249"/>
                    <a:pt x="731" y="249"/>
                    <a:pt x="674" y="249"/>
                  </a:cubicBezTo>
                  <a:cubicBezTo>
                    <a:pt x="617" y="249"/>
                    <a:pt x="600" y="247"/>
                    <a:pt x="562" y="247"/>
                  </a:cubicBezTo>
                  <a:cubicBezTo>
                    <a:pt x="524" y="247"/>
                    <a:pt x="491" y="250"/>
                    <a:pt x="448" y="249"/>
                  </a:cubicBezTo>
                  <a:cubicBezTo>
                    <a:pt x="405" y="248"/>
                    <a:pt x="340" y="245"/>
                    <a:pt x="302" y="243"/>
                  </a:cubicBezTo>
                  <a:cubicBezTo>
                    <a:pt x="264" y="241"/>
                    <a:pt x="242" y="239"/>
                    <a:pt x="220" y="237"/>
                  </a:cubicBezTo>
                  <a:cubicBezTo>
                    <a:pt x="198" y="235"/>
                    <a:pt x="181" y="235"/>
                    <a:pt x="168" y="229"/>
                  </a:cubicBezTo>
                  <a:cubicBezTo>
                    <a:pt x="155" y="223"/>
                    <a:pt x="151" y="209"/>
                    <a:pt x="144" y="203"/>
                  </a:cubicBezTo>
                  <a:cubicBezTo>
                    <a:pt x="137" y="197"/>
                    <a:pt x="132" y="193"/>
                    <a:pt x="124" y="191"/>
                  </a:cubicBezTo>
                  <a:cubicBezTo>
                    <a:pt x="116" y="189"/>
                    <a:pt x="107" y="189"/>
                    <a:pt x="94" y="189"/>
                  </a:cubicBezTo>
                  <a:cubicBezTo>
                    <a:pt x="81" y="189"/>
                    <a:pt x="62" y="194"/>
                    <a:pt x="48" y="189"/>
                  </a:cubicBezTo>
                  <a:cubicBezTo>
                    <a:pt x="34" y="184"/>
                    <a:pt x="20" y="170"/>
                    <a:pt x="12" y="159"/>
                  </a:cubicBezTo>
                  <a:cubicBezTo>
                    <a:pt x="4" y="148"/>
                    <a:pt x="0" y="139"/>
                    <a:pt x="0" y="125"/>
                  </a:cubicBezTo>
                  <a:cubicBezTo>
                    <a:pt x="0" y="111"/>
                    <a:pt x="3" y="89"/>
                    <a:pt x="10" y="73"/>
                  </a:cubicBezTo>
                  <a:cubicBezTo>
                    <a:pt x="17" y="57"/>
                    <a:pt x="29" y="39"/>
                    <a:pt x="42" y="27"/>
                  </a:cubicBezTo>
                  <a:cubicBezTo>
                    <a:pt x="55" y="15"/>
                    <a:pt x="77" y="6"/>
                    <a:pt x="86" y="3"/>
                  </a:cubicBezTo>
                  <a:cubicBezTo>
                    <a:pt x="95" y="0"/>
                    <a:pt x="91" y="8"/>
                    <a:pt x="96" y="9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620680" y="204480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280-849E-43B7-BF70-92B89F50B3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400640" y="98100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195640" y="4149720"/>
            <a:ext cx="1892160" cy="1727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4714920" y="4365720"/>
            <a:ext cx="2178000" cy="1266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554200" y="5216400"/>
            <a:ext cx="3510000" cy="868320"/>
          </a:xfrm>
          <a:custGeom>
            <a:avLst/>
            <a:gdLst/>
            <a:ahLst/>
            <a:rect l="l" t="t" r="r" b="b"/>
            <a:pathLst>
              <a:path w="2211" h="547">
                <a:moveTo>
                  <a:pt x="0" y="99"/>
                </a:moveTo>
                <a:cubicBezTo>
                  <a:pt x="11" y="123"/>
                  <a:pt x="23" y="148"/>
                  <a:pt x="45" y="180"/>
                </a:cubicBezTo>
                <a:cubicBezTo>
                  <a:pt x="67" y="212"/>
                  <a:pt x="84" y="252"/>
                  <a:pt x="129" y="288"/>
                </a:cubicBezTo>
                <a:cubicBezTo>
                  <a:pt x="174" y="324"/>
                  <a:pt x="234" y="360"/>
                  <a:pt x="317" y="396"/>
                </a:cubicBezTo>
                <a:cubicBezTo>
                  <a:pt x="400" y="432"/>
                  <a:pt x="521" y="480"/>
                  <a:pt x="629" y="504"/>
                </a:cubicBezTo>
                <a:cubicBezTo>
                  <a:pt x="737" y="528"/>
                  <a:pt x="840" y="533"/>
                  <a:pt x="965" y="540"/>
                </a:cubicBezTo>
                <a:cubicBezTo>
                  <a:pt x="1090" y="547"/>
                  <a:pt x="1269" y="545"/>
                  <a:pt x="1381" y="544"/>
                </a:cubicBezTo>
                <a:cubicBezTo>
                  <a:pt x="1493" y="543"/>
                  <a:pt x="1544" y="536"/>
                  <a:pt x="1637" y="532"/>
                </a:cubicBezTo>
                <a:cubicBezTo>
                  <a:pt x="1730" y="528"/>
                  <a:pt x="1866" y="529"/>
                  <a:pt x="1941" y="520"/>
                </a:cubicBezTo>
                <a:cubicBezTo>
                  <a:pt x="2016" y="511"/>
                  <a:pt x="2053" y="511"/>
                  <a:pt x="2089" y="480"/>
                </a:cubicBezTo>
                <a:cubicBezTo>
                  <a:pt x="2125" y="449"/>
                  <a:pt x="2140" y="385"/>
                  <a:pt x="2157" y="336"/>
                </a:cubicBezTo>
                <a:cubicBezTo>
                  <a:pt x="2174" y="287"/>
                  <a:pt x="2184" y="240"/>
                  <a:pt x="2193" y="184"/>
                </a:cubicBezTo>
                <a:cubicBezTo>
                  <a:pt x="2202" y="128"/>
                  <a:pt x="2211" y="22"/>
                  <a:pt x="2209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54200" y="5216400"/>
            <a:ext cx="3697200" cy="979560"/>
          </a:xfrm>
          <a:custGeom>
            <a:avLst/>
            <a:gdLst/>
            <a:ahLst/>
            <a:rect l="l" t="t" r="r" b="b"/>
            <a:pathLst>
              <a:path w="2329" h="617">
                <a:moveTo>
                  <a:pt x="0" y="144"/>
                </a:moveTo>
                <a:lnTo>
                  <a:pt x="1" y="160"/>
                </a:lnTo>
                <a:cubicBezTo>
                  <a:pt x="13" y="186"/>
                  <a:pt x="37" y="259"/>
                  <a:pt x="73" y="300"/>
                </a:cubicBezTo>
                <a:cubicBezTo>
                  <a:pt x="109" y="341"/>
                  <a:pt x="163" y="377"/>
                  <a:pt x="217" y="408"/>
                </a:cubicBezTo>
                <a:cubicBezTo>
                  <a:pt x="271" y="439"/>
                  <a:pt x="312" y="459"/>
                  <a:pt x="397" y="488"/>
                </a:cubicBezTo>
                <a:cubicBezTo>
                  <a:pt x="482" y="517"/>
                  <a:pt x="618" y="563"/>
                  <a:pt x="729" y="584"/>
                </a:cubicBezTo>
                <a:cubicBezTo>
                  <a:pt x="840" y="605"/>
                  <a:pt x="954" y="607"/>
                  <a:pt x="1061" y="612"/>
                </a:cubicBezTo>
                <a:cubicBezTo>
                  <a:pt x="1168" y="617"/>
                  <a:pt x="1240" y="614"/>
                  <a:pt x="1369" y="612"/>
                </a:cubicBezTo>
                <a:cubicBezTo>
                  <a:pt x="1498" y="610"/>
                  <a:pt x="1701" y="609"/>
                  <a:pt x="1837" y="600"/>
                </a:cubicBezTo>
                <a:cubicBezTo>
                  <a:pt x="1973" y="591"/>
                  <a:pt x="2114" y="601"/>
                  <a:pt x="2185" y="556"/>
                </a:cubicBezTo>
                <a:cubicBezTo>
                  <a:pt x="2256" y="511"/>
                  <a:pt x="2237" y="425"/>
                  <a:pt x="2261" y="332"/>
                </a:cubicBezTo>
                <a:cubicBezTo>
                  <a:pt x="2285" y="239"/>
                  <a:pt x="2307" y="119"/>
                  <a:pt x="2329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+Cable(1m+0.3m)+Sampling 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51600" y="48625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width 50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3080" y="4653000"/>
            <a:ext cx="177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3.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18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32F-F590-490C-9647-5A8BE5A850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059280" y="5084640"/>
            <a:ext cx="3166920" cy="1148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44720" y="5013360"/>
            <a:ext cx="287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8120" y="4797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084360" y="5013360"/>
            <a:ext cx="2890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25920" y="47973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3419280" y="5444640"/>
            <a:ext cx="6476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26480" y="2919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920" y="119700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4545000" y="119700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700200" y="1973160"/>
            <a:ext cx="3379680" cy="15829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5253120" y="1916280"/>
            <a:ext cx="3351240" cy="16444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18080" y="367344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73280" y="344124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5524560" y="342864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6"/>
          <a:stretch/>
        </p:blipFill>
        <p:spPr>
          <a:xfrm>
            <a:off x="684360" y="1957320"/>
            <a:ext cx="3368520" cy="16160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7"/>
          <a:stretch/>
        </p:blipFill>
        <p:spPr>
          <a:xfrm>
            <a:off x="5219640" y="1916280"/>
            <a:ext cx="3351240" cy="1630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545480" y="162864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258920" y="177336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5420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866920" y="175896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86920" y="36450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58680" y="155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traces without Via and sl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1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118-07FB-4355-8646-F002229BFB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1" dur="1" fill="hold"/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2" dur="1" fill="hold"/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3" dur="1" fill="hold"/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4" dur="1" fill="hold"/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5" dur="1" fill="hold"/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6" dur="1" fill="hold"/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771640" y="5516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527880" y="5516640"/>
            <a:ext cx="420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59520" y="5324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91320" y="604044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60000" y="604044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356400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615636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59640" y="6308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92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450864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668160" y="1854360"/>
            <a:ext cx="3303720" cy="1644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"/>
          <a:stretch/>
        </p:blipFill>
        <p:spPr>
          <a:xfrm>
            <a:off x="5154480" y="1832040"/>
            <a:ext cx="3337200" cy="16444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4456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18800" y="3589200"/>
            <a:ext cx="1797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77328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38600" y="3589200"/>
            <a:ext cx="1797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 (Measured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529272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6"/>
          <a:stretch/>
        </p:blipFill>
        <p:spPr>
          <a:xfrm>
            <a:off x="684360" y="1844640"/>
            <a:ext cx="3278160" cy="16621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226620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979640" y="161604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5148360" y="1844640"/>
            <a:ext cx="3274920" cy="1646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87492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587640" y="161604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65200" y="5300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990840" y="539748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s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1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0F3-C7B2-49A2-A8CD-8CF1E4B3DD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9" dur="1" fill="hold"/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0" dur="1" fill="hold"/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1" dur="1" fill="hold"/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2" dur="1" fill="hold"/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3" dur="1" fill="hold"/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4" dur="1" fill="hold"/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060720" y="4917960"/>
            <a:ext cx="28728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382800" y="4870440"/>
            <a:ext cx="34956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70280" y="61135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3564000" y="537336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67280" y="63086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940360" y="544644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43640" y="638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492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50864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735120" y="1887480"/>
            <a:ext cx="3289320" cy="15829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5192640" y="1844640"/>
            <a:ext cx="3340080" cy="17082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27328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48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6100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91548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98800" y="3589200"/>
            <a:ext cx="1797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 (Measured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45256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4548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125892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84360" y="1844640"/>
            <a:ext cx="3351240" cy="16304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5219640" y="1884240"/>
            <a:ext cx="3292560" cy="16160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597780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69124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27280" y="46530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86280" y="465300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1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1DF-041A-4A60-830C-0999FFFBB6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7" dur="1" fill="hold"/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8" dur="1" fill="hold"/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9" dur="1" fill="hold"/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80" dur="1" fill="hold"/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81" dur="1" fill="hold"/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82" dur="1" fill="hold"/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556000" y="260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ルー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2600" y="1125360"/>
            <a:ext cx="4630680" cy="30402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4513320" y="1125360"/>
            <a:ext cx="4630680" cy="30243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44560" y="13557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19640" y="162864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1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77328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69720" y="351648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5524560" y="328428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4548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258920" y="16876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5420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866920" y="161604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611280" y="1959120"/>
            <a:ext cx="3311280" cy="15411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5108400" y="1798560"/>
            <a:ext cx="3351240" cy="16304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655560" y="1884240"/>
            <a:ext cx="3340080" cy="16160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5184720" y="1893960"/>
            <a:ext cx="3292560" cy="1600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3059280" y="5084640"/>
            <a:ext cx="3166920" cy="11480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844720" y="5013360"/>
            <a:ext cx="287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08120" y="4797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084360" y="5013360"/>
            <a:ext cx="2890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25920" y="47973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3419280" y="5444640"/>
            <a:ext cx="6476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2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traces without Via and sl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FA9-44BC-4172-B1A1-8A76B6B6C1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5" dur="1" fill="hold"/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6" dur="1" fill="hold"/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7" dur="1" fill="hold"/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8" dur="1" fill="hold"/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9" dur="1" fill="hold"/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50" dur="1" fill="hold"/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489760" y="2602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リット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4920" y="1125360"/>
            <a:ext cx="4635360" cy="30355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4500720" y="1125360"/>
            <a:ext cx="4635360" cy="30355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4456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1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77328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378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529272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66200" y="142560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1979640" y="161604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7492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587640" y="161604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368520" cy="15541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5148360" y="1844640"/>
            <a:ext cx="3351240" cy="16304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5"/>
          <a:stretch/>
        </p:blipFill>
        <p:spPr>
          <a:xfrm>
            <a:off x="684360" y="1844640"/>
            <a:ext cx="3336840" cy="1644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6"/>
          <a:stretch/>
        </p:blipFill>
        <p:spPr>
          <a:xfrm>
            <a:off x="5172120" y="1881360"/>
            <a:ext cx="3303720" cy="15825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771640" y="5516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527880" y="5516640"/>
            <a:ext cx="420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959520" y="5324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91320" y="604044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660000" y="604044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356400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615636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59640" y="6308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65200" y="5300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990840" y="539748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2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s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9CB-49A2-4D84-8920-F1DCDADF8B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13" dur="1" fill="hold"/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4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5" dur="1" fill="hold"/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6" dur="1" fill="hold"/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7" dur="1" fill="hold"/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8" dur="1" fill="hold"/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929240" y="2602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ルーホール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34920" y="1125360"/>
            <a:ext cx="4630680" cy="30322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513320" y="1125360"/>
            <a:ext cx="4630680" cy="30243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7328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148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6100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91548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69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5256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4548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125892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7780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569124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3325680" cy="16020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4"/>
          <a:stretch/>
        </p:blipFill>
        <p:spPr>
          <a:xfrm>
            <a:off x="5178600" y="1844640"/>
            <a:ext cx="3354120" cy="16160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5"/>
          <a:stretch/>
        </p:blipFill>
        <p:spPr>
          <a:xfrm>
            <a:off x="687240" y="1919160"/>
            <a:ext cx="3321360" cy="15685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5211720" y="1906560"/>
            <a:ext cx="3321000" cy="15541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3060720" y="4917960"/>
            <a:ext cx="28728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82800" y="4870440"/>
            <a:ext cx="34956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0280" y="61135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564000" y="537336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067280" y="63086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5940360" y="544644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3640" y="638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727280" y="46530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86280" y="465300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2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8680" y="115920"/>
            <a:ext cx="77839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7F2-716B-43F4-A6FC-D884F72753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1" dur="1" fill="hold"/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2" dur="1" fill="hold"/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3" dur="1" fill="hold"/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4" dur="1" fill="hold"/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5" dur="1" fill="hold"/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6" dur="1" fill="hold"/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556000" y="260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ルー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635360" cy="303516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4508640" y="1197000"/>
            <a:ext cx="4635360" cy="3025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4456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18080" y="367344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73280" y="344124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769720" y="366084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5524560" y="342864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45480" y="162864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258920" y="177336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5420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5866920" y="175896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716040" y="1932120"/>
            <a:ext cx="3351240" cy="1568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183280" y="1951200"/>
            <a:ext cx="3365280" cy="15825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5"/>
          <a:stretch/>
        </p:blipFill>
        <p:spPr>
          <a:xfrm>
            <a:off x="684360" y="1967040"/>
            <a:ext cx="3365280" cy="1582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>
            <a:off x="5219640" y="1916280"/>
            <a:ext cx="3351240" cy="16300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7"/>
          <a:stretch/>
        </p:blipFill>
        <p:spPr>
          <a:xfrm>
            <a:off x="3059280" y="5084640"/>
            <a:ext cx="3166920" cy="11480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44720" y="5013360"/>
            <a:ext cx="287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608120" y="4797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6084360" y="5013360"/>
            <a:ext cx="2890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325920" y="47973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3419280" y="5444640"/>
            <a:ext cx="6476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8680" y="115920"/>
            <a:ext cx="77839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traces without Via and sl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316-9B14-4745-8B85-1E225E59C9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9" dur="1" fill="hold"/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0" dur="1" fill="hold"/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1" dur="1" fill="hold"/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2" dur="1" fill="hold"/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3" dur="1" fill="hold"/>
                                  <p:tgtEl>
                                    <p:spTgt spid="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4" dur="1" fill="hold"/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489760" y="2602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リット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4508640" y="1125360"/>
            <a:ext cx="4635360" cy="30258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4456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01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77328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378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529272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66200" y="141300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1979640" y="161604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74920" y="142560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587640" y="161604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41520" y="1827360"/>
            <a:ext cx="3354120" cy="16016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4"/>
          <a:stretch/>
        </p:blipFill>
        <p:spPr>
          <a:xfrm>
            <a:off x="5091120" y="1874880"/>
            <a:ext cx="3368520" cy="15541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5"/>
          <a:stretch/>
        </p:blipFill>
        <p:spPr>
          <a:xfrm>
            <a:off x="674640" y="1844640"/>
            <a:ext cx="3321000" cy="164484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6"/>
          <a:stretch/>
        </p:blipFill>
        <p:spPr>
          <a:xfrm>
            <a:off x="5148360" y="1895400"/>
            <a:ext cx="3289320" cy="1582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2771640" y="5516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6527880" y="5516640"/>
            <a:ext cx="420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59520" y="5324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91320" y="604044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60000" y="604044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356400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615636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59640" y="6308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65200" y="5300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90840" y="539748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8680" y="115920"/>
            <a:ext cx="77839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2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s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EC7-A13D-43B7-880C-BA5852C6C7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17" dur="1" fill="hold"/>
                                  <p:tgtEl>
                                    <p:spTgt spid="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8" dur="1" fill="hold"/>
                                  <p:tgtEl>
                                    <p:spTgt spid="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9" dur="1" fill="hold"/>
                                  <p:tgtEl>
                                    <p:spTgt spid="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0" dur="1" fill="hold"/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1" dur="1" fill="hold"/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2" dur="1" fill="hold"/>
                                  <p:tgtEl>
                                    <p:spTgt spid="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5200" y="838080"/>
            <a:ext cx="916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1.1  Equipment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ime Domain Reflectmetory (T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100C +54754A(TDR modu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ector Network Analyzer (V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5230A PNA-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ignal Generator (SG) with Real Time Oscilloscope (O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1134A ,DSO8120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1.2  Simulation tools and V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 Company’s 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7840" y="247680"/>
            <a:ext cx="69228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. Measurement equipment and simul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24360" y="4006800"/>
            <a:ext cx="1476720" cy="78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24720" y="4006800"/>
            <a:ext cx="1405080" cy="851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77080" y="838080"/>
            <a:ext cx="1944720" cy="1131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948360" y="2065320"/>
            <a:ext cx="1871640" cy="122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008-6EA5-41C7-8CED-BC3432CCB9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929240" y="2602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ルーホール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4508640" y="1125360"/>
            <a:ext cx="4635360" cy="30258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7328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148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16100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548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9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545256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4548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25892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97780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69124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3351240" cy="15685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5148360" y="1916280"/>
            <a:ext cx="3354120" cy="15541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5"/>
          <a:stretch/>
        </p:blipFill>
        <p:spPr>
          <a:xfrm>
            <a:off x="646200" y="1886040"/>
            <a:ext cx="3336840" cy="158436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6"/>
          <a:stretch/>
        </p:blipFill>
        <p:spPr>
          <a:xfrm>
            <a:off x="5165640" y="1967040"/>
            <a:ext cx="3343320" cy="15253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3060720" y="4917960"/>
            <a:ext cx="28728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6382800" y="4870440"/>
            <a:ext cx="34956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470280" y="61135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3564000" y="537336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067280" y="63086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5940360" y="544644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43640" y="638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27280" y="46530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686280" y="465300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88680" y="115920"/>
            <a:ext cx="77839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3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949-8AAE-41B4-AC89-882E8116CE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85" dur="1" fill="hold"/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6" dur="1" fill="hold"/>
                                  <p:tgtEl>
                                    <p:spTgt spid="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7" dur="1" fill="hold"/>
                                  <p:tgtEl>
                                    <p:spTgt spid="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8" dur="1" fill="hold"/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9" dur="1" fill="hold"/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90" dur="1" fill="hold"/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2233800" cy="94284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211640" y="4437000"/>
            <a:ext cx="0" cy="107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788000" y="4437000"/>
            <a:ext cx="0" cy="107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859280" y="5791320"/>
            <a:ext cx="3372480" cy="1068480"/>
            <a:chOff x="4859280" y="5791320"/>
            <a:chExt cx="3372480" cy="1068480"/>
          </a:xfrm>
        </p:grpSpPr>
        <p:pic>
          <p:nvPicPr>
            <p:cNvPr id="717" name="" descr=""/>
            <p:cNvPicPr/>
            <p:nvPr/>
          </p:nvPicPr>
          <p:blipFill>
            <a:blip r:embed="rId2"/>
            <a:stretch/>
          </p:blipFill>
          <p:spPr>
            <a:xfrm>
              <a:off x="4859280" y="6137280"/>
              <a:ext cx="25923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5219640" y="606564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19640" y="635292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72120" y="579132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72120" y="658332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94560" y="6064200"/>
              <a:ext cx="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666920" y="59925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.5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94560" y="6208560"/>
              <a:ext cx="0" cy="36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66920" y="62085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5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35600" y="621504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Zdiff=104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4788000" y="544500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64000" y="4437000"/>
            <a:ext cx="0" cy="107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84360" y="5675400"/>
            <a:ext cx="3372480" cy="1068480"/>
            <a:chOff x="684360" y="5675400"/>
            <a:chExt cx="3372480" cy="1068480"/>
          </a:xfrm>
        </p:grpSpPr>
        <p:pic>
          <p:nvPicPr>
            <p:cNvPr id="730" name="" descr=""/>
            <p:cNvPicPr/>
            <p:nvPr/>
          </p:nvPicPr>
          <p:blipFill>
            <a:blip r:embed="rId3"/>
            <a:stretch/>
          </p:blipFill>
          <p:spPr>
            <a:xfrm>
              <a:off x="684360" y="6021360"/>
              <a:ext cx="25923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044720" y="59500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44720" y="6237360"/>
              <a:ext cx="50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96840" y="56754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96840" y="64674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5948280"/>
              <a:ext cx="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92000" y="58770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.5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19640" y="609300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med"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92000" y="6093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5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761840" y="611352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Zdiff=101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H="1">
            <a:off x="3276360" y="5445000"/>
            <a:ext cx="934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3348000" y="5373720"/>
            <a:ext cx="20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4"/>
          <a:stretch/>
        </p:blipFill>
        <p:spPr>
          <a:xfrm>
            <a:off x="2124000" y="952560"/>
            <a:ext cx="4608720" cy="35560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4068720" y="165276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706560" y="1917720"/>
            <a:ext cx="43164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flipV="1">
            <a:off x="4533840" y="2781000"/>
            <a:ext cx="432000" cy="414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072320" y="3308400"/>
            <a:ext cx="25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Sim (Different x-sect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3779640" y="2852640"/>
            <a:ext cx="43164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968360" y="30211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Sim (Same x-se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67760" y="73080"/>
            <a:ext cx="51213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and Simulated TDR wavefor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64771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CB5-983F-4268-8F60-7F0A7BBE7F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4643280" y="3645000"/>
            <a:ext cx="3641760" cy="29098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1001880" y="3687840"/>
            <a:ext cx="3641400" cy="29098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1001880" y="950760"/>
            <a:ext cx="3641400" cy="290988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4"/>
          <a:stretch/>
        </p:blipFill>
        <p:spPr>
          <a:xfrm>
            <a:off x="4643280" y="950760"/>
            <a:ext cx="3641760" cy="290988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2844720" y="13129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11(Mea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15280" y="220500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11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im C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72280" y="1484280"/>
            <a:ext cx="9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11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im A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2626920" y="1484280"/>
            <a:ext cx="289080" cy="504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2700000" y="2060640"/>
            <a:ext cx="28908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692000" y="1700280"/>
            <a:ext cx="21564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69080" y="25369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21(Mea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49080" y="13413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21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im C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80560" y="2103480"/>
            <a:ext cx="9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21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im A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588000" y="2276640"/>
            <a:ext cx="216000" cy="3585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6732360" y="1484280"/>
            <a:ext cx="290520" cy="317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6300720" y="1844280"/>
            <a:ext cx="216000" cy="35892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49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31(Mea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131200" y="4121280"/>
            <a:ext cx="9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31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im A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706920" y="4322880"/>
            <a:ext cx="215640" cy="287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979640" y="4294080"/>
            <a:ext cx="21600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62080" y="73080"/>
            <a:ext cx="4818240" cy="1191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and Simulat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l MSL with Solid GND Plan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131280" y="39765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31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im D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987280" y="4149720"/>
            <a:ext cx="289080" cy="358920"/>
          </a:xfrm>
          <a:prstGeom prst="line">
            <a:avLst/>
          </a:prstGeom>
          <a:ln w="1908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012360" y="29685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21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im D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6877080" y="2781360"/>
            <a:ext cx="214200" cy="287280"/>
          </a:xfrm>
          <a:prstGeom prst="line">
            <a:avLst/>
          </a:prstGeom>
          <a:ln w="1908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628000" y="587844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31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im C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2413080" y="5734080"/>
            <a:ext cx="28872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221440" y="5097600"/>
            <a:ext cx="2610360" cy="1212840"/>
            <a:chOff x="5221440" y="5097600"/>
            <a:chExt cx="2610360" cy="1212840"/>
          </a:xfrm>
        </p:grpSpPr>
        <p:grpSp>
          <p:nvGrpSpPr>
            <p:cNvPr id="780" name=""/>
            <p:cNvGrpSpPr/>
            <p:nvPr/>
          </p:nvGrpSpPr>
          <p:grpSpPr>
            <a:xfrm>
              <a:off x="5221440" y="5097600"/>
              <a:ext cx="2610360" cy="990720"/>
              <a:chOff x="5221440" y="5097600"/>
              <a:chExt cx="2610360" cy="990720"/>
            </a:xfrm>
          </p:grpSpPr>
          <p:pic>
            <p:nvPicPr>
              <p:cNvPr id="7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01960" y="5168880"/>
                <a:ext cx="2017800" cy="8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"/>
              <p:cNvSpPr/>
              <p:nvPr/>
            </p:nvSpPr>
            <p:spPr>
              <a:xfrm>
                <a:off x="5221440" y="5097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221440" y="5720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24720" y="5097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524720" y="5720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5553360" y="6033960"/>
              <a:ext cx="210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DUT and Simulation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723640" y="47973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41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im C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 flipV="1">
            <a:off x="5508720" y="4653000"/>
            <a:ext cx="28872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948360" y="3933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41(Mea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45720" y="4005360"/>
            <a:ext cx="9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41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im A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162920" y="4106880"/>
            <a:ext cx="215640" cy="287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435640" y="4219560"/>
            <a:ext cx="146160" cy="3618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876000" y="476892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41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im D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6587640" y="4365720"/>
            <a:ext cx="360360" cy="503280"/>
          </a:xfrm>
          <a:prstGeom prst="line">
            <a:avLst/>
          </a:prstGeom>
          <a:ln w="1908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196000" y="27813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11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im D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1979640" y="2492280"/>
            <a:ext cx="288720" cy="432000"/>
          </a:xfrm>
          <a:prstGeom prst="line">
            <a:avLst/>
          </a:prstGeom>
          <a:ln w="1908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408-0A56-4436-BDAC-7E59ACC927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26920" y="1039680"/>
            <a:ext cx="3587760" cy="26053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4427640" y="1039680"/>
            <a:ext cx="3587760" cy="260532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839880" y="3645000"/>
            <a:ext cx="3587760" cy="260496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4"/>
          <a:stretch/>
        </p:blipFill>
        <p:spPr>
          <a:xfrm>
            <a:off x="4440240" y="3632040"/>
            <a:ext cx="3587760" cy="26053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773440" y="2428920"/>
            <a:ext cx="48996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479600" y="2349360"/>
            <a:ext cx="79812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Equiv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619360" y="1484280"/>
            <a:ext cx="79200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-par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2522520" y="2133720"/>
            <a:ext cx="249120" cy="3585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692360" y="2060640"/>
            <a:ext cx="215640" cy="288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2400120" y="1700280"/>
            <a:ext cx="21564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464600" y="1413000"/>
            <a:ext cx="48996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516640" y="2278080"/>
            <a:ext cx="79812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Equiv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303960" y="1413000"/>
            <a:ext cx="79200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-par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7092720" y="1627200"/>
            <a:ext cx="298440" cy="43344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5729400" y="1988640"/>
            <a:ext cx="215640" cy="289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084720" y="1628640"/>
            <a:ext cx="216000" cy="28908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648240" y="4551480"/>
            <a:ext cx="48996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982880" y="4797360"/>
            <a:ext cx="79812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Equiv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559240" y="4551480"/>
            <a:ext cx="79200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-par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276720" y="4292280"/>
            <a:ext cx="35856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1690200" y="4292640"/>
            <a:ext cx="360360" cy="504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2195280" y="422100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086520" y="5084640"/>
            <a:ext cx="79812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Equiv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5793840" y="4579920"/>
            <a:ext cx="360360" cy="504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175880" y="4048200"/>
            <a:ext cx="48996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015240" y="4048200"/>
            <a:ext cx="79200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-par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877080" y="4149720"/>
            <a:ext cx="287280" cy="287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796000" y="4149720"/>
            <a:ext cx="216000" cy="28908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484360" y="1125360"/>
            <a:ext cx="576360" cy="2876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83280" y="1125360"/>
            <a:ext cx="576360" cy="2876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84360" y="3718080"/>
            <a:ext cx="576360" cy="28728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084720" y="3718080"/>
            <a:ext cx="576360" cy="28728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7381800" y="4941720"/>
            <a:ext cx="1625760" cy="1241640"/>
            <a:chOff x="7381800" y="4941720"/>
            <a:chExt cx="1625760" cy="1241640"/>
          </a:xfrm>
        </p:grpSpPr>
        <p:pic>
          <p:nvPicPr>
            <p:cNvPr id="830" name="" descr=""/>
            <p:cNvPicPr/>
            <p:nvPr/>
          </p:nvPicPr>
          <p:blipFill>
            <a:blip r:embed="rId5"/>
            <a:stretch/>
          </p:blipFill>
          <p:spPr>
            <a:xfrm>
              <a:off x="7453440" y="4941720"/>
              <a:ext cx="1439640" cy="12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7381800" y="520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81800" y="5634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727840" y="5157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727840" y="565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2062080" y="73080"/>
            <a:ext cx="4818240" cy="1099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and Simulat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968-863F-4A12-A094-5C39684809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541440" y="981000"/>
            <a:ext cx="4030560" cy="293364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4573440" y="981000"/>
            <a:ext cx="4030920" cy="293364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3"/>
          <a:stretch/>
        </p:blipFill>
        <p:spPr>
          <a:xfrm>
            <a:off x="541440" y="3862440"/>
            <a:ext cx="4030560" cy="2932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4"/>
          <a:stretch/>
        </p:blipFill>
        <p:spPr>
          <a:xfrm>
            <a:off x="6156360" y="5229360"/>
            <a:ext cx="1440000" cy="12412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1913040" y="105084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2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741400" y="27813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1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21040" y="170028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1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57040" y="11253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2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2410920" y="2349360"/>
            <a:ext cx="360360" cy="503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763640" y="1935000"/>
            <a:ext cx="287280" cy="289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2738520" y="1341360"/>
            <a:ext cx="287280" cy="216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547640" y="1195560"/>
            <a:ext cx="432000" cy="360360"/>
          </a:xfrm>
          <a:prstGeom prst="line">
            <a:avLst/>
          </a:prstGeom>
          <a:ln w="19080">
            <a:solidFill>
              <a:srgbClr val="ff3399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229440" y="292428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4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629040" y="145584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3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437440" y="162864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3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492680" y="30402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4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6443640" y="1628640"/>
            <a:ext cx="216000" cy="31608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080040" y="1771560"/>
            <a:ext cx="287280" cy="289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7451640" y="2781360"/>
            <a:ext cx="14472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5940360" y="2781360"/>
            <a:ext cx="287280" cy="287280"/>
          </a:xfrm>
          <a:prstGeom prst="line">
            <a:avLst/>
          </a:prstGeom>
          <a:ln w="19080">
            <a:solidFill>
              <a:srgbClr val="ff3399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806840" y="4048200"/>
            <a:ext cx="101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ff3399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2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486160" y="5686560"/>
            <a:ext cx="9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1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303560" y="5516640"/>
            <a:ext cx="101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1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701800" y="4079880"/>
            <a:ext cx="9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00ff00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2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3089160" y="5229000"/>
            <a:ext cx="28908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114640" y="5373360"/>
            <a:ext cx="225360" cy="214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413080" y="4224240"/>
            <a:ext cx="287280" cy="216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547280" y="4221000"/>
            <a:ext cx="360360" cy="217800"/>
          </a:xfrm>
          <a:prstGeom prst="line">
            <a:avLst/>
          </a:prstGeom>
          <a:ln w="19080">
            <a:solidFill>
              <a:srgbClr val="ff3399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5"/>
          <a:stretch/>
        </p:blipFill>
        <p:spPr>
          <a:xfrm>
            <a:off x="4932360" y="4005360"/>
            <a:ext cx="3295800" cy="26859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7580520" y="4102200"/>
            <a:ext cx="105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m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69764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71852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27424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8295120" y="548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488240" y="0"/>
            <a:ext cx="6124320" cy="1099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.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and Simulated Mixed mode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1mm 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54F-13BC-4710-BA89-A1A82BC2EA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5437080" y="3936960"/>
            <a:ext cx="1295640" cy="7873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5219640" y="5084640"/>
            <a:ext cx="3384720" cy="12798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4591080" cy="284976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4500720" y="981000"/>
            <a:ext cx="4590720" cy="284976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4591080" cy="28494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5845680" y="6248520"/>
            <a:ext cx="21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UT and Simul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805800" y="11970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4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76680" y="24210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3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18520" y="26370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3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798880" y="11970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4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7020000" y="2133360"/>
            <a:ext cx="28872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6084720" y="2060640"/>
            <a:ext cx="503280" cy="72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724000" y="1339920"/>
            <a:ext cx="14292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6659640" y="1341360"/>
            <a:ext cx="217440" cy="287280"/>
          </a:xfrm>
          <a:prstGeom prst="line">
            <a:avLst/>
          </a:prstGeom>
          <a:ln w="19080">
            <a:solidFill>
              <a:srgbClr val="ff3399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565800" y="9810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1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919240" y="9810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1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2771640" y="1197000"/>
            <a:ext cx="216000" cy="360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3492000" y="1197000"/>
            <a:ext cx="14292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2627280" y="2060280"/>
            <a:ext cx="216000" cy="647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3348000" y="1988640"/>
            <a:ext cx="287280" cy="792360"/>
          </a:xfrm>
          <a:prstGeom prst="line">
            <a:avLst/>
          </a:prstGeom>
          <a:ln w="19080">
            <a:solidFill>
              <a:srgbClr val="ff3399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565800" y="26370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2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774520" y="26370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2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751560" y="5157720"/>
            <a:ext cx="101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ff3399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2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103920" y="3906720"/>
            <a:ext cx="101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1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08280" y="5373720"/>
            <a:ext cx="9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00ff00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2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3203280" y="4724280"/>
            <a:ext cx="431640" cy="720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3564000" y="4723920"/>
            <a:ext cx="287280" cy="576360"/>
          </a:xfrm>
          <a:prstGeom prst="line">
            <a:avLst/>
          </a:prstGeom>
          <a:ln w="19080">
            <a:solidFill>
              <a:srgbClr val="ff3399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954080" y="5776920"/>
            <a:ext cx="9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1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1908000" y="5373720"/>
            <a:ext cx="216000" cy="403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987640" y="4122720"/>
            <a:ext cx="216000" cy="243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912200" y="494172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r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767480" y="515772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r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8229960" y="501336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445960" y="524196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r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99200" y="1440"/>
            <a:ext cx="38901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of  Connector C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76520" y="640080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FF9-1B32-417F-8FEA-F555C448A1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358800" y="320760"/>
            <a:ext cx="202464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-167400" y="1268280"/>
            <a:ext cx="954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nd simulation of Interconnect model wer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imulation used by EDA models whom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provides and measurement are nearly agr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Each simulator accepts S-parameters and directly simu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t is necessary to note that a design value and an actual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different when EDA model of PCB i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FD7-4DE7-4736-B0ED-DDE2545F25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58200" y="1295280"/>
            <a:ext cx="3068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Takeshi Watanab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Shigeharu Shimad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Seiji Hayashi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Yogi Yamashita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Chikara Hosh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Yukio Masuko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Hirotsugu Ueno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Kazuhiko Kusunoki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Masatoshi Kobayashi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Nobuhiko Kawai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Jun-ichi Wakasa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Yasumasa Kondo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Testuo Iwaki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683000" y="380880"/>
            <a:ext cx="58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titude to cooperation in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504320" y="1295280"/>
            <a:ext cx="2869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M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gilent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gilent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dence Design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dence Design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Y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Y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urata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D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har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AA9-8DDF-43BF-B400-7274976117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5160" y="836640"/>
            <a:ext cx="9259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1 Measurement of Eye-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Signal generator (SG)  and real time oscilloscope (OS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were us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ngsuh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compare measurement with simulation of Eye-Dia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SG was used to inject differential signal which were  pseudo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bit sequence. (PRBS) PRBS pattern were 255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OSC was used to record transient wav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DUT of three types were provided, which simulate PCBs of digi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consumer  electronics.  One of them contains only filter and connec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the others contain filter, connector and also through hole via and slit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04000" y="3716280"/>
            <a:ext cx="2232000" cy="135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5075280"/>
            <a:ext cx="1773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BS 2e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r,Tf=96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fferential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.45-0.8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7440" y="5516640"/>
            <a:ext cx="159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scill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W 12G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0G sampling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5600" y="48690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Under Test (D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81280" y="5300640"/>
            <a:ext cx="124308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24360" y="5805360"/>
            <a:ext cx="1800000" cy="379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724360" y="5373720"/>
            <a:ext cx="733680" cy="122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94280" y="115920"/>
            <a:ext cx="38412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Detail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2665440" cy="1425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47840" y="4581360"/>
            <a:ext cx="474840" cy="976320"/>
          </a:xfrm>
          <a:custGeom>
            <a:avLst/>
            <a:gdLst/>
            <a:ahLst/>
            <a:rect l="l" t="t" r="r" b="b"/>
            <a:pathLst>
              <a:path w="299" h="615">
                <a:moveTo>
                  <a:pt x="13" y="0"/>
                </a:moveTo>
                <a:cubicBezTo>
                  <a:pt x="6" y="59"/>
                  <a:pt x="0" y="119"/>
                  <a:pt x="13" y="186"/>
                </a:cubicBezTo>
                <a:cubicBezTo>
                  <a:pt x="26" y="253"/>
                  <a:pt x="60" y="342"/>
                  <a:pt x="93" y="400"/>
                </a:cubicBezTo>
                <a:cubicBezTo>
                  <a:pt x="126" y="458"/>
                  <a:pt x="175" y="498"/>
                  <a:pt x="209" y="534"/>
                </a:cubicBezTo>
                <a:cubicBezTo>
                  <a:pt x="243" y="570"/>
                  <a:pt x="271" y="592"/>
                  <a:pt x="299" y="61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4581360"/>
            <a:ext cx="322200" cy="819360"/>
          </a:xfrm>
          <a:custGeom>
            <a:avLst/>
            <a:gdLst/>
            <a:ahLst/>
            <a:rect l="l" t="t" r="r" b="b"/>
            <a:pathLst>
              <a:path w="203" h="516">
                <a:moveTo>
                  <a:pt x="0" y="0"/>
                </a:moveTo>
                <a:cubicBezTo>
                  <a:pt x="3" y="27"/>
                  <a:pt x="6" y="54"/>
                  <a:pt x="15" y="88"/>
                </a:cubicBezTo>
                <a:cubicBezTo>
                  <a:pt x="24" y="122"/>
                  <a:pt x="35" y="161"/>
                  <a:pt x="51" y="204"/>
                </a:cubicBezTo>
                <a:cubicBezTo>
                  <a:pt x="67" y="247"/>
                  <a:pt x="93" y="304"/>
                  <a:pt x="114" y="347"/>
                </a:cubicBezTo>
                <a:cubicBezTo>
                  <a:pt x="135" y="390"/>
                  <a:pt x="161" y="435"/>
                  <a:pt x="176" y="463"/>
                </a:cubicBezTo>
                <a:cubicBezTo>
                  <a:pt x="191" y="491"/>
                  <a:pt x="202" y="510"/>
                  <a:pt x="203" y="51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4941720"/>
            <a:ext cx="1873440" cy="503280"/>
          </a:xfrm>
          <a:custGeom>
            <a:avLst/>
            <a:gdLst/>
            <a:ahLst/>
            <a:rect l="l" t="t" r="r" b="b"/>
            <a:pathLst>
              <a:path w="1031" h="289">
                <a:moveTo>
                  <a:pt x="1031" y="0"/>
                </a:moveTo>
                <a:cubicBezTo>
                  <a:pt x="1021" y="42"/>
                  <a:pt x="1012" y="84"/>
                  <a:pt x="965" y="120"/>
                </a:cubicBezTo>
                <a:cubicBezTo>
                  <a:pt x="918" y="156"/>
                  <a:pt x="847" y="197"/>
                  <a:pt x="750" y="218"/>
                </a:cubicBezTo>
                <a:cubicBezTo>
                  <a:pt x="653" y="239"/>
                  <a:pt x="490" y="241"/>
                  <a:pt x="384" y="245"/>
                </a:cubicBezTo>
                <a:cubicBezTo>
                  <a:pt x="278" y="249"/>
                  <a:pt x="178" y="238"/>
                  <a:pt x="116" y="245"/>
                </a:cubicBezTo>
                <a:cubicBezTo>
                  <a:pt x="54" y="252"/>
                  <a:pt x="0" y="270"/>
                  <a:pt x="9" y="28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5013360"/>
            <a:ext cx="2232000" cy="647640"/>
          </a:xfrm>
          <a:custGeom>
            <a:avLst/>
            <a:gdLst/>
            <a:ahLst/>
            <a:rect l="l" t="t" r="r" b="b"/>
            <a:pathLst>
              <a:path w="1169" h="329">
                <a:moveTo>
                  <a:pt x="1169" y="0"/>
                </a:moveTo>
                <a:cubicBezTo>
                  <a:pt x="1132" y="49"/>
                  <a:pt x="1095" y="98"/>
                  <a:pt x="1045" y="137"/>
                </a:cubicBezTo>
                <a:cubicBezTo>
                  <a:pt x="995" y="176"/>
                  <a:pt x="954" y="205"/>
                  <a:pt x="866" y="235"/>
                </a:cubicBezTo>
                <a:cubicBezTo>
                  <a:pt x="778" y="265"/>
                  <a:pt x="613" y="303"/>
                  <a:pt x="518" y="316"/>
                </a:cubicBezTo>
                <a:cubicBezTo>
                  <a:pt x="423" y="329"/>
                  <a:pt x="368" y="319"/>
                  <a:pt x="295" y="316"/>
                </a:cubicBezTo>
                <a:cubicBezTo>
                  <a:pt x="222" y="313"/>
                  <a:pt x="124" y="301"/>
                  <a:pt x="81" y="298"/>
                </a:cubicBezTo>
                <a:cubicBezTo>
                  <a:pt x="38" y="295"/>
                  <a:pt x="49" y="294"/>
                  <a:pt x="36" y="298"/>
                </a:cubicBezTo>
                <a:cubicBezTo>
                  <a:pt x="23" y="302"/>
                  <a:pt x="11" y="313"/>
                  <a:pt x="0" y="32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3AF-0003-440D-98F0-A1A4A83725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3960" y="620640"/>
            <a:ext cx="83815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2 Measurement of T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erify characteristic Impedance of PCB, TDR wa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DR injected differential step pulse and measured 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, then characteristic Impedance  was calculat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wav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ide of DUT were left open in order to measure D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lectric length which is propagation time to the end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808360" cy="1633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5080" y="4572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4869000"/>
            <a:ext cx="117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DR 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DR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W 18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r    35p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08360" y="4932360"/>
            <a:ext cx="3311640" cy="130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54640" y="79200"/>
            <a:ext cx="38412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Detail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292640"/>
            <a:ext cx="1187280" cy="1100160"/>
          </a:xfrm>
          <a:custGeom>
            <a:avLst/>
            <a:gdLst/>
            <a:ahLst/>
            <a:rect l="l" t="t" r="r" b="b"/>
            <a:pathLst>
              <a:path w="748" h="693">
                <a:moveTo>
                  <a:pt x="0" y="0"/>
                </a:moveTo>
                <a:cubicBezTo>
                  <a:pt x="20" y="60"/>
                  <a:pt x="40" y="121"/>
                  <a:pt x="70" y="176"/>
                </a:cubicBezTo>
                <a:cubicBezTo>
                  <a:pt x="100" y="231"/>
                  <a:pt x="145" y="288"/>
                  <a:pt x="177" y="327"/>
                </a:cubicBezTo>
                <a:cubicBezTo>
                  <a:pt x="209" y="366"/>
                  <a:pt x="227" y="379"/>
                  <a:pt x="263" y="413"/>
                </a:cubicBezTo>
                <a:cubicBezTo>
                  <a:pt x="299" y="447"/>
                  <a:pt x="350" y="493"/>
                  <a:pt x="393" y="531"/>
                </a:cubicBezTo>
                <a:cubicBezTo>
                  <a:pt x="436" y="569"/>
                  <a:pt x="486" y="616"/>
                  <a:pt x="522" y="639"/>
                </a:cubicBezTo>
                <a:cubicBezTo>
                  <a:pt x="558" y="662"/>
                  <a:pt x="570" y="662"/>
                  <a:pt x="608" y="671"/>
                </a:cubicBezTo>
                <a:cubicBezTo>
                  <a:pt x="646" y="680"/>
                  <a:pt x="728" y="691"/>
                  <a:pt x="748" y="693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4292640"/>
            <a:ext cx="1508400" cy="1458720"/>
          </a:xfrm>
          <a:custGeom>
            <a:avLst/>
            <a:gdLst/>
            <a:ahLst/>
            <a:rect l="l" t="t" r="r" b="b"/>
            <a:pathLst>
              <a:path w="950" h="919">
                <a:moveTo>
                  <a:pt x="0" y="0"/>
                </a:moveTo>
                <a:cubicBezTo>
                  <a:pt x="1" y="37"/>
                  <a:pt x="2" y="75"/>
                  <a:pt x="24" y="133"/>
                </a:cubicBezTo>
                <a:cubicBezTo>
                  <a:pt x="46" y="191"/>
                  <a:pt x="91" y="275"/>
                  <a:pt x="132" y="348"/>
                </a:cubicBezTo>
                <a:cubicBezTo>
                  <a:pt x="173" y="421"/>
                  <a:pt x="222" y="508"/>
                  <a:pt x="272" y="574"/>
                </a:cubicBezTo>
                <a:cubicBezTo>
                  <a:pt x="322" y="640"/>
                  <a:pt x="364" y="702"/>
                  <a:pt x="434" y="747"/>
                </a:cubicBezTo>
                <a:cubicBezTo>
                  <a:pt x="504" y="792"/>
                  <a:pt x="606" y="815"/>
                  <a:pt x="692" y="844"/>
                </a:cubicBezTo>
                <a:cubicBezTo>
                  <a:pt x="778" y="873"/>
                  <a:pt x="914" y="908"/>
                  <a:pt x="950" y="91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5084640"/>
            <a:ext cx="360360" cy="93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8200" y="4437000"/>
            <a:ext cx="140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Termin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19640" y="494172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404-9CC6-4B96-94D1-4CF6AF7E60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28440" y="741240"/>
            <a:ext cx="909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3 Measurement of S-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verify simulation models ,VNA were used to mea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-parameters. The VNA has 4 ports, therefore it measures mix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S-parameters which are important parameter to investig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l transmission li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0080" y="3068640"/>
            <a:ext cx="2592720" cy="1690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7800" y="58770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21200" y="150840"/>
            <a:ext cx="38412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Detail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419720"/>
            <a:ext cx="1657440" cy="138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59120" y="3713040"/>
            <a:ext cx="3621240" cy="1575000"/>
          </a:xfrm>
          <a:custGeom>
            <a:avLst/>
            <a:gdLst/>
            <a:ahLst/>
            <a:rect l="l" t="t" r="r" b="b"/>
            <a:pathLst>
              <a:path w="2281" h="992">
                <a:moveTo>
                  <a:pt x="8" y="411"/>
                </a:moveTo>
                <a:cubicBezTo>
                  <a:pt x="4" y="426"/>
                  <a:pt x="0" y="441"/>
                  <a:pt x="51" y="428"/>
                </a:cubicBezTo>
                <a:cubicBezTo>
                  <a:pt x="102" y="415"/>
                  <a:pt x="233" y="362"/>
                  <a:pt x="315" y="332"/>
                </a:cubicBezTo>
                <a:cubicBezTo>
                  <a:pt x="397" y="302"/>
                  <a:pt x="439" y="290"/>
                  <a:pt x="543" y="248"/>
                </a:cubicBezTo>
                <a:cubicBezTo>
                  <a:pt x="647" y="206"/>
                  <a:pt x="723" y="110"/>
                  <a:pt x="939" y="80"/>
                </a:cubicBezTo>
                <a:cubicBezTo>
                  <a:pt x="1155" y="50"/>
                  <a:pt x="1629" y="0"/>
                  <a:pt x="1839" y="68"/>
                </a:cubicBezTo>
                <a:cubicBezTo>
                  <a:pt x="2049" y="136"/>
                  <a:pt x="2139" y="350"/>
                  <a:pt x="2199" y="488"/>
                </a:cubicBezTo>
                <a:cubicBezTo>
                  <a:pt x="2259" y="626"/>
                  <a:pt x="2281" y="812"/>
                  <a:pt x="2199" y="896"/>
                </a:cubicBezTo>
                <a:cubicBezTo>
                  <a:pt x="2117" y="980"/>
                  <a:pt x="1912" y="986"/>
                  <a:pt x="1707" y="99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0080" y="4132440"/>
            <a:ext cx="3573360" cy="717480"/>
          </a:xfrm>
          <a:custGeom>
            <a:avLst/>
            <a:gdLst/>
            <a:ahLst/>
            <a:rect l="l" t="t" r="r" b="b"/>
            <a:pathLst>
              <a:path w="2251" h="452">
                <a:moveTo>
                  <a:pt x="0" y="147"/>
                </a:moveTo>
                <a:cubicBezTo>
                  <a:pt x="8" y="178"/>
                  <a:pt x="17" y="209"/>
                  <a:pt x="39" y="236"/>
                </a:cubicBezTo>
                <a:cubicBezTo>
                  <a:pt x="61" y="263"/>
                  <a:pt x="103" y="294"/>
                  <a:pt x="135" y="308"/>
                </a:cubicBezTo>
                <a:cubicBezTo>
                  <a:pt x="167" y="322"/>
                  <a:pt x="183" y="320"/>
                  <a:pt x="231" y="320"/>
                </a:cubicBezTo>
                <a:cubicBezTo>
                  <a:pt x="279" y="320"/>
                  <a:pt x="357" y="322"/>
                  <a:pt x="423" y="308"/>
                </a:cubicBezTo>
                <a:cubicBezTo>
                  <a:pt x="489" y="294"/>
                  <a:pt x="547" y="266"/>
                  <a:pt x="627" y="236"/>
                </a:cubicBezTo>
                <a:cubicBezTo>
                  <a:pt x="707" y="206"/>
                  <a:pt x="811" y="158"/>
                  <a:pt x="903" y="128"/>
                </a:cubicBezTo>
                <a:cubicBezTo>
                  <a:pt x="995" y="98"/>
                  <a:pt x="1079" y="74"/>
                  <a:pt x="1179" y="56"/>
                </a:cubicBezTo>
                <a:cubicBezTo>
                  <a:pt x="1279" y="38"/>
                  <a:pt x="1413" y="28"/>
                  <a:pt x="1503" y="20"/>
                </a:cubicBezTo>
                <a:cubicBezTo>
                  <a:pt x="1593" y="12"/>
                  <a:pt x="1617" y="0"/>
                  <a:pt x="1719" y="8"/>
                </a:cubicBezTo>
                <a:cubicBezTo>
                  <a:pt x="1821" y="16"/>
                  <a:pt x="2029" y="30"/>
                  <a:pt x="2115" y="68"/>
                </a:cubicBezTo>
                <a:cubicBezTo>
                  <a:pt x="2201" y="106"/>
                  <a:pt x="2219" y="184"/>
                  <a:pt x="2235" y="236"/>
                </a:cubicBezTo>
                <a:cubicBezTo>
                  <a:pt x="2251" y="288"/>
                  <a:pt x="2231" y="352"/>
                  <a:pt x="2211" y="380"/>
                </a:cubicBezTo>
                <a:cubicBezTo>
                  <a:pt x="2191" y="408"/>
                  <a:pt x="2159" y="392"/>
                  <a:pt x="2115" y="404"/>
                </a:cubicBezTo>
                <a:cubicBezTo>
                  <a:pt x="2071" y="416"/>
                  <a:pt x="1967" y="442"/>
                  <a:pt x="1947" y="45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08440" y="4365720"/>
            <a:ext cx="2017440" cy="503280"/>
          </a:xfrm>
          <a:custGeom>
            <a:avLst/>
            <a:gdLst/>
            <a:ahLst/>
            <a:rect l="l" t="t" r="r" b="b"/>
            <a:pathLst>
              <a:path w="1271" h="317">
                <a:moveTo>
                  <a:pt x="0" y="0"/>
                </a:moveTo>
                <a:cubicBezTo>
                  <a:pt x="11" y="39"/>
                  <a:pt x="23" y="78"/>
                  <a:pt x="47" y="113"/>
                </a:cubicBezTo>
                <a:cubicBezTo>
                  <a:pt x="71" y="148"/>
                  <a:pt x="89" y="183"/>
                  <a:pt x="143" y="209"/>
                </a:cubicBezTo>
                <a:cubicBezTo>
                  <a:pt x="197" y="235"/>
                  <a:pt x="291" y="257"/>
                  <a:pt x="371" y="269"/>
                </a:cubicBezTo>
                <a:cubicBezTo>
                  <a:pt x="451" y="281"/>
                  <a:pt x="533" y="279"/>
                  <a:pt x="623" y="281"/>
                </a:cubicBezTo>
                <a:cubicBezTo>
                  <a:pt x="713" y="283"/>
                  <a:pt x="803" y="275"/>
                  <a:pt x="911" y="281"/>
                </a:cubicBezTo>
                <a:cubicBezTo>
                  <a:pt x="1019" y="287"/>
                  <a:pt x="1211" y="311"/>
                  <a:pt x="1271" y="31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76440" y="4365720"/>
            <a:ext cx="2411640" cy="884160"/>
          </a:xfrm>
          <a:custGeom>
            <a:avLst/>
            <a:gdLst/>
            <a:ahLst/>
            <a:rect l="l" t="t" r="r" b="b"/>
            <a:pathLst>
              <a:path w="1519" h="557">
                <a:moveTo>
                  <a:pt x="0" y="0"/>
                </a:moveTo>
                <a:cubicBezTo>
                  <a:pt x="8" y="28"/>
                  <a:pt x="16" y="56"/>
                  <a:pt x="43" y="101"/>
                </a:cubicBezTo>
                <a:cubicBezTo>
                  <a:pt x="70" y="146"/>
                  <a:pt x="105" y="223"/>
                  <a:pt x="163" y="269"/>
                </a:cubicBezTo>
                <a:cubicBezTo>
                  <a:pt x="221" y="315"/>
                  <a:pt x="301" y="341"/>
                  <a:pt x="391" y="377"/>
                </a:cubicBezTo>
                <a:cubicBezTo>
                  <a:pt x="481" y="413"/>
                  <a:pt x="593" y="461"/>
                  <a:pt x="703" y="485"/>
                </a:cubicBezTo>
                <a:cubicBezTo>
                  <a:pt x="813" y="509"/>
                  <a:pt x="915" y="509"/>
                  <a:pt x="1051" y="521"/>
                </a:cubicBezTo>
                <a:cubicBezTo>
                  <a:pt x="1187" y="533"/>
                  <a:pt x="1445" y="553"/>
                  <a:pt x="1519" y="55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440" y="4876920"/>
            <a:ext cx="24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orts 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W           10M-20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BW        1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points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ing     10 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AC1-E6F3-4F76-BF32-57459CF943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1840" y="1197000"/>
            <a:ext cx="911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models were provided by component manufactu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Murata,TDK,J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models were extracted from CAD data by simulation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manufacturer does not provide EDA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only layer structure, wire width, space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nd dielectric cons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models were S-parameters or Equivalent Circu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7360" y="163440"/>
            <a:ext cx="334764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Detail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0B2-39B5-4A9C-A3B8-BF9EF8C856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2160" y="1184400"/>
            <a:ext cx="8007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-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EDA model provided by the manufactu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erify Whether the measurement agrees with the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S-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erify whether each simulator accept S-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R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wire of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erify whether EDA model of PCB which is extracted by eac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DA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verify accuracy of each ED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10080" y="189000"/>
            <a:ext cx="334764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Detail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42E-33F1-4363-80A1-D9EC62D789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-1800" y="1844640"/>
            <a:ext cx="9078480" cy="4094280"/>
            <a:chOff x="-1800" y="1844640"/>
            <a:chExt cx="9078480" cy="40942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360360" y="2301840"/>
              <a:ext cx="83534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1008000" y="3357720"/>
              <a:ext cx="741672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21280" y="2060640"/>
              <a:ext cx="64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SM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(S-pa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60" y="18478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77760" y="1844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50oh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2560" y="2060640"/>
              <a:ext cx="9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RL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52520" y="1917720"/>
              <a:ext cx="111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Fil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(equival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Circui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5040" y="1844640"/>
              <a:ext cx="9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50 oh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079280" y="2133720"/>
              <a:ext cx="21600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1640" y="2133720"/>
              <a:ext cx="21600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240" y="186372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Measure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32720" y="2133720"/>
              <a:ext cx="287280" cy="35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1440" y="2421000"/>
              <a:ext cx="142920" cy="72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5080" y="1917720"/>
              <a:ext cx="1061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Cable 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Conn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(S-p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7280" y="2276640"/>
              <a:ext cx="1152360" cy="1008000"/>
            </a:xfrm>
            <a:prstGeom prst="rect">
              <a:avLst/>
            </a:prstGeom>
            <a:solidFill>
              <a:srgbClr val="0000ff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1640" y="33130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S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4360" y="2276640"/>
              <a:ext cx="720720" cy="1008000"/>
            </a:xfrm>
            <a:prstGeom prst="rect">
              <a:avLst/>
            </a:prstGeom>
            <a:solidFill>
              <a:srgbClr val="0000ff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993080" y="3637080"/>
              <a:ext cx="2160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4920" y="3716280"/>
              <a:ext cx="28908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1800" y="3500640"/>
              <a:ext cx="11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ource poi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208720" y="3781440"/>
              <a:ext cx="2156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0920" y="3500640"/>
              <a:ext cx="2887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79640" y="4221360"/>
              <a:ext cx="3745080" cy="865080"/>
            </a:xfrm>
            <a:prstGeom prst="rect">
              <a:avLst/>
            </a:prstGeom>
            <a:solidFill>
              <a:srgbClr val="ff000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0000" y="4365720"/>
              <a:ext cx="1079640" cy="14436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617200">
              <a:off x="1516320" y="4085280"/>
              <a:ext cx="268560" cy="142560"/>
            </a:xfrm>
            <a:prstGeom prst="rect">
              <a:avLst/>
            </a:prstGeom>
            <a:solidFill>
              <a:srgbClr val="99cc00">
                <a:alpha val="31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24720" y="4365720"/>
              <a:ext cx="360360" cy="14436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28000" y="4365720"/>
              <a:ext cx="431640" cy="14436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362800">
              <a:off x="1690200" y="4249800"/>
              <a:ext cx="71640" cy="144360"/>
            </a:xfrm>
            <a:prstGeom prst="rect">
              <a:avLst/>
            </a:prstGeom>
            <a:solidFill>
              <a:srgbClr val="00ff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85080" y="4365720"/>
              <a:ext cx="142920" cy="144360"/>
            </a:xfrm>
            <a:prstGeom prst="rect">
              <a:avLst/>
            </a:prstGeom>
            <a:solidFill>
              <a:srgbClr val="00ff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727280" y="3068640"/>
              <a:ext cx="36036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584360" y="306864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727280" y="2781360"/>
              <a:ext cx="1081080" cy="144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255640" y="2852280"/>
              <a:ext cx="1584360" cy="15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103640" y="2852640"/>
              <a:ext cx="647640" cy="136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7128000" y="2997360"/>
              <a:ext cx="504720" cy="10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5976360" y="2852280"/>
              <a:ext cx="1079640" cy="15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022480" y="2801520"/>
              <a:ext cx="2168640" cy="156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787400" y="2852280"/>
              <a:ext cx="1739880" cy="140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7704000" y="3068640"/>
              <a:ext cx="14472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8208720" y="2133720"/>
              <a:ext cx="21564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551640" y="2852640"/>
              <a:ext cx="1008000" cy="144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362800">
              <a:off x="1755360" y="4302000"/>
              <a:ext cx="71280" cy="14472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362800">
              <a:off x="1639440" y="4205160"/>
              <a:ext cx="71640" cy="14472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554800">
              <a:off x="7581960" y="4229280"/>
              <a:ext cx="144360" cy="287280"/>
            </a:xfrm>
            <a:prstGeom prst="rect">
              <a:avLst/>
            </a:prstGeom>
            <a:solidFill>
              <a:srgbClr val="0000ff">
                <a:alpha val="31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67640" y="4010040"/>
              <a:ext cx="144360" cy="211320"/>
            </a:xfrm>
            <a:prstGeom prst="rect">
              <a:avLst/>
            </a:prstGeom>
            <a:solidFill>
              <a:srgbClr val="00ff00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04680" y="234972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Via (S-p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18920" y="3476520"/>
              <a:ext cx="115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easur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oi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2320" y="328464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O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638440" y="189000"/>
            <a:ext cx="341316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Detail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8 DUT and Simul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084360" y="663480"/>
            <a:ext cx="2591280" cy="1127880"/>
            <a:chOff x="6084360" y="663480"/>
            <a:chExt cx="2591280" cy="1127880"/>
          </a:xfrm>
        </p:grpSpPr>
        <p:sp>
          <p:nvSpPr>
            <p:cNvPr id="158" name=""/>
            <p:cNvSpPr/>
            <p:nvPr/>
          </p:nvSpPr>
          <p:spPr>
            <a:xfrm>
              <a:off x="7233120" y="14842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ss s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4000" y="1341360"/>
              <a:ext cx="18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4000" y="1125360"/>
              <a:ext cx="1871640" cy="21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20000" y="1054080"/>
              <a:ext cx="431640" cy="71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28000" y="1052640"/>
              <a:ext cx="431640" cy="71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20000" y="907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49440" y="6634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8120" y="907920"/>
              <a:ext cx="56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57400" y="6634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2000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164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2800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29080" y="6634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28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28000" y="907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59640" y="1125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516360" y="1125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516360" y="134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3080" y="106668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516360" y="105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59640" y="836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2720" y="765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9640" y="134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4360" y="13413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2916360" y="6014880"/>
            <a:ext cx="3456000" cy="6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66720" y="5654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6021360"/>
            <a:ext cx="1800360" cy="6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83720" y="5654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6027840"/>
            <a:ext cx="1800000" cy="6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9720" y="5661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63E-481E-456E-AFD8-29F44A7EC0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2:38:07Z</dcterms:created>
  <dc:creator> </dc:creator>
  <dc:description/>
  <dc:language>en-US</dc:language>
  <cp:lastModifiedBy>渡辺　毅</cp:lastModifiedBy>
  <dcterms:modified xsi:type="dcterms:W3CDTF">2006-10-30T01:55:24Z</dcterms:modified>
  <cp:revision>108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33818773</vt:r8>
  </property>
  <property fmtid="{D5CDD505-2E9C-101B-9397-08002B2CF9AE}" pid="3" name="_AuthorEmail">
    <vt:lpwstr>takeshi.watanabe@necel.com</vt:lpwstr>
  </property>
  <property fmtid="{D5CDD505-2E9C-101B-9397-08002B2CF9AE}" pid="4" name="_AuthorEmailDisplayName">
    <vt:lpwstr>Takeshi Watanabe</vt:lpwstr>
  </property>
  <property fmtid="{D5CDD505-2E9C-101B-9397-08002B2CF9AE}" pid="5" name="_EmailSubject">
    <vt:lpwstr>Asian IBIS Summit (Japan) </vt:lpwstr>
  </property>
</Properties>
</file>