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5.wmf" ContentType="image/x-wmf"/>
  <Override PartName="/ppt/media/image30.png" ContentType="image/png"/>
  <Override PartName="/ppt/media/image35.png" ContentType="image/png"/>
  <Override PartName="/ppt/media/image6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9.wmf" ContentType="image/x-wmf"/>
  <Override PartName="/ppt/media/image38.wmf" ContentType="image/x-wmf"/>
  <Override PartName="/ppt/media/image18.png" ContentType="image/png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671175" cy="8002588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5640" y="754380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19920" y="7467480"/>
            <a:ext cx="1233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DCAA2F20-8DDA-4F9A-A39C-2A89D8D7D2A5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255920" y="753444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81200" y="7543800"/>
            <a:ext cx="307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533160" y="7286400"/>
            <a:ext cx="24908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1F4A30EF-2017-4C80-852A-41C1F4058C98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067112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763120" y="650880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914400"/>
            <a:ext cx="10669680" cy="4444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5920" y="380880"/>
            <a:ext cx="163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FrutigerNext LT Regular"/>
              </a:rPr>
              <a:t>27. Aug.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724068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75760" y="380880"/>
            <a:ext cx="1777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FrutigerNext LT Regular"/>
              </a:rPr>
              <a:t>Security Leve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533520" y="318960"/>
            <a:ext cx="960300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533520" y="1872360"/>
            <a:ext cx="960300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FrutigerNext LT Medium"/>
              </a:rPr>
              <a:t>Click to edit the outline text format</a:t>
            </a: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  <a:p>
            <a:pPr lvl="1" marL="457200" indent="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76320"/>
            <a:ext cx="106711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utigerNext LT Medium"/>
              </a:rPr>
              <a:t>Statistical Eye Simulation Requireme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9200" y="4361040"/>
            <a:ext cx="4648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ang Chun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angchunxing@huawe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9200" y="2991960"/>
            <a:ext cx="5148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sian IBIS Summit, Shanghai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October 27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qualizer-Algorithm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ing the optimal sampling point and equalizer coeffic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S adaptive algorith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ro Forcing algorith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111560" y="2560680"/>
            <a:ext cx="5977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atistical Post-processing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1200" y="1552320"/>
            <a:ext cx="8353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ing Forward channel P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Overlapping each bit at one UI ran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t each UI sampling point, comput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F of Overlapping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6852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070680" y="2236680"/>
          <a:ext cx="4600440" cy="47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70680" y="2236680"/>
                    <a:ext cx="460044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atistical Post-processing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97092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tlk Convolution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Interpolating each Xtlk channel responses to small enough time inter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Overlapping each bit in one UI r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Computing PDF of Overlapping data at each UI sampling 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Averaging PDFs through whole UI sampling points to get the average PD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Repeating 1-4 for each aggressor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Convolving average PDFs of all aggressors to get the whole crosstalk PD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 Moore presented convolution method in his paper “Computing effect of cross talk using Convolution” at 802.3ap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grouper.ieee.org/groups/802/3/ap/public/channel_adhoc/moore_c1_0305.pd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atistical Post-processing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72572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19560" y="1697040"/>
          <a:ext cx="470232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9560" y="1697040"/>
                    <a:ext cx="47023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11200" y="1552680"/>
            <a:ext cx="50403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andom J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andom Jitter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verall 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5560" y="4324320"/>
            <a:ext cx="4392720" cy="890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727200" y="2739960"/>
            <a:ext cx="18000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atistical Post-processing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560" y="1407960"/>
            <a:ext cx="964908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tistical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tistical eye is set of probability cont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rizontal axis is with respect to sampl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ertical axis is with respect to signal ampl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fferent colored lines represent 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264280" y="3462480"/>
            <a:ext cx="48592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66840" y="3424320"/>
            <a:ext cx="3457440" cy="2468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atistical Post-processing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99840" y="1552320"/>
            <a:ext cx="9604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htu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 through statistical eye along horizontal axis to get horizontal Bathtub at definite volta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ept through statistical eye along vertical axis to get vertical Bathtub at definite sampling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61000" y="4432320"/>
            <a:ext cx="503280" cy="216000"/>
          </a:xfrm>
          <a:prstGeom prst="rightArrow">
            <a:avLst>
              <a:gd name="adj1" fmla="val 50000"/>
              <a:gd name="adj2" fmla="val 58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98480" y="4540320"/>
            <a:ext cx="252108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87560" y="3568680"/>
            <a:ext cx="0" cy="1908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587920" y="4871880"/>
            <a:ext cx="3311640" cy="23338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479920" y="2631960"/>
            <a:ext cx="3407040" cy="2384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539200" y="3424320"/>
            <a:ext cx="1800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rizo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04280" y="5729400"/>
            <a:ext cx="18003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verall Simulation Eye Flow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96920" y="2921040"/>
            <a:ext cx="144720" cy="409680"/>
          </a:xfrm>
          <a:prstGeom prst="downArrow">
            <a:avLst>
              <a:gd name="adj1" fmla="val 50000"/>
              <a:gd name="adj2" fmla="val 707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96920" y="4863960"/>
            <a:ext cx="144720" cy="409680"/>
          </a:xfrm>
          <a:prstGeom prst="downArrow">
            <a:avLst>
              <a:gd name="adj1" fmla="val 50000"/>
              <a:gd name="adj2" fmla="val 707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68560" y="6759720"/>
            <a:ext cx="144360" cy="409320"/>
          </a:xfrm>
          <a:prstGeom prst="downArrow">
            <a:avLst>
              <a:gd name="adj1" fmla="val 50000"/>
              <a:gd name="adj2" fmla="val 708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14800" y="1314360"/>
            <a:ext cx="144720" cy="409680"/>
          </a:xfrm>
          <a:prstGeom prst="downArrow">
            <a:avLst>
              <a:gd name="adj1" fmla="val 50000"/>
              <a:gd name="adj2" fmla="val 707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8280" y="1854360"/>
            <a:ext cx="1996920" cy="61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Next LT BlackCn"/>
              </a:rPr>
              <a:t>Chann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48280" y="2487600"/>
            <a:ext cx="144360" cy="409680"/>
          </a:xfrm>
          <a:prstGeom prst="downArrow">
            <a:avLst>
              <a:gd name="adj1" fmla="val 50000"/>
              <a:gd name="adj2" fmla="val 709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19560" y="4527720"/>
            <a:ext cx="144720" cy="409320"/>
          </a:xfrm>
          <a:prstGeom prst="downArrow">
            <a:avLst>
              <a:gd name="adj1" fmla="val 50000"/>
              <a:gd name="adj2" fmla="val 70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91200" y="6759720"/>
            <a:ext cx="144360" cy="409320"/>
          </a:xfrm>
          <a:prstGeom prst="downArrow">
            <a:avLst>
              <a:gd name="adj1" fmla="val 50000"/>
              <a:gd name="adj2" fmla="val 7088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185320" y="1427040"/>
            <a:ext cx="144360" cy="409680"/>
          </a:xfrm>
          <a:prstGeom prst="downArrow">
            <a:avLst>
              <a:gd name="adj1" fmla="val 50000"/>
              <a:gd name="adj2" fmla="val 7094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111560" y="5008680"/>
          <a:ext cx="227808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560" y="5008680"/>
                    <a:ext cx="227808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743360" y="6521400"/>
            <a:ext cx="12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</a:rPr>
              <a:t>Eye after Equ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42840" y="1479600"/>
            <a:ext cx="1973520" cy="1197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70680" y="2631960"/>
            <a:ext cx="111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</a:rPr>
              <a:t>Transmitter Ey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087560" y="3352680"/>
            <a:ext cx="2019240" cy="12574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261080" y="4576680"/>
            <a:ext cx="173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</a:rPr>
              <a:t>Eye after Jitter Mod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158840" y="5295960"/>
            <a:ext cx="1873440" cy="11858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04800" y="6232680"/>
            <a:ext cx="1397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</a:rPr>
              <a:t>Eye after Emph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3967200" y="2921040"/>
            <a:ext cx="2232000" cy="1322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98640" y="4287960"/>
            <a:ext cx="122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utigerNext LT BlackCn"/>
              </a:rPr>
              <a:t>Eye after Chann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423200" y="4395960"/>
            <a:ext cx="2160360" cy="1614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51560" y="2200320"/>
            <a:ext cx="2160720" cy="1587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96280" y="3914640"/>
            <a:ext cx="144360" cy="409680"/>
          </a:xfrm>
          <a:prstGeom prst="downArrow">
            <a:avLst>
              <a:gd name="adj1" fmla="val 50000"/>
              <a:gd name="adj2" fmla="val 709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ample - Channel pre-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90120" y="1371600"/>
            <a:ext cx="9604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d condi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Gbps NRZ, PRBS 23, 100000 bits, amplitude 800mvpp, Tr(f) = 24p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15UIpp DJ = 0.05UI DCD+0.1UI PJ, 0.15UIpp RJ @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 = 1e-12 (2*Q=14.069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tap de-emphasis, 5tap D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ce voltage: 10m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 Channel                                     Eight crosstalk chan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451560" y="5332320"/>
            <a:ext cx="2808360" cy="1722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79560" y="5153040"/>
            <a:ext cx="341928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ample - Channel pre-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6720" y="3344760"/>
            <a:ext cx="5191200" cy="3895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443560" y="3335400"/>
            <a:ext cx="5156280" cy="3868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98480" y="1444680"/>
            <a:ext cx="9577440" cy="19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ulation resul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8mv eye-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222UI eye-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t shows that the channel could undertake 10Gbps data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onclus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97092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method of statistical eye simulation has been presented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deal platform to realize statistical eye simul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tter Modulation at transm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emphasis or de-emph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Forward channel, Xtlk channe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post-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tatistical Eye Simulation Flow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327560" y="1768320"/>
          <a:ext cx="6030720" cy="50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7560" y="1768320"/>
                    <a:ext cx="6030720" cy="50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66840" y="1697040"/>
            <a:ext cx="4176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ulation f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me domain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tistical post-proces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ata source could be signal source or real serdes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imulation Requirement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platform should support IBIS or Hspice serdes mod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platform should simulate channel responses by using convolution metho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platform  should easily realize jitter modulation, equalizer and empha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platform should support equalizers, such as LFE, DFE and C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ful post-processing ability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tion platform may further support co-simulating with Matlab for user defined statistical proc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55560" y="3457440"/>
          <a:ext cx="71866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3457440"/>
                    <a:ext cx="71866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itter Mod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65437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Voltage Controlled Delay to add  ji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tter at transmitter includes PJ, DC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J will be consider in statistical post-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435560" y="3639960"/>
                <a:ext cx="27734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246852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388280" y="1263600"/>
            <a:ext cx="2665440" cy="1616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7748640" y="3352680"/>
            <a:ext cx="2592360" cy="1613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864640" y="2921040"/>
            <a:ext cx="144360" cy="409680"/>
          </a:xfrm>
          <a:prstGeom prst="downArrow">
            <a:avLst>
              <a:gd name="adj1" fmla="val 50000"/>
              <a:gd name="adj2" fmla="val 709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35560" y="4863960"/>
                <a:ext cx="4105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D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r>
                      <m:t xml:space="preserve">[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mphasi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 technique includes pre-emphasis and de-emph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pre-emphasis and de-emphasis could be expressed as FIR filter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6840" y="2847960"/>
            <a:ext cx="6048360" cy="4253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199200" y="2739960"/>
            <a:ext cx="2952720" cy="183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43560" y="4952880"/>
            <a:ext cx="2700360" cy="1819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711920" y="4527720"/>
            <a:ext cx="144720" cy="409320"/>
          </a:xfrm>
          <a:prstGeom prst="downArrow">
            <a:avLst>
              <a:gd name="adj1" fmla="val 50000"/>
              <a:gd name="adj2" fmla="val 707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hannel Model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9200" y="1336320"/>
            <a:ext cx="99439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nel models, including fwrd and xtlks, could be expressed in S-para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ing transient simulation with touchstone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09000" y="3371760"/>
            <a:ext cx="2232000" cy="1438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27200" y="2884320"/>
            <a:ext cx="6119640" cy="361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209000" y="474012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280280" y="5243400"/>
            <a:ext cx="2158920" cy="1386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35920" y="286704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qualizer-LFE</a:t>
            </a:r>
            <a:br>
              <a:rPr sz="3500"/>
            </a:b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22480" y="6700680"/>
                <a:ext cx="55450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1158840" y="2004840"/>
          <a:ext cx="43560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8840" y="2004840"/>
                    <a:ext cx="4356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8288280" y="3411360"/>
            <a:ext cx="144360" cy="409680"/>
          </a:xfrm>
          <a:prstGeom prst="downArrow">
            <a:avLst>
              <a:gd name="adj1" fmla="val 50000"/>
              <a:gd name="adj2" fmla="val 709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7200" y="1263600"/>
            <a:ext cx="54720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FE is linear feed-forward equal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630840" y="1263600"/>
            <a:ext cx="3170520" cy="214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775560" y="3821040"/>
            <a:ext cx="3116160" cy="2109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55560" y="5008680"/>
            <a:ext cx="770580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screte – usually just one tap per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ite – not long enough to completely correct the im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ay result in noise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qualizer-DFE</a:t>
            </a:r>
            <a:br>
              <a:rPr sz="3500"/>
            </a:b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58840" y="1947960"/>
          <a:ext cx="47322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8840" y="1947960"/>
                    <a:ext cx="47322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06480" y="6521400"/>
                <a:ext cx="7129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⋯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991200" y="4216320"/>
            <a:ext cx="3313440" cy="2086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504280" y="3784680"/>
            <a:ext cx="144360" cy="409320"/>
          </a:xfrm>
          <a:prstGeom prst="downArrow">
            <a:avLst>
              <a:gd name="adj1" fmla="val 50000"/>
              <a:gd name="adj2" fmla="val 708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630840" y="1552680"/>
            <a:ext cx="3745080" cy="2205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7200" y="1300320"/>
            <a:ext cx="54720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FE is decision feed-back equal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9560" y="4937040"/>
            <a:ext cx="67676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FE uses a feedback loop of the desired signal which  is decoded from the output of a sl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FE can further correct the residual 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qualizer-CT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98480" y="1552680"/>
            <a:ext cx="472608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E is continuous time equaliz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E model is an ideal circuit with the desired pole, zero respon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0 and z0 are programm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374840" y="4108320"/>
                <a:ext cx="24480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711920" y="3735360"/>
            <a:ext cx="144720" cy="409680"/>
          </a:xfrm>
          <a:prstGeom prst="downArrow">
            <a:avLst>
              <a:gd name="adj1" fmla="val 50000"/>
              <a:gd name="adj2" fmla="val 707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695920" y="1195560"/>
            <a:ext cx="3745080" cy="2517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67560" y="4195800"/>
            <a:ext cx="3744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02:18Z</dcterms:created>
  <dc:creator>Interbrand</dc:creator>
  <dc:description/>
  <dc:language>en-US</dc:language>
  <cp:lastModifiedBy>Bob Ross</cp:lastModifiedBy>
  <dcterms:modified xsi:type="dcterms:W3CDTF">2006-09-19T16:28:44Z</dcterms:modified>
  <cp:revision>674</cp:revision>
  <dc:subject/>
  <dc:title>PowerPoint Presentation</dc:title>
</cp:coreProperties>
</file>